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49D-BAFE-40E0-8FE1-961D872D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0F2-5755-460A-9F7B-F00790A3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6F0-317E-4430-A9ED-DC1718E0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473-FA7F-4004-A6AC-87AB6ABA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7E2-84B2-4D80-8CC4-DB0B04A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AB5-DC4D-449A-87D7-BEC0BC6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883-D3F2-467B-9358-C2E326B9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664-D8CC-4F5A-840A-9F6FCD82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590-4747-4CF3-BAB9-4E9840D7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209-3503-4BE1-8933-BD9EB75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015-F1F1-4CAB-8748-F767D297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3E7-8710-4BDB-B82B-251B77F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C7D-623B-4F1F-8141-06BC9D64F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73080" y="378000"/>
            <a:ext cx="8467560" cy="10238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3"/>
          <a:stretch/>
        </p:blipFill>
        <p:spPr>
          <a:xfrm>
            <a:off x="2914560" y="433440"/>
            <a:ext cx="592452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1006560" y="-30240"/>
            <a:ext cx="7199280" cy="9208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с двумя скругленными противолежащими углами 4"/>
          <p:cNvSpPr/>
          <p:nvPr/>
        </p:nvSpPr>
        <p:spPr>
          <a:xfrm>
            <a:off x="611280" y="1268280"/>
            <a:ext cx="7777080" cy="4464360"/>
          </a:xfrm>
          <a:prstGeom prst="pie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Monotype Corsiva"/>
              </a:rPr>
              <a:t>Сонце вже зве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uk-UA" sz="3600" spc="-1" strike="noStrike">
                <a:solidFill>
                  <a:srgbClr val="000000"/>
                </a:solidFill>
                <a:latin typeface="Monotype Corsiva"/>
              </a:rPr>
              <a:t>нуло з обіду і хилиться на    захі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Monotype Corsiva"/>
              </a:rPr>
              <a:t>Сонце підбилося вгору, і туман розвіяв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Monotype Corsiva"/>
              </a:rPr>
              <a:t>Несподівано виглянуло сонце і осяяло все навкру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СКЛАДНЕ РЕЧЕН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2146320"/>
          <a:ext cx="8147160" cy="2290680"/>
        </p:xfrm>
        <a:graphic>
          <a:graphicData uri="http://schemas.openxmlformats.org/drawingml/2006/table">
            <a:tbl>
              <a:tblPr/>
              <a:tblGrid>
                <a:gridCol w="4041720"/>
                <a:gridCol w="4105440"/>
              </a:tblGrid>
              <a:tr h="1160280">
                <a:tc>
                  <a:txBody>
                    <a:bodyPr lIns="44640" rIns="446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сполучников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640" rIns="446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лучников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30400">
                <a:tc>
                  <a:txBody>
                    <a:bodyPr lIns="44640" rIns="446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     ]  ,  [     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4640" rIns="446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    ]  , a  [     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    ] , </a:t>
                      </a: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об (    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468360" y="5084280"/>
            <a:ext cx="8207280" cy="1041480"/>
          </a:xfrm>
          <a:prstGeom prst="rect">
            <a:avLst/>
          </a:prstGeom>
          <a:solidFill>
            <a:srgbClr val="fcd5b5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олучн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а,  але,  та,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,  й,  зате,  проте,  однак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що, щоб, тому що, бо, як, коли  . . .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5"/>
          <p:cNvCxnSpPr/>
          <p:nvPr/>
        </p:nvCxnSpPr>
        <p:spPr>
          <a:xfrm>
            <a:off x="5372280" y="1401840"/>
            <a:ext cx="637200" cy="673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" name="Прямая со стрелкой 7"/>
          <p:cNvCxnSpPr/>
          <p:nvPr/>
        </p:nvCxnSpPr>
        <p:spPr>
          <a:xfrm flipH="1">
            <a:off x="2842560" y="1401840"/>
            <a:ext cx="649800" cy="673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Memphis\Desktop\мудра дыв.jpeg"/>
          <p:cNvPicPr/>
          <p:nvPr/>
        </p:nvPicPr>
        <p:blipFill>
          <a:blip r:embed="rId2"/>
          <a:stretch/>
        </p:blipFill>
        <p:spPr>
          <a:xfrm rot="21172200">
            <a:off x="2444400" y="3034800"/>
            <a:ext cx="3168720" cy="354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Memphis\Desktop\рукавичка.jpg"/>
          <p:cNvPicPr/>
          <p:nvPr/>
        </p:nvPicPr>
        <p:blipFill>
          <a:blip r:embed="rId3"/>
          <a:stretch/>
        </p:blipFill>
        <p:spPr>
          <a:xfrm rot="910800">
            <a:off x="5665680" y="595440"/>
            <a:ext cx="3041640" cy="361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Memphis\Desktop\колобок.jpeg"/>
          <p:cNvPicPr/>
          <p:nvPr/>
        </p:nvPicPr>
        <p:blipFill>
          <a:blip r:embed="rId4"/>
          <a:stretch/>
        </p:blipFill>
        <p:spPr>
          <a:xfrm rot="20658000">
            <a:off x="460440" y="425160"/>
            <a:ext cx="355428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3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3" descr=""/>
          <p:cNvPicPr/>
          <p:nvPr/>
        </p:nvPicPr>
        <p:blipFill>
          <a:blip r:embed="rId2"/>
          <a:stretch/>
        </p:blipFill>
        <p:spPr>
          <a:xfrm>
            <a:off x="549360" y="92160"/>
            <a:ext cx="7729560" cy="9874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с двумя скругленными противолежащими углами 4"/>
          <p:cNvSpPr/>
          <p:nvPr/>
        </p:nvSpPr>
        <p:spPr>
          <a:xfrm>
            <a:off x="611280" y="1413000"/>
            <a:ext cx="7777080" cy="4752720"/>
          </a:xfrm>
          <a:prstGeom prst="pie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а будовою речення поділяються на прості і склад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раматична основа реченн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е підмет і прису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кладне речення – це таке речення, де наявні ко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тини складного речення 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єднуються тільки за допомогою сполуч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сте речення має дві або більше граматичних ос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кладне речення складається з кількох простих реч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3" descr=""/>
          <p:cNvPicPr/>
          <p:nvPr/>
        </p:nvPicPr>
        <p:blipFill>
          <a:blip r:embed="rId2"/>
          <a:stretch/>
        </p:blipFill>
        <p:spPr>
          <a:xfrm>
            <a:off x="2225520" y="42840"/>
            <a:ext cx="411984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с двумя скругленными противолежащими углами 4"/>
          <p:cNvSpPr/>
          <p:nvPr/>
        </p:nvSpPr>
        <p:spPr>
          <a:xfrm>
            <a:off x="576360" y="1782720"/>
            <a:ext cx="7416720" cy="3313080"/>
          </a:xfrm>
          <a:prstGeom prst="pie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Memphis\Desktop\презентации\950698115.jpg"/>
          <p:cNvPicPr/>
          <p:nvPr/>
        </p:nvPicPr>
        <p:blipFill>
          <a:blip r:embed="rId3"/>
          <a:stretch/>
        </p:blipFill>
        <p:spPr>
          <a:xfrm>
            <a:off x="3851280" y="210672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2   Опрацювати теоретичний матеріал     с.115, впр. 2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Або  з підручника української літератури виписати по 2 складних речення з безсполучниковим і сполучниковим з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яз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6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3125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5:34:20Z</dcterms:created>
  <dc:creator>Олег</dc:creator>
  <dc:description/>
  <dc:language>en-US</dc:language>
  <cp:lastModifiedBy>*</cp:lastModifiedBy>
  <dcterms:modified xsi:type="dcterms:W3CDTF">2015-11-22T15:39:54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3477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