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1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9.jpeg" ContentType="image/jpeg"/>
  <Override PartName="/ppt/media/image45.jpeg" ContentType="image/jpeg"/>
  <Override PartName="/ppt/media/image36.jpeg" ContentType="image/jpeg"/>
  <Override PartName="/ppt/media/image9.jpeg" ContentType="image/jpeg"/>
  <Override PartName="/ppt/media/image40.gif" ContentType="image/gif"/>
  <Override PartName="/ppt/media/image53.jpeg" ContentType="image/jpeg"/>
  <Override PartName="/ppt/media/image44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33.gif" ContentType="image/gif"/>
  <Override PartName="/ppt/media/image8.gif" ContentType="image/gif"/>
  <Override PartName="/ppt/media/image18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2.jpeg" ContentType="image/jpeg"/>
  <Override PartName="/ppt/media/image37.gif" ContentType="image/gi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BF1-35AF-49F6-97E5-701FA97B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2AD-7C16-4638-9CBB-FFDC109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687-17D2-4CD5-9EF0-C6208D61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0E1-FC3D-480A-B492-DFCF5E12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A4F-B7B6-411B-A1C7-F73FDEE3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666-4957-4BC3-8F34-8DAE4D7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01E-B5A6-4C74-A832-C4499F21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84D-6307-46F5-B6D0-3950FE54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BFB-1952-45E5-A1AC-B96A02B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C0D-8F0D-4A79-BF2B-CAD9B36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AD1-87FF-4CBC-934D-31C67E8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893-538E-4E69-B28F-46E1C35B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EA8-1454-4DAB-AAA5-9E6E416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4D7-7626-419F-A7EE-A0D27D6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17F-993C-4D08-854D-408F140C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B9D-0E7F-403B-9E05-3945CC2C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990-7076-401A-A90B-A72C0C64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CAB-0EBC-4EDA-82AC-B9B6F546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23B-3569-451A-9DA0-6A39C432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7E1-5B59-4D59-A12E-2882227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AE8-8F3B-491F-AEDE-5007AED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F47-7AF0-4A79-8C1C-BCDD4D8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179-0878-43C7-ADF2-C6C78E1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AD9-E50E-4C9F-8E3F-78B07B4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a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2fab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2fab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2fab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ab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2f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ab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2f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F78-0C4D-4F78-A9DD-E3B08AC00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a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2fab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2fab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2fab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2f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ab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2f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ab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2f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391-37E3-445D-BC65-A551A31B99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m.ua/imgres?imgurl=http://www.deti.religiousbook.org.ua/img/2.jpg&amp;imgrefurl=http://www.deti.religiousbook.org.ua/big_foto/2.html&amp;h=600&amp;w=800&amp;sz=38&amp;hl=ru&amp;start=5&amp;tbnid=_Nx3K2sPLIfPfM:&amp;tbnh=107&amp;tbnw=143&amp;prev=/images%3Fq%3D%25D1%2582%25D1%2583%25D0%25BC%25D0%25B0%25D0%25BD%26gbv%3D2%26svnum%3D10%26hl%3Dru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m.ua/imgres?imgurl=http://www.xsun.pochta.ru/kaplu.jpg&amp;imgrefurl=http://www.xsunx.ru/postcards.php%3Fimage_id%3D437%26sessionid%3D48c032e30e2df86d665e11e469780e23&amp;h=768&amp;w=1024&amp;sz=234&amp;hl=ru&amp;start=1&amp;tbnid=G_ZyO0WXNB8bRM:&amp;tbnh=113&amp;tbnw=150&amp;prev=/images%3Fq%3D%25D1%2580%25D0%25BE%25D1%2581%25D0%25B0%26gbv%3D2%26svnum%3D10%26hl%3Dru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99"/>
                </a:solidFill>
                <a:latin typeface="Arial"/>
              </a:rPr>
              <a:t>Епіграф до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2571480"/>
            <a:ext cx="91440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диця — всьому цариц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9"/>
          <p:cNvGrpSpPr/>
          <p:nvPr/>
        </p:nvGrpSpPr>
        <p:grpSpPr>
          <a:xfrm>
            <a:off x="169200" y="-1440"/>
            <a:ext cx="8578080" cy="1723680"/>
            <a:chOff x="169200" y="-1440"/>
            <a:chExt cx="8578080" cy="1723680"/>
          </a:xfrm>
        </p:grpSpPr>
        <p:sp>
          <p:nvSpPr>
            <p:cNvPr id="257" name="WordArt 4"/>
            <p:cNvSpPr txBox="1"/>
            <p:nvPr/>
          </p:nvSpPr>
          <p:spPr>
            <a:xfrm rot="20991000">
              <a:off x="250560" y="259920"/>
              <a:ext cx="3076560" cy="12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99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Зустріч друга</a:t>
              </a:r>
              <a:endPara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58" name="WordArt 5"/>
            <p:cNvSpPr txBox="1"/>
            <p:nvPr/>
          </p:nvSpPr>
          <p:spPr>
            <a:xfrm>
              <a:off x="3419640" y="620640"/>
              <a:ext cx="5327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33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ани води</a:t>
              </a:r>
              <a:endParaRPr b="1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59" name="Group 24"/>
          <p:cNvGrpSpPr/>
          <p:nvPr/>
        </p:nvGrpSpPr>
        <p:grpSpPr>
          <a:xfrm>
            <a:off x="395280" y="1989000"/>
            <a:ext cx="8064360" cy="4869000"/>
            <a:chOff x="395280" y="1989000"/>
            <a:chExt cx="8064360" cy="4869000"/>
          </a:xfrm>
        </p:grpSpPr>
        <p:pic>
          <p:nvPicPr>
            <p:cNvPr id="260" name="Picture 6" descr="ice2[1]"/>
            <p:cNvPicPr/>
            <p:nvPr/>
          </p:nvPicPr>
          <p:blipFill>
            <a:blip r:embed="rId1"/>
            <a:stretch/>
          </p:blipFill>
          <p:spPr>
            <a:xfrm>
              <a:off x="395280" y="1989000"/>
              <a:ext cx="223200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7" descr="1-web[2]"/>
            <p:cNvPicPr/>
            <p:nvPr/>
          </p:nvPicPr>
          <p:blipFill>
            <a:blip r:embed="rId2"/>
            <a:stretch/>
          </p:blipFill>
          <p:spPr>
            <a:xfrm>
              <a:off x="6156360" y="1989000"/>
              <a:ext cx="223200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8" descr="yun_724[1]"/>
            <p:cNvPicPr/>
            <p:nvPr/>
          </p:nvPicPr>
          <p:blipFill>
            <a:blip r:embed="rId3"/>
            <a:stretch/>
          </p:blipFill>
          <p:spPr>
            <a:xfrm>
              <a:off x="395280" y="3573360"/>
              <a:ext cx="223200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9" descr="09[1]"/>
            <p:cNvPicPr/>
            <p:nvPr/>
          </p:nvPicPr>
          <p:blipFill>
            <a:blip r:embed="rId4"/>
            <a:stretch/>
          </p:blipFill>
          <p:spPr>
            <a:xfrm>
              <a:off x="3132000" y="1989000"/>
              <a:ext cx="21607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0" descr="4"/>
            <p:cNvPicPr/>
            <p:nvPr/>
          </p:nvPicPr>
          <p:blipFill>
            <a:blip r:embed="rId5"/>
            <a:stretch/>
          </p:blipFill>
          <p:spPr>
            <a:xfrm>
              <a:off x="3276720" y="5237280"/>
              <a:ext cx="2160360" cy="16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2" descr="2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227640" y="3573360"/>
              <a:ext cx="20876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4" descr="kaplu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227640" y="5276880"/>
              <a:ext cx="223200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6" descr="aisberg"/>
            <p:cNvPicPr/>
            <p:nvPr/>
          </p:nvPicPr>
          <p:blipFill>
            <a:blip r:embed="rId10"/>
            <a:stretch/>
          </p:blipFill>
          <p:spPr>
            <a:xfrm>
              <a:off x="395280" y="5157720"/>
              <a:ext cx="22320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8" descr="102413"/>
            <p:cNvPicPr/>
            <p:nvPr/>
          </p:nvPicPr>
          <p:blipFill>
            <a:blip r:embed="rId11"/>
            <a:stretch/>
          </p:blipFill>
          <p:spPr>
            <a:xfrm>
              <a:off x="3203640" y="3573360"/>
              <a:ext cx="2087640" cy="16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3"/>
          <p:cNvGrpSpPr/>
          <p:nvPr/>
        </p:nvGrpSpPr>
        <p:grpSpPr>
          <a:xfrm>
            <a:off x="971640" y="1413000"/>
            <a:ext cx="7913520" cy="595080"/>
            <a:chOff x="971640" y="1413000"/>
            <a:chExt cx="7913520" cy="595080"/>
          </a:xfrm>
        </p:grpSpPr>
        <p:sp>
          <p:nvSpPr>
            <p:cNvPr id="270" name="WordArt 20"/>
            <p:cNvSpPr txBox="1"/>
            <p:nvPr/>
          </p:nvSpPr>
          <p:spPr>
            <a:xfrm>
              <a:off x="971640" y="1413000"/>
              <a:ext cx="1333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ідки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71" name="WordArt 21"/>
            <p:cNvSpPr txBox="1"/>
            <p:nvPr/>
          </p:nvSpPr>
          <p:spPr>
            <a:xfrm>
              <a:off x="3203640" y="1484280"/>
              <a:ext cx="17524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тверди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72" name="WordArt 22"/>
            <p:cNvSpPr txBox="1"/>
            <p:nvPr/>
          </p:nvSpPr>
          <p:spPr>
            <a:xfrm>
              <a:off x="6084720" y="1484280"/>
              <a:ext cx="2800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азоподібни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97560" y="235440"/>
            <a:ext cx="8795520" cy="1659600"/>
            <a:chOff x="97560" y="235440"/>
            <a:chExt cx="8795520" cy="1659600"/>
          </a:xfrm>
        </p:grpSpPr>
        <p:sp>
          <p:nvSpPr>
            <p:cNvPr id="274" name="WordArt 4"/>
            <p:cNvSpPr txBox="1"/>
            <p:nvPr/>
          </p:nvSpPr>
          <p:spPr>
            <a:xfrm rot="20988600">
              <a:off x="179280" y="476280"/>
              <a:ext cx="282888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99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Зустріч третя</a:t>
              </a:r>
              <a:endPara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3059280" y="260280"/>
              <a:ext cx="5833800" cy="129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33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кільки води на Землі?</a:t>
              </a:r>
              <a:endPara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276" name="Picture 8" descr="Шаровый пазл ГЛОБУС, Ravensburger"/>
          <p:cNvPicPr/>
          <p:nvPr/>
        </p:nvPicPr>
        <p:blipFill>
          <a:blip r:embed="rId1"/>
          <a:stretch/>
        </p:blipFill>
        <p:spPr>
          <a:xfrm>
            <a:off x="395280" y="1844640"/>
            <a:ext cx="2232000" cy="482436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8"/>
          <p:cNvGrpSpPr/>
          <p:nvPr/>
        </p:nvGrpSpPr>
        <p:grpSpPr>
          <a:xfrm>
            <a:off x="2987640" y="1413000"/>
            <a:ext cx="5933880" cy="5256000"/>
            <a:chOff x="2987640" y="1413000"/>
            <a:chExt cx="5933880" cy="5256000"/>
          </a:xfrm>
        </p:grpSpPr>
        <p:grpSp>
          <p:nvGrpSpPr>
            <p:cNvPr id="278" name="Group 91"/>
            <p:cNvGrpSpPr/>
            <p:nvPr/>
          </p:nvGrpSpPr>
          <p:grpSpPr>
            <a:xfrm>
              <a:off x="2987640" y="1413000"/>
              <a:ext cx="5933880" cy="5244840"/>
              <a:chOff x="2987640" y="1413000"/>
              <a:chExt cx="5933880" cy="5244840"/>
            </a:xfrm>
          </p:grpSpPr>
          <p:pic>
            <p:nvPicPr>
              <p:cNvPr id="279" name="Picture 90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7640" y="1413000"/>
                <a:ext cx="5933880" cy="5244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0" name="Group 55"/>
              <p:cNvGrpSpPr/>
              <p:nvPr/>
            </p:nvGrpSpPr>
            <p:grpSpPr>
              <a:xfrm>
                <a:off x="2987640" y="1431000"/>
                <a:ext cx="5829120" cy="5226480"/>
                <a:chOff x="2987640" y="1431000"/>
                <a:chExt cx="5829120" cy="5226480"/>
              </a:xfrm>
            </p:grpSpPr>
            <p:sp>
              <p:nvSpPr>
                <p:cNvPr id="281" name="AutoShape 56"/>
                <p:cNvSpPr/>
                <p:nvPr/>
              </p:nvSpPr>
              <p:spPr>
                <a:xfrm>
                  <a:off x="2987640" y="1431000"/>
                  <a:ext cx="5829120" cy="522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Group 57"/>
                <p:cNvGrpSpPr/>
                <p:nvPr/>
              </p:nvGrpSpPr>
              <p:grpSpPr>
                <a:xfrm>
                  <a:off x="3215880" y="1539360"/>
                  <a:ext cx="4917960" cy="3264120"/>
                  <a:chOff x="3215880" y="1539360"/>
                  <a:chExt cx="4917960" cy="3264120"/>
                </a:xfrm>
              </p:grpSpPr>
              <p:grpSp>
                <p:nvGrpSpPr>
                  <p:cNvPr id="283" name="Group 58"/>
                  <p:cNvGrpSpPr/>
                  <p:nvPr/>
                </p:nvGrpSpPr>
                <p:grpSpPr>
                  <a:xfrm>
                    <a:off x="3215880" y="2192400"/>
                    <a:ext cx="1718280" cy="762120"/>
                    <a:chOff x="3215880" y="2192400"/>
                    <a:chExt cx="1718280" cy="762120"/>
                  </a:xfrm>
                </p:grpSpPr>
                <p:sp>
                  <p:nvSpPr>
                    <p:cNvPr id="284" name="Text Box 59"/>
                    <p:cNvSpPr/>
                    <p:nvPr/>
                  </p:nvSpPr>
                  <p:spPr>
                    <a:xfrm>
                      <a:off x="3901320" y="2192400"/>
                      <a:ext cx="1032840" cy="465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івнічна Амер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Text Box 60"/>
                    <p:cNvSpPr/>
                    <p:nvPr/>
                  </p:nvSpPr>
                  <p:spPr>
                    <a:xfrm>
                      <a:off x="3673080" y="2628000"/>
                      <a:ext cx="571320" cy="326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Text Box 61"/>
                    <p:cNvSpPr/>
                    <p:nvPr/>
                  </p:nvSpPr>
                  <p:spPr>
                    <a:xfrm>
                      <a:off x="3215880" y="2490480"/>
                      <a:ext cx="571320" cy="326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2"/>
                  <p:cNvGrpSpPr/>
                  <p:nvPr/>
                </p:nvGrpSpPr>
                <p:grpSpPr>
                  <a:xfrm>
                    <a:off x="4016520" y="1539360"/>
                    <a:ext cx="4117320" cy="3264120"/>
                    <a:chOff x="4016520" y="1539360"/>
                    <a:chExt cx="4117320" cy="3264120"/>
                  </a:xfrm>
                </p:grpSpPr>
                <p:sp>
                  <p:nvSpPr>
                    <p:cNvPr id="288" name="Text Box 63"/>
                    <p:cNvSpPr/>
                    <p:nvPr/>
                  </p:nvSpPr>
                  <p:spPr>
                    <a:xfrm>
                      <a:off x="4016520" y="3826080"/>
                      <a:ext cx="1257480" cy="653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івденна Амер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Group 64"/>
                    <p:cNvGrpSpPr/>
                    <p:nvPr/>
                  </p:nvGrpSpPr>
                  <p:grpSpPr>
                    <a:xfrm>
                      <a:off x="5274000" y="1539360"/>
                      <a:ext cx="2859840" cy="3264120"/>
                      <a:chOff x="5274000" y="1539360"/>
                      <a:chExt cx="2859840" cy="3264120"/>
                    </a:xfrm>
                  </p:grpSpPr>
                  <p:grpSp>
                    <p:nvGrpSpPr>
                      <p:cNvPr id="290" name="Group 65"/>
                      <p:cNvGrpSpPr/>
                      <p:nvPr/>
                    </p:nvGrpSpPr>
                    <p:grpSpPr>
                      <a:xfrm>
                        <a:off x="5274000" y="3390480"/>
                        <a:ext cx="1139040" cy="324720"/>
                        <a:chOff x="5274000" y="3390480"/>
                        <a:chExt cx="1139040" cy="324720"/>
                      </a:xfrm>
                    </p:grpSpPr>
                    <p:sp>
                      <p:nvSpPr>
                        <p:cNvPr id="291" name="Text Box 66"/>
                        <p:cNvSpPr/>
                        <p:nvPr/>
                      </p:nvSpPr>
                      <p:spPr>
                        <a:xfrm>
                          <a:off x="5274000" y="3390480"/>
                          <a:ext cx="569160" cy="3247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spcBef>
                              <a:spcPts val="49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uk-UA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11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%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Text Box 67"/>
                        <p:cNvSpPr/>
                        <p:nvPr/>
                      </p:nvSpPr>
                      <p:spPr>
                        <a:xfrm>
                          <a:off x="5843880" y="3390480"/>
                          <a:ext cx="569160" cy="324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spcBef>
                              <a:spcPts val="49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uk-UA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3</a:t>
                          </a:r>
                          <a:r>
                            <a:rPr b="1" lang="ru-RU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%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3" name="Group 68"/>
                      <p:cNvGrpSpPr/>
                      <p:nvPr/>
                    </p:nvGrpSpPr>
                    <p:grpSpPr>
                      <a:xfrm>
                        <a:off x="5274000" y="1539360"/>
                        <a:ext cx="2859840" cy="3264120"/>
                        <a:chOff x="5274000" y="1539360"/>
                        <a:chExt cx="2859840" cy="3264120"/>
                      </a:xfrm>
                    </p:grpSpPr>
                    <p:grpSp>
                      <p:nvGrpSpPr>
                        <p:cNvPr id="294" name="Group 69"/>
                        <p:cNvGrpSpPr/>
                        <p:nvPr/>
                      </p:nvGrpSpPr>
                      <p:grpSpPr>
                        <a:xfrm>
                          <a:off x="5274000" y="1539360"/>
                          <a:ext cx="2859840" cy="2940120"/>
                          <a:chOff x="5274000" y="1539360"/>
                          <a:chExt cx="2859840" cy="2940120"/>
                        </a:xfrm>
                      </p:grpSpPr>
                      <p:grpSp>
                        <p:nvGrpSpPr>
                          <p:cNvPr id="295" name="Group 70"/>
                          <p:cNvGrpSpPr/>
                          <p:nvPr/>
                        </p:nvGrpSpPr>
                        <p:grpSpPr>
                          <a:xfrm>
                            <a:off x="5274000" y="1539360"/>
                            <a:ext cx="2859840" cy="2175480"/>
                            <a:chOff x="5274000" y="1539360"/>
                            <a:chExt cx="2859840" cy="2175480"/>
                          </a:xfrm>
                        </p:grpSpPr>
                        <p:grpSp>
                          <p:nvGrpSpPr>
                            <p:cNvPr id="296" name="Group 71"/>
                            <p:cNvGrpSpPr/>
                            <p:nvPr/>
                          </p:nvGrpSpPr>
                          <p:grpSpPr>
                            <a:xfrm>
                              <a:off x="5274000" y="1539360"/>
                              <a:ext cx="2859840" cy="1631520"/>
                              <a:chOff x="5274000" y="1539360"/>
                              <a:chExt cx="2859840" cy="1631520"/>
                            </a:xfrm>
                          </p:grpSpPr>
                          <p:sp>
                            <p:nvSpPr>
                              <p:cNvPr id="297" name="Text Box 72"/>
                              <p:cNvSpPr/>
                              <p:nvPr/>
                            </p:nvSpPr>
                            <p:spPr>
                              <a:xfrm>
                                <a:off x="7101360" y="2410200"/>
                                <a:ext cx="1032480" cy="3261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uk-UA" sz="1400" spc="-1" strike="noStrike">
                                    <a:solidFill>
                                      <a:srgbClr val="0000ff"/>
                                    </a:solidFill>
                                    <a:latin typeface="Arial"/>
                                  </a:rPr>
                                  <a:t>Росія</a:t>
                                </a: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Text Box 73"/>
                              <p:cNvSpPr/>
                              <p:nvPr/>
                            </p:nvSpPr>
                            <p:spPr>
                              <a:xfrm>
                                <a:off x="6187680" y="1648440"/>
                                <a:ext cx="572040" cy="3265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spcBef>
                                    <a:spcPts val="499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uk-UA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2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5%</a:t>
                                </a: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Text Box 74"/>
                              <p:cNvSpPr/>
                              <p:nvPr/>
                            </p:nvSpPr>
                            <p:spPr>
                              <a:xfrm>
                                <a:off x="6759000" y="1539360"/>
                                <a:ext cx="569880" cy="3261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spcBef>
                                    <a:spcPts val="499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uk-UA" sz="1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3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5%</a:t>
                                </a: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00" name="Group 75"/>
                              <p:cNvGrpSpPr/>
                              <p:nvPr/>
                            </p:nvGrpSpPr>
                            <p:grpSpPr>
                              <a:xfrm>
                                <a:off x="5274000" y="2410200"/>
                                <a:ext cx="1254960" cy="760680"/>
                                <a:chOff x="5274000" y="2410200"/>
                                <a:chExt cx="1254960" cy="760680"/>
                              </a:xfrm>
                            </p:grpSpPr>
                            <p:sp>
                              <p:nvSpPr>
                                <p:cNvPr id="301" name="Text Box 76"/>
                                <p:cNvSpPr/>
                                <p:nvPr/>
                              </p:nvSpPr>
                              <p:spPr>
                                <a:xfrm>
                                  <a:off x="5274000" y="2410200"/>
                                  <a:ext cx="1031040" cy="43596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ffff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uk-UA" sz="1400" spc="-1" strike="noStrike">
                                      <a:solidFill>
                                        <a:srgbClr val="0000ff"/>
                                      </a:solidFill>
                                      <a:latin typeface="Arial"/>
                                    </a:rPr>
                                    <a:t>Європа</a:t>
                                  </a:r>
                                  <a:endParaRPr b="0" lang="en-US" sz="14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Text Box 77"/>
                                <p:cNvSpPr/>
                                <p:nvPr/>
                              </p:nvSpPr>
                              <p:spPr>
                                <a:xfrm>
                                  <a:off x="5959440" y="2628000"/>
                                  <a:ext cx="569520" cy="324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ffff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spcBef>
                                      <a:spcPts val="499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uk-UA" sz="1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13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%</a:t>
                                  </a:r>
                                  <a:endParaRPr b="0" lang="en-US" sz="14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Text Box 78"/>
                                <p:cNvSpPr/>
                                <p:nvPr/>
                              </p:nvSpPr>
                              <p:spPr>
                                <a:xfrm>
                                  <a:off x="5387760" y="2846160"/>
                                  <a:ext cx="570240" cy="324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ffff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spcBef>
                                      <a:spcPts val="499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uk-UA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8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%</a:t>
                                  </a:r>
                                  <a:endParaRPr b="0" lang="en-US" sz="14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04" name="Text Box 79"/>
                            <p:cNvSpPr/>
                            <p:nvPr/>
                          </p:nvSpPr>
                          <p:spPr>
                            <a:xfrm>
                              <a:off x="7101360" y="2846520"/>
                              <a:ext cx="568800" cy="32400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spcBef>
                                  <a:spcPts val="499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uk-UA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60</a:t>
                              </a:r>
                              <a:r>
                                <a:rPr b="1" lang="ru-RU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%</a:t>
                              </a:r>
                              <a:endParaRPr b="0" lang="en-US" sz="14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5" name="Text Box 80"/>
                            <p:cNvSpPr/>
                            <p:nvPr/>
                          </p:nvSpPr>
                          <p:spPr>
                            <a:xfrm>
                              <a:off x="6529680" y="3390120"/>
                              <a:ext cx="571320" cy="3247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spcBef>
                                  <a:spcPts val="499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uk-UA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36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%</a:t>
                              </a:r>
                              <a:endParaRPr b="0" lang="en-US" sz="14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6" name="Text Box 81"/>
                            <p:cNvSpPr/>
                            <p:nvPr/>
                          </p:nvSpPr>
                          <p:spPr>
                            <a:xfrm>
                              <a:off x="6415920" y="3063600"/>
                              <a:ext cx="804240" cy="3265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uk-UA" sz="1400" spc="-1" strike="noStrike">
                                  <a:solidFill>
                                    <a:srgbClr val="0000ff"/>
                                  </a:solidFill>
                                  <a:latin typeface="Arial"/>
                                </a:rPr>
                                <a:t>Азія</a:t>
                              </a:r>
                              <a:endParaRPr b="0" lang="en-US" sz="14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4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7" name="Text Box 82"/>
                          <p:cNvSpPr/>
                          <p:nvPr/>
                        </p:nvSpPr>
                        <p:spPr>
                          <a:xfrm>
                            <a:off x="5501880" y="4152960"/>
                            <a:ext cx="1032480" cy="3265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uk-UA" sz="1400" spc="-1" strike="noStrike">
                                <a:solidFill>
                                  <a:srgbClr val="0000ff"/>
                                </a:solidFill>
                                <a:latin typeface="Arial"/>
                              </a:rPr>
                              <a:t>Африка</a:t>
                            </a:r>
                            <a:endPara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8" name="Text Box 83"/>
                        <p:cNvSpPr/>
                        <p:nvPr/>
                      </p:nvSpPr>
                      <p:spPr>
                        <a:xfrm>
                          <a:off x="7558560" y="4479480"/>
                          <a:ext cx="569880" cy="324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spcBef>
                              <a:spcPts val="49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uk-UA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5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%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09" name="Group 84"/>
                <p:cNvGrpSpPr/>
                <p:nvPr/>
              </p:nvGrpSpPr>
              <p:grpSpPr>
                <a:xfrm>
                  <a:off x="4244760" y="4342320"/>
                  <a:ext cx="4454640" cy="1088640"/>
                  <a:chOff x="4244760" y="4342320"/>
                  <a:chExt cx="4454640" cy="1088640"/>
                </a:xfrm>
              </p:grpSpPr>
              <p:grpSp>
                <p:nvGrpSpPr>
                  <p:cNvPr id="310" name="Group 85"/>
                  <p:cNvGrpSpPr/>
                  <p:nvPr/>
                </p:nvGrpSpPr>
                <p:grpSpPr>
                  <a:xfrm>
                    <a:off x="4244760" y="4342320"/>
                    <a:ext cx="1026720" cy="760320"/>
                    <a:chOff x="4244760" y="4342320"/>
                    <a:chExt cx="1026720" cy="760320"/>
                  </a:xfrm>
                </p:grpSpPr>
                <p:sp>
                  <p:nvSpPr>
                    <p:cNvPr id="311" name="Text Box 86"/>
                    <p:cNvSpPr/>
                    <p:nvPr/>
                  </p:nvSpPr>
                  <p:spPr>
                    <a:xfrm>
                      <a:off x="4244760" y="4342320"/>
                      <a:ext cx="571320" cy="326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Text Box 87"/>
                    <p:cNvSpPr/>
                    <p:nvPr/>
                  </p:nvSpPr>
                  <p:spPr>
                    <a:xfrm>
                      <a:off x="4701960" y="4777920"/>
                      <a:ext cx="569520" cy="324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Text Box 88"/>
                  <p:cNvSpPr/>
                  <p:nvPr/>
                </p:nvSpPr>
                <p:spPr>
                  <a:xfrm>
                    <a:off x="6873120" y="5104440"/>
                    <a:ext cx="1142640" cy="32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uk-UA" sz="1400" spc="-1" strike="noStrike">
                        <a:solidFill>
                          <a:srgbClr val="0000ff"/>
                        </a:solidFill>
                        <a:latin typeface="Arial"/>
                      </a:rPr>
                      <a:t>Австралія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Text Box 89"/>
                  <p:cNvSpPr/>
                  <p:nvPr/>
                </p:nvSpPr>
                <p:spPr>
                  <a:xfrm>
                    <a:off x="8130240" y="4560120"/>
                    <a:ext cx="569160" cy="32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uk-UA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1" lang="ru-RU" sz="1400" spc="-1" strike="noStrike">
                        <a:solidFill>
                          <a:srgbClr val="000000"/>
                        </a:solidFill>
                        <a:latin typeface="Arial"/>
                      </a:rPr>
                      <a:t>%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315" name="Picture 94" descr=""/>
            <p:cNvPicPr/>
            <p:nvPr/>
          </p:nvPicPr>
          <p:blipFill>
            <a:blip r:embed="rId3"/>
            <a:stretch/>
          </p:blipFill>
          <p:spPr>
            <a:xfrm>
              <a:off x="3130560" y="5877000"/>
              <a:ext cx="4363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95" descr=""/>
            <p:cNvPicPr/>
            <p:nvPr/>
          </p:nvPicPr>
          <p:blipFill>
            <a:blip r:embed="rId4"/>
            <a:stretch/>
          </p:blipFill>
          <p:spPr>
            <a:xfrm>
              <a:off x="6011640" y="5950080"/>
              <a:ext cx="484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6"/>
            <p:cNvSpPr/>
            <p:nvPr/>
          </p:nvSpPr>
          <p:spPr>
            <a:xfrm>
              <a:off x="3635280" y="573408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ПРОЦЕНТ ВИКОРИСТАНОЇ ВОД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97"/>
            <p:cNvSpPr/>
            <p:nvPr/>
          </p:nvSpPr>
          <p:spPr>
            <a:xfrm>
              <a:off x="6659280" y="5877000"/>
              <a:ext cx="2087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ПРОЦЕНТ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НАСЕЛЕН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09"/>
          <p:cNvGrpSpPr/>
          <p:nvPr/>
        </p:nvGrpSpPr>
        <p:grpSpPr>
          <a:xfrm>
            <a:off x="179280" y="2349360"/>
            <a:ext cx="2808360" cy="3164040"/>
            <a:chOff x="179280" y="2349360"/>
            <a:chExt cx="2808360" cy="3164040"/>
          </a:xfrm>
        </p:grpSpPr>
        <p:pic>
          <p:nvPicPr>
            <p:cNvPr id="320" name="Picture 99" descr=""/>
            <p:cNvPicPr/>
            <p:nvPr/>
          </p:nvPicPr>
          <p:blipFill>
            <a:blip r:embed="rId5"/>
            <a:stretch/>
          </p:blipFill>
          <p:spPr>
            <a:xfrm>
              <a:off x="179280" y="2349360"/>
              <a:ext cx="27370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00"/>
            <p:cNvSpPr/>
            <p:nvPr/>
          </p:nvSpPr>
          <p:spPr>
            <a:xfrm>
              <a:off x="1547640" y="2349360"/>
              <a:ext cx="14400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СОЛОНА ВОДА (МОРЯ, ОКЕАНИ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05"/>
            <p:cNvSpPr/>
            <p:nvPr/>
          </p:nvSpPr>
          <p:spPr>
            <a:xfrm>
              <a:off x="1116000" y="3068640"/>
              <a:ext cx="7920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СНІГ, ПОЛЯРНІ ЛЬОД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06"/>
            <p:cNvSpPr/>
            <p:nvPr/>
          </p:nvSpPr>
          <p:spPr>
            <a:xfrm>
              <a:off x="1042920" y="3645000"/>
              <a:ext cx="93672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РІЧКИ, ОЗЕРА, ВОДОЙМ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AutoShape 107"/>
            <p:cNvSpPr/>
            <p:nvPr/>
          </p:nvSpPr>
          <p:spPr>
            <a:xfrm>
              <a:off x="1908000" y="3068640"/>
              <a:ext cx="216000" cy="1152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08"/>
            <p:cNvSpPr/>
            <p:nvPr/>
          </p:nvSpPr>
          <p:spPr>
            <a:xfrm>
              <a:off x="2050920" y="3860640"/>
              <a:ext cx="93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ПРІСНА ВО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Picture 110" descr="1-web[4]"/>
          <p:cNvPicPr/>
          <p:nvPr/>
        </p:nvPicPr>
        <p:blipFill>
          <a:blip r:embed="rId6"/>
          <a:stretch/>
        </p:blipFill>
        <p:spPr>
          <a:xfrm>
            <a:off x="3203640" y="1484280"/>
            <a:ext cx="513072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900" spc="-1" strike="noStrike">
                <a:solidFill>
                  <a:srgbClr val="0033cc"/>
                </a:solidFill>
                <a:latin typeface="Arial"/>
              </a:rPr>
              <a:t>Вода для росли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429000" y="4038480"/>
            <a:ext cx="2057400" cy="1524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609480" y="4191120"/>
            <a:ext cx="2514600" cy="2209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304920" y="1371600"/>
            <a:ext cx="2895480" cy="2057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5638680" y="1295280"/>
            <a:ext cx="3124440" cy="2057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867280" y="4191120"/>
            <a:ext cx="2667240" cy="22096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733920" y="1828800"/>
            <a:ext cx="1295280" cy="15238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900" spc="-1" strike="noStrike">
                <a:solidFill>
                  <a:srgbClr val="0033cc"/>
                </a:solidFill>
                <a:latin typeface="Arial"/>
              </a:rPr>
              <a:t>Вода в харчуванні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400800" y="1447920"/>
            <a:ext cx="1981080" cy="213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5800" y="4495680"/>
            <a:ext cx="228600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400800" y="4343400"/>
            <a:ext cx="2057400" cy="198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581280" y="2057400"/>
            <a:ext cx="205740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533520" y="1295280"/>
            <a:ext cx="2133360" cy="251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900" spc="-1" strike="noStrike">
                <a:solidFill>
                  <a:srgbClr val="0033cc"/>
                </a:solidFill>
                <a:latin typeface="Arial"/>
              </a:rPr>
              <a:t>Вода в харчуванні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352680" y="2133720"/>
            <a:ext cx="2438640" cy="358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172200" y="1371600"/>
            <a:ext cx="259092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228600" y="1295280"/>
            <a:ext cx="2666880" cy="251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0880" y="4495680"/>
            <a:ext cx="2362320" cy="1981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6248520" y="4495680"/>
            <a:ext cx="2590560" cy="1981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1"/>
          <p:cNvGrpSpPr/>
          <p:nvPr/>
        </p:nvGrpSpPr>
        <p:grpSpPr>
          <a:xfrm>
            <a:off x="115200" y="18720"/>
            <a:ext cx="8777880" cy="1661040"/>
            <a:chOff x="115200" y="18720"/>
            <a:chExt cx="8777880" cy="1661040"/>
          </a:xfrm>
        </p:grpSpPr>
        <p:sp>
          <p:nvSpPr>
            <p:cNvPr id="347" name="WordArt 4"/>
            <p:cNvSpPr txBox="1"/>
            <p:nvPr/>
          </p:nvSpPr>
          <p:spPr>
            <a:xfrm rot="21124200">
              <a:off x="179280" y="260280"/>
              <a:ext cx="35816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99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Зустріч четверта</a:t>
              </a:r>
              <a:endPara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8" name="WordArt 7"/>
            <p:cNvSpPr txBox="1"/>
            <p:nvPr/>
          </p:nvSpPr>
          <p:spPr>
            <a:xfrm>
              <a:off x="2986200" y="692280"/>
              <a:ext cx="590688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33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Як зберегти воду?</a:t>
              </a:r>
              <a:endPara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0" y="2133720"/>
            <a:ext cx="9248040" cy="4429080"/>
            <a:chOff x="0" y="2133720"/>
            <a:chExt cx="9248040" cy="4429080"/>
          </a:xfrm>
        </p:grpSpPr>
        <p:pic>
          <p:nvPicPr>
            <p:cNvPr id="350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913752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10"/>
            <p:cNvSpPr/>
            <p:nvPr/>
          </p:nvSpPr>
          <p:spPr>
            <a:xfrm>
              <a:off x="1332000" y="37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203640" y="37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5075280" y="37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6945480" y="37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>
              <a:off x="8828280" y="37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332000" y="597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>
              <a:off x="3203640" y="597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5075280" y="597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8"/>
            <p:cNvSpPr/>
            <p:nvPr/>
          </p:nvSpPr>
          <p:spPr>
            <a:xfrm>
              <a:off x="6945480" y="597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9"/>
            <p:cNvSpPr/>
            <p:nvPr/>
          </p:nvSpPr>
          <p:spPr>
            <a:xfrm>
              <a:off x="8670960" y="5970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99"/>
                </a:solidFill>
                <a:latin typeface="Arial"/>
              </a:rPr>
              <a:t>ЯК ЗБЕРЕГТИ ВОДУ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ffff"/>
                </a:solidFill>
                <a:latin typeface="Arial"/>
              </a:rPr>
              <a:t>Вода пропадає без використанн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ода використовується нераціональ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2d050"/>
                </a:solidFill>
                <a:latin typeface="Arial"/>
              </a:rPr>
              <a:t>Вода використовується раціональ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99"/>
                </a:solidFill>
                <a:latin typeface="Arial"/>
              </a:rPr>
              <a:t>ЯК ЗБЕРЕГТИ ВОДУ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ffff"/>
                </a:solidFill>
                <a:latin typeface="Arial"/>
              </a:rPr>
              <a:t>Вода пропадає без використання: </a:t>
            </a:r>
            <a:r>
              <a:rPr b="1" i="1" lang="uk-UA" sz="3200" spc="-1" strike="noStrike">
                <a:solidFill>
                  <a:srgbClr val="29ffff"/>
                </a:solidFill>
                <a:latin typeface="Arial"/>
              </a:rPr>
              <a:t>2, 6,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Вода використовується нераціонально: </a:t>
            </a:r>
            <a:r>
              <a:rPr b="1" i="1" lang="uk-UA" sz="3200" spc="-1" strike="noStrike">
                <a:solidFill>
                  <a:srgbClr val="c00000"/>
                </a:solidFill>
                <a:latin typeface="Arial"/>
              </a:rPr>
              <a:t>1, 4, 7,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Arial"/>
              </a:rPr>
              <a:t>Вода використовується раціонально: </a:t>
            </a: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3, 5,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99"/>
                </a:solidFill>
                <a:latin typeface="Arial"/>
              </a:rPr>
              <a:t>Алгоритм виконання досліду</a:t>
            </a:r>
            <a:r>
              <a:rPr b="0" lang="uk-UA" sz="44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i="1" lang="uk-UA" sz="4400" spc="-1" strike="noStrike">
                <a:solidFill>
                  <a:srgbClr val="ff6699"/>
                </a:solidFill>
                <a:latin typeface="Arial"/>
              </a:rPr>
              <a:t>(разом з дорослими)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1214280"/>
            <a:ext cx="8929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ідкрий кран так, щоб з нього водичка капала по краплин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бери по краплині воду в склянку, що накапає за 1 хви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иміряй її кількість. (Це може бути 50, 80, 100 м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множ це число на 60 хвилин. Це буде кількість води, що витекла за г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множ отримане число на 24 години. Отримаєш кількість води, яка протекла даремно за добу, не зробивши користі люд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За допомогою склянки для виміру рідини, набери цю кількість во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ого могло вистачити цієї кількості води до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омашнє завдання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стор. 147-150 в пар. 36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зошиті міні-проект “Де ми втрачаємо воду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малювати плакат “Бережи воду” або скласти і оформити поради по збереженню води в домашніх умов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85840" y="285840"/>
            <a:ext cx="8400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ff"/>
                </a:solidFill>
                <a:latin typeface="Arial"/>
              </a:rPr>
              <a:t>Чому так говорять: </a:t>
            </a:r>
            <a:r>
              <a:rPr b="0" lang="uk-UA" sz="6000" spc="-1" strike="noStrike">
                <a:solidFill>
                  <a:srgbClr val="ff3399"/>
                </a:solidFill>
                <a:latin typeface="Arial"/>
              </a:rPr>
              <a:t>“БЕЗ ВОДИ НЕ БУЛО Б ЖИТТЯ НА ЗЕМЛІ”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8199-2E54-4697-B680-94696C293C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Де ми зустрічаємо воду в природі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5" descr="400001"/>
          <p:cNvPicPr/>
          <p:nvPr/>
        </p:nvPicPr>
        <p:blipFill>
          <a:blip r:embed="rId1"/>
          <a:stretch/>
        </p:blipFill>
        <p:spPr>
          <a:xfrm>
            <a:off x="395280" y="407664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167067"/>
          <p:cNvPicPr/>
          <p:nvPr/>
        </p:nvPicPr>
        <p:blipFill>
          <a:blip r:embed="rId2"/>
          <a:stretch/>
        </p:blipFill>
        <p:spPr>
          <a:xfrm>
            <a:off x="6732720" y="1557360"/>
            <a:ext cx="2187360" cy="3281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45056"/>
          <p:cNvPicPr/>
          <p:nvPr/>
        </p:nvPicPr>
        <p:blipFill>
          <a:blip r:embed="rId3"/>
          <a:stretch/>
        </p:blipFill>
        <p:spPr>
          <a:xfrm>
            <a:off x="250920" y="162864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Pg1_l130"/>
          <p:cNvPicPr/>
          <p:nvPr/>
        </p:nvPicPr>
        <p:blipFill>
          <a:blip r:embed="rId4"/>
          <a:stretch/>
        </p:blipFill>
        <p:spPr>
          <a:xfrm>
            <a:off x="3924360" y="1700280"/>
            <a:ext cx="2582640" cy="3860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PPIC0079"/>
          <p:cNvPicPr/>
          <p:nvPr/>
        </p:nvPicPr>
        <p:blipFill>
          <a:blip r:embed="rId5"/>
          <a:stretch/>
        </p:blipFill>
        <p:spPr>
          <a:xfrm>
            <a:off x="5364000" y="4506840"/>
            <a:ext cx="293544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“</a:t>
            </a: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С тобой возвращ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к нам силы, с котор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мы уже простились.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твоей милости в 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вновь начинают бурл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высокие родники наш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сердца. Ты сам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большое богатство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Arial Black"/>
              </a:rPr>
              <a:t>свете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      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(Антуан де Сент </a:t>
            </a:r>
            <a:r>
              <a:rPr b="1" i="1" lang="ru-RU" sz="2000" spc="-1" strike="noStrike">
                <a:solidFill>
                  <a:srgbClr val="660066"/>
                </a:solidFill>
                <a:latin typeface="Arial Black"/>
              </a:rPr>
              <a:t>Э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кзюпер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0033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ода - житт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0033cc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38680" y="1828800"/>
            <a:ext cx="2971800" cy="4114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“ </a:t>
            </a: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Воде была дана волшебная власть стать соком жизни на Земле.</a:t>
            </a:r>
            <a:r>
              <a:rPr b="0" i="1" lang="ru-RU" sz="2000" spc="-1" strike="noStrike">
                <a:solidFill>
                  <a:srgbClr val="660066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   </a:t>
            </a: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Нет воды – нет жизни, есть вода – есть жизнь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               </a:t>
            </a: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(Леонардо да Винч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60066"/>
                </a:solidFill>
                <a:latin typeface="Arial Black"/>
              </a:rPr>
              <a:t>“ 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Нельзя сказать, что ты необходима для жизн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           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ты – сама жизнь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    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(Антуан де Сент </a:t>
            </a:r>
            <a:r>
              <a:rPr b="1" i="1" lang="ru-RU" sz="2000" spc="-1" strike="noStrike">
                <a:solidFill>
                  <a:srgbClr val="660066"/>
                </a:solidFill>
                <a:latin typeface="Arial Black"/>
              </a:rPr>
              <a:t>Э</a:t>
            </a:r>
            <a:r>
              <a:rPr b="1" i="1" lang="uk-UA" sz="2000" spc="-1" strike="noStrike">
                <a:solidFill>
                  <a:srgbClr val="660066"/>
                </a:solidFill>
                <a:latin typeface="Arial Black"/>
              </a:rPr>
              <a:t>кзюпер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562720" y="4343400"/>
            <a:ext cx="3200400" cy="213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5181480" y="1600200"/>
            <a:ext cx="3200400" cy="2209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838080" y="304920"/>
            <a:ext cx="74678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0033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ода - житт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0033cc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11D8-552E-4761-8F04-B8BEF20F2E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Гідросфера – водна оболонка земл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5" name="Picture 7" descr="962"/>
          <p:cNvPicPr/>
          <p:nvPr/>
        </p:nvPicPr>
        <p:blipFill>
          <a:blip r:embed="rId1"/>
          <a:stretch/>
        </p:blipFill>
        <p:spPr>
          <a:xfrm>
            <a:off x="971640" y="1989000"/>
            <a:ext cx="4105080" cy="41054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5651640" y="2852640"/>
            <a:ext cx="28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71 % земної поверхні становить водний покр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2119-4E93-4F4B-83C0-8DAD73E7BA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кеани та моря – це велиі маси солоної води, що заповнюють земні запад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3573360"/>
            <a:ext cx="446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их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тлантич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ійс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внічний льодови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539640" y="28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еа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6084720" y="321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р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084720" y="393372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ор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зовсь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C51-9DDB-4E6D-89A9-5ABA52638F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279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Річки – маси прісної води, що починаються з джерел і впадають в моря та океан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920" y="4076640"/>
            <a:ext cx="3394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ніп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ніс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вденний Б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уна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24000" y="3213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йбільші річки Украї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5" descr="Photo-0022"/>
          <p:cNvPicPr/>
          <p:nvPr/>
        </p:nvPicPr>
        <p:blipFill>
          <a:blip r:embed="rId1"/>
          <a:stretch/>
        </p:blipFill>
        <p:spPr>
          <a:xfrm>
            <a:off x="5508720" y="3429000"/>
            <a:ext cx="3456000" cy="2763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Photo-0035"/>
          <p:cNvPicPr/>
          <p:nvPr/>
        </p:nvPicPr>
        <p:blipFill>
          <a:blip r:embed="rId2"/>
          <a:stretch/>
        </p:blipFill>
        <p:spPr>
          <a:xfrm>
            <a:off x="179280" y="11592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ЗГАДАЙТЕ РЕБ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О=ДА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Я = 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21" descr=""/>
          <p:cNvPicPr/>
          <p:nvPr/>
        </p:nvPicPr>
        <p:blipFill>
          <a:blip r:embed="rId1"/>
          <a:stretch/>
        </p:blipFill>
        <p:spPr>
          <a:xfrm>
            <a:off x="4000680" y="3071880"/>
            <a:ext cx="4143240" cy="3500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2" descr=""/>
          <p:cNvPicPr/>
          <p:nvPr/>
        </p:nvPicPr>
        <p:blipFill>
          <a:blip r:embed="rId2"/>
          <a:stretch/>
        </p:blipFill>
        <p:spPr>
          <a:xfrm>
            <a:off x="285840" y="2428920"/>
            <a:ext cx="3571920" cy="3429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1148400"/>
            <a:ext cx="9144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324000" y="1197000"/>
            <a:ext cx="8569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0082d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 на Землі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0082d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324000" y="1455120"/>
            <a:ext cx="8640720" cy="5213160"/>
          </a:xfrm>
          <a:prstGeom prst="rect">
            <a:avLst/>
          </a:prstGeom>
          <a:noFill/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Чи насправді вода така  важлива, і що вона дає людям?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Де на Землі знаходиться в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У яких станах і які властивості має вода – рідин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Значення води для рослин, тварин і людини. </a:t>
            </a:r>
            <a:r>
              <a:rPr b="1" lang="uk-UA" sz="2800" spc="-1" strike="noStrike">
                <a:solidFill>
                  <a:srgbClr val="ff3399"/>
                </a:solidFill>
                <a:latin typeface="Comic Sans MS"/>
              </a:rPr>
              <a:t>А також спробуєте дати відповіді на питання:</a:t>
            </a: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 - Куди зникає вода з калюж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Чому висихає мокра білиз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- Чому дошка швидко становиться сухою, хоч ви її часто протираєте мокрою ганчірко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250920" y="26028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 дізнаємось:</a:t>
            </a:r>
            <a:endParaRPr b="0" lang="en-US" sz="1800" spc="1" strike="noStrike">
              <a:ln w="12600">
                <a:solidFill>
                  <a:srgbClr val="ff3399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33cc"/>
                </a:solidFill>
                <a:latin typeface="Arial"/>
              </a:rPr>
              <a:t>Молекула вод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2714760"/>
            <a:ext cx="88394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ccff"/>
                </a:solidFill>
                <a:latin typeface="Arial"/>
              </a:rPr>
              <a:t>                                    </a:t>
            </a:r>
            <a:r>
              <a:rPr b="1" i="1" lang="uk-UA" sz="2800" spc="-1" strike="noStrike">
                <a:solidFill>
                  <a:srgbClr val="660066"/>
                </a:solidFill>
                <a:latin typeface="Arial"/>
              </a:rPr>
              <a:t>Молекула води –Н</a:t>
            </a:r>
            <a:r>
              <a:rPr b="1" i="1" lang="uk-UA" sz="12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i="1" lang="uk-UA" sz="2800" spc="-1" strike="noStrike">
                <a:solidFill>
                  <a:srgbClr val="660066"/>
                </a:solidFill>
                <a:latin typeface="Arial"/>
              </a:rPr>
              <a:t>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660066"/>
                </a:solidFill>
                <a:latin typeface="Arial"/>
              </a:rPr>
              <a:t>Складається з двох атомів водню, сполучених з атомом кисню міцним ковалентним зв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i="1" lang="uk-UA" sz="2400" spc="-1" strike="noStrike">
                <a:solidFill>
                  <a:srgbClr val="660066"/>
                </a:solidFill>
                <a:latin typeface="Arial"/>
              </a:rPr>
              <a:t>язком. Вона полярна, на її полюсах розміщені позитивний і негативний заряди. Завдяки цьому дві молекули можуть притягуватися одна до одної за рахунок сил електростатичної взаємодії між негативним зарядом на атомі кисню і позитивним зарядом на атомі водню. Цей тип зв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i="1" lang="uk-UA" sz="2400" spc="-1" strike="noStrike">
                <a:solidFill>
                  <a:srgbClr val="660066"/>
                </a:solidFill>
                <a:latin typeface="Arial"/>
              </a:rPr>
              <a:t>язку – водневий. Він у 15-20 разів слабший за ковалент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80880" y="1219320"/>
            <a:ext cx="221004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477120" y="1219320"/>
            <a:ext cx="2286000" cy="144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657600" y="1371600"/>
            <a:ext cx="1905120" cy="1219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9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i="1" lang="uk-UA" sz="5400" spc="-1" strike="noStrike">
                <a:solidFill>
                  <a:srgbClr val="0033cc"/>
                </a:solidFill>
                <a:latin typeface="Arial"/>
              </a:rPr>
              <a:t>Гідро” (лат?) -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Вс</a:t>
            </a:r>
            <a:r>
              <a:rPr b="1" i="1" lang="uk-UA" sz="3600" spc="-1" strike="noStrike">
                <a:solidFill>
                  <a:srgbClr val="660066"/>
                </a:solidFill>
                <a:latin typeface="Arial"/>
              </a:rPr>
              <a:t>і речовини по відношенню до води поділяються на дві груп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Гідрофільні </a:t>
            </a: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– ті, що добре розчиняються у воді;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“філео”</a:t>
            </a: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 – той, що любить воду. До них належать цукор, сіль, амінокисло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 Гідрофобні</a:t>
            </a: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 – ті, що практично нерозчинні у воді;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“фобос”</a:t>
            </a:r>
            <a:r>
              <a:rPr b="1" i="1" lang="uk-UA" sz="3200" spc="-1" strike="noStrike">
                <a:solidFill>
                  <a:srgbClr val="660066"/>
                </a:solidFill>
                <a:latin typeface="Arial"/>
              </a:rPr>
              <a:t> – той, що боїться води. До них належать ліпі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0"/>
          <p:cNvGrpSpPr/>
          <p:nvPr/>
        </p:nvGrpSpPr>
        <p:grpSpPr>
          <a:xfrm>
            <a:off x="95400" y="-27360"/>
            <a:ext cx="8724600" cy="2016360"/>
            <a:chOff x="95400" y="-27360"/>
            <a:chExt cx="8724600" cy="2016360"/>
          </a:xfrm>
        </p:grpSpPr>
        <p:sp>
          <p:nvSpPr>
            <p:cNvPr id="231" name="WordArt 4"/>
            <p:cNvSpPr txBox="1"/>
            <p:nvPr/>
          </p:nvSpPr>
          <p:spPr>
            <a:xfrm rot="20919000">
              <a:off x="178920" y="260280"/>
              <a:ext cx="303876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99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Зустріч перша</a:t>
              </a:r>
              <a:endPara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32" name="WordArt 5"/>
            <p:cNvSpPr txBox="1"/>
            <p:nvPr/>
          </p:nvSpPr>
          <p:spPr>
            <a:xfrm>
              <a:off x="2700360" y="692280"/>
              <a:ext cx="6119640" cy="129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33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Властивості води - рідини</a:t>
              </a:r>
              <a:endPara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3" name="WordArt 31"/>
          <p:cNvSpPr txBox="1"/>
          <p:nvPr/>
        </p:nvSpPr>
        <p:spPr>
          <a:xfrm>
            <a:off x="6948360" y="22050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куч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WordArt 32"/>
          <p:cNvSpPr txBox="1"/>
          <p:nvPr/>
        </p:nvSpPr>
        <p:spPr>
          <a:xfrm>
            <a:off x="5580000" y="2852640"/>
            <a:ext cx="339876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має форми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буває форми того посуду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який вона нали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5" name="WordArt 33"/>
          <p:cNvSpPr txBox="1"/>
          <p:nvPr/>
        </p:nvSpPr>
        <p:spPr>
          <a:xfrm>
            <a:off x="6804000" y="5445000"/>
            <a:ext cx="194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зо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WordArt 34"/>
          <p:cNvSpPr txBox="1"/>
          <p:nvPr/>
        </p:nvSpPr>
        <p:spPr>
          <a:xfrm>
            <a:off x="324000" y="5013360"/>
            <a:ext cx="227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 запах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7" name="WordArt 35"/>
          <p:cNvSpPr txBox="1"/>
          <p:nvPr/>
        </p:nvSpPr>
        <p:spPr>
          <a:xfrm>
            <a:off x="250920" y="2060640"/>
            <a:ext cx="227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барв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WordArt 36"/>
          <p:cNvSpPr txBox="1"/>
          <p:nvPr/>
        </p:nvSpPr>
        <p:spPr>
          <a:xfrm>
            <a:off x="250920" y="2997360"/>
            <a:ext cx="280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скаєть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охолодженні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9" name="Group 38"/>
          <p:cNvGrpSpPr/>
          <p:nvPr/>
        </p:nvGrpSpPr>
        <p:grpSpPr>
          <a:xfrm>
            <a:off x="1835280" y="2276640"/>
            <a:ext cx="5040360" cy="3744720"/>
            <a:chOff x="1835280" y="2276640"/>
            <a:chExt cx="5040360" cy="3744720"/>
          </a:xfrm>
        </p:grpSpPr>
        <p:grpSp>
          <p:nvGrpSpPr>
            <p:cNvPr id="240" name="Group 29"/>
            <p:cNvGrpSpPr/>
            <p:nvPr/>
          </p:nvGrpSpPr>
          <p:grpSpPr>
            <a:xfrm>
              <a:off x="1835280" y="2276640"/>
              <a:ext cx="5040360" cy="3600000"/>
              <a:chOff x="1835280" y="2276640"/>
              <a:chExt cx="5040360" cy="3600000"/>
            </a:xfrm>
          </p:grpSpPr>
          <p:pic>
            <p:nvPicPr>
              <p:cNvPr id="241" name="Picture 17" descr="����� ���� ��� �����"/>
              <p:cNvPicPr/>
              <p:nvPr/>
            </p:nvPicPr>
            <p:blipFill>
              <a:blip r:embed="rId1"/>
              <a:stretch/>
            </p:blipFill>
            <p:spPr>
              <a:xfrm>
                <a:off x="3275280" y="2276640"/>
                <a:ext cx="2249640" cy="34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19"/>
              <p:cNvSpPr/>
              <p:nvPr/>
            </p:nvSpPr>
            <p:spPr>
              <a:xfrm>
                <a:off x="3634200" y="4147920"/>
                <a:ext cx="1441440" cy="5205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3333ff"/>
                    </a:solidFill>
                    <a:latin typeface="Arial"/>
                  </a:rPr>
                  <a:t>Вода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22"/>
              <p:cNvSpPr/>
              <p:nvPr/>
            </p:nvSpPr>
            <p:spPr>
              <a:xfrm>
                <a:off x="5434200" y="42195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23"/>
              <p:cNvSpPr/>
              <p:nvPr/>
            </p:nvSpPr>
            <p:spPr>
              <a:xfrm>
                <a:off x="5291280" y="5300640"/>
                <a:ext cx="136872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24"/>
              <p:cNvSpPr/>
              <p:nvPr/>
            </p:nvSpPr>
            <p:spPr>
              <a:xfrm flipV="1">
                <a:off x="4859640" y="2635200"/>
                <a:ext cx="2016000" cy="36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25"/>
              <p:cNvSpPr/>
              <p:nvPr/>
            </p:nvSpPr>
            <p:spPr>
              <a:xfrm>
                <a:off x="1978200" y="2708280"/>
                <a:ext cx="1944720" cy="21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26"/>
              <p:cNvSpPr/>
              <p:nvPr/>
            </p:nvSpPr>
            <p:spPr>
              <a:xfrm flipV="1">
                <a:off x="1835280" y="4076280"/>
                <a:ext cx="1511640" cy="7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27"/>
              <p:cNvSpPr/>
              <p:nvPr/>
            </p:nvSpPr>
            <p:spPr>
              <a:xfrm flipV="1">
                <a:off x="1906920" y="5371560"/>
                <a:ext cx="172728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7"/>
            <p:cNvSpPr/>
            <p:nvPr/>
          </p:nvSpPr>
          <p:spPr>
            <a:xfrm>
              <a:off x="4356000" y="558972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WordArt 39"/>
          <p:cNvSpPr txBox="1"/>
          <p:nvPr/>
        </p:nvSpPr>
        <p:spPr>
          <a:xfrm>
            <a:off x="3348000" y="6021360"/>
            <a:ext cx="21909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зчин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902C-D72F-4B1C-B4D9-FBB0883F06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64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Які агрегатні стани води вам відомі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bounce_question_mark_hc"/>
          <p:cNvPicPr/>
          <p:nvPr/>
        </p:nvPicPr>
        <p:blipFill>
          <a:blip r:embed="rId1"/>
          <a:stretch/>
        </p:blipFill>
        <p:spPr>
          <a:xfrm>
            <a:off x="0" y="115920"/>
            <a:ext cx="2400480" cy="3333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400000"/>
          <p:cNvPicPr/>
          <p:nvPr/>
        </p:nvPicPr>
        <p:blipFill>
          <a:blip r:embed="rId2"/>
          <a:stretch/>
        </p:blipFill>
        <p:spPr>
          <a:xfrm>
            <a:off x="179280" y="2133720"/>
            <a:ext cx="5040360" cy="336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02_01_04_01"/>
          <p:cNvPicPr/>
          <p:nvPr/>
        </p:nvPicPr>
        <p:blipFill>
          <a:blip r:embed="rId3"/>
          <a:stretch/>
        </p:blipFill>
        <p:spPr>
          <a:xfrm>
            <a:off x="4284720" y="3500280"/>
            <a:ext cx="424188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44:36Z</dcterms:created>
  <dc:creator>www.PHILka.RU</dc:creator>
  <dc:description/>
  <dc:language>en-US</dc:language>
  <cp:lastModifiedBy>11</cp:lastModifiedBy>
  <dcterms:modified xsi:type="dcterms:W3CDTF">2017-02-22T16:44:42Z</dcterms:modified>
  <cp:revision>36</cp:revision>
  <dc:subject/>
  <dc:title>Слайд 1</dc:title>
</cp:coreProperties>
</file>