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cashreg.wav" ContentType="audio/x-wav"/>
  <Override PartName="/ppt/media/image13.png" ContentType="image/png"/>
  <Override PartName="/ppt/media/image4.png" ContentType="image/png"/>
  <Override PartName="/ppt/media/image6.png" ContentType="image/png"/>
  <Override PartName="/ppt/media/camera.wav" ContentType="audio/x-wav"/>
  <Override PartName="/ppt/media/image14.png" ContentType="image/png"/>
  <Override PartName="/ppt/media/image12.png" ContentType="image/png"/>
  <Override PartName="/ppt/media/image11.png" ContentType="image/png"/>
  <Override PartName="/ppt/media/coin.wav" ContentType="audio/x-wav"/>
  <Override PartName="/ppt/media/image16.png" ContentType="image/png"/>
  <Override PartName="/ppt/media/chimes.wav" ContentType="audio/x-wav"/>
  <Override PartName="/ppt/media/image5.png" ContentType="image/png"/>
  <Override PartName="/ppt/media/applause.wav" ContentType="audio/x-wav"/>
  <Override PartName="/ppt/media/image10.png" ContentType="image/png"/>
  <Override PartName="/ppt/media/image2.png" ContentType="image/png"/>
  <Override PartName="/ppt/media/drumroll.wav" ContentType="audio/x-wav"/>
  <Override PartName="/ppt/media/image15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188-BB9F-46CE-BA74-6FC47ED6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627-46D8-45FE-AD8A-6A08A340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6B3-C4D7-4168-928A-E2833529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BAE-E88F-4325-A982-3BE1662B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796-14C6-451F-B11F-F06D7D96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6D6-1B43-40C5-A904-C6AE0F1C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1F3-BB68-4377-964C-96076102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95D-65DE-4563-9C1B-9808BFB7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85E-2C4B-491F-986D-14D9A585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1C0-1191-46B7-B76B-4E38A58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9C6B-9B20-4B5E-8036-25FBD848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FEC-7F25-44D4-BAF2-BD2BA4FB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8C18-1615-400C-AD8B-CE63D6618C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250920" y="5397480"/>
            <a:ext cx="8642160" cy="579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539640" y="115920"/>
            <a:ext cx="817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ЗМІНЮВАННЯ ІМЕННИКІВ ЗА ЧИСЛАМИ: </a:t>
            </a:r>
            <a:r>
              <a:rPr b="1" lang="uk-UA" sz="3600" spc="-1" strike="noStrike">
                <a:solidFill>
                  <a:srgbClr val="800080"/>
                </a:solidFill>
                <a:latin typeface="Arial"/>
              </a:rPr>
              <a:t>ОДНИНА ТА МНОЖ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Documents and Settings\zhenya\Рабочий стол\уроки\Рисунки работа\Рисунки\дети\девочки пишут думают.png"/>
          <p:cNvPicPr/>
          <p:nvPr/>
        </p:nvPicPr>
        <p:blipFill>
          <a:blip r:embed="rId1"/>
          <a:stretch/>
        </p:blipFill>
        <p:spPr>
          <a:xfrm>
            <a:off x="2468520" y="1898640"/>
            <a:ext cx="46245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536400" y="348480"/>
            <a:ext cx="82836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РОБОТА ЗА ВПРАВОЮ 276 (</a:t>
            </a:r>
            <a:r>
              <a:rPr b="1" i="1" lang="uk-UA" sz="3600" spc="-1" strike="noStrike">
                <a:solidFill>
                  <a:srgbClr val="c00000"/>
                </a:solidFill>
                <a:latin typeface="Arial"/>
              </a:rPr>
              <a:t>С. 115</a:t>
            </a: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2700360" y="1239840"/>
            <a:ext cx="619272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 algn="ctr">
              <a:lnSpc>
                <a:spcPct val="15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6600"/>
                </a:solidFill>
                <a:latin typeface="Times New Roman"/>
              </a:rPr>
              <a:t>Прочитайте текст, розкриваючи дужки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Times New Roman"/>
              </a:rPr>
              <a:t>Спишіть текст і визначт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Times New Roman"/>
              </a:rPr>
              <a:t>рід виділених іменників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ff"/>
                </a:solidFill>
                <a:latin typeface="Times New Roman"/>
              </a:rPr>
              <a:t>Поставте виділен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ff"/>
                </a:solidFill>
                <a:latin typeface="Times New Roman"/>
              </a:rPr>
              <a:t>іменники у множині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800080"/>
                </a:solidFill>
                <a:latin typeface="Times New Roman"/>
              </a:rPr>
              <a:t>Позначте в них закінчення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Documents and Settings\zhenya\Рабочий стол\уроки\Рисунки работа\Рисунки\дети\мальик демает пишет список лист.png"/>
          <p:cNvPicPr/>
          <p:nvPr/>
        </p:nvPicPr>
        <p:blipFill>
          <a:blip r:embed="rId1"/>
          <a:stretch/>
        </p:blipFill>
        <p:spPr>
          <a:xfrm>
            <a:off x="-757080" y="1557360"/>
            <a:ext cx="48974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8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6" presetSubtype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-468360" y="1365120"/>
            <a:ext cx="98647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08160" algn="ctr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2060"/>
                </a:solidFill>
                <a:latin typeface="Times New Roman"/>
              </a:rPr>
              <a:t>Складіть діалог на тему </a:t>
            </a:r>
            <a:r>
              <a:rPr b="1" lang="uk-UA" sz="3000" spc="-1" strike="noStrike">
                <a:solidFill>
                  <a:srgbClr val="800080"/>
                </a:solidFill>
                <a:latin typeface="Times New Roman"/>
              </a:rPr>
              <a:t>«Мій вихідний день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Горизонтальный свиток 3"/>
          <p:cNvSpPr/>
          <p:nvPr/>
        </p:nvSpPr>
        <p:spPr>
          <a:xfrm>
            <a:off x="250920" y="333360"/>
            <a:ext cx="8713800" cy="1008000"/>
          </a:xfrm>
          <a:prstGeom prst="horizontalScroll">
            <a:avLst>
              <a:gd name="adj" fmla="val 10097"/>
            </a:avLst>
          </a:prstGeom>
          <a:solidFill>
            <a:srgbClr val="cc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ff"/>
                </a:solidFill>
                <a:latin typeface="Arial"/>
              </a:rPr>
              <a:t>ХВИЛИНКА СПІЛКУВАННЯ. </a:t>
            </a:r>
            <a:r>
              <a:rPr b="1" lang="uk-UA" sz="2900" spc="-1" strike="noStrike">
                <a:solidFill>
                  <a:srgbClr val="006600"/>
                </a:solidFill>
                <a:latin typeface="Arial"/>
              </a:rPr>
              <a:t>РОБОТА В ПАРАХ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zhenya\Рабочий стол\уроки\Рисунки работа\Рисунки\дети\Мальчик дарит цветы.png"/>
          <p:cNvPicPr/>
          <p:nvPr/>
        </p:nvPicPr>
        <p:blipFill>
          <a:blip r:embed="rId1"/>
          <a:stretch/>
        </p:blipFill>
        <p:spPr>
          <a:xfrm>
            <a:off x="2411280" y="2276640"/>
            <a:ext cx="4464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3203640" y="1557360"/>
            <a:ext cx="590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211320" algn="ctr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</a:rPr>
              <a:t>Відгадайте загадки. </a:t>
            </a: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Визначте рід, число іменників-відгадок, поясніть їх правопи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Лента лицом вниз 3"/>
          <p:cNvSpPr/>
          <p:nvPr/>
        </p:nvSpPr>
        <p:spPr>
          <a:xfrm>
            <a:off x="900000" y="412920"/>
            <a:ext cx="7488360" cy="928440"/>
          </a:xfrm>
          <a:custGeom>
            <a:avLst/>
            <a:gdLst>
              <a:gd name="textAreaLeft" fmla="*/ 1361880 w 7488360"/>
              <a:gd name="textAreaRight" fmla="*/ 6126480 w 7488360"/>
              <a:gd name="textAreaTop" fmla="*/ 15480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954" y="0"/>
                </a:lnTo>
                <a:arcTo wR="675" hR="900" stAng="16200000" swAng="5400000"/>
                <a:lnTo>
                  <a:pt x="6629" y="3600"/>
                </a:lnTo>
                <a:lnTo>
                  <a:pt x="14971" y="3600"/>
                </a:lnTo>
                <a:lnTo>
                  <a:pt x="14971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7671" y="18000"/>
                </a:lnTo>
                <a:lnTo>
                  <a:pt x="17671" y="20700"/>
                </a:lnTo>
                <a:arcTo wR="675" hR="900" stAng="0" swAng="5400000"/>
                <a:lnTo>
                  <a:pt x="4604" y="21600"/>
                </a:lnTo>
                <a:arcTo wR="675" hR="900" stAng="5400000" swAng="5400000"/>
                <a:lnTo>
                  <a:pt x="3929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6629" y="900"/>
                </a:moveTo>
                <a:arcTo wR="675" hR="900" stAng="0" swAng="5400000"/>
                <a:lnTo>
                  <a:pt x="4604" y="1800"/>
                </a:lnTo>
                <a:arcTo wR="675" hR="900" stAng="16200000" swAng="-5400000"/>
                <a:arcTo wR="675" hR="900" stAng="10800000" swAng="-5400000"/>
                <a:lnTo>
                  <a:pt x="6629" y="3600"/>
                </a:lnTo>
              </a:path>
              <a:path fill="none" w="21600" h="21600">
                <a:moveTo>
                  <a:pt x="14971" y="900"/>
                </a:moveTo>
                <a:arcTo wR="675" hR="900" stAng="10800000" swAng="-5400000"/>
                <a:lnTo>
                  <a:pt x="16996" y="1800"/>
                </a:lnTo>
                <a:arcTo wR="675" hR="900" stAng="16200000" swAng="5400000"/>
                <a:arcTo wR="675" hR="900" stAng="0" swAng="5400000"/>
                <a:lnTo>
                  <a:pt x="14971" y="3600"/>
                </a:lnTo>
              </a:path>
              <a:path fill="none" w="21600" h="21600">
                <a:moveTo>
                  <a:pt x="3929" y="2700"/>
                </a:moveTo>
                <a:lnTo>
                  <a:pt x="3929" y="18000"/>
                </a:lnTo>
              </a:path>
              <a:path fill="none" w="21600" h="21600">
                <a:moveTo>
                  <a:pt x="17671" y="2700"/>
                </a:moveTo>
                <a:lnTo>
                  <a:pt x="17671" y="18000"/>
                </a:lnTo>
              </a:path>
            </a:pathLst>
          </a:custGeom>
          <a:solidFill>
            <a:srgbClr val="ccffcc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Arial"/>
              </a:rPr>
              <a:t>ГРА «ЛАНЦЮЖОК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Documents and Settings\zhenya\Рабочий стол\уроки\Рисунки работа\Рисунки\дети\Творча робота.png"/>
          <p:cNvPicPr/>
          <p:nvPr/>
        </p:nvPicPr>
        <p:blipFill>
          <a:blip r:embed="rId1"/>
          <a:stretch/>
        </p:blipFill>
        <p:spPr>
          <a:xfrm>
            <a:off x="250920" y="1641600"/>
            <a:ext cx="413856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4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50920" y="54936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211320" algn="ctr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</a:rPr>
              <a:t>Зимою спить, а літом шум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211320" algn="ct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Times New Roman"/>
              </a:rPr>
              <a:t>Яке місто літає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211320" algn="ctr">
              <a:lnSpc>
                <a:spcPct val="15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Times New Roman"/>
              </a:rPr>
              <a:t>Не має ніг, а ходить, ма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211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00"/>
                </a:solidFill>
                <a:latin typeface="Times New Roman"/>
              </a:rPr>
              <a:t>вухо, а не чує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zhenya\Рабочий стол\уроки\Рисунки работа\Рисунки\дети\Думай копия.png"/>
          <p:cNvPicPr/>
          <p:nvPr/>
        </p:nvPicPr>
        <p:blipFill>
          <a:blip r:embed="rId1"/>
          <a:stretch/>
        </p:blipFill>
        <p:spPr>
          <a:xfrm>
            <a:off x="4140360" y="939960"/>
            <a:ext cx="482436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6" presetSubtype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-36360" y="838080"/>
            <a:ext cx="610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211320" algn="ctr">
              <a:lnSpc>
                <a:spcPct val="15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Times New Roman"/>
              </a:rPr>
              <a:t>Чорне сукно лізе у вік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211320" algn="ct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Не бджола, а гуд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211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не птах, а лет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211320" algn="ctr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</a:rPr>
              <a:t>Без рук, без олівц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211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</a:rPr>
              <a:t>а малює без кінц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zhenya\Рабочий стол\уроки\Рисунки работа\Рисунки\дети\1-23 Девочка думает копия.png"/>
          <p:cNvPicPr/>
          <p:nvPr/>
        </p:nvPicPr>
        <p:blipFill>
          <a:blip r:embed="rId1"/>
          <a:stretch/>
        </p:blipFill>
        <p:spPr>
          <a:xfrm>
            <a:off x="4067280" y="1241280"/>
            <a:ext cx="511308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08000" y="692280"/>
            <a:ext cx="511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08160" algn="ctr">
              <a:lnSpc>
                <a:spcPct val="15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Times New Roman"/>
              </a:rPr>
              <a:t>Що без дірки наливаєть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308160" algn="ctr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80"/>
                </a:solidFill>
                <a:latin typeface="Times New Roman"/>
              </a:rPr>
              <a:t>Одна коняка тягне двадцять брич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308160" algn="ct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У воді росте,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3081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води боїть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zhenya\Рабочий стол\уроки\Рисунки работа\Рисунки\дети\мальчик думает 4.png"/>
          <p:cNvPicPr/>
          <p:nvPr/>
        </p:nvPicPr>
        <p:blipFill>
          <a:blip r:embed="rId1"/>
          <a:stretch/>
        </p:blipFill>
        <p:spPr>
          <a:xfrm>
            <a:off x="4211640" y="476280"/>
            <a:ext cx="5003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62440" y="404640"/>
            <a:ext cx="8658720" cy="673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2060"/>
                </a:solidFill>
                <a:latin typeface="Arial"/>
              </a:rPr>
              <a:t>ГРА «ДВА </a:t>
            </a:r>
            <a:r>
              <a:rPr b="1" lang="ru-RU" sz="38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1" lang="uk-UA" sz="3800" spc="-1" strike="noStrike">
                <a:solidFill>
                  <a:srgbClr val="002060"/>
                </a:solidFill>
                <a:latin typeface="Arial"/>
              </a:rPr>
              <a:t> ЧОТИРИ – ВСІ РАЗОМ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767160" y="1352520"/>
            <a:ext cx="519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2113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</a:rPr>
              <a:t>Яке слово «зайве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179280" y="2060640"/>
            <a:ext cx="628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 algn="ctr">
              <a:lnSpc>
                <a:spcPct val="15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Дніпро, Кірово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Львів, Вінни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Сонце, вітер, дощ, костю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</a:rPr>
              <a:t>Сторож, шк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</a:rPr>
              <a:t>лінійка, Володя, рі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Times New Roman"/>
              </a:rPr>
              <a:t>Вовк, лисиця, заєць, зо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zhenya\Рабочий стол\уроки\Рисунки работа\Рисунки\дети\1-21 Мальчик думает.png"/>
          <p:cNvPicPr/>
          <p:nvPr/>
        </p:nvPicPr>
        <p:blipFill>
          <a:blip r:embed="rId1"/>
          <a:stretch/>
        </p:blipFill>
        <p:spPr>
          <a:xfrm>
            <a:off x="6443640" y="1413000"/>
            <a:ext cx="22147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2556000" y="155736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211320" algn="ct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Запишіть іменники у три стовпчики за род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3924360" y="3352680"/>
            <a:ext cx="4572000" cy="33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Times New Roman"/>
              </a:rPr>
              <a:t>Фермер, яблуко, телевізор, пташка, озеро, книжка, олень, вулиця, міс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Круглая лента лицом вниз 4"/>
          <p:cNvSpPr/>
          <p:nvPr/>
        </p:nvSpPr>
        <p:spPr>
          <a:xfrm>
            <a:off x="468360" y="333360"/>
            <a:ext cx="8280360" cy="1150920"/>
          </a:xfrm>
          <a:custGeom>
            <a:avLst/>
            <a:gdLst>
              <a:gd name="textAreaLeft" fmla="*/ 1308600 w 8280360"/>
              <a:gd name="textAreaRight" fmla="*/ 6971760 w 8280360"/>
              <a:gd name="textAreaTop" fmla="*/ 287640 h 1150920"/>
              <a:gd name="textAreaBottom" fmla="*/ 1086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26598"/>
                <a:lnTo>
                  <a:pt x="3414" y="20385"/>
                </a:lnTo>
                <a:arcTo wR="21600" hR="20153" stAng="6678358" swAng="-2556717"/>
                <a:lnTo>
                  <a:pt x="18186" y="17685"/>
                </a:lnTo>
                <a:arcTo wR="21600" hR="20153" stAng="4121642" swAng="-626598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101089"/>
                <a:lnTo>
                  <a:pt x="15486" y="4920"/>
                </a:lnTo>
                <a:arcTo wR="21600" hR="20153" stAng="4596133" swAng="1607735"/>
                <a:lnTo>
                  <a:pt x="6114" y="2220"/>
                </a:lnTo>
                <a:arcTo wR="21600" hR="20153" stAng="6203867" swAng="1101089"/>
                <a:lnTo>
                  <a:pt x="2700" y="9329"/>
                </a:lnTo>
                <a:close/>
              </a:path>
              <a:path fill="none" w="21600" h="21600">
                <a:moveTo>
                  <a:pt x="6114" y="4920"/>
                </a:moveTo>
                <a:arcTo wR="21600" hR="20153" stAng="6203867" swAng="474491"/>
                <a:lnTo>
                  <a:pt x="6114" y="2220"/>
                </a:lnTo>
              </a:path>
              <a:path fill="none" w="21600" h="21600">
                <a:moveTo>
                  <a:pt x="15486" y="4920"/>
                </a:moveTo>
                <a:arcTo wR="21600" hR="20153" stAng="4596133" swAng="-474491"/>
                <a:lnTo>
                  <a:pt x="15486" y="2220"/>
                </a:lnTo>
              </a:path>
              <a:path fill="none" w="21600" h="21600">
                <a:moveTo>
                  <a:pt x="3414" y="17685"/>
                </a:moveTo>
                <a:lnTo>
                  <a:pt x="3414" y="4185"/>
                </a:lnTo>
              </a:path>
              <a:path fill="none" w="21600" h="21600">
                <a:moveTo>
                  <a:pt x="18186" y="17685"/>
                </a:moveTo>
                <a:lnTo>
                  <a:pt x="18186" y="4185"/>
                </a:lnTo>
              </a:path>
            </a:pathLst>
          </a:custGeom>
          <a:solidFill>
            <a:srgbClr val="ffcc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СЛОВНИКОВИ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zhenya\Рабочий стол\уроки\Рисунки работа\Рисунки\дети\1-09 Дети идут в школу разговаривают копия.png"/>
          <p:cNvPicPr/>
          <p:nvPr/>
        </p:nvPicPr>
        <p:blipFill>
          <a:blip r:embed="rId1"/>
          <a:stretch/>
        </p:blipFill>
        <p:spPr>
          <a:xfrm>
            <a:off x="-517680" y="2540160"/>
            <a:ext cx="46594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24000" y="981000"/>
            <a:ext cx="568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211320" algn="ctr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80"/>
                </a:solidFill>
                <a:latin typeface="Times New Roman"/>
              </a:rPr>
              <a:t>Скільки предметів називають записані вами іменн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211320" algn="ctr">
              <a:lnSpc>
                <a:spcPct val="15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Times New Roman"/>
              </a:rPr>
              <a:t>Змініть іменники так, щоб вони позначали багато предметі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zhenya\Рабочий стол\уроки\Рисунки работа\Рисунки\дети\1-24 Мальчик думает 3.png"/>
          <p:cNvPicPr/>
          <p:nvPr/>
        </p:nvPicPr>
        <p:blipFill>
          <a:blip r:embed="rId1"/>
          <a:stretch/>
        </p:blipFill>
        <p:spPr>
          <a:xfrm>
            <a:off x="6012000" y="601560"/>
            <a:ext cx="23000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511560" y="406440"/>
            <a:ext cx="8071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Arial"/>
              </a:rPr>
              <a:t>ПІДГОТОВЧА ВПРАВА (</a:t>
            </a:r>
            <a:r>
              <a:rPr b="1" i="1" lang="uk-UA" sz="3600" spc="-1" strike="noStrike">
                <a:solidFill>
                  <a:srgbClr val="006600"/>
                </a:solidFill>
                <a:latin typeface="Arial"/>
              </a:rPr>
              <a:t>275, С. 114</a:t>
            </a:r>
            <a:r>
              <a:rPr b="1" lang="uk-UA" sz="3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348000" y="1082520"/>
            <a:ext cx="554508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08160" algn="ct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ff"/>
                </a:solidFill>
                <a:latin typeface="Times New Roman"/>
              </a:rPr>
              <a:t>Прочитайт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3081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ff"/>
                </a:solidFill>
                <a:latin typeface="Times New Roman"/>
              </a:rPr>
              <a:t>текст, уставляючи пропущені букв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308160" algn="ctr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800080"/>
                </a:solidFill>
                <a:latin typeface="Times New Roman"/>
              </a:rPr>
              <a:t>Що сталося з дівчинкою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308160" algn="ctr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Times New Roman"/>
              </a:rPr>
              <a:t>Що принес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3081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Times New Roman"/>
              </a:rPr>
              <a:t>мама з магазину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zhenya\Рабочий стол\уроки\Рисунки работа\Рисунки\дети\девочка в платочке.png"/>
          <p:cNvPicPr/>
          <p:nvPr/>
        </p:nvPicPr>
        <p:blipFill>
          <a:blip r:embed="rId1"/>
          <a:stretch/>
        </p:blipFill>
        <p:spPr>
          <a:xfrm>
            <a:off x="395280" y="1360440"/>
            <a:ext cx="42480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50920" y="542880"/>
            <a:ext cx="597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 algn="ct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Чим цікава була карт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Чому саме та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картину купила ма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Як би ви продовж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цю розпові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Times New Roman"/>
              </a:rPr>
              <a:t>Спишіть текст, уставляючи пропущені закінч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Documents and Settings\zhenya\Рабочий стол\уроки\Рисунки работа\Рисунки\дети\мальчик 2.png"/>
          <p:cNvPicPr/>
          <p:nvPr/>
        </p:nvPicPr>
        <p:blipFill>
          <a:blip r:embed="rId1"/>
          <a:stretch/>
        </p:blipFill>
        <p:spPr>
          <a:xfrm>
            <a:off x="5616720" y="1197000"/>
            <a:ext cx="34923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573280" y="452520"/>
            <a:ext cx="6319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 algn="ctr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Підкресліть голов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члени речення у перш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і другому реченн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Підкресліть іменни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які означають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предмет – однією рис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які означають баг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предметів – двома рис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Documents and Settings\zhenya\Рабочий стол\уроки\Рисунки работа\Рисунки\дети\девочка думает 3.png"/>
          <p:cNvPicPr/>
          <p:nvPr/>
        </p:nvPicPr>
        <p:blipFill>
          <a:blip r:embed="rId1"/>
          <a:stretch/>
        </p:blipFill>
        <p:spPr>
          <a:xfrm>
            <a:off x="-541440" y="701640"/>
            <a:ext cx="48974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116000" y="404640"/>
            <a:ext cx="7343640" cy="1464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ff"/>
                </a:solidFill>
                <a:latin typeface="Arial"/>
              </a:rPr>
              <a:t>ОЗНАЙОМЛЕННЯ З ТЕОРЕТИЧНИМ МАТЕРІАЛОМ (</a:t>
            </a:r>
            <a:r>
              <a:rPr b="1" i="1" lang="uk-UA" sz="3000" spc="-1" strike="noStrike">
                <a:solidFill>
                  <a:srgbClr val="0000ff"/>
                </a:solidFill>
                <a:latin typeface="Arial"/>
              </a:rPr>
              <a:t>С. 115</a:t>
            </a:r>
            <a:r>
              <a:rPr b="1" lang="uk-UA" sz="3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34920" y="2565360"/>
            <a:ext cx="55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211320" algn="ctr">
              <a:lnSpc>
                <a:spcPct val="15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80"/>
                </a:solidFill>
                <a:latin typeface="Times New Roman"/>
              </a:rPr>
              <a:t>За якими числами змінюються іменн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211320" algn="ctr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</a:rPr>
              <a:t>Наведіть власні прикла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zhenya\Рабочий стол\уроки\Рисунки работа\Рисунки\дети\28(5).png"/>
          <p:cNvPicPr/>
          <p:nvPr/>
        </p:nvPicPr>
        <p:blipFill>
          <a:blip r:embed="rId1"/>
          <a:stretch/>
        </p:blipFill>
        <p:spPr>
          <a:xfrm>
            <a:off x="4627440" y="2544840"/>
            <a:ext cx="44085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12360" y="260280"/>
            <a:ext cx="67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800080"/>
                </a:solidFill>
                <a:uFillTx/>
                <a:latin typeface="Arial"/>
              </a:rPr>
              <a:t>ПЕРВИННЕ</a:t>
            </a:r>
            <a:r>
              <a:rPr b="1" lang="uk-UA" sz="4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uk-UA" sz="4000" spc="-1" strike="noStrike" u="sng">
                <a:solidFill>
                  <a:srgbClr val="800080"/>
                </a:solidFill>
                <a:uFillTx/>
                <a:latin typeface="Arial"/>
              </a:rPr>
              <a:t>ЗАКРІПЛ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691360" y="1125360"/>
            <a:ext cx="40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21132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Спишіть текс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60080" y="1844640"/>
            <a:ext cx="83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211320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Times New Roman"/>
              </a:rPr>
              <a:t>Назвіть іменники, вжиті у множині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12840" y="2685960"/>
            <a:ext cx="5122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З неба падають сніжи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</a:rPr>
              <a:t>На дерева, на будин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</a:rPr>
              <a:t>На майдани, на сад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Times New Roman"/>
              </a:rPr>
              <a:t>На ялинки, на ду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1027800" y="5950080"/>
            <a:ext cx="74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21132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</a:rPr>
              <a:t>Поставте ці іменники в однин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zhenya\Рабочий стол\уроки\Рисунки работа\Рисунки\дети\28(19).png"/>
          <p:cNvPicPr/>
          <p:nvPr/>
        </p:nvPicPr>
        <p:blipFill>
          <a:blip r:embed="rId1"/>
          <a:stretch/>
        </p:blipFill>
        <p:spPr>
          <a:xfrm>
            <a:off x="4500720" y="2347920"/>
            <a:ext cx="46749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Пользователь</cp:lastModifiedBy>
  <dcterms:modified xsi:type="dcterms:W3CDTF">2017-02-13T17:56:16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