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0DDE-0797-4880-B022-FF0E748E0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3D58-1A67-4526-899F-D7D0F002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FB46-A930-47E7-B5CB-683349DFD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07D2-29C1-43E9-A18C-1E8C1E3B5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DF56-8581-4611-9502-F12180A27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65CB-D258-4B8E-B87E-F21B17DF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8EC1-288A-4D05-9B5E-E157220D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93DC-86D4-4D27-947D-3CFD7F69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1596-E823-4533-9BE8-469568C9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F643-D6CF-44D3-862E-4210D963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DC65-7E1F-4E6E-AD33-6875ED5A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C549-94BC-46BB-B30E-3591E3CF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80BE-FA2F-4A71-A63F-ACC92C72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0870-1804-4C5A-A3E1-9151192D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8259-055E-4FE4-B09C-87ACC5C6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5019-DF3C-4845-BE10-8B1ABFECB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C794-4447-4D07-8DA9-E5688292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37E2-A260-4617-87CA-4E21A147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A2B0-1F5B-4B55-9FB3-E3BD3C46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B393-E82F-4FE7-A1BC-FAC19034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75BF-F9B3-4E91-BE3F-9299EE1F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A10F-F8AC-4FA8-8B73-36DA84F9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5CB3-FABA-4B5C-9BD9-CAC1E71B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E55F-B129-4D45-B8A1-B1C687DA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7646-F4B0-4902-A61C-07C09C377DA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3530-7F61-425F-88D0-9D379ECCC97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11280" y="2637000"/>
            <a:ext cx="813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6d1ec"/>
                </a:solidFill>
                <a:latin typeface="Arial"/>
              </a:rPr>
              <a:t>РОЗРОБКА  УРОКУ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6d1ec"/>
                </a:solidFill>
                <a:latin typeface="Arial"/>
              </a:rPr>
              <a:t>З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6d1ec"/>
                </a:solidFill>
                <a:latin typeface="Arial"/>
              </a:rPr>
              <a:t>ІСТОРІЇ</a:t>
            </a: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86d1ec"/>
                </a:solidFill>
                <a:latin typeface="Arial"/>
              </a:rPr>
              <a:t>України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6d1ec"/>
                </a:solidFill>
                <a:latin typeface="Arial"/>
              </a:rPr>
              <a:t>в   11  клас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Arial"/>
              </a:rPr>
              <a:t>ПЕРЕБІГ   УРОКУ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1. Звучать  звуки сире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2. Епіграф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400" spc="-1" strike="noStrike">
                <a:solidFill>
                  <a:srgbClr val="ff99ff"/>
                </a:solidFill>
                <a:latin typeface="Arial"/>
              </a:rPr>
              <a:t>Кто  говорит, что на войне не страшн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99ff"/>
                </a:solidFill>
                <a:latin typeface="Arial"/>
              </a:rPr>
              <a:t>                 </a:t>
            </a:r>
            <a:r>
              <a:rPr b="1" i="1" lang="uk-UA" sz="2400" spc="-1" strike="noStrike">
                <a:solidFill>
                  <a:srgbClr val="ff99ff"/>
                </a:solidFill>
                <a:latin typeface="Arial"/>
              </a:rPr>
              <a:t>Тот ничего не знает о вой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</a:t>
            </a:r>
            <a:r>
              <a:rPr b="0" lang="uk-UA" sz="2400" spc="-1" strike="noStrike">
                <a:solidFill>
                  <a:srgbClr val="ff66cc"/>
                </a:solidFill>
                <a:latin typeface="Arial"/>
              </a:rPr>
              <a:t>Юлія  Друні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i="1" lang="uk-UA" sz="2400" spc="-1" strike="noStrike">
                <a:solidFill>
                  <a:srgbClr val="cc99ff"/>
                </a:solidFill>
                <a:latin typeface="Arial"/>
              </a:rPr>
              <a:t>Не всі жертви були євреями, але всі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c99ff"/>
                </a:solidFill>
                <a:latin typeface="Arial"/>
              </a:rPr>
              <a:t>                          </a:t>
            </a:r>
            <a:r>
              <a:rPr b="1" i="1" lang="uk-UA" sz="2400" spc="-1" strike="noStrike">
                <a:solidFill>
                  <a:srgbClr val="cc99ff"/>
                </a:solidFill>
                <a:latin typeface="Arial"/>
              </a:rPr>
              <a:t>євреї були жертвами нациз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</a:t>
            </a:r>
            <a:r>
              <a:rPr b="0" lang="uk-UA" sz="2400" spc="-1" strike="noStrike">
                <a:solidFill>
                  <a:srgbClr val="ff66ff"/>
                </a:solidFill>
                <a:latin typeface="Arial"/>
              </a:rPr>
              <a:t>Е. Віз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Arial"/>
              </a:rPr>
              <a:t>ПЕРЕБІГ   УРОКУ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3. Вступне  слово вчителя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( на   фоні   тихої   сумної  музики ”Вокаліз № 1” )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–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Страшні роки окупації нашої  області з вересня 1941 року по лютий 1944 року залишили на нашій землі глибокий, незабутній слід. Безжальні цифри говорять про злочини окупантів : розстріляно мирних жителів – </a:t>
            </a:r>
            <a:r>
              <a:rPr b="0" lang="uk-UA" sz="2400" spc="-1" strike="noStrike">
                <a:solidFill>
                  <a:srgbClr val="ff66cc"/>
                </a:solidFill>
                <a:latin typeface="Arial"/>
              </a:rPr>
              <a:t>667 45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чоловік, знищено військовополонених – </a:t>
            </a:r>
            <a:r>
              <a:rPr b="0" lang="uk-UA" sz="2400" spc="-1" strike="noStrike">
                <a:solidFill>
                  <a:srgbClr val="ff66cc"/>
                </a:solidFill>
                <a:latin typeface="Arial"/>
              </a:rPr>
              <a:t>15 916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чоловік, загнано на каторжні роботи до Німеччини – </a:t>
            </a:r>
            <a:r>
              <a:rPr b="0" lang="uk-UA" sz="2400" spc="-1" strike="noStrike">
                <a:solidFill>
                  <a:srgbClr val="ff66cc"/>
                </a:solidFill>
                <a:latin typeface="Arial"/>
              </a:rPr>
              <a:t>157 416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чоловік. Такої кількості жертв серед мирних громадян, як у роки Великої Вітчизняної війни, не було за всю історію люд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 нашому краї є три страшних місця, де земля волає від крові та болю. Це – територія дослідницької станції  ( колишній радгосп імені  Сталіна ), протитанкові  рови під Мелітополем та Мерликова бал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ПЕРЕБІГ   УРОК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3848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ffffff"/>
                </a:solidFill>
                <a:latin typeface="Arial"/>
              </a:rPr>
              <a:t>Гучно звучить  „ Вокаліз № 3”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Мерликова  балка – місце масового знищення жителів Бердянська у роки окупації. Знімок зроблено у 2008 році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" descr="Untitled-4"/>
          <p:cNvPicPr/>
          <p:nvPr/>
        </p:nvPicPr>
        <p:blipFill>
          <a:blip r:embed="rId1"/>
          <a:stretch/>
        </p:blipFill>
        <p:spPr>
          <a:xfrm>
            <a:off x="395280" y="3716280"/>
            <a:ext cx="4824360" cy="30211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Untitled-5"/>
          <p:cNvPicPr/>
          <p:nvPr/>
        </p:nvPicPr>
        <p:blipFill>
          <a:blip r:embed="rId2"/>
          <a:stretch/>
        </p:blipFill>
        <p:spPr>
          <a:xfrm>
            <a:off x="5364000" y="1197000"/>
            <a:ext cx="33832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ПЕРЕБІГ   УРОК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Відомості про  захоплення фашистами Запорізької області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86d1ec"/>
                </a:solidFill>
                <a:latin typeface="Garamond"/>
              </a:rPr>
              <a:t>Слово  беруть  учні  з  групи  істориків – теоретиків</a:t>
            </a:r>
            <a:r>
              <a:rPr b="1" i="1" lang="uk-UA" sz="2400" spc="-1" strike="noStrike">
                <a:solidFill>
                  <a:srgbClr val="ffffff"/>
                </a:solidFill>
                <a:latin typeface="Garamond"/>
              </a:rPr>
              <a:t>, які детально розповідають про захоплення фашистськими військами Запорізької області  у вересні 1941 ро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5.  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Встановлення окупаційного режи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86d1ec"/>
                </a:solidFill>
                <a:latin typeface="Garamond"/>
              </a:rPr>
              <a:t>Продовжують розповідь  учні  з  групи  істориків – краєзнавців  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( на фоні тихої  музики „ Твоє життя ” ).                  </a:t>
            </a:r>
            <a:r>
              <a:rPr b="1" i="1" lang="uk-UA" sz="2400" spc="-1" strike="noStrike">
                <a:solidFill>
                  <a:srgbClr val="ffffff"/>
                </a:solidFill>
                <a:latin typeface="Garamond"/>
              </a:rPr>
              <a:t>Історики – краєзнавці  надають інформацію про встановлення нового режиму на окупованих територіях. Про зміни, які вносило німецьке командування та про метод “пряника”, яким намагалося заманити  до себе прихильникі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356000" y="27756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Німці  забирають свійських тварин в роки окупації Запорізької області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371448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Гітлерівці грабують квартири у місті Запоріжжі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4356000" y="1628640"/>
            <a:ext cx="4788000" cy="2473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"/>
          <p:cNvPicPr/>
          <p:nvPr/>
        </p:nvPicPr>
        <p:blipFill>
          <a:blip r:embed="rId2"/>
          <a:stretch/>
        </p:blipFill>
        <p:spPr>
          <a:xfrm>
            <a:off x="0" y="2852640"/>
            <a:ext cx="428472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ПЕРЕБІГ   УРОК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Звучить  тиха  музика „ Сумні  згадки ”,   далі розповідь йде на музичному фон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86d1ec"/>
                </a:solidFill>
                <a:latin typeface="Garamond"/>
              </a:rPr>
              <a:t>У бесіду вступають  учні  з  групи  журналістів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i="1" lang="uk-UA" sz="2400" spc="-1" strike="noStrike">
                <a:solidFill>
                  <a:srgbClr val="ffffff"/>
                </a:solidFill>
                <a:latin typeface="Garamond"/>
              </a:rPr>
              <a:t>Вони розповідають про злочини фашистів  устами очевидців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86d1ec"/>
                </a:solidFill>
                <a:latin typeface="Arial"/>
              </a:rPr>
              <a:t>1-й  журналіст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uk-UA" sz="3200" spc="-1" strike="noStrike">
                <a:solidFill>
                  <a:srgbClr val="ffffff"/>
                </a:solidFill>
                <a:latin typeface="Times New Roman"/>
              </a:rPr>
              <a:t>Беручи інтерв’ю в колишнього остарбайтера, нинішньої жительки  Бердянська Любові Кузьмівни Середи ( у дівоцтві Мельникової ), ми дізналися ось про що...</a:t>
            </a:r>
            <a:r>
              <a:rPr b="0" i="1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ПЕРЕБІГ   УРОК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Свідок злочинів фашистів у роки Великої Вітчизняної війни, колишній остарбайтер                     Л. К.   С е р е д 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4" descr="뿷膞b활bᡭ뿷጗腾"/>
          <p:cNvPicPr/>
          <p:nvPr/>
        </p:nvPicPr>
        <p:blipFill>
          <a:blip r:embed="rId1"/>
          <a:stretch/>
        </p:blipFill>
        <p:spPr>
          <a:xfrm>
            <a:off x="2124000" y="2637000"/>
            <a:ext cx="5256360" cy="3966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Л.К. Середа ( праворуч )  з сестрою.                          1960 – ті ро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4" descr="뿷膞b활bᡭ뿷䐏腾"/>
          <p:cNvPicPr/>
          <p:nvPr/>
        </p:nvPicPr>
        <p:blipFill>
          <a:blip r:embed="rId1"/>
          <a:stretch/>
        </p:blipFill>
        <p:spPr>
          <a:xfrm>
            <a:off x="3059280" y="1773360"/>
            <a:ext cx="3323880" cy="475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ПЕРЕБІГ   УРОК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6.  Загальні відомості про Голокост у краї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6d1ec"/>
                </a:solidFill>
                <a:latin typeface="Garamond"/>
              </a:rPr>
              <a:t> </a:t>
            </a:r>
            <a:r>
              <a:rPr b="1" lang="uk-UA" sz="2400" spc="-1" strike="noStrike">
                <a:solidFill>
                  <a:srgbClr val="86d1ec"/>
                </a:solidFill>
                <a:latin typeface="Garamond"/>
              </a:rPr>
              <a:t>1-й  історик – теоретик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У жовтні 1941 року у Запоріжжі  було вбито 8 000 чоловік – три дні  тривала ця жахлива бійня. З 8.00 ранку до п’ятої – шостої години вечора безперервно.  24-го  березня 1942 року до радгоспу імені Сталіна рухалася нескінченна колона людей єврейської національності, яких вели на смерть. Поряд їхали підводи, а по боках йшли німецькі автоматники та поліцаї, час від часу стріляючи по натовп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У 20 – 30 метрах від урвища їх зупиняли, наказуючи роздягтися догола. Підводили до обриву, зіштовхували і розстрілювали. Сім’ї, обнявшись, йшли на смерть. Маленьких дітей нелюди хапали за ноги й кидали в яму живи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Через декілька днів на розстріли стали привозити росіян та українців. Спочатку розстріли були по суботах – по 70 – 100 чоловік, а  потім – щоденно. Розстріли перетворилися на ритуа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Масові розстріли тривали до серпня 1943 ро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ПЕРЕБІГ   УРОК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ffffff"/>
                </a:solidFill>
                <a:latin typeface="Arial"/>
              </a:rPr>
              <a:t>Звучить ” Вокаліз № 3”.</a:t>
            </a:r>
            <a:r>
              <a:rPr b="0" i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На екран виводяться знімки розстрілів у Запоріжжі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Засуджені до стра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риють собі могил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Район Дослідної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станції, м. Запоріжжя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3276720" y="2997360"/>
            <a:ext cx="561636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6d1ec"/>
                </a:solidFill>
                <a:latin typeface="Arial"/>
              </a:rPr>
              <a:t>Тема  уроку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400" spc="-1" strike="noStrike">
                <a:solidFill>
                  <a:srgbClr val="ffffff"/>
                </a:solidFill>
                <a:latin typeface="Arial Black"/>
              </a:rPr>
              <a:t>Наш край у роки Другої Світової війн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Страшні злочини гітлерівців на окупованій території, Запорізька область, 1943 рі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0920" y="6316560"/>
            <a:ext cx="7931160" cy="5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Знімок, який було вилучено у полоненого гітлерівц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4105440" cy="27018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"/>
          <p:cNvPicPr/>
          <p:nvPr/>
        </p:nvPicPr>
        <p:blipFill>
          <a:blip r:embed="rId2"/>
          <a:stretch/>
        </p:blipFill>
        <p:spPr>
          <a:xfrm>
            <a:off x="3780000" y="3141720"/>
            <a:ext cx="507672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охорони жертв окупантів. Місто Запоріжжя, жовтень,1943 рі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4399200" cy="3160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"/>
          <p:cNvPicPr/>
          <p:nvPr/>
        </p:nvPicPr>
        <p:blipFill>
          <a:blip r:embed="rId2"/>
          <a:stretch/>
        </p:blipFill>
        <p:spPr>
          <a:xfrm>
            <a:off x="5364000" y="1341360"/>
            <a:ext cx="3454560" cy="52563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8"/>
          <p:cNvSpPr/>
          <p:nvPr/>
        </p:nvSpPr>
        <p:spPr>
          <a:xfrm>
            <a:off x="250920" y="5062320"/>
            <a:ext cx="48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Оголошення окупантів про засудження до смерті трьох патріотів за саботаж розпоряджень фашистів, м. Запоріжжя, 1943 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95280" y="-360"/>
            <a:ext cx="469116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Цей знімок вилучено у полоненого німецького солдата. Місто Запоріжжя 1943 року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4000" y="5084280"/>
            <a:ext cx="403848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Рідні забирають із залізничного парку убитого німцями маляра депо С.Д. Терези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4119480" cy="4680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403380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Що було виявлено на острові Хортиця.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Трупи червоноармійців, по – звірячому замордованих фашистськими кат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032360" cy="3040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2"/>
          <a:stretch/>
        </p:blipFill>
        <p:spPr>
          <a:xfrm>
            <a:off x="4716360" y="3419640"/>
            <a:ext cx="41036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ПЕРЕБІГ   УРОК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7. Конкретні відомості про Голокост у Бердянсь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6d1ec"/>
                </a:solidFill>
                <a:latin typeface="Garamond"/>
              </a:rPr>
              <a:t>Учитель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   –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З  7 жовтня 1941 року по 17 вересня 1943 року Бердянськ потерпав,  перебуваючи в лапах фашистських нелюдів. Про цей період кривавого чужоземного „господарювання” не можна говорити без почуття гострого болю та гнів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Знову з'являється тихий музичний фон ( „ Мелодія в ночі ”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6d1ec"/>
                </a:solidFill>
                <a:latin typeface="Garamond"/>
              </a:rPr>
              <a:t>1-й  історик – краєзнавець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–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Знищення євреїв почалося з перших же днів окупації міста Осипенко (так називався Бердянськ з 1939 по 1958 рік) – з початку жовтня 1941 року. Розстріли проводили скрізь: у Мерликовій балці, на курорті, в порту, біля парашутної вежі, на Приморській площі. За що? Просто так. Тому що людина – єврей. Була б людина, а причину завжди знаходили: життя в окупації цінилось менш за все. На жаль, точних даних про загиблих і замучених в роки Великої Вітчизняної війни бердянців немає по цей день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6d1ec"/>
                </a:solidFill>
                <a:latin typeface="Arial"/>
              </a:rPr>
              <a:t>Страшну, жахливу правду зберігає  „ Список постраждалих та тих, хто загинув під час окупації ”, що знаходиться в фондах краєзнавчого музе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Читають   окремо  по   черзі   різні   учні   під  трагічну  музику ” Реквієму ”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Золотник Лев і Григорій, 16, 14 років, вивезені в Мерликову бал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Іванови Роза, Надія та Всеволод убиті в Мерликовій балці в 1942 році. (проживали по вулиці Дюмін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Фігоровичі Циля, 10 років і Дора, 17 років, були вивезені в Мерликову балку, Циля загинула, Дора заховалася в соломі, вночі плазуючи втекла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Грошици Роня і Ядик, 8 і 10 років, загинули разом з матір‘ю в Мерликовій балці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Пінчук Ольга Аронівна зі своїми дітьми Ароном та Юмою була направлена з усіма євреями  в Мерликову балку, де всі були розстріляні, а Пінчук О.А, легко поранена, змогла пізніше пробратися на гору, де переховувалась деякий час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ашний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і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ечальний список жертв гітлерівських катів можна продовжувати й продовжувати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Реквієм  гучнішає, а потім  поволі  затихає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ПЕРЕБІГ   УРОК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8. Наслідки фашистського окупаційного режиму у місті Бердянську та в Запорізькій області в цілому.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6d1ec"/>
                </a:solidFill>
                <a:latin typeface="Garamond"/>
              </a:rPr>
              <a:t>Учитель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–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На всіх фронтах Червона Армія громила фашистських загарбників. Наближався радісний День Перемоги, бажаний час визволення. До нашого міста він прийшов ранком 17 вересня 1943 року.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Газета „ Правда ” від 4 жовтня 1943 року писала : „ Гітлерівці намагалися силою, під загрозою розстрілу, забрати з собою все населення міста Осипенко. Загони гестапівців і жандармів робили облави по місту й полювали на людей. За найменшу непокору, можливість сховатися або уклонитися від евакуації розстрілювали. За декілька днів у місті і передмісті гітлерівські кати розстріляли  декілька тисяч мирних жителів, які не бажали покидати рідну домівку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Звучить „ Вокаліз № 3 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ПЕРЕБІГ   УРОК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686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Дуже  страшний спадок залишили після себе окупанти. Саме про це нам мають доповісти наші дослідники – економі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6d1ec"/>
                </a:solidFill>
                <a:latin typeface="Garamond"/>
              </a:rPr>
              <a:t>1-й  економіст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–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У  “Державному акті про злочини фашистських окупантів у Запорізькій області”  наводяться жахливі цифри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86d1ec"/>
                </a:solidFill>
                <a:uFillTx/>
                <a:latin typeface="Arial"/>
              </a:rPr>
              <a:t>розстрілян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Цивільних громадян – </a:t>
            </a:r>
            <a:r>
              <a:rPr b="1" lang="uk-UA" sz="2000" spc="-1" strike="noStrike">
                <a:solidFill>
                  <a:srgbClr val="ff66cc"/>
                </a:solidFill>
                <a:latin typeface="Arial"/>
              </a:rPr>
              <a:t>66795</a:t>
            </a:r>
            <a:r>
              <a:rPr b="0" lang="uk-UA" sz="2000" spc="-1" strike="noStrike">
                <a:solidFill>
                  <a:srgbClr val="ff66cc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громадян, з них </a:t>
            </a:r>
            <a:r>
              <a:rPr b="1" lang="uk-UA" sz="2000" spc="-1" strike="noStrike">
                <a:solidFill>
                  <a:srgbClr val="ff66cc"/>
                </a:solidFill>
                <a:latin typeface="Arial"/>
              </a:rPr>
              <a:t>2 211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діт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Військовополоненних – </a:t>
            </a:r>
            <a:r>
              <a:rPr b="1" lang="uk-UA" sz="2000" spc="-1" strike="noStrike">
                <a:solidFill>
                  <a:srgbClr val="ff66cc"/>
                </a:solidFill>
                <a:latin typeface="Arial"/>
              </a:rPr>
              <a:t>15916 </a:t>
            </a:r>
            <a:r>
              <a:rPr b="0" lang="uk-UA" sz="2000" spc="-1" strike="noStrike">
                <a:solidFill>
                  <a:srgbClr val="ff66cc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осі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Вигнано до Німеччини – </a:t>
            </a:r>
            <a:r>
              <a:rPr b="1" lang="uk-UA" sz="2000" spc="-1" strike="noStrike">
                <a:solidFill>
                  <a:srgbClr val="ff66cc"/>
                </a:solidFill>
                <a:latin typeface="Arial"/>
              </a:rPr>
              <a:t>157 506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осіб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Виявлено загиблих – </a:t>
            </a:r>
            <a:r>
              <a:rPr b="1" lang="uk-UA" sz="2000" spc="-1" strike="noStrike">
                <a:solidFill>
                  <a:srgbClr val="ff66cc"/>
                </a:solidFill>
                <a:latin typeface="Arial"/>
              </a:rPr>
              <a:t>13 939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осіб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але не встановлено прізвища –  </a:t>
            </a:r>
            <a:r>
              <a:rPr b="1" lang="uk-UA" sz="2000" spc="-1" strike="noStrike">
                <a:solidFill>
                  <a:srgbClr val="ff66cc"/>
                </a:solidFill>
                <a:latin typeface="Arial"/>
              </a:rPr>
              <a:t>4 013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осіб. Такої кількості жертв серед мирних громадян не було за всю історію люд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Arial"/>
              </a:rPr>
              <a:t>Похорони родини Шевцових, розстріляної німцями під час відступу із міста Бердянська, 1943 рі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619272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П'ятирічній дитині з родини Шевцових нацистські недолюдки вирізали на лобі зірку, а потім убили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4716360" y="1413000"/>
            <a:ext cx="3608640" cy="52290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6"/>
          <p:cNvSpPr/>
          <p:nvPr/>
        </p:nvSpPr>
        <p:spPr>
          <a:xfrm>
            <a:off x="324000" y="2751480"/>
            <a:ext cx="367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сім знайома фотографія  п'ятирічної  дитини, на обличчі якої гітлерівці вирізали п'ятикутну зірку. Ця фотографія у газетах обійшла всі фронти і не залишила байдужими навіть тих бійців нашої  армії, які пройшли всі кола пекла війн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86d1ec"/>
                </a:solidFill>
                <a:uFillTx/>
                <a:latin typeface="Arial"/>
              </a:rPr>
              <a:t>Час проведення :</a:t>
            </a:r>
            <a:r>
              <a:rPr b="0" lang="uk-UA" sz="2800" spc="-1" strike="noStrike">
                <a:solidFill>
                  <a:srgbClr val="86d1ec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2 академічні годи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6d1ec"/>
                </a:solidFill>
                <a:latin typeface="Arial"/>
              </a:rPr>
              <a:t>Мета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Навчальна : розкрити людиноненависницьку суть окупаційного режиму; показати глибину трагедії бердянського Бабиного Яру – Мер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кової бал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иховна : виховувати в учнів почуття гідності й терпимості, формувати активну громадянську позицію на основі визнання прав люди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Розвивальна : розвивати  навички дослідницької роботи ; уміння вести дискусію, висловлювати та відстоювати свою дум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Arial"/>
              </a:rPr>
              <a:t>ПЕРЕБІГ   УРОК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686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Найбільше серед районів Запорізької області постраждав  Бердянськ та Бердянський  район. Із матеріалів Надзвичайної державної комісії по встановленню і розслідуванню злочинів німецько – фашистських загарбників на території Запорізької області в роки окупації по Бердянську та Бердянському району виявлено такі дані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86d1ec"/>
                </a:solidFill>
                <a:uFillTx/>
                <a:latin typeface="Arial"/>
              </a:rPr>
              <a:t>Розстріляно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Цивільних громадян – </a:t>
            </a:r>
            <a:r>
              <a:rPr b="1" lang="uk-UA" sz="2400" spc="-1" strike="noStrike">
                <a:solidFill>
                  <a:srgbClr val="ff66cc"/>
                </a:solidFill>
                <a:latin typeface="Arial"/>
              </a:rPr>
              <a:t>665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осіб, з них </a:t>
            </a:r>
            <a:r>
              <a:rPr b="1" lang="uk-UA" sz="2400" spc="-1" strike="noStrike">
                <a:solidFill>
                  <a:srgbClr val="ff66cc"/>
                </a:solidFill>
                <a:latin typeface="Arial"/>
              </a:rPr>
              <a:t>528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ді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ійськовополонених – </a:t>
            </a:r>
            <a:r>
              <a:rPr b="1" lang="uk-UA" sz="2400" spc="-1" strike="noStrike">
                <a:solidFill>
                  <a:srgbClr val="ff66cc"/>
                </a:solidFill>
                <a:latin typeface="Arial"/>
              </a:rPr>
              <a:t>1009</a:t>
            </a:r>
            <a:r>
              <a:rPr b="0" lang="uk-UA" sz="2400" spc="-1" strike="noStrike">
                <a:solidFill>
                  <a:srgbClr val="ff66cc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осі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игнано до Німеччини – </a:t>
            </a:r>
            <a:r>
              <a:rPr b="1" lang="uk-UA" sz="2400" spc="-1" strike="noStrike">
                <a:solidFill>
                  <a:srgbClr val="ff66cc"/>
                </a:solidFill>
                <a:latin typeface="Arial"/>
              </a:rPr>
              <a:t>6 650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осі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иявлено загиблих – </a:t>
            </a:r>
            <a:r>
              <a:rPr b="1" lang="uk-UA" sz="2400" spc="-1" strike="noStrike">
                <a:solidFill>
                  <a:srgbClr val="ff66cc"/>
                </a:solidFill>
                <a:latin typeface="Arial"/>
              </a:rPr>
              <a:t>2475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не встановлені прізвища – </a:t>
            </a:r>
            <a:r>
              <a:rPr b="1" lang="uk-UA" sz="2400" spc="-1" strike="noStrike">
                <a:solidFill>
                  <a:srgbClr val="ff66cc"/>
                </a:solidFill>
                <a:latin typeface="Arial"/>
              </a:rPr>
              <a:t>1 618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осі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ПЕРЕБІГ   УРОК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686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Коментар учителя з приводу прослуханих матеріалів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6d1ec"/>
                </a:solidFill>
                <a:latin typeface="Garamond"/>
              </a:rPr>
              <a:t>Учитель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Коричнева чума фашизму принесла стільки горя народам не тільки нашої країни, що мабуть ніколи не будуть байдужими  нащадки до цих страшних років. І тому дуже дивує той факт, що  зараз, коли все відомо про звірства фашистів, коли підраховано всі збитки, які принесла війна,  з'являються  деякі люди, які намагаються відбілити діяльність фашистів, фашистських організаці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Зверніть  увагу ще раз на кількість загиблих у нашому краю під час окупації з 1941 по 1943 роки. Особливо на цифри, що стосуються мирного населення, на кількість загиблих дітей... Чи може щось виправдати факт убивства дитини ?! Кожна загибла дитина – це загибле життя, це загибле кохання, це загибле майбутнє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Пісня „ Молитва за Україну” М. Лисенка, О. Косинської. На фоні пісні на екрані ще раз з'являються фото факти страшних злочинів фашистів на окупаційній території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Arial"/>
              </a:rPr>
              <a:t>ПЕРЕБІГ   УРОК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. Підсумки й висновки . Елементи дискусії з приводу проблемного питання уроку. Оцінювання учнів (самооцінка)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86d1ec"/>
                </a:solidFill>
                <a:latin typeface="Times New Roman"/>
              </a:rPr>
              <a:t>Під час дискусії запропоновано заповнити таку анкету  </a:t>
            </a:r>
            <a:r>
              <a:rPr b="0" i="1" lang="uk-UA" sz="1600" spc="-1" strike="noStrike">
                <a:solidFill>
                  <a:srgbClr val="86d1ec"/>
                </a:solidFill>
                <a:latin typeface="Times New Roman"/>
              </a:rPr>
              <a:t>( необхідне підкреслити )</a:t>
            </a:r>
            <a:r>
              <a:rPr b="0" lang="uk-UA" sz="1600" spc="-1" strike="noStrike">
                <a:solidFill>
                  <a:srgbClr val="86d1ec"/>
                </a:solidFill>
                <a:latin typeface="Times New Roman"/>
              </a:rPr>
              <a:t> 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Times New Roman"/>
              </a:rPr>
              <a:t>Що ви знаєте про Велику Вітчизняну війну 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Багато чого               Майже нічого           Перший раз чую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Times New Roman"/>
              </a:rPr>
              <a:t>Звідки ви знаєте про Велику Вітчизняну війну 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Сам дізнаюсь, бо цікавлюсь                            Тільки з підручників              Тільки з фільмів                                      З розповідей родичів                       З розповідей ветеранів                           Нічого не знаю, бо не цікавлюс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Times New Roman"/>
              </a:rPr>
              <a:t>Чи загинув хто-небудь  під час війни серед вашої родини 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Так, дідусь (пра - )                        Так, бабуся ( пра - )       Так, якийсь родич                         Ніхто не загинув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Не знаю, але поцікавлюсь                   Не знаю, бо мені байдуж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Times New Roman"/>
              </a:rPr>
              <a:t>Хто у вас викликає  найбільше співчуття 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Бійці на фронті                     В'язні  таборів                Діти війни                           Мирне населення в окупації                        Голокост                                                     Всі однаково                             Ніхто</a:t>
            </a:r>
            <a:r>
              <a:rPr b="0" i="1" lang="uk-UA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Times New Roman"/>
              </a:rPr>
              <a:t>Як ви вважаєте чи достатньо уваги приділяє держава ветеранам, дітям війни, колишнім в'язням концтаборів та остарбайтерам ?</a:t>
            </a:r>
            <a:r>
              <a:rPr b="1" lang="uk-UA" sz="1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i="1" lang="uk-UA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</a:t>
            </a: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Так, достатньо                  Так, аж занадто достатньо                          Можна було б приділяти більше уваги                                                                        Недостатньо, та мені байдуже                                    Необхідно приділяти ще більше уваги                                                                      Зовсім не приділяється і це дуже поган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Times New Roman"/>
              </a:rPr>
              <a:t>Як ви вважаєте, чи має право на існування фашизм ?</a:t>
            </a: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Категорично – НІ !                               Може й має...                                               Мені байдуже</a:t>
            </a:r>
            <a:r>
              <a:rPr b="0" i="1" lang="uk-UA" sz="14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Times New Roman"/>
              </a:rPr>
              <a:t>Чи змінив цей урок ваше ставлення до тих часів 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Так, на 100%, я і не знав, що це була така страшна біда.                            Ні, я все так і уявляв                           Ні, бо мені байдуж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Пам'ятник  жертвам страшних подій часів окупації міста. Мерлікова балка, 2007 рі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4" descr="Untitled-6"/>
          <p:cNvPicPr/>
          <p:nvPr/>
        </p:nvPicPr>
        <p:blipFill>
          <a:blip r:embed="rId1"/>
          <a:stretch/>
        </p:blipFill>
        <p:spPr>
          <a:xfrm>
            <a:off x="324000" y="1484280"/>
            <a:ext cx="4248000" cy="2946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Untitled-8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643280" y="3489480"/>
            <a:ext cx="424980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00"/>
                </a:solidFill>
                <a:latin typeface="Arial"/>
              </a:rPr>
              <a:t>Тихо  звучить  сумна але життєстверджуюча   мелодія „ Музика душі ”.  Учениця ЗОШ № 7                       Анастасія Чернявська  читає власний вір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07640" y="1484280"/>
            <a:ext cx="47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ійна 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Що то за вража сила 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Ламає душі у людей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Крилом смертей Європу вкрил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Кров пролила на трави тих земел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Та не вдалося їй віднять свободу –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До волі прагнув кожен патріот 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І Україна стала до походу –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З фашистом на двобій устав наро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Фашисти – дикі звірі !  – нападали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Голодним вовком розриваючи серц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Нікчеми ! А того вони й не знали –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Народ наш буде битись до кінця 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Є в Україні в нас безстрашні люди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Що стануть з ворогом на справедливий бій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Їх подвигів ніколи не забудем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они – у пам'яті і у весні оцій 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За те, що мали Перемоги волю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они дістали волю у бо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Спасибі їм ! Квітучою весно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Я біля пам'ятника з квітами сто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00"/>
                </a:solidFill>
                <a:latin typeface="Arial"/>
              </a:rPr>
              <a:t>Музика звучить гучніше, на екрані  ще раз з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‘</a:t>
            </a:r>
            <a:r>
              <a:rPr b="0" i="1" lang="uk-UA" sz="2400" spc="-1" strike="noStrike">
                <a:solidFill>
                  <a:srgbClr val="ffff00"/>
                </a:solidFill>
                <a:latin typeface="Arial"/>
                <a:ea typeface="Arial"/>
              </a:rPr>
              <a:t>являються  всі  фотографії, що були показані  на уроці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4" descr="Untitled-9"/>
          <p:cNvPicPr/>
          <p:nvPr/>
        </p:nvPicPr>
        <p:blipFill>
          <a:blip r:embed="rId1"/>
          <a:stretch/>
        </p:blipFill>
        <p:spPr>
          <a:xfrm>
            <a:off x="2700360" y="981000"/>
            <a:ext cx="3816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6d1ec"/>
                </a:solidFill>
                <a:latin typeface="Arial"/>
              </a:rPr>
              <a:t>Тип уроку :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урок  вивчення  нового матеріал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86d1ec"/>
                </a:solidFill>
                <a:uFillTx/>
                <a:latin typeface="Arial"/>
              </a:rPr>
              <a:t>Міжпредметні зв</a:t>
            </a:r>
            <a:r>
              <a:rPr b="1" lang="uk-UA" sz="2800" spc="-1" strike="noStrike" u="sng">
                <a:solidFill>
                  <a:srgbClr val="86d1ec"/>
                </a:solidFill>
                <a:uFillTx/>
                <a:latin typeface="Symbol"/>
                <a:ea typeface="Symbol"/>
              </a:rPr>
              <a:t></a:t>
            </a:r>
            <a:r>
              <a:rPr b="1" lang="uk-UA" sz="2800" spc="-1" strike="noStrike" u="sng">
                <a:solidFill>
                  <a:srgbClr val="86d1ec"/>
                </a:solidFill>
                <a:uFillTx/>
                <a:latin typeface="Arial"/>
              </a:rPr>
              <a:t>язки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1 – всесвітня історія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2 – література рідного кра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6d1ec"/>
                </a:solidFill>
                <a:latin typeface="Arial"/>
              </a:rPr>
              <a:t>Обладнання :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карта Запорізької області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ультимедійні  ілюстративні матеріали 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узичний  супровід 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иставка книг з теми уроку 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декоративна композиція – символ уро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86d1ec"/>
                </a:solidFill>
                <a:latin typeface="Arial"/>
              </a:rPr>
              <a:t>Проблемне питання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i="1" lang="uk-UA" sz="3600" spc="-1" strike="noStrike">
                <a:solidFill>
                  <a:srgbClr val="ffffff"/>
                </a:solidFill>
                <a:latin typeface="Garamond"/>
              </a:rPr>
              <a:t>Чи є теми фашистської окупації нашої області та Голокосту на теренах рідного краю актуальними і важливими сьогодні та  яким би міг бути розвиток нашого краю за відсутн</a:t>
            </a: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о</a:t>
            </a:r>
            <a:r>
              <a:rPr b="1" i="1" lang="uk-UA" sz="3600" spc="-1" strike="noStrike">
                <a:solidFill>
                  <a:srgbClr val="ffffff"/>
                </a:solidFill>
                <a:latin typeface="Garamond"/>
              </a:rPr>
              <a:t>сті в історії розглянутих подій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86d1ec"/>
                </a:solidFill>
                <a:latin typeface="Arial"/>
              </a:rPr>
              <a:t>План урок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І. Захоплення фашистами Запорізької області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ІІ.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Встановлення нацистського окупаційного режиму на території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апорізької області, у тому числі у Бердянському районі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ІІІ.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Голокост та його прояви на Запоріжжі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ІV.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Підсумки та виснов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86d1ec"/>
                </a:solidFill>
                <a:uFillTx/>
                <a:latin typeface="Arial"/>
              </a:rPr>
              <a:t>Коментар</a:t>
            </a: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За два тижні до строку проведення уроку дітям було оголошено тему, проблемне питання та назви мобільних творчо – дослідницьких груп. Учні, ознайомившись із вказаними матеріалами, самостійно вибрали для себе групи й виконали певну роботу. Учитель при цьому виступив консультантом та координатором роботи. Учнівські дослідження були оформлені у вигляді повідомлень, які й стали  основою розгляду теми на уроці. Окрема група учнів була зайнята добором ілюстративного матеріалу та звукового супровод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6d1ec"/>
                </a:solidFill>
                <a:latin typeface="Arial"/>
              </a:rPr>
              <a:t>Дослідницькі  групи 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686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99ff"/>
                </a:solidFill>
                <a:latin typeface="Arial"/>
              </a:rPr>
              <a:t>Історики – теоретики.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Досліджують загальні положення встановлення окупаційного режиму, подають теоретичні відомості з питанн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99ff"/>
                </a:solidFill>
                <a:latin typeface="Arial"/>
              </a:rPr>
              <a:t>Історики – краєзнавці.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Виконують цілеспрямоване дослідження указаного періоду історії  рідного краю:  шляхи захоплення області фашистами ; місця масового знищення населення, а також місця розташування визначних пам</a:t>
            </a:r>
            <a:r>
              <a:rPr b="0" i="1" lang="uk-UA" sz="20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яток періоду Великої Вітчизняної війн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99ff"/>
                </a:solidFill>
                <a:latin typeface="Arial"/>
              </a:rPr>
              <a:t>Економісти.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На основі історичних фактів роблять аналіз  людських та матеріальних утрат, що їх зазнала область під час окупації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99ff"/>
                </a:solidFill>
                <a:latin typeface="Arial"/>
              </a:rPr>
              <a:t>Журналісти.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Досліджують історію рідного краю шляхом спілкування з очевидцями подій :  беруть інтерв'ю, ретельно записуючи свідчення людей ; збирають фотоматеріали , усі  дані уміщуючи у спеціальні альбоми або  « Книгу Пам'яті » .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99ff"/>
                </a:solidFill>
                <a:latin typeface="Arial"/>
              </a:rPr>
              <a:t>Літератори.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Вивчають літературу рідного краю, досліджують історичні події, спираючись саме на літературний матеріа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86d1ec"/>
                </a:solidFill>
                <a:latin typeface="Arial"/>
              </a:rPr>
              <a:t>Композиція  уроку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1.  Музичний всту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2.  Читання та обговорення епіграф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3.  Вступне слово вчите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4.  Відомості про перебіг захоплення фашистами Запорізької області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5.  Інформація про встановлення окупаційного режи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6.  Загальні відомості про Голокост у краї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7.  Конкретні відомості про Голокост у Бердянсь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8.  Наслідки фашистського окупаційного режиму у місті Бердянську та в Запорізькій області в цілом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9.  Коментар учителя з приводу прослуханих матеріалі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10. Підсумки й висновки . Елементи дискусії з приводу проблемного питання уро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21:02:00Z</dcterms:created>
  <dc:creator>Александра</dc:creator>
  <dc:description/>
  <dc:language>en-US</dc:language>
  <cp:lastModifiedBy>Igor</cp:lastModifiedBy>
  <dcterms:modified xsi:type="dcterms:W3CDTF">2017-01-31T17:48:50Z</dcterms:modified>
  <cp:revision>7</cp:revision>
  <dc:subject/>
  <dc:title> Обласний конкурс педагогічної майстерності вчителів,                                                    які викладають курс „ Історія  рідного  краю ”                                                присвячений  70-ій річниці утворення Запорізької області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