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DC0D-57B5-40F8-8CFD-B11C87A610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2D87E-BAFE-4A3B-A682-DC022BCC706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1C65F-8EB9-447D-B4E8-0103BD34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8803D-F4AD-42F5-9514-B2839D4C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578F-83AC-4B1D-BD0E-E4D3EBDE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C4B2-1F8F-4DD6-A85E-2283E617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D566-984B-49DF-BD81-3BD408CD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ECFA-2E44-4BB9-89D2-CFFA9574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BD1A-98C9-440A-9AED-5952E5C9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D277-F294-4DDA-9668-B052B780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300D-E812-4A4A-B5CE-4C0073D6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1B3A-635A-4476-B885-11D0088C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B4E5-3A88-4976-AD66-278564A0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27A4A-D9F2-4D83-B719-98F0F7EF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8062-579E-4689-9AF4-15080757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F4A2-B096-4560-92CE-E74E4C0E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E3CA-335C-4D4E-80DF-6FDA4688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8620-6A41-4835-9F41-18E98F70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3F55-49DE-46A9-8DAA-B5DB6A9F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03F39-C1A5-40CE-89AF-7EBD391D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99F4-14D2-4F34-A7A9-A2429088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28F4F-F134-435B-BBB4-5B9B2E84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2EA73-51DA-4387-9069-9241AA67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F5E86-7DD9-4890-B860-4DC8F45D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D1B01-1710-4C0E-8027-F0FFBB6A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AFB39-F79B-48DF-9ACF-91FF538E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3CC4-462F-4BC8-93CA-0C4AC62205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B6DA-3C7C-4193-ABD5-982AAFA132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e5e5ff"/>
                </a:solidFill>
                <a:latin typeface="Garamond"/>
              </a:rPr>
              <a:t>Відділ освіти Зіньківської районної державної адміністрації Полтавської області</a:t>
            </a:r>
            <a:br>
              <a:rPr sz="1400"/>
            </a:br>
            <a:r>
              <a:rPr b="1" lang="uk-UA" sz="1400" spc="-1" strike="noStrike">
                <a:solidFill>
                  <a:srgbClr val="e5e5ff"/>
                </a:solidFill>
                <a:latin typeface="Garamond"/>
              </a:rPr>
              <a:t>Опорний заклад “Зіньківська спеціалізована школа І-ІІІ ступенів №1 Зіньківської районної ради Полтавської області”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aramond"/>
              </a:rPr>
              <a:t>ДОСВІД на тему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uk-UA" sz="1800" spc="-1" strike="noStrike">
                <a:solidFill>
                  <a:srgbClr val="ffffff"/>
                </a:solidFill>
                <a:latin typeface="Garamond"/>
              </a:rPr>
              <a:t>СИСТЕМАТИЗАЦІЯ ТА УЗАГАЛЬНЕННЯ ЗНАНЬ УЧНІВ У ПРОЦЕСІ ВИВЧЕННЯ МАТЕМАТИКИ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</a:t>
            </a: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ПІДГОТУВАЛ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</a:t>
            </a: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Микитенко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</a:t>
            </a: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Людмила Дмитрівна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</a:t>
            </a: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вчитель математики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2017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5e5ff"/>
                </a:solidFill>
                <a:latin typeface="Garamond"/>
              </a:rPr>
              <a:t>      </a:t>
            </a:r>
            <a:r>
              <a:rPr b="1" lang="uk-UA" sz="2400" spc="-1" strike="noStrike">
                <a:solidFill>
                  <a:srgbClr val="e5e5ff"/>
                </a:solidFill>
                <a:latin typeface="Garamond"/>
              </a:rPr>
              <a:t>Творча робота – це прекрасна, надзвичайно важка і дивовижно радісна праця.</a:t>
            </a:r>
            <a:r>
              <a:rPr b="1" lang="uk-UA" sz="1800" spc="-1" strike="noStrike">
                <a:solidFill>
                  <a:srgbClr val="e5e5ff"/>
                </a:solidFill>
                <a:latin typeface="Garamond"/>
              </a:rPr>
              <a:t>  </a:t>
            </a:r>
            <a:br>
              <a:rPr sz="1800"/>
            </a:br>
            <a:r>
              <a:rPr b="1" lang="uk-UA" sz="18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                                   М.Островський                                                                     </a:t>
            </a:r>
            <a:br>
              <a:rPr sz="1800"/>
            </a:b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1130400" cy="3047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286000" y="1905120"/>
            <a:ext cx="1122480" cy="3047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038480" y="1905120"/>
            <a:ext cx="1130400" cy="30477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791320" y="1905120"/>
            <a:ext cx="1130040" cy="3047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7620120" y="1905120"/>
            <a:ext cx="113328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57200" y="5181480"/>
            <a:ext cx="8305920" cy="990720"/>
          </a:xfrm>
          <a:prstGeom prst="rect">
            <a:avLst/>
          </a:prstGeom>
          <a:solidFill>
            <a:srgbClr val="808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Garamond"/>
              </a:rPr>
              <a:t>Пошукова  (дослідницька) роб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5e5ff"/>
                </a:solidFill>
                <a:latin typeface="Garamond"/>
              </a:rPr>
              <a:t>СПИСОК ВИКОРИСТАНИХ ДЖЕРЕЛ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921240"/>
            <a:ext cx="7696080" cy="61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1.Беспалько В.П. Слагаемые педагогической технологии. -М., 1989. -192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uk-UA" sz="1600" spc="-1" strike="noStrike">
                <a:solidFill>
                  <a:srgbClr val="ffffff"/>
                </a:solidFill>
                <a:latin typeface="Garamond"/>
              </a:rPr>
              <a:t>Гайштут О.Г., Литвиненко Г.М. Алгебра. Розв'язування задач і вправ.-К.: “Магістр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S</a:t>
            </a:r>
            <a:r>
              <a:rPr b="0" lang="uk-UA" sz="1600" spc="-1" strike="noStrike">
                <a:solidFill>
                  <a:srgbClr val="ffffff"/>
                </a:solidFill>
                <a:latin typeface="Garamond"/>
              </a:rPr>
              <a:t>”, 1997-311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Garamond"/>
              </a:rPr>
              <a:t>3. Гайштут О.Г., Литвиненко Г.М. Геометрія-це нескладно. – К.: “Магістр -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uk-UA" sz="1600" spc="-1" strike="noStrike">
                <a:solidFill>
                  <a:srgbClr val="ffffff"/>
                </a:solidFill>
                <a:latin typeface="Garamond"/>
              </a:rPr>
              <a:t>”, 1997 – 128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4.Ганеев Х.Ж. Теоретические основы развивающего обучения математике в средней школ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Автореф. диссер. д-ра пед. наук. СЛб., 199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Garamond"/>
              </a:rPr>
              <a:t>5. Геометрія. 11 клас. Структурно-узагальнюючі таблиці.(навчальний посібник)/Автор – укладач: Доценко І.Д. –Полтава-ПОІПОО, 2005.-42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Garamond"/>
              </a:rPr>
              <a:t>6. Губа Л.А. Нетрадиційні уроки математики. –Х.:Вид.група “Основа”, 2005.-96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7.Гусак П.М. Підготовка учителя: технологічні аспекти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онографія. -Луцьк: Ред.-вид. відд. «Вежа» ВДУ, 1999. ~278с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Garamond"/>
              </a:rPr>
              <a:t>8. Мерзляк А.Г. та ін. Алгебраїчний тренажер: Посібник для школярів і абітурієнтів. – Харків: “Гімназія”, 1998. – 320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Garamond"/>
              </a:rPr>
              <a:t>9.Нелін Є.П. Алгебра в таблицях: нав.посіб. для учнів7-11 кл. –Х.:Гімназія, 2011.- 128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Garamond"/>
              </a:rPr>
              <a:t>10. Нелін Є.П. Геометрія в таблицях: нав.посіб. для учнів7-11 кл. –Х.: Світ дитинства, 1997.- 117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Garamond"/>
              </a:rPr>
              <a:t>11.Шаталов В.Ф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Эксперимент продолжается.- М: Педагогика, 1989. – 33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2586240" cy="3119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09880" y="533520"/>
            <a:ext cx="3886200" cy="2714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38080" y="3276720"/>
            <a:ext cx="76215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5e5ff"/>
                </a:solidFill>
                <a:latin typeface="Garamond"/>
              </a:rPr>
              <a:t>АКТУАЛЬНІСТЬ ТЕМИ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57200" y="2438280"/>
            <a:ext cx="8228520" cy="3670920"/>
            <a:chOff x="457200" y="2438280"/>
            <a:chExt cx="8228520" cy="3670920"/>
          </a:xfrm>
        </p:grpSpPr>
        <p:cxnSp>
          <p:nvCxnSpPr>
            <p:cNvPr id="114" name="_s112652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5311800" y="3165480"/>
              <a:ext cx="734760" cy="221544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12651"/>
            <p:cNvCxnSpPr>
              <a:stCxn id="118" idx="0"/>
              <a:endCxn id="116" idx="2"/>
            </p:cNvCxnSpPr>
            <p:nvPr/>
          </p:nvCxnSpPr>
          <p:spPr>
            <a:xfrm flipH="1" flipV="1" rot="5400000">
              <a:off x="3096000" y="3165480"/>
              <a:ext cx="734760" cy="221616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6" name="_s112647"/>
            <p:cNvSpPr/>
            <p:nvPr/>
          </p:nvSpPr>
          <p:spPr>
            <a:xfrm>
              <a:off x="2673000" y="2438280"/>
              <a:ext cx="3797640" cy="146844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Дає можливість створенн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птимальних умов для</a:t>
              </a: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112648"/>
            <p:cNvSpPr/>
            <p:nvPr/>
          </p:nvSpPr>
          <p:spPr>
            <a:xfrm>
              <a:off x="457200" y="4640760"/>
              <a:ext cx="3797640" cy="14684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Реалізації кожним учнем власної освітньої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траєкторії індивідуального розвитку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відповідно до його можливостей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здібностей  та потре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12649"/>
            <p:cNvSpPr/>
            <p:nvPr/>
          </p:nvSpPr>
          <p:spPr>
            <a:xfrm>
              <a:off x="4888080" y="4640760"/>
              <a:ext cx="3797640" cy="14684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Розвитку комплексу якостей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які забезпечують успішну діяльність в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умовах, що змінюються,  компетентність 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соціальну мобільність випускника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здатного до життєтворчості 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самореалізації</a:t>
              </a: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1714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960840"/>
            <a:ext cx="640080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віт, в якому житимуть наші діти,                         У всякої епохи свої задачі і ї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мінюється в чотири рази швидше,                      розв'язання забезпечує прогрес                                      ніж наші школи.                                                         люд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Bodoni MT Black"/>
              </a:rPr>
              <a:t>Віллард Деджетт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Blackadder ITC"/>
              </a:rPr>
              <a:t>Генріх Гей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5e5ff"/>
                </a:solidFill>
                <a:latin typeface="Garamond"/>
              </a:rPr>
              <a:t>ОСНОВНІ ЦІЛІ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7360" y="849960"/>
            <a:ext cx="8935920" cy="3329280"/>
            <a:chOff x="27360" y="849960"/>
            <a:chExt cx="8935920" cy="3329280"/>
          </a:xfrm>
        </p:grpSpPr>
        <p:sp>
          <p:nvSpPr>
            <p:cNvPr id="123" name="_s121861"/>
            <p:cNvSpPr/>
            <p:nvPr/>
          </p:nvSpPr>
          <p:spPr>
            <a:xfrm flipH="1">
              <a:off x="2259360" y="2514600"/>
              <a:ext cx="1119240" cy="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21862"/>
            <p:cNvSpPr/>
            <p:nvPr/>
          </p:nvSpPr>
          <p:spPr>
            <a:xfrm>
              <a:off x="27360" y="2098440"/>
              <a:ext cx="2232000" cy="831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ffffff"/>
                  </a:solidFill>
                  <a:latin typeface="Arial"/>
                </a:rPr>
                <a:t>ЛОГІЧНОГО ТА ЛАТЕРАЛЬНОГО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uk-UA" sz="900" spc="-1" strike="noStrike">
                  <a:solidFill>
                    <a:srgbClr val="ffffff"/>
                  </a:solidFill>
                  <a:latin typeface="Arial"/>
                </a:rPr>
                <a:t>МИСЛЕННЯ, ЩО РОЗВИВАЮТЬ ЯК </a:t>
              </a:r>
              <a:br>
                <a:rPr sz="900"/>
              </a:br>
              <a:r>
                <a:rPr b="0" lang="uk-UA" sz="900" spc="-1" strike="noStrike">
                  <a:solidFill>
                    <a:srgbClr val="ffffff"/>
                  </a:solidFill>
                  <a:latin typeface="Arial"/>
                </a:rPr>
                <a:t>РОЗУМОВІ, ТАК І</a:t>
              </a:r>
              <a:br>
                <a:rPr sz="900"/>
              </a:br>
              <a:r>
                <a:rPr b="0" lang="uk-UA" sz="900" spc="-1" strike="noStrike">
                  <a:solidFill>
                    <a:srgbClr val="ffffff"/>
                  </a:solidFill>
                  <a:latin typeface="Arial"/>
                </a:rPr>
                <a:t>КРЕАТИВНІ ЗДІБНОСТІ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ffffff"/>
                  </a:solidFill>
                  <a:latin typeface="Arial"/>
                </a:rPr>
                <a:t>УЧНІВ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21867"/>
            <p:cNvSpPr/>
            <p:nvPr/>
          </p:nvSpPr>
          <p:spPr>
            <a:xfrm>
              <a:off x="4495320" y="2930400"/>
              <a:ext cx="0" cy="41688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121868"/>
            <p:cNvSpPr/>
            <p:nvPr/>
          </p:nvSpPr>
          <p:spPr>
            <a:xfrm>
              <a:off x="3378960" y="3347640"/>
              <a:ext cx="2232720" cy="831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ffffff"/>
                  </a:solidFill>
                  <a:latin typeface="Arial"/>
                </a:rPr>
                <a:t>ЦІЛІСНОЇ СИСТЕМИ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ffffff"/>
                  </a:solidFill>
                  <a:latin typeface="Arial"/>
                </a:rPr>
                <a:t>ЗНАНЬ З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ffffff"/>
                  </a:solidFill>
                  <a:latin typeface="Arial"/>
                </a:rPr>
                <a:t>МАТЕМАТИКИ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21863"/>
            <p:cNvSpPr/>
            <p:nvPr/>
          </p:nvSpPr>
          <p:spPr>
            <a:xfrm>
              <a:off x="5612040" y="2514600"/>
              <a:ext cx="1119240" cy="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121864"/>
            <p:cNvSpPr/>
            <p:nvPr/>
          </p:nvSpPr>
          <p:spPr>
            <a:xfrm>
              <a:off x="6731280" y="2098440"/>
              <a:ext cx="2232000" cy="831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ffffff"/>
                  </a:solidFill>
                  <a:latin typeface="Arial"/>
                </a:rPr>
                <a:t>МОВНОЇ ОСОБИСТОСТІ,</a:t>
              </a:r>
              <a:br>
                <a:rPr sz="900"/>
              </a:br>
              <a:r>
                <a:rPr b="0" lang="uk-UA" sz="900" spc="-1" strike="noStrike">
                  <a:solidFill>
                    <a:srgbClr val="ffffff"/>
                  </a:solidFill>
                  <a:latin typeface="Arial"/>
                </a:rPr>
                <a:t>ЗДАТНОЇ ГРАМОТНО</a:t>
              </a:r>
              <a:br>
                <a:rPr sz="900"/>
              </a:br>
              <a:r>
                <a:rPr b="0" lang="uk-UA" sz="900" spc="-1" strike="noStrike">
                  <a:solidFill>
                    <a:srgbClr val="ffffff"/>
                  </a:solidFill>
                  <a:latin typeface="Arial"/>
                </a:rPr>
                <a:t>АРГУМЕНТУВАТИ ВЛАСНІ</a:t>
              </a:r>
              <a:br>
                <a:rPr sz="900"/>
              </a:br>
              <a:r>
                <a:rPr b="0" lang="uk-UA" sz="900" spc="-1" strike="noStrike">
                  <a:solidFill>
                    <a:srgbClr val="ffffff"/>
                  </a:solidFill>
                  <a:latin typeface="Arial"/>
                </a:rPr>
                <a:t>ДУМКИ ЯК УСНОЮ, ТАК І</a:t>
              </a:r>
              <a:br>
                <a:rPr sz="900"/>
              </a:br>
              <a:r>
                <a:rPr b="0" lang="uk-UA" sz="900" spc="-1" strike="noStrike">
                  <a:solidFill>
                    <a:srgbClr val="ffffff"/>
                  </a:solidFill>
                  <a:latin typeface="Arial"/>
                </a:rPr>
                <a:t>ПИСЕМНОЮ МОВАМИ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121865"/>
            <p:cNvSpPr/>
            <p:nvPr/>
          </p:nvSpPr>
          <p:spPr>
            <a:xfrm flipV="1">
              <a:off x="4495320" y="1681560"/>
              <a:ext cx="0" cy="41688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21866"/>
            <p:cNvSpPr/>
            <p:nvPr/>
          </p:nvSpPr>
          <p:spPr>
            <a:xfrm>
              <a:off x="3378960" y="849960"/>
              <a:ext cx="2232720" cy="831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ffffff"/>
                  </a:solidFill>
                  <a:latin typeface="Arial"/>
                </a:rPr>
                <a:t>БАЗОВИХ КОМПЕТЕНТНОСТЕЙ УЧНІВ,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ffffff"/>
                  </a:solidFill>
                  <a:latin typeface="Arial"/>
                </a:rPr>
                <a:t>ЯК НЕОБХІДНИХ ЗАСАД ДЛЯ ШВИДКОЇ</a:t>
              </a:r>
              <a:br>
                <a:rPr sz="900"/>
              </a:br>
              <a:r>
                <a:rPr b="0" lang="uk-UA" sz="900" spc="-1" strike="noStrike">
                  <a:solidFill>
                    <a:srgbClr val="ffffff"/>
                  </a:solidFill>
                  <a:latin typeface="Arial"/>
                </a:rPr>
                <a:t>АДАПТАЦІЇ ВИПУСКНИКА ДО УМОВ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ffffff"/>
                  </a:solidFill>
                  <a:latin typeface="Arial"/>
                </a:rPr>
                <a:t>СУЧАСНОГО СОЦІУМУ</a:t>
              </a: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21869"/>
            <p:cNvSpPr/>
            <p:nvPr/>
          </p:nvSpPr>
          <p:spPr>
            <a:xfrm>
              <a:off x="3378960" y="2098440"/>
              <a:ext cx="2232720" cy="831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ФОРМУВАНН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905120" y="4343400"/>
            <a:ext cx="5181480" cy="2438280"/>
          </a:xfrm>
          <a:custGeom>
            <a:avLst/>
            <a:gdLst>
              <a:gd name="textAreaLeft" fmla="*/ 287280 w 5181480"/>
              <a:gd name="textAreaRight" fmla="*/ 4894200 w 5181480"/>
              <a:gd name="textAreaTop" fmla="*/ 287280 h 2438280"/>
              <a:gd name="textAreaBottom" fmla="*/ 2151000 h 2438280"/>
            </a:gdLst>
            <a:ahLst/>
            <a:rect l="textAreaLeft" t="textAreaTop" r="textAreaRight" b="textAreaBottom"/>
            <a:pathLst>
              <a:path w="4589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298" y="21600"/>
                </a:lnTo>
                <a:arcTo wR="3600" hR="3600" stAng="10800000" swAng="5400000"/>
                <a:lnTo>
                  <a:pt x="45898" y="3600"/>
                </a:lnTo>
                <a:arcTo wR="3600" hR="3600" stAng="5400000" swAng="5400000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Arial"/>
              </a:rPr>
              <a:t>ТЕОРЕТИЧНА ІНТЕРПРЕТАЦІЯ ДОСВІДУ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 u="sng">
                <a:solidFill>
                  <a:srgbClr val="ffffff"/>
                </a:solidFill>
                <a:uFillTx/>
                <a:latin typeface="Arial"/>
              </a:rPr>
              <a:t>ПРИНЦИП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- НАВЧАННЯ ВИПЕРЕДЖАЄ РОЗВИТОК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- ПІДВИЩЕННЯ ТЕОРЕТИЧНОГО РІВНЯ ЗМІСТУ НАВЧАНН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- НАВЧАННЯ НА ВИСОКОМУ РІВНІ СКЛАДНОСТІ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- ШВИДКИЙ ТЕМП РУХУ В НАВЧАННІ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- УСВІДОМЛЕННЯ УЧНЯМИ ПРОЦЕСУ НАВЧАНН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8228520" cy="2728080"/>
            <a:chOff x="0" y="0"/>
            <a:chExt cx="8228520" cy="2728080"/>
          </a:xfrm>
        </p:grpSpPr>
        <p:cxnSp>
          <p:nvCxnSpPr>
            <p:cNvPr id="135" name="_s129037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4948920" y="255600"/>
              <a:ext cx="546120" cy="2215440"/>
            </a:xfrm>
            <a:prstGeom prst="bentConnector3">
              <a:avLst>
                <a:gd name="adj1" fmla="val 2097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129036"/>
            <p:cNvCxnSpPr>
              <a:stCxn id="139" idx="0"/>
              <a:endCxn id="137" idx="2"/>
            </p:cNvCxnSpPr>
            <p:nvPr/>
          </p:nvCxnSpPr>
          <p:spPr>
            <a:xfrm flipH="1" flipV="1" rot="5400000">
              <a:off x="2733120" y="255600"/>
              <a:ext cx="546120" cy="2216160"/>
            </a:xfrm>
            <a:prstGeom prst="bentConnector3">
              <a:avLst>
                <a:gd name="adj1" fmla="val 2097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7" name="_s129032"/>
            <p:cNvSpPr/>
            <p:nvPr/>
          </p:nvSpPr>
          <p:spPr>
            <a:xfrm>
              <a:off x="2215800" y="0"/>
              <a:ext cx="3797640" cy="1091160"/>
            </a:xfrm>
            <a:prstGeom prst="roundRect">
              <a:avLst>
                <a:gd name="adj" fmla="val 16667"/>
              </a:avLst>
            </a:prstGeom>
            <a:solidFill>
              <a:srgbClr val="3b9d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УЗАГАЛЬНЕННЯ Т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СИСТЕМАТИЗАЦІ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129033"/>
            <p:cNvSpPr/>
            <p:nvPr/>
          </p:nvSpPr>
          <p:spPr>
            <a:xfrm>
              <a:off x="0" y="1636920"/>
              <a:ext cx="3797640" cy="109116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ВСЬОГО ШКІЛЬНОГО КУРС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129034"/>
            <p:cNvSpPr/>
            <p:nvPr/>
          </p:nvSpPr>
          <p:spPr>
            <a:xfrm>
              <a:off x="4430880" y="1636920"/>
              <a:ext cx="3797640" cy="1091160"/>
            </a:xfrm>
            <a:prstGeom prst="roundRect">
              <a:avLst>
                <a:gd name="adj" fmla="val 16667"/>
              </a:avLst>
            </a:prstGeom>
            <a:solidFill>
              <a:srgbClr val="ffa36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НАВЧАННЯ УЧНІВ ЧЕРЕЗ </a:t>
              </a:r>
              <a:br>
                <a:rPr sz="1200"/>
              </a:b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УЗАГАЛЬНЕННЯ ТА СИСТЕМАТИЗАЦІЮ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ЗНАНЬ, УМІНЬ ТА НАВИЧО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360360" cy="685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676520" y="274320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429000" y="2743200"/>
            <a:ext cx="360360" cy="685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 rot="19766400">
            <a:off x="228600" y="4473360"/>
            <a:ext cx="380880" cy="914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752480" y="4495680"/>
            <a:ext cx="406440" cy="609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 rot="1986600">
            <a:off x="3203640" y="4473720"/>
            <a:ext cx="406440" cy="865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3505320"/>
            <a:ext cx="3809880" cy="91440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НЯТІЙНІ                  ТЕМАТИЧНІ               ЗМІСТОВНІ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БЛОКИ ЗНАНЬ              БЛОКИ ЗНАНЬ         БЛОКИ ЗНАНЬ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257800"/>
            <a:ext cx="3809880" cy="990720"/>
          </a:xfrm>
          <a:prstGeom prst="roundRect">
            <a:avLst>
              <a:gd name="adj" fmla="val 16667"/>
            </a:avLst>
          </a:prstGeom>
          <a:solidFill>
            <a:srgbClr val="99ffcc">
              <a:alpha val="9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ПОРНІ КОНСПЕК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124080"/>
            <a:ext cx="3657600" cy="838440"/>
          </a:xfrm>
          <a:prstGeom prst="diamond">
            <a:avLst/>
          </a:prstGeom>
          <a:solidFill>
            <a:srgbClr val="ffa3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СИСТЕМАТИЗАЦІ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ЧЕРЕЗ УЗАГАЛЬНЕНН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3886200"/>
            <a:ext cx="1143000" cy="1143000"/>
          </a:xfrm>
          <a:prstGeom prst="octagon">
            <a:avLst>
              <a:gd name="adj" fmla="val 29287"/>
            </a:avLst>
          </a:prstGeom>
          <a:solidFill>
            <a:srgbClr val="ffa3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ЕРВИННЕ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УЗАГАЛЬНЕНН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5562720"/>
            <a:ext cx="1143000" cy="1143000"/>
          </a:xfrm>
          <a:prstGeom prst="octagon">
            <a:avLst>
              <a:gd name="adj" fmla="val 29287"/>
            </a:avLst>
          </a:prstGeom>
          <a:solidFill>
            <a:srgbClr val="ffa3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НЯТІЙН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УЗАГАЛЬНЕНН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5486400"/>
            <a:ext cx="1143000" cy="1143000"/>
          </a:xfrm>
          <a:prstGeom prst="octagon">
            <a:avLst>
              <a:gd name="adj" fmla="val 29287"/>
            </a:avLst>
          </a:prstGeom>
          <a:solidFill>
            <a:srgbClr val="ffa3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ІЖПРЕДМЕТН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УЗАГАЛЬНЕНН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343400"/>
            <a:ext cx="1143000" cy="1143000"/>
          </a:xfrm>
          <a:prstGeom prst="octagon">
            <a:avLst>
              <a:gd name="adj" fmla="val 29287"/>
            </a:avLst>
          </a:prstGeom>
          <a:solidFill>
            <a:srgbClr val="ffa3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ІЖПОНЯТІЙН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УЗАГАЛЬНЕНН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3962520"/>
            <a:ext cx="1143000" cy="1143000"/>
          </a:xfrm>
          <a:prstGeom prst="octagon">
            <a:avLst>
              <a:gd name="adj" fmla="val 29287"/>
            </a:avLst>
          </a:prstGeom>
          <a:solidFill>
            <a:srgbClr val="ffa3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ТЕМАТИЧН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УЗАГАЛЬНЕНН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995200">
            <a:off x="4726080" y="4569480"/>
            <a:ext cx="1517760" cy="150840"/>
          </a:xfrm>
          <a:prstGeom prst="rightArrow">
            <a:avLst>
              <a:gd name="adj1" fmla="val 50000"/>
              <a:gd name="adj2" fmla="val 251551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4467000">
            <a:off x="6631200" y="4569480"/>
            <a:ext cx="1517760" cy="150840"/>
          </a:xfrm>
          <a:prstGeom prst="rightArrow">
            <a:avLst>
              <a:gd name="adj1" fmla="val 50000"/>
              <a:gd name="adj2" fmla="val 251551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952000">
            <a:off x="5028840" y="38098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9259400">
            <a:off x="7543440" y="380952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4114800"/>
            <a:ext cx="15552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743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ill Sans Ultra Bold"/>
              </a:rPr>
              <a:t>Основні змістовні лінії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4419720"/>
            <a:ext cx="380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447920"/>
            <a:ext cx="41148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uk-UA" sz="4400" spc="-1" strike="noStrike">
                <a:solidFill>
                  <a:srgbClr val="ffffff"/>
                </a:solidFill>
                <a:latin typeface="Century Gothic"/>
              </a:rPr>
              <a:t>Геометрі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uk-UA" sz="1800" spc="-1" strike="noStrike">
                <a:solidFill>
                  <a:srgbClr val="ffffff"/>
                </a:solidFill>
                <a:latin typeface="Forte"/>
              </a:rPr>
              <a:t>1. </a:t>
            </a:r>
            <a:r>
              <a:rPr b="0" lang="uk-UA" sz="2400" spc="-1" strike="noStrike">
                <a:solidFill>
                  <a:srgbClr val="ffffff"/>
                </a:solidFill>
                <a:latin typeface="Forte"/>
              </a:rPr>
              <a:t>Геометричні фігури та їх властивост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Forte"/>
              </a:rPr>
              <a:t>2. </a:t>
            </a:r>
            <a:r>
              <a:rPr b="0" lang="uk-UA" sz="2400" spc="-1" strike="noStrike">
                <a:solidFill>
                  <a:srgbClr val="ffffff"/>
                </a:solidFill>
                <a:latin typeface="Forte"/>
              </a:rPr>
              <a:t>Геометричні величи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Forte"/>
              </a:rPr>
              <a:t>3. </a:t>
            </a:r>
            <a:r>
              <a:rPr b="0" lang="uk-UA" sz="2400" spc="-1" strike="noStrike">
                <a:solidFill>
                  <a:srgbClr val="ffffff"/>
                </a:solidFill>
                <a:latin typeface="Forte"/>
              </a:rPr>
              <a:t>Координати і векто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Forte"/>
              </a:rPr>
              <a:t>4. </a:t>
            </a:r>
            <a:r>
              <a:rPr b="0" lang="uk-UA" sz="2400" spc="-1" strike="noStrike">
                <a:solidFill>
                  <a:srgbClr val="ffffff"/>
                </a:solidFill>
                <a:latin typeface="Forte"/>
              </a:rPr>
              <a:t>Елементи тригонометр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1447920"/>
            <a:ext cx="4114800" cy="55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r>
              <a:rPr b="0" lang="uk-UA" sz="4400" spc="-1" strike="noStrike">
                <a:solidFill>
                  <a:srgbClr val="ffffff"/>
                </a:solidFill>
                <a:latin typeface="Century Gothic"/>
              </a:rPr>
              <a:t>Алгеб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uk-UA" sz="1800" spc="-1" strike="noStrike">
                <a:solidFill>
                  <a:srgbClr val="ffffff"/>
                </a:solidFill>
                <a:latin typeface="Forte"/>
              </a:rPr>
              <a:t>1. </a:t>
            </a:r>
            <a:r>
              <a:rPr b="0" lang="uk-UA" sz="2400" spc="-1" strike="noStrike">
                <a:solidFill>
                  <a:srgbClr val="ffffff"/>
                </a:solidFill>
                <a:latin typeface="Forte"/>
              </a:rPr>
              <a:t>Дійсні чис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Forte"/>
              </a:rPr>
              <a:t>2. </a:t>
            </a:r>
            <a:r>
              <a:rPr b="0" lang="uk-UA" sz="2400" spc="-1" strike="noStrike">
                <a:solidFill>
                  <a:srgbClr val="ffffff"/>
                </a:solidFill>
                <a:latin typeface="Forte"/>
              </a:rPr>
              <a:t>Тотожні перетворен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Forte"/>
              </a:rPr>
              <a:t>3. </a:t>
            </a:r>
            <a:r>
              <a:rPr b="0" lang="uk-UA" sz="2400" spc="-1" strike="noStrike">
                <a:solidFill>
                  <a:srgbClr val="ffffff"/>
                </a:solidFill>
                <a:latin typeface="Forte"/>
              </a:rPr>
              <a:t>Рівняння і нерівност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Forte"/>
              </a:rPr>
              <a:t>4. </a:t>
            </a:r>
            <a:r>
              <a:rPr b="0" lang="uk-UA" sz="2400" spc="-1" strike="noStrike">
                <a:solidFill>
                  <a:srgbClr val="ffffff"/>
                </a:solidFill>
                <a:latin typeface="Forte"/>
              </a:rPr>
              <a:t>Елементарні функц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Forte"/>
              </a:rPr>
              <a:t>5. </a:t>
            </a:r>
            <a:r>
              <a:rPr b="0" lang="uk-UA" sz="2400" spc="-1" strike="noStrike">
                <a:solidFill>
                  <a:srgbClr val="ffffff"/>
                </a:solidFill>
                <a:latin typeface="Forte"/>
              </a:rPr>
              <a:t>Елементи математичного аналіз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Forte"/>
              </a:rPr>
              <a:t>6</a:t>
            </a:r>
            <a:r>
              <a:rPr b="0" lang="uk-UA" sz="2400" spc="-1" strike="noStrike">
                <a:solidFill>
                  <a:srgbClr val="ffffff"/>
                </a:solidFill>
                <a:latin typeface="Forte"/>
              </a:rPr>
              <a:t>.Використання математичного аналіз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878200" y="2158920"/>
            <a:ext cx="2971800" cy="2438640"/>
          </a:xfrm>
          <a:prstGeom prst="triangle">
            <a:avLst>
              <a:gd name="adj" fmla="val 50000"/>
            </a:avLst>
          </a:prstGeom>
          <a:solidFill>
            <a:srgbClr val="f6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СИСТЕМА 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РОБО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343400"/>
            <a:ext cx="1676160" cy="1676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РЕЙТИНГОВА</a:t>
            </a:r>
            <a:br>
              <a:rPr sz="1400"/>
            </a:b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СИСТЕМА</a:t>
            </a:r>
            <a:br>
              <a:rPr sz="1400"/>
            </a:b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ОЦІНЮВАННЯ</a:t>
            </a:r>
            <a:br>
              <a:rPr sz="1400"/>
            </a:b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ЗНАН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4343400"/>
            <a:ext cx="1676520" cy="1676520"/>
          </a:xfrm>
          <a:prstGeom prst="ellipse">
            <a:avLst/>
          </a:prstGeom>
          <a:solidFill>
            <a:srgbClr val="8080ff"/>
          </a:solidFill>
          <a:ln cap="rnd" w="12600">
            <a:solidFill>
              <a:srgbClr val="00051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ІННОВАЦІЙНІ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ТЕХНОЛОГІ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НАВЧАНН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457200"/>
            <a:ext cx="1676160" cy="1676520"/>
          </a:xfrm>
          <a:prstGeom prst="ellipse">
            <a:avLst/>
          </a:prstGeom>
          <a:solidFill>
            <a:srgbClr val="ff4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ЛЕКЦІЙНО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ПРАКТИЧ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Garamond"/>
              </a:rPr>
              <a:t>СИСТЕМ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1037880" y="821520"/>
            <a:ext cx="7143480" cy="5148720"/>
            <a:chOff x="1037880" y="821520"/>
            <a:chExt cx="7143480" cy="5148720"/>
          </a:xfrm>
        </p:grpSpPr>
        <p:sp>
          <p:nvSpPr>
            <p:cNvPr id="169" name="_s201766"/>
            <p:cNvSpPr/>
            <p:nvPr/>
          </p:nvSpPr>
          <p:spPr>
            <a:xfrm flipH="1" flipV="1">
              <a:off x="2890080" y="2752200"/>
              <a:ext cx="862200" cy="32328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201765"/>
            <p:cNvSpPr/>
            <p:nvPr/>
          </p:nvSpPr>
          <p:spPr>
            <a:xfrm>
              <a:off x="1037880" y="1786680"/>
              <a:ext cx="1985040" cy="1287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Garamond"/>
                </a:rPr>
                <a:t>ІНТЕРАКТИВ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Garamond"/>
                </a:rPr>
                <a:t>ТЕХНОЛОГІ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ffffff"/>
                  </a:solidFill>
                  <a:latin typeface="Garamond"/>
                </a:rPr>
                <a:t>(КОЛЕКТИВНО-ГРУПОВЕ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uk-UA" sz="800" spc="-1" strike="noStrike">
                  <a:solidFill>
                    <a:srgbClr val="ffffff"/>
                  </a:solidFill>
                  <a:latin typeface="Garamond"/>
                </a:rPr>
                <a:t>НАВЧАННЯ,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ffffff"/>
                  </a:solidFill>
                  <a:latin typeface="Garamond"/>
                </a:rPr>
                <a:t>СИТУАЦІЙНЕ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ffffff"/>
                  </a:solidFill>
                  <a:latin typeface="Garamond"/>
                </a:rPr>
                <a:t>МОДЕЛЮВАННЯ)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_s201764"/>
            <p:cNvSpPr/>
            <p:nvPr/>
          </p:nvSpPr>
          <p:spPr>
            <a:xfrm flipH="1">
              <a:off x="2890080" y="3717360"/>
              <a:ext cx="862200" cy="3218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201763"/>
            <p:cNvSpPr/>
            <p:nvPr/>
          </p:nvSpPr>
          <p:spPr>
            <a:xfrm>
              <a:off x="1037880" y="3717360"/>
              <a:ext cx="1985040" cy="1287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Garamond"/>
                </a:rPr>
                <a:t>ІГРОВА</a:t>
              </a:r>
              <a:br>
                <a:rPr sz="1400"/>
              </a:br>
              <a:r>
                <a:rPr b="0" lang="uk-UA" sz="1400" spc="-1" strike="noStrike">
                  <a:solidFill>
                    <a:srgbClr val="ffffff"/>
                  </a:solidFill>
                  <a:latin typeface="Garamond"/>
                </a:rPr>
                <a:t>ТЕХНОЛОГІ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_s201762"/>
            <p:cNvSpPr/>
            <p:nvPr/>
          </p:nvSpPr>
          <p:spPr>
            <a:xfrm>
              <a:off x="4609800" y="4037760"/>
              <a:ext cx="0" cy="64512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201761"/>
            <p:cNvSpPr/>
            <p:nvPr/>
          </p:nvSpPr>
          <p:spPr>
            <a:xfrm>
              <a:off x="3616560" y="4683240"/>
              <a:ext cx="1985760" cy="1287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Garamond"/>
                </a:rPr>
                <a:t>ТЕСТОВІ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Garamond"/>
                </a:rPr>
                <a:t>ТЕХНОЛОГІЇ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_s201760"/>
            <p:cNvSpPr/>
            <p:nvPr/>
          </p:nvSpPr>
          <p:spPr>
            <a:xfrm>
              <a:off x="5466600" y="3717360"/>
              <a:ext cx="862200" cy="3218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_s201759"/>
            <p:cNvSpPr/>
            <p:nvPr/>
          </p:nvSpPr>
          <p:spPr>
            <a:xfrm>
              <a:off x="6196320" y="3717360"/>
              <a:ext cx="1985040" cy="1287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uk-UA" sz="1200" spc="-1" strike="noStrike">
                  <a:solidFill>
                    <a:srgbClr val="ffffff"/>
                  </a:solidFill>
                  <a:latin typeface="Garamond"/>
                </a:rPr>
                <a:t>ДИФЕРЕНЦІАЦІЯ</a:t>
              </a:r>
              <a:br>
                <a:rPr sz="1200"/>
              </a:br>
              <a:r>
                <a:rPr b="0" lang="uk-UA" sz="1200" spc="-1" strike="noStrike">
                  <a:solidFill>
                    <a:srgbClr val="ffffff"/>
                  </a:solidFill>
                  <a:latin typeface="Garamond"/>
                </a:rPr>
                <a:t>НАВЧ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_s201758"/>
            <p:cNvSpPr/>
            <p:nvPr/>
          </p:nvSpPr>
          <p:spPr>
            <a:xfrm flipV="1">
              <a:off x="5466600" y="2752200"/>
              <a:ext cx="862200" cy="32328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201757"/>
            <p:cNvSpPr/>
            <p:nvPr/>
          </p:nvSpPr>
          <p:spPr>
            <a:xfrm>
              <a:off x="6196320" y="1786680"/>
              <a:ext cx="1985040" cy="1287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uk-UA" sz="1200" spc="-1" strike="noStrike">
                  <a:solidFill>
                    <a:srgbClr val="ffffff"/>
                  </a:solidFill>
                  <a:latin typeface="Garamond"/>
                </a:rPr>
                <a:t>КОМПЮТЕР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Garamond"/>
                </a:rPr>
                <a:t>ТЕХНОЛОГІ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Garamond"/>
                </a:rPr>
                <a:t>(</a:t>
              </a:r>
              <a:r>
                <a:rPr b="0" lang="uk-UA" sz="800" spc="-1" strike="noStrike">
                  <a:solidFill>
                    <a:srgbClr val="ffffff"/>
                  </a:solidFill>
                  <a:latin typeface="Garamond"/>
                </a:rPr>
                <a:t>ПРЕЗЕНТАЦІЯ,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ffffff"/>
                  </a:solidFill>
                  <a:latin typeface="Garamond"/>
                </a:rPr>
                <a:t>ВИКОРИСТАННЯ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ffffff"/>
                  </a:solidFill>
                  <a:latin typeface="Garamond"/>
                </a:rPr>
                <a:t>ІНТЕРНЕТРЕСУРСІВ)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_s201756"/>
            <p:cNvSpPr/>
            <p:nvPr/>
          </p:nvSpPr>
          <p:spPr>
            <a:xfrm flipV="1">
              <a:off x="4609800" y="2108520"/>
              <a:ext cx="0" cy="64512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201755"/>
            <p:cNvSpPr/>
            <p:nvPr/>
          </p:nvSpPr>
          <p:spPr>
            <a:xfrm>
              <a:off x="3616560" y="821520"/>
              <a:ext cx="1985760" cy="1287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Garamond"/>
                </a:rPr>
                <a:t>ЕЛЕМЕНТИ</a:t>
              </a:r>
              <a:br>
                <a:rPr sz="1200"/>
              </a:br>
              <a:r>
                <a:rPr b="0" lang="uk-UA" sz="1200" spc="-1" strike="noStrike">
                  <a:solidFill>
                    <a:srgbClr val="ffffff"/>
                  </a:solidFill>
                  <a:latin typeface="Garamond"/>
                </a:rPr>
                <a:t>МОДУЛЬНО-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Garamond"/>
                </a:rPr>
                <a:t>РОЗВИВАЛЬНО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Garamond"/>
                </a:rPr>
                <a:t>СИСТЕ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Garamond"/>
                </a:rPr>
                <a:t>НАВЧ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_s201754"/>
            <p:cNvSpPr/>
            <p:nvPr/>
          </p:nvSpPr>
          <p:spPr>
            <a:xfrm>
              <a:off x="3616560" y="2754000"/>
              <a:ext cx="1985760" cy="1287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Garamond"/>
                </a:rPr>
                <a:t>ІННОВАЦІЙНІ</a:t>
              </a:r>
              <a:br>
                <a:rPr sz="1400"/>
              </a:br>
              <a:r>
                <a:rPr b="0" lang="uk-UA" sz="1400" spc="-1" strike="noStrike">
                  <a:solidFill>
                    <a:srgbClr val="ffffff"/>
                  </a:solidFill>
                  <a:latin typeface="Garamond"/>
                </a:rPr>
                <a:t>ТЕХНОЛОГІЇ</a:t>
              </a:r>
              <a:br>
                <a:rPr sz="1400"/>
              </a:br>
              <a:r>
                <a:rPr b="0" lang="uk-UA" sz="1400" spc="-1" strike="noStrike">
                  <a:solidFill>
                    <a:srgbClr val="ffffff"/>
                  </a:solidFill>
                  <a:latin typeface="Garamond"/>
                </a:rPr>
                <a:t>НАВЧАНН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Результативність та перспективи впровадження досві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457200" y="1871640"/>
            <a:ext cx="822960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28640" indent="-27144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alibri"/>
              </a:rPr>
              <a:t>Підвищення ефективності навчальної діяльності учн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alibri"/>
              </a:rPr>
              <a:t>Формування  цілісності вивчення предмета, розширення світогляду учн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alibri"/>
              </a:rPr>
              <a:t>Розвиток творчих здібностей учнів: участь в олімпіадах, роботі МАН, конкурсах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Формув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людини творчо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людини соціально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людини-знавц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людини культурно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ololo</cp:lastModifiedBy>
  <dcterms:modified xsi:type="dcterms:W3CDTF">2017-01-28T20:25:02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