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BC4-117D-43B8-A80E-8F5C32DC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42A-C93A-47E3-86AB-8FB4B5A4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22C-E859-470E-BAD3-F3488E17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E99-8923-4C25-A2DE-8E169DD4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2DF9-2FF6-4B5C-9639-3EB20EA6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898D-23D4-4EA4-9773-F3EA6146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BCF1-13D7-4CF0-823C-2DC193A1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D83D-1E10-4552-9F5B-2A0F973E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242C-0605-4561-A182-8FEC1DFF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5662-6C9B-4322-8BCE-03841DAC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C523-04DE-4C4E-9921-D75C902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4A2-3D39-4ED9-A817-16FCED86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8F1E-260C-477B-81DE-48EB4095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C187-C226-4901-AAF0-AB8B220C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FD05-B9CE-41FD-A93F-CDD0521A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32D8-3414-4D11-991B-A6D3EEAF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D7CD-7CAF-4FAC-BD91-F86A82FA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BDB0E-672E-4774-93F9-42F8C1ED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81C0C-4D80-42F8-A79E-7F244D16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16414-7304-4DFD-9B9B-18AB851C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A9E7C-3433-4E23-B491-8A1E85A0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5CF24-D55A-497A-A8F8-874DCFEB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402-890F-4ED1-8C1B-3318E1BF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F3EAF-4E49-418B-BADB-0A9D5C6D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0D304-96F7-40A0-ADB6-FA22BED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AAAB5-2527-44A5-8D01-A88722CA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9B000-7342-4472-96B6-DF36547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13420-3F47-4FAB-87A6-9C56996B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55EC1-BCCC-4B87-9696-C3BDAA02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8380A-F04A-4CD1-8DE2-D23A5BEC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1C1F-ED3C-43FC-9DB6-EB2E2997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0BB6-16DA-4553-8BBC-4F4588AE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375F-121E-45C1-ACC1-151E2366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31F-0E8A-45D3-97AD-7A790F15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FFC1-F85E-49A9-A76B-87F86F1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0903-9376-4DE9-9631-BF1C4AC9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68C86-776A-4B3F-AD18-DF556300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F08E-9FAD-493A-92D5-8CAF056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BC24-4920-42D0-9DAC-19AAB37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16977-A6D5-46DC-BC50-80354F4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06A44-B6C0-4E07-B526-196B290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BF75-8205-40FE-AB46-229EE47A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BD0E-0289-4D06-B621-498AF063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B3D-0B6A-423A-8862-D414D74E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1BC-49FB-4C4C-9595-D65BDAB0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C29-83B2-46B2-A9DE-4017D8D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7D9-57ED-4FCD-B7CB-BEAB7C8D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55E-7730-4990-9664-6FA706C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7187-1FFB-4864-B18A-6A70B91BF06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24BB-496F-4EA0-8A32-F426F839170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4D8B-2AFA-4A01-9688-C0961A09DDD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490B-3303-4D40-94EE-9DED143B009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7672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f0"/>
                </a:solidFill>
                <a:latin typeface="Century Gothic"/>
              </a:rPr>
              <a:t>Food </a:t>
            </a:r>
            <a:endParaRPr b="0" lang="en-US" sz="9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2" descr="http://probudilis.ru/siroedenie/img/000000125.jpg"/>
          <p:cNvPicPr/>
          <p:nvPr/>
        </p:nvPicPr>
        <p:blipFill>
          <a:blip r:embed="rId1"/>
          <a:stretch/>
        </p:blipFill>
        <p:spPr>
          <a:xfrm>
            <a:off x="0" y="3032280"/>
            <a:ext cx="529272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42560" y="907560"/>
            <a:ext cx="6777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e3d2d"/>
                </a:solidFill>
                <a:latin typeface="Times New Roman"/>
                <a:ea typeface="Calibri"/>
              </a:rPr>
              <a:t>Fr</a:t>
            </a:r>
            <a:r>
              <a:rPr b="0" lang="en-US" sz="10000" spc="-1" strike="noStrike" u="sng">
                <a:solidFill>
                  <a:srgbClr val="3e3d2d"/>
                </a:solidFill>
                <a:uFillTx/>
                <a:latin typeface="Times New Roman"/>
                <a:ea typeface="Calibri"/>
              </a:rPr>
              <a:t>ui</a:t>
            </a:r>
            <a:r>
              <a:rPr b="0" lang="en-US" sz="10000" spc="-1" strike="noStrike">
                <a:solidFill>
                  <a:srgbClr val="3e3d2d"/>
                </a:solidFill>
                <a:latin typeface="Times New Roman"/>
                <a:ea typeface="Calibri"/>
              </a:rPr>
              <a:t>t </a:t>
            </a:r>
            <a:endParaRPr b="0" lang="en-US" sz="10000" spc="-1" strike="noStrike">
              <a:solidFill>
                <a:srgbClr val="3e3d2d"/>
              </a:solidFill>
              <a:latin typeface="Century Gothic"/>
            </a:endParaRPr>
          </a:p>
          <a:p>
            <a:pPr marL="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019400" y="3068640"/>
            <a:ext cx="4711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42560" y="691920"/>
            <a:ext cx="6777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3e3d2d"/>
                </a:solidFill>
                <a:latin typeface="Century Gothic"/>
              </a:rPr>
              <a:t>3.</a:t>
            </a: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Century Gothic"/>
              </a:rPr>
              <a:t>ea</a:t>
            </a:r>
            <a:r>
              <a:rPr b="1" lang="en-US" sz="7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7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e3d2d"/>
                </a:solidFill>
                <a:latin typeface="Century Gothic"/>
              </a:rPr>
              <a:t>4.</a:t>
            </a: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Century Gothic"/>
              </a:rPr>
              <a:t>of</a:t>
            </a: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fe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endParaRPr b="0" lang="en-US" sz="7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5005440" y="3029040"/>
            <a:ext cx="36925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42560" y="765000"/>
            <a:ext cx="6777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3e3d2d"/>
                </a:solidFill>
                <a:latin typeface="Century Gothic"/>
              </a:rPr>
              <a:t>5</a:t>
            </a:r>
            <a:r>
              <a:rPr b="0" lang="uk-UA" sz="88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en-US" sz="8800" spc="-1" strike="noStrike">
                <a:solidFill>
                  <a:srgbClr val="000000"/>
                </a:solidFill>
                <a:latin typeface="Century Gothic"/>
              </a:rPr>
              <a:t>le</a:t>
            </a:r>
            <a:r>
              <a:rPr b="1" lang="en-US" sz="8800" spc="-1" strike="noStrike" u="sng">
                <a:solidFill>
                  <a:srgbClr val="000000"/>
                </a:solidFill>
                <a:uFillTx/>
                <a:latin typeface="Century Gothic"/>
              </a:rPr>
              <a:t>t</a:t>
            </a:r>
            <a:r>
              <a:rPr b="1" lang="en-US" sz="8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8800" spc="-1" strike="noStrike" u="sng">
                <a:solidFill>
                  <a:srgbClr val="000000"/>
                </a:solidFill>
                <a:uFillTx/>
                <a:latin typeface="Century Gothic"/>
              </a:rPr>
              <a:t>u</a:t>
            </a:r>
            <a:r>
              <a:rPr b="1" lang="en-US" sz="8800" spc="-1" strike="noStrike">
                <a:solidFill>
                  <a:srgbClr val="000000"/>
                </a:solidFill>
                <a:latin typeface="Century Gothic"/>
              </a:rPr>
              <a:t>ce</a:t>
            </a:r>
            <a:endParaRPr b="0" lang="en-US" sz="8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788000" y="3141720"/>
            <a:ext cx="3965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042560" y="1052640"/>
            <a:ext cx="6777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3e3d2d"/>
                </a:solidFill>
                <a:latin typeface="Century Gothic"/>
              </a:rPr>
              <a:t>6.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ou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p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2952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15640" y="981000"/>
            <a:ext cx="6777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000000"/>
                </a:solidFill>
                <a:latin typeface="Century Gothic"/>
              </a:rPr>
              <a:t>7.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Ch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ck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36673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9280" y="1268280"/>
            <a:ext cx="82090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3e3d2d"/>
                </a:solidFill>
                <a:latin typeface="Century Gothic"/>
              </a:rPr>
              <a:t>8.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Ve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ge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a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l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es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932360" y="3500280"/>
            <a:ext cx="355608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39640" y="1341000"/>
            <a:ext cx="806472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3e3d2d"/>
                </a:solidFill>
                <a:latin typeface="Century Gothic"/>
              </a:rPr>
              <a:t>9.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Pot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a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oe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572000" y="3573360"/>
            <a:ext cx="3936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39640" y="1413000"/>
            <a:ext cx="7632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e3d2d"/>
                </a:solidFill>
                <a:latin typeface="Century Gothic"/>
              </a:rPr>
              <a:t>10.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ips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95640" y="3460680"/>
            <a:ext cx="396108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539280" y="1197000"/>
            <a:ext cx="828036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3e3d2d"/>
                </a:solidFill>
                <a:latin typeface="Century Gothic"/>
              </a:rPr>
              <a:t>11.</a:t>
            </a:r>
            <a:r>
              <a:rPr b="1" lang="uk-UA" sz="9600" spc="-1" strike="noStrike">
                <a:solidFill>
                  <a:srgbClr val="000000"/>
                </a:solidFill>
                <a:latin typeface="Century Gothic"/>
              </a:rPr>
              <a:t>С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h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oc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o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lat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427640" y="3357720"/>
            <a:ext cx="4059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755280" y="1197000"/>
            <a:ext cx="706428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3e3d2d"/>
                </a:solidFill>
                <a:latin typeface="Century Gothic"/>
              </a:rPr>
              <a:t>1</a:t>
            </a:r>
            <a:r>
              <a:rPr b="0" lang="en-US" sz="96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uk-UA" sz="96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1" lang="uk-UA" sz="9600" spc="-1" strike="noStrike">
                <a:solidFill>
                  <a:srgbClr val="000000"/>
                </a:solidFill>
                <a:latin typeface="Century Gothic"/>
              </a:rPr>
              <a:t>Р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u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d</a:t>
            </a:r>
            <a:r>
              <a:rPr b="1" lang="en-US" sz="9600" spc="-1" strike="noStrike" u="sng">
                <a:solidFill>
                  <a:srgbClr val="000000"/>
                </a:solidFill>
                <a:uFillTx/>
                <a:latin typeface="Century Gothic"/>
              </a:rPr>
              <a:t>d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ing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211640" y="3284640"/>
            <a:ext cx="43592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0246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at do you like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1484280"/>
            <a:ext cx="6777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3d2d"/>
                </a:solidFill>
                <a:latin typeface="Century Gothic"/>
              </a:rPr>
              <a:t>He likes chicken,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3d2d"/>
                </a:solidFill>
                <a:latin typeface="Century Gothic"/>
              </a:rPr>
              <a:t>Chicken,chicken.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3d2d"/>
                </a:solidFill>
                <a:latin typeface="Century Gothic"/>
              </a:rPr>
              <a:t>And salad too.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3d2d"/>
                </a:solidFill>
                <a:latin typeface="Century Gothic"/>
              </a:rPr>
              <a:t>Salad too.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Unit 12. Welcome home!</a:t>
            </a:r>
            <a:br>
              <a:rPr sz="3600"/>
            </a:b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Reading.</a:t>
            </a:r>
            <a:r>
              <a:rPr b="0" lang="ru-RU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4c600"/>
                </a:solidFill>
                <a:latin typeface="Arial"/>
              </a:rPr>
              <a:t>What food do you like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3e3d2d"/>
                </a:solidFill>
                <a:latin typeface="Century Gothic"/>
              </a:rPr>
              <a:t>Food</a:t>
            </a:r>
            <a:endParaRPr b="0" lang="en-US" sz="19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920" y="2060280"/>
            <a:ext cx="705816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4c600"/>
                </a:solidFill>
                <a:latin typeface="Century Gothic"/>
              </a:rPr>
              <a:t>   </a:t>
            </a:r>
            <a:r>
              <a:rPr b="0" lang="en-US" sz="6000" spc="-1" strike="noStrike">
                <a:solidFill>
                  <a:srgbClr val="94c600"/>
                </a:solidFill>
                <a:latin typeface="Century Gothic"/>
              </a:rPr>
              <a:t>In a restaurant</a:t>
            </a:r>
            <a:br>
              <a:rPr sz="6000"/>
            </a:br>
            <a:endParaRPr b="0" lang="en-US" sz="6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42560" y="765000"/>
            <a:ext cx="67770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1" lang="en-US" sz="8100" spc="-1" strike="noStrike">
                <a:solidFill>
                  <a:srgbClr val="000000"/>
                </a:solidFill>
                <a:latin typeface="Century Gothic"/>
              </a:rPr>
              <a:t>Good morning!</a:t>
            </a:r>
            <a:endParaRPr b="0" lang="en-US" sz="81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000000"/>
                </a:solidFill>
                <a:latin typeface="Century Gothic"/>
              </a:rPr>
              <a:t>Can I take your order?</a:t>
            </a:r>
            <a:endParaRPr b="0" lang="en-US" sz="81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755280" y="1413000"/>
            <a:ext cx="727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- I want a…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640" y="620280"/>
            <a:ext cx="734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56680">
              <a:spcBef>
                <a:spcPts val="24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Well, it`s very tasty. Please wait!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24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Thank you!</a:t>
            </a:r>
            <a:endParaRPr b="0" lang="en-US" sz="9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826920" y="1052640"/>
          <a:ext cx="7417080" cy="54007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400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763640" y="338040"/>
            <a:ext cx="482436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3:42:58Z</dcterms:created>
  <dc:creator>Home</dc:creator>
  <dc:description/>
  <dc:language>en-US</dc:language>
  <cp:lastModifiedBy>КЛАСС</cp:lastModifiedBy>
  <dcterms:modified xsi:type="dcterms:W3CDTF">2017-02-08T13:28:27Z</dcterms:modified>
  <cp:revision>10</cp:revision>
  <dc:subject/>
  <dc:title>Food</dc:title>
</cp:coreProperties>
</file>