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44.jpeg" ContentType="image/jpeg"/>
  <Override PartName="/ppt/media/image40.jpeg" ContentType="image/jpeg"/>
  <Override PartName="/ppt/media/image38.jpeg" ContentType="image/jpeg"/>
  <Override PartName="/ppt/media/image46.png" ContentType="image/png"/>
  <Override PartName="/ppt/media/image47.gif" ContentType="image/gif"/>
  <Override PartName="/ppt/media/image30.jpeg" ContentType="image/jpeg"/>
  <Override PartName="/ppt/media/image12.gif" ContentType="image/gif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19.jpeg" ContentType="image/jpeg"/>
  <Override PartName="/ppt/media/image42.jpeg" ContentType="image/jpeg"/>
  <Override PartName="/ppt/media/image5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82E-0C5F-4679-96CB-8CF28473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336-38C9-4F48-A33E-562EB9A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834-5B76-4B86-90F5-C1EC6729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925-C664-4BA6-A12F-D6FE5C09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D6C-1386-4B6C-A280-0946FA55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C4A-2E67-4648-88C6-12D7A22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1DA-8C6B-4096-8E5C-4B55F70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E9B-622F-4E79-94EC-1409C79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5120" y="817200"/>
            <a:ext cx="69642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C90-7D0F-4ADC-BC9E-B21296AE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009-87D2-4893-A1E3-4B62F82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0E6-DF3B-4F98-8AEC-8FD4C02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856-74AC-4A44-9B26-6ED4124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9"/>
          <p:cNvSpPr/>
          <p:nvPr/>
        </p:nvSpPr>
        <p:spPr>
          <a:xfrm rot="10800000">
            <a:off x="628200" y="6068520"/>
            <a:ext cx="7921800" cy="5382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2880" y="272880"/>
            <a:ext cx="568440" cy="568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66840" indent="54756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685800" indent="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52640" indent="-1382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17680" indent="-5032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17680" indent="-50328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17680" indent="-50328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580-D2C1-4C34-9800-0E18CB1B33CC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670880" y="5808600"/>
            <a:ext cx="552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738E-F87A-4FDD-9421-7017DA3EBBD0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21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7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reeform 9"/>
          <p:cNvSpPr/>
          <p:nvPr/>
        </p:nvSpPr>
        <p:spPr>
          <a:xfrm rot="10800000">
            <a:off x="891720" y="5617800"/>
            <a:ext cx="738180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Desktop\Pushpin Dev\Assets\pushpinLeft.png"/>
          <p:cNvPicPr/>
          <p:nvPr/>
        </p:nvPicPr>
        <p:blipFill>
          <a:blip r:embed="rId6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60720" y="1123920"/>
            <a:ext cx="4967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5201"/>
                </a:solidFill>
                <a:latin typeface="Constantia"/>
              </a:rPr>
              <a:t>Монтаж вагонки із МДФ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861080" y="4530240"/>
            <a:ext cx="3776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5e9c"/>
                </a:solidFill>
                <a:latin typeface="Franklin Gothic Book"/>
              </a:rPr>
              <a:t>Урок- </a:t>
            </a:r>
            <a:r>
              <a:rPr b="0" lang="uk-UA" sz="2400" spc="-1" strike="noStrike">
                <a:solidFill>
                  <a:srgbClr val="465e9c"/>
                </a:solidFill>
                <a:latin typeface="Franklin Gothic Book"/>
              </a:rPr>
              <a:t>технологічний </a:t>
            </a:r>
            <a:r>
              <a:rPr b="0" lang="zh-CN" sz="2400" spc="-1" strike="noStrike">
                <a:solidFill>
                  <a:srgbClr val="465e9c"/>
                </a:solidFill>
                <a:latin typeface="Franklin Gothic Book"/>
              </a:rPr>
              <a:t>конс</a:t>
            </a:r>
            <a:r>
              <a:rPr b="0" lang="uk-UA" sz="2400" spc="-1" strike="noStrike">
                <a:solidFill>
                  <a:srgbClr val="465e9c"/>
                </a:solidFill>
                <a:latin typeface="Franklin Gothic Book"/>
              </a:rPr>
              <a:t>алтинг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" name="Picture 2" descr="C:\Users\Администратор\Desktop\мама\61411_img.jpg"/>
          <p:cNvPicPr/>
          <p:nvPr/>
        </p:nvPicPr>
        <p:blipFill>
          <a:blip r:embed="rId8"/>
          <a:stretch/>
        </p:blipFill>
        <p:spPr>
          <a:xfrm>
            <a:off x="1260360" y="1322280"/>
            <a:ext cx="180036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Администратор\Desktop\мама\урок-аукціон\473f.jpg"/>
          <p:cNvPicPr/>
          <p:nvPr/>
        </p:nvPicPr>
        <p:blipFill>
          <a:blip r:embed="rId9"/>
          <a:stretch/>
        </p:blipFill>
        <p:spPr>
          <a:xfrm>
            <a:off x="6083280" y="3171960"/>
            <a:ext cx="1513080" cy="94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Администратор\Desktop\мама\5dfe1309b2.jpg"/>
          <p:cNvPicPr/>
          <p:nvPr/>
        </p:nvPicPr>
        <p:blipFill>
          <a:blip r:embed="rId10"/>
          <a:stretch/>
        </p:blipFill>
        <p:spPr>
          <a:xfrm>
            <a:off x="1979640" y="3645000"/>
            <a:ext cx="27986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Rectangle 8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Freeform 10"/>
          <p:cNvSpPr/>
          <p:nvPr/>
        </p:nvSpPr>
        <p:spPr>
          <a:xfrm rot="10800000">
            <a:off x="631440" y="6058080"/>
            <a:ext cx="772164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 rot="60000">
            <a:off x="4471560" y="603000"/>
            <a:ext cx="3789360" cy="572112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6278400" y="333000"/>
            <a:ext cx="56664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21540000">
            <a:off x="1103040" y="2018880"/>
            <a:ext cx="306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нсультація №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"/>
          <p:cNvSpPr txBox="1"/>
          <p:nvPr/>
        </p:nvSpPr>
        <p:spPr>
          <a:xfrm rot="60000">
            <a:off x="4618800" y="763200"/>
            <a:ext cx="3529080" cy="5421240"/>
          </a:xfrm>
          <a:prstGeom prst="rect">
            <a:avLst/>
          </a:prstGeom>
          <a:blipFill rotWithShape="0">
            <a:blip r:embed="rId9"/>
            <a:stretch/>
          </a:blip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Горизонталь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Вертикаль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По діагоналі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"/>
          <p:cNvSpPr txBox="1"/>
          <p:nvPr/>
        </p:nvSpPr>
        <p:spPr>
          <a:xfrm rot="21540000">
            <a:off x="1142640" y="2996640"/>
            <a:ext cx="3048120" cy="27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936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«С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пособи укладання на стіну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дизайнерські рішення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0"/>
          <a:stretch/>
        </p:blipFill>
        <p:spPr>
          <a:xfrm>
            <a:off x="1979640" y="1197000"/>
            <a:ext cx="1133280" cy="907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Горизонтальная укладка"/>
          <p:cNvPicPr/>
          <p:nvPr/>
        </p:nvPicPr>
        <p:blipFill>
          <a:blip r:embed="rId11"/>
          <a:stretch/>
        </p:blipFill>
        <p:spPr>
          <a:xfrm>
            <a:off x="5364000" y="1165320"/>
            <a:ext cx="129096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12"/>
          <a:stretch/>
        </p:blipFill>
        <p:spPr>
          <a:xfrm>
            <a:off x="6588000" y="2637000"/>
            <a:ext cx="1427400" cy="143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13"/>
          <a:stretch/>
        </p:blipFill>
        <p:spPr>
          <a:xfrm>
            <a:off x="5076720" y="4068720"/>
            <a:ext cx="1432080" cy="142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14"/>
          <a:stretch/>
        </p:blipFill>
        <p:spPr>
          <a:xfrm>
            <a:off x="2162160" y="5300640"/>
            <a:ext cx="768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пособи укладки  вагонки із МДФ на стін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Ялинк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Цегляна кладк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амк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3" name="Рисунок 7" descr="Монтаж елкой"/>
          <p:cNvPicPr/>
          <p:nvPr/>
        </p:nvPicPr>
        <p:blipFill>
          <a:blip r:embed="rId2"/>
          <a:stretch/>
        </p:blipFill>
        <p:spPr>
          <a:xfrm>
            <a:off x="5724360" y="2205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Имитируем кирпич"/>
          <p:cNvPicPr/>
          <p:nvPr/>
        </p:nvPicPr>
        <p:blipFill>
          <a:blip r:embed="rId3"/>
          <a:stretch/>
        </p:blipFill>
        <p:spPr>
          <a:xfrm>
            <a:off x="3463920" y="32418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Создание рамки"/>
          <p:cNvPicPr/>
          <p:nvPr/>
        </p:nvPicPr>
        <p:blipFill>
          <a:blip r:embed="rId4"/>
          <a:stretch/>
        </p:blipFill>
        <p:spPr>
          <a:xfrm>
            <a:off x="5292720" y="4365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Rectangle 8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10"/>
          <p:cNvSpPr/>
          <p:nvPr/>
        </p:nvSpPr>
        <p:spPr>
          <a:xfrm rot="10800000">
            <a:off x="631440" y="6058080"/>
            <a:ext cx="772164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 rot="60000">
            <a:off x="4471560" y="603000"/>
            <a:ext cx="3789360" cy="572112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6278400" y="333000"/>
            <a:ext cx="566640" cy="567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 rot="21540000">
            <a:off x="1103040" y="2018880"/>
            <a:ext cx="306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нсультація №5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"/>
          <p:cNvSpPr txBox="1"/>
          <p:nvPr/>
        </p:nvSpPr>
        <p:spPr>
          <a:xfrm rot="60000">
            <a:off x="4618800" y="763200"/>
            <a:ext cx="3529080" cy="5421240"/>
          </a:xfrm>
          <a:prstGeom prst="rect">
            <a:avLst/>
          </a:prstGeom>
          <a:blipFill rotWithShape="0">
            <a:blip r:embed="rId9"/>
            <a:stretch/>
          </a:blip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розрахунку вагонки, що необхідна для установки у нескладних кімнатах, достатньо вирахувати площу стіни, відняти площу вікон і дверей і поділити на площу панелі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Підрахунок необхідної кількості рейок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цього висоту стін, запланованих під обшивку, ділять на крок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 зазвичай 50-60 см). Потім отриманий результат заокруглюють до цілого і множать  на ширину стін. Таким чином, визначаємо необхідну  кількість брусків каркасу в погонних метрах. Якщо ці роботи провести своїми руками, то обшивка стін обійдеться на 50% дешевше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"/>
          <p:cNvSpPr txBox="1"/>
          <p:nvPr/>
        </p:nvSpPr>
        <p:spPr>
          <a:xfrm rot="21540000">
            <a:off x="1142640" y="2996640"/>
            <a:ext cx="3048120" cy="27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9360">
            <a:solidFill>
              <a:srgbClr val="b9ca1a"/>
            </a:solidFill>
            <a:beve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«Підрахунок необхідної кількості  стінових панелей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0"/>
          <a:stretch/>
        </p:blipFill>
        <p:spPr>
          <a:xfrm>
            <a:off x="1979640" y="1197000"/>
            <a:ext cx="1133280" cy="907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11"/>
          <a:stretch/>
        </p:blipFill>
        <p:spPr>
          <a:xfrm>
            <a:off x="2343240" y="5373720"/>
            <a:ext cx="7682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ідрахунок необхідної кількості вагон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8520" y="2120760"/>
            <a:ext cx="3200400" cy="360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71685c"/>
            </a:solidFill>
            <a:bevel/>
          </a:ln>
        </p:spPr>
        <p:txBody>
          <a:bodyPr lIns="90000" rIns="90000" tIns="46800" bIns="46800" anchor="t">
            <a:normAutofit fontScale="6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ідрахунок необхідної кількості МДФ панелей при влаштуванні у вертикальному напрямку, коли висота кімнати і вагонки збігаєтьс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изначаємо довжину стіни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рулеткою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изначаємо ширину МДФ панелі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рулеткою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изначаємо необхідну кількість МДФ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довжину стіни поділити на ширину вагонки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лощу панелі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63800" y="2119320"/>
            <a:ext cx="3508200" cy="3605040"/>
          </a:xfrm>
          <a:prstGeom prst="rect">
            <a:avLst/>
          </a:prstGeom>
          <a:solidFill>
            <a:srgbClr val="ffffff"/>
          </a:solidFill>
          <a:ln w="15840">
            <a:solidFill>
              <a:srgbClr val="eb5605"/>
            </a:solidFill>
            <a:beve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Підрахунок необхідної кількості МДФ панелей при влаштуванні у горизонтальному напрямку, коли висота кімнати і вагонки збігається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довжину стіни (рулеткою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довжину МДФ панелі (рулеткою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необхідну кількість МДФ вагонки  по довжині стіни. (довжину стіни поділити на довжину вагонки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висоту стіни (рулеткою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ширину МДФ панелі (рулеткою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Визначаємо кількість вагонки по висоті кімнати. (висоту стіни поділити на ширину вагонки)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Загальна кількість вагонки п.3+п.6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64" name="Рисунок 4" descr=""/>
          <p:cNvPicPr/>
          <p:nvPr/>
        </p:nvPicPr>
        <p:blipFill>
          <a:blip r:embed="rId2"/>
          <a:stretch/>
        </p:blipFill>
        <p:spPr>
          <a:xfrm>
            <a:off x="3276720" y="5157720"/>
            <a:ext cx="133020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62247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Схема монтажу панелей МДФ на мансарді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5616720" cy="3446280"/>
          </a:xfrm>
          <a:prstGeom prst="rect">
            <a:avLst/>
          </a:prstGeom>
          <a:ln w="9360">
            <a:solidFill>
              <a:srgbClr val="000000"/>
            </a:solidFill>
            <a:bevel/>
          </a:ln>
        </p:spPr>
      </p:pic>
      <p:sp>
        <p:nvSpPr>
          <p:cNvPr id="167" name="Прямоугольник 2"/>
          <p:cNvSpPr/>
          <p:nvPr/>
        </p:nvSpPr>
        <p:spPr>
          <a:xfrm>
            <a:off x="3522600" y="836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Консультація №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2625840" y="573120"/>
            <a:ext cx="936360" cy="74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260360" y="1322280"/>
            <a:ext cx="768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1447920"/>
            <a:ext cx="696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Консультація №7 </a:t>
            </a:r>
            <a:br>
              <a:rPr sz="2800"/>
            </a:br>
            <a:br>
              <a:rPr sz="2800"/>
            </a:b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Необхідні інструменти і обладнанн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63400" y="2924280"/>
            <a:ext cx="6195960" cy="2798640"/>
          </a:xfrm>
          <a:prstGeom prst="rect">
            <a:avLst/>
          </a:prstGeom>
          <a:blipFill rotWithShape="0">
            <a:blip r:embed="rId2"/>
            <a:stretch/>
          </a:blipFill>
          <a:ln w="15840">
            <a:solidFill>
              <a:srgbClr val="b9ca1a"/>
            </a:solidFill>
            <a:beve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Електродриль із свердлами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Молоток з цвяхами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Викрутки з саморізами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Рівень і рейка правило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Рулетк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Ножівка чи паркетк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2124000" y="615960"/>
            <a:ext cx="1133640" cy="90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 flipH="1">
            <a:off x="6011640" y="3645000"/>
            <a:ext cx="1979640" cy="132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Администратор\Desktop\мама\урок-аукціон\orig_1746584201.jpg"/>
          <p:cNvPicPr/>
          <p:nvPr/>
        </p:nvPicPr>
        <p:blipFill>
          <a:blip r:embed="rId5"/>
          <a:stretch/>
        </p:blipFill>
        <p:spPr>
          <a:xfrm>
            <a:off x="992160" y="1700280"/>
            <a:ext cx="7714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Алгоритм монтаж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9ca1a"/>
            </a:solidFill>
            <a:beve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Очистка поверхні (видалення старого покриття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анесення протигрибкового покритт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Монтаж включає такі етапи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1.Розмітка поверхні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2. Улаштування обрешітк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3. Укладання  та кріплення МДФ панелей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4. Установка завершальних пласти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озмітка поверхні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16000" y="2060640"/>
            <a:ext cx="3973680" cy="360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 fontScale="87000"/>
          </a:bodyPr>
          <a:p>
            <a:pPr marL="238680" indent="-238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За допомогою  рулетки через кожні 50 см будівельним олівцем проводимо розмітку місць для кріплення каркасу, в якості якого використовують рейки 20х40 мм. Не забудьте розмітити місця для додаткових рейок біля вікна і дверей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8680" indent="-238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 Улаштування обреші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1557000"/>
            <a:ext cx="7128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Починаємо  кріпити рейки до  стіни за допомогою  саморізів чи дюбелів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Закріпляємо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горизонтально верхній і нижній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бруски каркасу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Між ними натягаємо нитку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Кріпимо решту горизонтальних  рейок відповідно до розмітки, так щоб вони ледь торкалися нитки.Завдяки нитці бруски будуть знаходитися на одній площині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onstantia"/>
              </a:rPr>
              <a:t>Перевіряємо чи закріплені рейки  строго горизонтально, вертикально за допомогою  виска і рівня.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2" name="Рисунок 4" descr="http://stroitelnye-sovety.ru/img.php?url=http://cs7001.vk.me/c540107/v540107683/10aef/EvqDhVR2w-g.jpg"/>
          <p:cNvPicPr/>
          <p:nvPr/>
        </p:nvPicPr>
        <p:blipFill>
          <a:blip r:embed="rId2"/>
          <a:srcRect l="34105" t="6991" r="33114" b="47324"/>
          <a:stretch/>
        </p:blipFill>
        <p:spPr>
          <a:xfrm>
            <a:off x="6156360" y="1917720"/>
            <a:ext cx="1886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696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Улаштування обрешіт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Объект 3" descr="C:\Users\Администратор\Desktop\мама\ustanovka-pervoi-planki.jpg"/>
          <p:cNvPicPr/>
          <p:nvPr/>
        </p:nvPicPr>
        <p:blipFill>
          <a:blip r:embed="rId2"/>
          <a:stretch/>
        </p:blipFill>
        <p:spPr>
          <a:xfrm>
            <a:off x="900000" y="1413000"/>
            <a:ext cx="7272360" cy="4895640"/>
          </a:xfrm>
          <a:prstGeom prst="rect">
            <a:avLst/>
          </a:prstGeom>
          <a:ln w="9360">
            <a:solidFill>
              <a:srgbClr val="000000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261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e5201"/>
                </a:solidFill>
                <a:latin typeface="Constantia"/>
              </a:rPr>
              <a:t>На уроці формуємо життєві </a:t>
            </a:r>
            <a:br>
              <a:rPr sz="4000"/>
            </a:br>
            <a:r>
              <a:rPr b="1" lang="en-US" sz="4000" spc="-1" strike="noStrike">
                <a:solidFill>
                  <a:srgbClr val="8e5201"/>
                </a:solidFill>
                <a:latin typeface="Constantia"/>
              </a:rPr>
              <a:t>компетентності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00000" y="1917720"/>
            <a:ext cx="7467840" cy="4248000"/>
          </a:xfrm>
          <a:prstGeom prst="rect">
            <a:avLst/>
          </a:prstGeom>
          <a:solidFill>
            <a:srgbClr val="ffebd2"/>
          </a:solid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Навчальні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формування поняття про стінові панелі, МДФ вагонку, обрешітку, кріпильні пристосування - клямери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Розвивальні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розвиток вміння складати алгоритм влаштування стінової панелі із МДФ плит і аналізувати інформацію 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розвиток вміння самостійно приймати рішення у виборі вагонки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розвиток комунікативної компетентності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66840" indent="54756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розвиток навичок підрахунку необхідної кількості МДФ панелей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66840" indent="54756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розвиток поняття про екологію здоров’я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Виховні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виховання свідомого ставлення до обраної професії – столяр будівельний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66840" indent="54756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виховання свідомого розуміння зв’язку між технологією влаштування МДФ вагонки і комфортом у кімнаті, якістю виконаних робіт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66840" indent="54756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забезпечення умов для професійного</a:t>
            </a: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самовизначення</a:t>
            </a: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. Укладання МДФ панелей та їх кріпле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63400" y="2119320"/>
            <a:ext cx="6195960" cy="3806640"/>
          </a:xfrm>
          <a:prstGeom prst="rect">
            <a:avLst/>
          </a:prstGeom>
          <a:solidFill>
            <a:srgbClr val="ffffff"/>
          </a:solid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починається з кріплення першої панелі строго по рівню в одному із кутів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7" name="Рисунок 5" descr="http://stroitelnye-sovety.ru/img.php?url=http://cs7001.vk.me/c540107/v540107683/10aef/EvqDhVR2w-g.jpg"/>
          <p:cNvPicPr/>
          <p:nvPr/>
        </p:nvPicPr>
        <p:blipFill>
          <a:blip r:embed="rId2"/>
          <a:srcRect l="66393" t="6059" r="0" b="48024"/>
          <a:stretch/>
        </p:blipFill>
        <p:spPr>
          <a:xfrm>
            <a:off x="2556000" y="2924280"/>
            <a:ext cx="40320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. Укладання МДФ панелей та їх кріпле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82560" y="2060640"/>
            <a:ext cx="3816360" cy="36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71685c"/>
            </a:solidFill>
            <a:beve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Фіксація відбувається за допомогою  кляймерів, закріплених як мінімум в 4 місцях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Якщо ширина панелі більше 20см, рекомендується використовувати будівельні скоб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0" name="Рисунок 4" descr="http://yavvannoy.ru/wp-content/uploads/paneli-mdf-dlya-vannoj-komnaty-4.jpg"/>
          <p:cNvPicPr/>
          <p:nvPr/>
        </p:nvPicPr>
        <p:blipFill>
          <a:blip r:embed="rId2"/>
          <a:stretch/>
        </p:blipFill>
        <p:spPr>
          <a:xfrm>
            <a:off x="900000" y="1989000"/>
            <a:ext cx="3002040" cy="30020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Кляймеры"/>
          <p:cNvPicPr/>
          <p:nvPr/>
        </p:nvPicPr>
        <p:blipFill>
          <a:blip r:embed="rId3"/>
          <a:stretch/>
        </p:blipFill>
        <p:spPr>
          <a:xfrm>
            <a:off x="1547640" y="4594320"/>
            <a:ext cx="1705320" cy="1079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Администратор\Desktop\мама\3dbe13dbf8894b9b9d4fe8d2a3e508de.jpg"/>
          <p:cNvPicPr/>
          <p:nvPr/>
        </p:nvPicPr>
        <p:blipFill>
          <a:blip r:embed="rId4"/>
          <a:stretch/>
        </p:blipFill>
        <p:spPr>
          <a:xfrm>
            <a:off x="4861080" y="5300640"/>
            <a:ext cx="25984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Елементи кріплення МДФ вагон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2" descr="C:\Users\Администратор\Desktop\мама\fiksatsiya-doski-klyaymerami-300x225.jpg"/>
          <p:cNvPicPr/>
          <p:nvPr/>
        </p:nvPicPr>
        <p:blipFill>
          <a:blip r:embed="rId2"/>
          <a:stretch/>
        </p:blipFill>
        <p:spPr>
          <a:xfrm>
            <a:off x="1835280" y="1989000"/>
            <a:ext cx="547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. Укладання МДФ панелей та їх кріпле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15640" y="5084280"/>
            <a:ext cx="698508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71685c"/>
            </a:solidFill>
            <a:bevel/>
          </a:ln>
        </p:spPr>
        <p:txBody>
          <a:bodyPr lIns="90000" rIns="90000" tIns="46800" bIns="46800" anchor="t">
            <a:normAutofit fontScale="90000"/>
          </a:bodyPr>
          <a:p>
            <a:pPr marL="246960" indent="-24696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Наступна  панель кріпиться до першої і  так далі, при цьому  гребінь нової  чітко повинен  входити в паз попередньої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97" name="Picture 2" descr="C:\Users\Администратор\Desktop\мама\27e1613127ff8712556b8ee645543406.jpg"/>
          <p:cNvPicPr/>
          <p:nvPr/>
        </p:nvPicPr>
        <p:blipFill>
          <a:blip r:embed="rId2"/>
          <a:stretch/>
        </p:blipFill>
        <p:spPr>
          <a:xfrm>
            <a:off x="4788000" y="2637000"/>
            <a:ext cx="3308400" cy="23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Users\Администратор\Desktop\мама\Montazh-mdf-panelej.jpg"/>
          <p:cNvPicPr/>
          <p:nvPr/>
        </p:nvPicPr>
        <p:blipFill>
          <a:blip r:embed="rId3"/>
          <a:stretch/>
        </p:blipFill>
        <p:spPr>
          <a:xfrm>
            <a:off x="1403280" y="2060640"/>
            <a:ext cx="305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4. Установка завершальних пласти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blipFill rotWithShape="0">
            <a:blip r:embed="rId2"/>
            <a:stretch/>
          </a:blipFill>
          <a:ln w="15840">
            <a:solidFill>
              <a:srgbClr val="eb5605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Для придання обшивці завершеного вигляду зовнішні і внутрішні кутові стики  закриваються 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універсальним кутником.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Також можна використовувати інші елементи декору: </a:t>
            </a:r>
            <a:r>
              <a:rPr b="0" i="1" lang="en-US" sz="2400" spc="-1" strike="noStrike">
                <a:solidFill>
                  <a:srgbClr val="002060"/>
                </a:solidFill>
                <a:latin typeface="Franklin Gothic Book"/>
              </a:rPr>
              <a:t>галтель, цокольна планка, плінтуси ін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1" name="Picture 2" descr="C:\Users\Администратор\Desktop\мама\vagonka_mdf_03.jpg"/>
          <p:cNvPicPr/>
          <p:nvPr/>
        </p:nvPicPr>
        <p:blipFill>
          <a:blip r:embed="rId3"/>
          <a:stretch/>
        </p:blipFill>
        <p:spPr>
          <a:xfrm>
            <a:off x="3780000" y="4508640"/>
            <a:ext cx="3682800" cy="2070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онструктивні елемен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Объект 3" descr="Цвета мдф панелей"/>
          <p:cNvPicPr/>
          <p:nvPr/>
        </p:nvPicPr>
        <p:blipFill>
          <a:blip r:embed="rId2"/>
          <a:stretch/>
        </p:blipFill>
        <p:spPr>
          <a:xfrm>
            <a:off x="1763640" y="191772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Практику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blipFill rotWithShape="0">
            <a:blip r:embed="rId2"/>
            <a:stretch/>
          </a:blipFill>
          <a:ln w="1584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а основі проведених консультацій запишіть алгоритм підрахунку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кількості МДФ вагонк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иконайте розрахунки, якщо розміри кімнати 5х8х2,6 м. МДФ вагонка 198 мм на 2600 мм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агонка влаштована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І –варіант-горизонтально;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ІІ-варіант –вертикально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06" name="Picture 3" descr="C:\Users\Администратор\Desktop\мама\vagonka_mdf_02.jpg"/>
          <p:cNvPicPr/>
          <p:nvPr/>
        </p:nvPicPr>
        <p:blipFill>
          <a:blip r:embed="rId3"/>
          <a:stretch/>
        </p:blipFill>
        <p:spPr>
          <a:xfrm>
            <a:off x="5632560" y="4076640"/>
            <a:ext cx="2232000" cy="17859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07" name="Picture 2" descr="C:\Users\Администратор\Desktop\мама\dsc_60.jpg"/>
          <p:cNvPicPr/>
          <p:nvPr/>
        </p:nvPicPr>
        <p:blipFill>
          <a:blip r:embed="rId4"/>
          <a:stretch/>
        </p:blipFill>
        <p:spPr>
          <a:xfrm>
            <a:off x="6834240" y="1557360"/>
            <a:ext cx="2100240" cy="14079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Рефлексі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solidFill>
            <a:srgbClr val="eaf299"/>
          </a:solidFill>
          <a:ln w="1584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«Я, як столяр будівельний, тепер знаю, що…»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треба вчитися робити підрахунки необхідної кількості матеріалів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агонка МДФ – чудовий матеріал для внутрішнього  облицювання  приміщень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МДФ вагонка має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багато переваг, що дає змогу використовувати її в різних випадках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монтаж може бути виконаний своїми руками, це здешевлює роботу і економить гроші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легкий монтаж і демонтаж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багато знати—престижно!!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0" name="Picture 2" descr="C:\Users\Администратор\Desktop\мама\18 (1).jpg"/>
          <p:cNvPicPr/>
          <p:nvPr/>
        </p:nvPicPr>
        <p:blipFill>
          <a:blip r:embed="rId2"/>
          <a:stretch/>
        </p:blipFill>
        <p:spPr>
          <a:xfrm>
            <a:off x="6516720" y="4869000"/>
            <a:ext cx="1628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solidFill>
            <a:srgbClr val="eaf299"/>
          </a:solidFill>
          <a:ln w="1584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Спробуйте створити рекламу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(телевізійну, друковану, радіо рекламу)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даного матеріалу і виду робіт так, щоб вам повірили і побажали купити, зробити!!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Післямова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55640" y="1557360"/>
            <a:ext cx="7561440" cy="4680000"/>
          </a:xfrm>
          <a:prstGeom prst="rect">
            <a:avLst/>
          </a:prstGeom>
          <a:blipFill rotWithShape="0">
            <a:blip r:embed="rId2"/>
            <a:stretch/>
          </a:blipFill>
          <a:ln w="1584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Хочеться сподіватися, що сучасна людина, незважаючи на високий ритм і складність життя, буде приділяти комфорту житла  достатньо уваг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ісля сьогоднішнього уроку, ваша оселя буде не тільки  просто іншою, а і оригінальною, красивою, затишною, дешевою і практичною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Хочеться жити в будинку, наповненому теплом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У такій ситуації варто звернути увагу на такий матеріал, як вагонка МД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важаю, що спеціалісти фірми, що займається монтажем МДФ панелей надали сьогодні професійні консультації , які допоможуть вам вирішити ці проблем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ірю, що після таких консультацій ви зможете провести монтаж панелей самостійно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Фантазуйте, творіть, працюйте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ІРЮ, У ВАС ЦЕ ВИЙДЕ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5" name="Picture 2" descr="C:\Users\Администратор\Desktop\мама\картинки дерева\images (6).jpg"/>
          <p:cNvPicPr/>
          <p:nvPr/>
        </p:nvPicPr>
        <p:blipFill>
          <a:blip r:embed="rId3"/>
          <a:stretch/>
        </p:blipFill>
        <p:spPr>
          <a:xfrm>
            <a:off x="6877080" y="537372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5201"/>
                </a:solidFill>
                <a:latin typeface="Constantia"/>
              </a:rPr>
              <a:t>Девіз уроку: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71685c"/>
            </a:solidFill>
            <a:beve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d69af"/>
                </a:solidFill>
                <a:latin typeface="Constantia"/>
              </a:rPr>
              <a:t>«Думати – найважча робота; ось, мабуть, чому цим займаються  декотрі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69af"/>
                </a:solidFill>
                <a:latin typeface="Franklin Gothic Book"/>
              </a:rPr>
              <a:t> </a:t>
            </a:r>
            <a:r>
              <a:rPr b="0" lang="en-US" sz="4400" spc="-1" strike="noStrike">
                <a:solidFill>
                  <a:srgbClr val="4d69af"/>
                </a:solidFill>
                <a:latin typeface="Franklin Gothic Book"/>
              </a:rPr>
              <a:t>Г.Форд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Зацікавилися? 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Constantia"/>
              </a:rPr>
              <a:t>Тоді вперед по Інтернет - ресурсам!!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71280" y="2707920"/>
            <a:ext cx="6195960" cy="23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ttp://www.uniproc.ru/mdf-pnl.ht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ttp://ogodom.ru/vagonka-mdf-montazh.htm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ttp://stroy-room.ru/article/50.htm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Picture 2" descr="C:\Users\Администратор\Desktop\мама\internet.png"/>
          <p:cNvPicPr/>
          <p:nvPr/>
        </p:nvPicPr>
        <p:blipFill>
          <a:blip r:embed="rId2"/>
          <a:stretch/>
        </p:blipFill>
        <p:spPr>
          <a:xfrm>
            <a:off x="5435640" y="4437000"/>
            <a:ext cx="2449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8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10"/>
          <p:cNvSpPr/>
          <p:nvPr/>
        </p:nvSpPr>
        <p:spPr>
          <a:xfrm rot="10800000">
            <a:off x="631440" y="6058080"/>
            <a:ext cx="772164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 rot="60000">
            <a:off x="4471560" y="603000"/>
            <a:ext cx="3789360" cy="572112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6278400" y="333000"/>
            <a:ext cx="566640" cy="567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 rot="21540000">
            <a:off x="1056600" y="1295280"/>
            <a:ext cx="306396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Консультація №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"/>
          <p:cNvSpPr txBox="1"/>
          <p:nvPr/>
        </p:nvSpPr>
        <p:spPr>
          <a:xfrm rot="60000">
            <a:off x="4854600" y="1150920"/>
            <a:ext cx="3021120" cy="4626000"/>
          </a:xfrm>
          <a:prstGeom prst="rect">
            <a:avLst/>
          </a:prstGeom>
          <a:solidFill>
            <a:srgbClr val="ffffff"/>
          </a:solidFill>
          <a:ln w="15840">
            <a:solidFill>
              <a:srgbClr val="64a73b"/>
            </a:solidFill>
            <a:bevel/>
          </a:ln>
        </p:spPr>
        <p:txBody>
          <a:bodyPr lIns="90000" rIns="90000" tIns="46800" bIns="46800" anchor="ctr">
            <a:normAutofit fontScale="92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Етикетка на упакуванні повинна містити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Перелік основних споживацьких властивостей товару, наявність шкідливих для здоров’я речовин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2b02"/>
                </a:solidFill>
                <a:latin typeface="Constantia"/>
              </a:rPr>
              <a:t>вартість і умови придбання товару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гарантійні обов’язки виробника товару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52b02"/>
                </a:solidFill>
                <a:latin typeface="Constantia"/>
              </a:rPr>
              <a:t>правила і умови безпечного користування товаром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адресу виробника і підприємства, уповноважених приймат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претензії від споживач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"/>
          <p:cNvSpPr txBox="1"/>
          <p:nvPr/>
        </p:nvSpPr>
        <p:spPr>
          <a:xfrm rot="21540000">
            <a:off x="1196640" y="3166200"/>
            <a:ext cx="304812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9360">
            <a:solidFill>
              <a:srgbClr val="64a73b"/>
            </a:solidFill>
            <a:beve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«Інформація про матеріал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9" name="Рисунок 4" descr="C:\Users\Администратор\Desktop\мама\картинки дерева\Animation9.gif"/>
          <p:cNvPicPr/>
          <p:nvPr/>
        </p:nvPicPr>
        <p:blipFill>
          <a:blip r:embed="rId9"/>
          <a:stretch/>
        </p:blipFill>
        <p:spPr>
          <a:xfrm rot="21364200">
            <a:off x="2018880" y="1428840"/>
            <a:ext cx="107316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10"/>
          <a:stretch/>
        </p:blipFill>
        <p:spPr>
          <a:xfrm>
            <a:off x="2351160" y="4653000"/>
            <a:ext cx="7682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орад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da023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Купуючи матеріал переконайтеся, що вагонка МДФ, рейки для обрешітки і всі кріпильні елементи доставлені в необхідній кількості, не пошкоджені упакування чи панелі (подряпини, сколи, тріщини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3" name="Picture 2" descr="C:\Users\Администратор\Desktop\мама\картинки дерева\ist2_3922977-writing-pencil.jpg"/>
          <p:cNvPicPr/>
          <p:nvPr/>
        </p:nvPicPr>
        <p:blipFill>
          <a:blip r:embed="rId2"/>
          <a:stretch/>
        </p:blipFill>
        <p:spPr>
          <a:xfrm>
            <a:off x="1763640" y="981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8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30"/>
          <p:cNvSpPr/>
          <p:nvPr/>
        </p:nvSpPr>
        <p:spPr>
          <a:xfrm rot="10800000">
            <a:off x="631440" y="6058080"/>
            <a:ext cx="772164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6278400" y="333000"/>
            <a:ext cx="566640" cy="567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21540000">
            <a:off x="1056960" y="1771200"/>
            <a:ext cx="306396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Що таке МДФ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"/>
          <p:cNvSpPr txBox="1"/>
          <p:nvPr/>
        </p:nvSpPr>
        <p:spPr>
          <a:xfrm rot="21540000">
            <a:off x="1146240" y="2131920"/>
            <a:ext cx="3044880" cy="3965760"/>
          </a:xfrm>
          <a:prstGeom prst="rect">
            <a:avLst/>
          </a:prstGeom>
          <a:solidFill>
            <a:srgbClr val="ffffff"/>
          </a:solidFill>
          <a:ln w="15840">
            <a:solidFill>
              <a:srgbClr val="b9ca1a"/>
            </a:solidFill>
            <a:prstDash val="dash"/>
            <a:beve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nstantia"/>
              </a:rPr>
              <a:t>МДФ</a:t>
            </a:r>
            <a:r>
              <a:rPr b="0" lang="zh-CN" sz="1600" spc="-1" strike="noStrike">
                <a:solidFill>
                  <a:srgbClr val="000000"/>
                </a:solidFill>
                <a:latin typeface="Constantia"/>
              </a:rPr>
              <a:t> – скорочення англійських слів, які розшифровуються як середньої щільності 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) </a:t>
            </a:r>
            <a:r>
              <a:rPr b="0" lang="zh-CN" sz="1600" spc="-1" strike="noStrike">
                <a:solidFill>
                  <a:srgbClr val="000000"/>
                </a:solidFill>
                <a:latin typeface="Constantia"/>
              </a:rPr>
              <a:t>волокнисте 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) </a:t>
            </a:r>
            <a:r>
              <a:rPr b="0" lang="zh-CN" sz="1600" spc="-1" strike="noStrike">
                <a:solidFill>
                  <a:srgbClr val="000000"/>
                </a:solidFill>
                <a:latin typeface="Constantia"/>
              </a:rPr>
              <a:t>покриття 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i="1" lang="zh-CN" sz="1600" spc="-1" strike="noStrike">
                <a:solidFill>
                  <a:srgbClr val="002060"/>
                </a:solidFill>
                <a:latin typeface="Constantia"/>
              </a:rPr>
              <a:t>Така вагонка надійна і практична, відповідає всім сучасним  стандартам якості, так як виготовляється  по новітніх технологіях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6" name="Рисунок 4" descr="Фото: разновидности цветов"/>
          <p:cNvPicPr/>
          <p:nvPr/>
        </p:nvPicPr>
        <p:blipFill>
          <a:blip r:embed="rId9"/>
          <a:srcRect l="31721" t="0" r="31721" b="0"/>
          <a:stretch/>
        </p:blipFill>
        <p:spPr>
          <a:xfrm rot="21446400">
            <a:off x="2070000" y="5078160"/>
            <a:ext cx="1644840" cy="893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4861080" y="1123920"/>
            <a:ext cx="3024000" cy="4995720"/>
          </a:xfrm>
          <a:prstGeom prst="rect">
            <a:avLst/>
          </a:prstGeom>
          <a:solidFill>
            <a:srgbClr val="ffffff"/>
          </a:solidFill>
          <a:ln w="15840">
            <a:solidFill>
              <a:srgbClr val="aa2b1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виготовляється під дією  сухого пресування деревної стружки, яка склеюється з лігніном(клеюча речовин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2060"/>
                </a:solidFill>
                <a:latin typeface="Constantia"/>
              </a:rPr>
              <a:t>лігнін  виділяється із деревини під дією високої температури і ніяких других домішок чи смол, що здатні  нанести шкоду   здоров'ю людини, в процесі виготовлення панелей МДФ не використовує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екологічно чистий  матері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МДФ панелі  є 2 вид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- плоск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- рельєф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По розміру панелі ділять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вагон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квадратні плиточні набір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Constantia"/>
              </a:rPr>
              <a:t>великі листов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0"/>
          <a:stretch/>
        </p:blipFill>
        <p:spPr>
          <a:xfrm>
            <a:off x="2411280" y="822240"/>
            <a:ext cx="701640" cy="561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11"/>
          <a:stretch/>
        </p:blipFill>
        <p:spPr>
          <a:xfrm>
            <a:off x="1042920" y="836640"/>
            <a:ext cx="3090960" cy="109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12"/>
          <a:stretch/>
        </p:blipFill>
        <p:spPr>
          <a:xfrm>
            <a:off x="4187880" y="804960"/>
            <a:ext cx="7682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Users\Администратор\Desktop\мама\Панели-из-МДФ-4.jpg"/>
          <p:cNvPicPr/>
          <p:nvPr/>
        </p:nvPicPr>
        <p:blipFill>
          <a:blip r:embed="rId2"/>
          <a:stretch/>
        </p:blipFill>
        <p:spPr>
          <a:xfrm>
            <a:off x="2987640" y="1628640"/>
            <a:ext cx="316872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риклади оздобленн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C:\Users\Администратор\Desktop\мама\5dfe1309b2.jpg"/>
          <p:cNvPicPr/>
          <p:nvPr/>
        </p:nvPicPr>
        <p:blipFill>
          <a:blip r:embed="rId3"/>
          <a:stretch/>
        </p:blipFill>
        <p:spPr>
          <a:xfrm>
            <a:off x="1041480" y="2492280"/>
            <a:ext cx="220176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Администратор\Desktop\мама\vagonka_mdf_01.jpg"/>
          <p:cNvPicPr/>
          <p:nvPr/>
        </p:nvPicPr>
        <p:blipFill>
          <a:blip r:embed="rId4"/>
          <a:stretch/>
        </p:blipFill>
        <p:spPr>
          <a:xfrm>
            <a:off x="5364000" y="3789360"/>
            <a:ext cx="2722680" cy="20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Администратор\Desktop\мама\vagonka_mdf_02.jpg"/>
          <p:cNvPicPr/>
          <p:nvPr/>
        </p:nvPicPr>
        <p:blipFill>
          <a:blip r:embed="rId5"/>
          <a:stretch/>
        </p:blipFill>
        <p:spPr>
          <a:xfrm>
            <a:off x="2266920" y="4221000"/>
            <a:ext cx="24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Администратор\Desktop\мама\vagonka_mdf_03.jpg"/>
          <p:cNvPicPr/>
          <p:nvPr/>
        </p:nvPicPr>
        <p:blipFill>
          <a:blip r:embed="rId6"/>
          <a:stretch/>
        </p:blipFill>
        <p:spPr>
          <a:xfrm>
            <a:off x="6345360" y="1989000"/>
            <a:ext cx="1755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обливості МДФ вагон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8520" y="2120760"/>
            <a:ext cx="6586560" cy="360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4a73b"/>
            </a:solidFill>
            <a:beve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легкий монтаж і демонтаж </a:t>
            </a:r>
            <a:r>
              <a:rPr b="0" i="1" lang="en-US" sz="2800" spc="-1" strike="noStrike">
                <a:solidFill>
                  <a:srgbClr val="002060"/>
                </a:solidFill>
                <a:latin typeface="Constantia"/>
              </a:rPr>
              <a:t>( що дає можливість використовувати панелі більше одного разу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цей  натуральний матеріал має  широкий колірний ряд </a:t>
            </a:r>
            <a:r>
              <a:rPr b="0" i="1" lang="en-US" sz="2800" spc="-1" strike="noStrike">
                <a:solidFill>
                  <a:srgbClr val="002060"/>
                </a:solidFill>
                <a:latin typeface="Constantia"/>
              </a:rPr>
              <a:t>( різні однотонні відтінки, під цінні породи деревини, камінь і т.д.)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680" indent="-274680">
              <a:lnSpc>
                <a:spcPct val="10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0" name="Rectangle 8"/>
            <p:cNvSpPr/>
            <p:nvPr/>
          </p:nvSpPr>
          <p:spPr>
            <a:xfrm>
              <a:off x="0" y="0"/>
              <a:ext cx="71629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143000" y="0"/>
              <a:ext cx="8001000" cy="685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Freeform 10"/>
          <p:cNvSpPr/>
          <p:nvPr/>
        </p:nvSpPr>
        <p:spPr>
          <a:xfrm rot="10800000">
            <a:off x="631440" y="6058080"/>
            <a:ext cx="7721640" cy="5364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 rot="60000">
            <a:off x="4471560" y="603000"/>
            <a:ext cx="3789360" cy="572112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6278400" y="333000"/>
            <a:ext cx="566640" cy="5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21540000">
            <a:off x="1103040" y="2018880"/>
            <a:ext cx="306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нсультація №3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"/>
          <p:cNvSpPr txBox="1"/>
          <p:nvPr/>
        </p:nvSpPr>
        <p:spPr>
          <a:xfrm rot="60000">
            <a:off x="4618800" y="763200"/>
            <a:ext cx="3529080" cy="5421240"/>
          </a:xfrm>
          <a:prstGeom prst="rect">
            <a:avLst/>
          </a:prstGeom>
          <a:blipFill rotWithShape="0">
            <a:blip r:embed="rId9"/>
            <a:stretch/>
          </a:blipFill>
          <a:ln w="15840">
            <a:solidFill>
              <a:srgbClr val="fda023"/>
            </a:solidFill>
            <a:bevel/>
          </a:ln>
        </p:spPr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nstantia"/>
              </a:rPr>
              <a:t>ПЕРЕВАГИ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довговічність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зовнішня привабливість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Екологічність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естетичність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простота і доступність монтажу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безліч дизайнерських рішень по комбінуванню варіантів укладки (вертикаль, горизонталь, діагональ, мозаїка)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nstantia"/>
              </a:rPr>
              <a:t>багато відтінків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хороша  звукоізоляція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світлостійкість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хороші теплоізоляційні властивості;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простота догляду і відсутність ускладнень при подальшому використанні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"/>
          <p:cNvSpPr txBox="1"/>
          <p:nvPr/>
        </p:nvSpPr>
        <p:spPr>
          <a:xfrm rot="21540000">
            <a:off x="1142640" y="2996640"/>
            <a:ext cx="3048120" cy="27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60000"/>
          </a:gradFill>
          <a:ln w="9360">
            <a:solidFill>
              <a:srgbClr val="aa2b1e"/>
            </a:solidFill>
            <a:bevel/>
          </a:ln>
        </p:spPr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«Переваги і недоліки вагонки із МДФ»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НЕДОЛІКИ: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- відносно  невелика міцність;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- невисока вологостійкість;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низька пожежна безпека, все-таки це дерево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0"/>
          <a:stretch/>
        </p:blipFill>
        <p:spPr>
          <a:xfrm>
            <a:off x="1979640" y="1197000"/>
            <a:ext cx="1133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3T14:01:00Z</dcterms:created>
  <dc:creator>Администратор</dc:creator>
  <dc:description/>
  <dc:language>en-US</dc:language>
  <cp:lastModifiedBy>DNA7 X64</cp:lastModifiedBy>
  <dcterms:modified xsi:type="dcterms:W3CDTF">2017-02-01T09:17:32Z</dcterms:modified>
  <cp:revision>74</cp:revision>
  <dc:subject/>
  <dc:title>Монтаж вагонки із МД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759</vt:lpwstr>
  </property>
</Properties>
</file>