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9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32.png" ContentType="image/png"/>
  <Override PartName="/ppt/media/image8.gif" ContentType="image/gif"/>
  <Override PartName="/ppt/media/image11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C4D2-38B0-4289-AC7B-B893E80AA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887A-2DDD-45AC-BF28-FAEC2210D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46F-6920-46A3-B840-47FB71CD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D88-FDCD-45C4-AD6B-6BCBF60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449-7575-4E3B-9385-1B3F4FCE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3B6-CD58-4272-A58A-A45D4FDB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691D-681F-4076-86FC-59AF6C7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91A-84FC-4975-8F62-21925E59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D62-87D7-434D-89C2-3585E6D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C3E-E96B-460E-9990-C1CFD6E5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6CF-7932-4559-A858-9C21F559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698-EB57-459A-A685-A7DCA4A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18E-6127-4C53-A928-0EE47A9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59F-FCA0-4EA4-9B5E-6F1F1A2C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D487-E9E4-4C16-81D7-0D597FE181B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757B-FADE-44EC-8F7F-66DB35A347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600" y="713880"/>
            <a:ext cx="28573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e181c"/>
                </a:solidFill>
                <a:latin typeface="Calibri"/>
              </a:rPr>
              <a:t>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42760" y="571320"/>
            <a:ext cx="5643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Успіх, ува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Робота, раді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Організованість, обдаровані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alibri"/>
              </a:rPr>
              <a:t>Кмітливість, колективі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6"/>
          <p:cNvSpPr/>
          <p:nvPr/>
        </p:nvSpPr>
        <p:spPr>
          <a:xfrm>
            <a:off x="2000160" y="785880"/>
            <a:ext cx="46080" cy="35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:\Documents and Settings\Aida\Рабочий стол\ТЕКСТУРЫ и фоны, клипарты\numero.jpg"/>
          <p:cNvPicPr/>
          <p:nvPr/>
        </p:nvPicPr>
        <p:blipFill>
          <a:blip r:embed="rId1"/>
          <a:stretch/>
        </p:blipFill>
        <p:spPr>
          <a:xfrm>
            <a:off x="6500880" y="357120"/>
            <a:ext cx="1571400" cy="1517760"/>
          </a:xfrm>
          <a:prstGeom prst="rect">
            <a:avLst/>
          </a:prstGeom>
          <a:ln w="0">
            <a:noFill/>
          </a:ln>
        </p:spPr>
      </p:pic>
      <p:sp>
        <p:nvSpPr>
          <p:cNvPr id="52" name="Содержимое 2"/>
          <p:cNvSpPr/>
          <p:nvPr/>
        </p:nvSpPr>
        <p:spPr>
          <a:xfrm>
            <a:off x="214200" y="4643280"/>
            <a:ext cx="7215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.. Математика – справа аж ніяк не тільки розуму, але також і фантазії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 Кле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E:\Наташа\Презентаци и\Klein.jpeg"/>
          <p:cNvPicPr/>
          <p:nvPr/>
        </p:nvPicPr>
        <p:blipFill>
          <a:blip r:embed="rId2"/>
          <a:stretch/>
        </p:blipFill>
        <p:spPr>
          <a:xfrm>
            <a:off x="6786720" y="4071960"/>
            <a:ext cx="1928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Самостійно № 1013 (д,є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600200"/>
            <a:ext cx="435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) - 80,81 + (-7,32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)  -     +(-2     )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29040" y="1571760"/>
            <a:ext cx="48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(80,81 + 7,32) = - 88,1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- (      +       ) = - 2     = -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97D-6611-4A69-8446-73B31B642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285840" cy="714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2286000" y="2714760"/>
            <a:ext cx="285840" cy="7221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2714760"/>
            <a:ext cx="285480" cy="741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5214960" y="2714760"/>
            <a:ext cx="50004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5"/>
          <a:stretch/>
        </p:blipFill>
        <p:spPr>
          <a:xfrm>
            <a:off x="6786720" y="2714760"/>
            <a:ext cx="285480" cy="676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0" y="3786120"/>
            <a:ext cx="2500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480" y="1356840"/>
            <a:ext cx="40719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 день – на (-9)с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І день – на (-8) 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ІІІ день – на (-6,5)с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85760" y="642960"/>
            <a:ext cx="36147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alibri"/>
              </a:rPr>
              <a:t>} ? с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8EAC-9EF7-4869-B96A-A36012C5C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3286080" y="343332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-9 + (-8) +(-6,5)= -(9+8+6,5)= -23,5 (см) змінився рівень води за три дн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ь: -23,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008"/>
          <p:cNvPicPr/>
          <p:nvPr/>
        </p:nvPicPr>
        <p:blipFill>
          <a:blip r:embed="rId1"/>
          <a:stretch/>
        </p:blipFill>
        <p:spPr>
          <a:xfrm>
            <a:off x="6858000" y="500040"/>
            <a:ext cx="1752480" cy="132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E:\Наташа\Презентаци и\Asd242.jpg"/>
          <p:cNvPicPr/>
          <p:nvPr/>
        </p:nvPicPr>
        <p:blipFill>
          <a:blip r:embed="rId2"/>
          <a:stretch/>
        </p:blipFill>
        <p:spPr>
          <a:xfrm>
            <a:off x="0" y="3286080"/>
            <a:ext cx="3213000" cy="31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E:\Наташа\Презентаци и\2724887150_cb06193285_o.jpg"/>
          <p:cNvPicPr/>
          <p:nvPr/>
        </p:nvPicPr>
        <p:blipFill>
          <a:blip r:embed="rId3"/>
          <a:stretch/>
        </p:blipFill>
        <p:spPr>
          <a:xfrm>
            <a:off x="6357960" y="4714920"/>
            <a:ext cx="2077920" cy="164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alibri"/>
              </a:rPr>
              <a:t>Гра «Вірю – не вірю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2855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 Чи вірите ви,що число -9 натураль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 Чи вірите ви,що число -9 менше нул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 Чи вірите ви,що число π раціональ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 Чи вірите ви,що сума від’ємних чисел завжди від’ємн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. Чи вірите ви,що сума чисел  -2    та -4     дорівнює  -6   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5572080" y="3714840"/>
            <a:ext cx="152280" cy="6192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572160" y="3714840"/>
            <a:ext cx="21456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223920" cy="61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H:\Documents and Settings\Aida\Рабочий стол\НОвая ГРАФИКА сборник\1111111111111\image3171.gif"/>
          <p:cNvPicPr/>
          <p:nvPr/>
        </p:nvPicPr>
        <p:blipFill>
          <a:blip r:embed="rId4"/>
          <a:stretch/>
        </p:blipFill>
        <p:spPr>
          <a:xfrm rot="1030200">
            <a:off x="145800" y="4857480"/>
            <a:ext cx="1143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На уроці ми досягли успіху завдяки: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У – уваз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Р – робот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О – організованості</a:t>
            </a:r>
            <a:br>
              <a:rPr sz="2800"/>
            </a:br>
            <a:r>
              <a:rPr b="1" i="1" lang="uk-UA" sz="2800" spc="-1" strike="noStrike">
                <a:solidFill>
                  <a:srgbClr val="7030a0"/>
                </a:solidFill>
                <a:latin typeface="Calibri"/>
              </a:rPr>
              <a:t>К - кмітлив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Calibri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. 34, с.183 вивчити правил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014, 1018, 1023, 10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5258-A8EC-4C9A-9E3E-86F99B47D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182"/>
          <p:cNvPicPr/>
          <p:nvPr/>
        </p:nvPicPr>
        <p:blipFill>
          <a:blip r:embed="rId1"/>
          <a:stretch/>
        </p:blipFill>
        <p:spPr>
          <a:xfrm>
            <a:off x="6929280" y="4786200"/>
            <a:ext cx="13716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be181c"/>
                </a:solidFill>
                <a:latin typeface="Calibri"/>
              </a:rPr>
              <a:t>Усне опитуванн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вивчаєм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ємо протилежн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ємо ціл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числа називаються раціональни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айте визначення моду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ому дорівнює модуль додатного числа, від’ємного числа, нул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е число більше: додатне чи від’єм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е із двох від’ємних чисел бі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H:\Documents and Settings\Aida\Рабочий стол\ff962c65118d.png"/>
          <p:cNvPicPr/>
          <p:nvPr/>
        </p:nvPicPr>
        <p:blipFill>
          <a:blip r:embed="rId1"/>
          <a:stretch/>
        </p:blipFill>
        <p:spPr>
          <a:xfrm>
            <a:off x="7429680" y="571680"/>
            <a:ext cx="15714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be181c"/>
                </a:solidFill>
                <a:latin typeface="Calibri"/>
              </a:rPr>
              <a:t>Усний рахуно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142640"/>
            <a:ext cx="80722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найдіть серед чисел:  863;  6,7;  -308;  12     ; 16;  0;  -34;  -7,2 ;  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) натураль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) ціл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) цілі від’ємні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) дробові додат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41A-4A5A-4D01-AD04-96A73C888B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198D-F858-4B76-BE05-3A1A0DF8AF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3" descr=""/>
          <p:cNvPicPr/>
          <p:nvPr/>
        </p:nvPicPr>
        <p:blipFill>
          <a:blip r:embed="rId1"/>
          <a:stretch/>
        </p:blipFill>
        <p:spPr>
          <a:xfrm>
            <a:off x="3786120" y="1643040"/>
            <a:ext cx="285840" cy="5842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5" descr=""/>
          <p:cNvPicPr/>
          <p:nvPr/>
        </p:nvPicPr>
        <p:blipFill>
          <a:blip r:embed="rId2"/>
          <a:stretch/>
        </p:blipFill>
        <p:spPr>
          <a:xfrm>
            <a:off x="7715160" y="1143000"/>
            <a:ext cx="281160" cy="57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:\Documents and Settings\Aida\Рабочий стол\ff962c65118d.png"/>
          <p:cNvPicPr/>
          <p:nvPr/>
        </p:nvPicPr>
        <p:blipFill>
          <a:blip r:embed="rId3"/>
          <a:stretch/>
        </p:blipFill>
        <p:spPr>
          <a:xfrm>
            <a:off x="6643800" y="3714840"/>
            <a:ext cx="15714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760" y="85680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ому дорівнюють модулі чисел: 2,7; -3; -2,7; 5,03; 0; -1 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162F-B3F7-4A19-BCE0-91CA279B444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524D-5856-4818-8DFA-69E4F277AE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156960" cy="642960"/>
          </a:xfrm>
          <a:prstGeom prst="rect">
            <a:avLst/>
          </a:prstGeom>
          <a:ln w="0">
            <a:noFill/>
          </a:ln>
        </p:spPr>
      </p:pic>
      <p:sp>
        <p:nvSpPr>
          <p:cNvPr id="79" name="Подзаголовок 2"/>
          <p:cNvSpPr/>
          <p:nvPr/>
        </p:nvSpPr>
        <p:spPr>
          <a:xfrm>
            <a:off x="357120" y="2214720"/>
            <a:ext cx="850104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дорівнюють значення пропущених циф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,7 …&gt; 2,7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4,5,…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-2,7…&gt; -2,73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 0,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 2,7…&gt; - 2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*= 1,2,…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H:\Documents and Settings\Aida\Рабочий стол\НОвая ГРАФИКА сборник\1111111111111\image316.gif"/>
          <p:cNvPicPr/>
          <p:nvPr/>
        </p:nvPicPr>
        <p:blipFill>
          <a:blip r:embed="rId2"/>
          <a:stretch/>
        </p:blipFill>
        <p:spPr>
          <a:xfrm rot="1491600">
            <a:off x="7303680" y="4986000"/>
            <a:ext cx="11746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H:\Documents and Settings\Aida\Рабочий стол\МОИ шаблоны ЭКСПЕРИМЕНТы\collageB.jpg"/>
          <p:cNvPicPr/>
          <p:nvPr/>
        </p:nvPicPr>
        <p:blipFill>
          <a:blip r:embed="rId1"/>
          <a:stretch/>
        </p:blipFill>
        <p:spPr>
          <a:xfrm>
            <a:off x="9925200" y="2419200"/>
            <a:ext cx="2968560" cy="2159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678672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00"/>
                </a:solidFill>
                <a:latin typeface="Calibri"/>
              </a:rPr>
              <a:t>Додавання раціональних чисел з однаковими зна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400" y="2285640"/>
            <a:ext cx="80722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е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Сформувати уявлення про зміст дії додавання раціональних чисел; вивести правило додавання від’ємних чисел і виробити вміння застосовувати це правило для розв’язування вправ, що передбачають додавання від’ємних чис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Розвивати логічне мислення, математичні здібності, вміння правильно висловлювати дум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d0d0d"/>
                </a:solidFill>
                <a:latin typeface="Calibri"/>
              </a:rPr>
              <a:t>Виховувати любов до математики, увагу, точність при виконанні завдань, працелюбні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Documents and Settings\Aida\Рабочий стол\НОвая ГРАФИКА сборник\image.jpeg"/>
          <p:cNvPicPr/>
          <p:nvPr/>
        </p:nvPicPr>
        <p:blipFill>
          <a:blip r:embed="rId2"/>
          <a:stretch/>
        </p:blipFill>
        <p:spPr>
          <a:xfrm>
            <a:off x="6705720" y="420840"/>
            <a:ext cx="244476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A5F-2D54-4FFA-91CE-B3B2C51DD0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5AA-5F1C-4AAC-AE41-5650D5E41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285840" y="1143000"/>
            <a:ext cx="85010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Додатні числа  - «май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Від’ємні  числа – «бор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Додатні в китайській математиці назвали «чен», від’ємні — «фу»; їх зображали різними кольорами: </a:t>
            </a: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«чен» — червоним</a:t>
            </a: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,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«фу» — чорним</a:t>
            </a:r>
            <a:r>
              <a:rPr b="1" i="1" lang="uk-UA" sz="3600" spc="-1" strike="noStrike">
                <a:solidFill>
                  <a:srgbClr val="007e3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H:\Documents and Settings\Aida\Рабочий стол\НОвая ГРАФИКА сборник\1111111111111\image316.gif"/>
          <p:cNvPicPr/>
          <p:nvPr/>
        </p:nvPicPr>
        <p:blipFill>
          <a:blip r:embed="rId1"/>
          <a:stretch/>
        </p:blipFill>
        <p:spPr>
          <a:xfrm rot="1491600">
            <a:off x="7446600" y="414000"/>
            <a:ext cx="11746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uk-UA" sz="4800" spc="-1" strike="noStrike">
                <a:solidFill>
                  <a:srgbClr val="cc0000"/>
                </a:solidFill>
                <a:latin typeface="Calibri"/>
              </a:rPr>
              <a:t>-а+(-в)= - (а+в)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Сумою двох від’ємних чисел є від’ємне число, модуль якого дорівнює сумі модулів додан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Щоб додати два від’ємні числа, потрібно додати їхні модулі й поставити перед одержаним числом знак «-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D53-F2B7-4BDD-B689-4235EB6987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60CE-0F10-4AC6-90B6-A9A0166FF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ig_smiles_134"/>
          <p:cNvPicPr/>
          <p:nvPr/>
        </p:nvPicPr>
        <p:blipFill>
          <a:blip r:embed="rId1"/>
          <a:stretch/>
        </p:blipFill>
        <p:spPr>
          <a:xfrm>
            <a:off x="6929280" y="5000760"/>
            <a:ext cx="1800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4200" y="50004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Calibri"/>
              </a:rPr>
              <a:t>Задача</a:t>
            </a:r>
            <a:r>
              <a:rPr b="0" lang="uk-UA" sz="2400" spc="-1" strike="noStrike">
                <a:solidFill>
                  <a:srgbClr val="cc0000"/>
                </a:solidFill>
                <a:latin typeface="Calibri"/>
              </a:rPr>
              <a:t>.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орошнян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і комахи витримують температуру -19 градусів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а жуки –древоточці  на 1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4 градусів нижч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Яку температуру вони витримують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FA8C-D11A-4657-ACA7-995F291D0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2575080" cy="4429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3143160" y="2928960"/>
            <a:ext cx="2525760" cy="135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6143760" y="2928960"/>
            <a:ext cx="2549520" cy="13572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9"/>
          <p:cNvSpPr/>
          <p:nvPr/>
        </p:nvSpPr>
        <p:spPr>
          <a:xfrm>
            <a:off x="2857680" y="4500720"/>
            <a:ext cx="28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орошняна комах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6427080" y="450072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ревоточец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14720" y="-36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be181c"/>
                </a:solidFill>
                <a:latin typeface="Calibri"/>
              </a:rPr>
              <a:t>Гра «Ланцюжок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857160"/>
            <a:ext cx="40384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)  -1+(-7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)  -40+(-60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) 20+(+15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) -20+(-15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)  0,3+0,7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6) -0,3+(-0,7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7) -1,2+(-0,6)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8)     +      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9) -     +  (     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) -    + (      )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71880" y="85716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,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48AF-191C-4200-A103-CB5F2ECD07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1285920" y="4429080"/>
            <a:ext cx="214200" cy="584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857240" y="4429080"/>
            <a:ext cx="244440" cy="571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1643040" y="4929120"/>
            <a:ext cx="214200" cy="58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2357280" y="4929120"/>
            <a:ext cx="428760" cy="574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5"/>
          <a:stretch/>
        </p:blipFill>
        <p:spPr>
          <a:xfrm>
            <a:off x="1571760" y="5500800"/>
            <a:ext cx="163440" cy="682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6"/>
          <a:stretch/>
        </p:blipFill>
        <p:spPr>
          <a:xfrm>
            <a:off x="2286000" y="5500800"/>
            <a:ext cx="357120" cy="574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7"/>
          <a:stretch/>
        </p:blipFill>
        <p:spPr>
          <a:xfrm>
            <a:off x="2714760" y="4429080"/>
            <a:ext cx="276120" cy="5619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8"/>
          <a:stretch/>
        </p:blipFill>
        <p:spPr>
          <a:xfrm>
            <a:off x="3603600" y="4929120"/>
            <a:ext cx="31608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01"/>
          <p:cNvPicPr/>
          <p:nvPr/>
        </p:nvPicPr>
        <p:blipFill>
          <a:blip r:embed="rId9"/>
          <a:stretch/>
        </p:blipFill>
        <p:spPr>
          <a:xfrm>
            <a:off x="6429240" y="4572000"/>
            <a:ext cx="21607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1:41:57Z</dcterms:created>
  <dc:creator>UserXP</dc:creator>
  <dc:description>http://aida.ucoz.ru</dc:description>
  <dc:language>en-US</dc:language>
  <cp:lastModifiedBy>Юрчик</cp:lastModifiedBy>
  <dcterms:modified xsi:type="dcterms:W3CDTF">2012-01-28T17:25:53Z</dcterms:modified>
  <cp:revision>42</cp:revision>
  <dc:subject/>
  <dc:title>Слайд 1</dc:title>
</cp:coreProperties>
</file>