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937-03CD-4BBD-A716-03EA9602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8EF-515C-4078-A023-2C5C256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BC2-3596-4929-9266-5A13E68E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ABC-FCC4-4408-A8AE-17632668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D0D-30BE-4FCC-A56B-CC2D41F1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F4E-DD5A-4BE0-9C42-1E07304B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929-70CB-446C-BE7C-8ED87F4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666-FBE4-4D95-BA14-611AA4D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79A-1B5A-476F-B502-67282F9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022-2755-4FDA-B5B8-40A614A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3B7-176C-4B5B-A223-9DE83B0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202-97FF-4A24-AA25-A8A3093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98A-00DB-4EF9-AB04-6E4142F85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Object 4"/>
              <p:cNvSpPr txBox="1"/>
              <p:nvPr/>
            </p:nvSpPr>
            <p:spPr>
              <a:xfrm>
                <a:off x="187200" y="593640"/>
                <a:ext cx="895680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Object 5"/>
              <p:cNvSpPr txBox="1"/>
              <p:nvPr/>
            </p:nvSpPr>
            <p:spPr>
              <a:xfrm>
                <a:off x="928800" y="3143160"/>
                <a:ext cx="13572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6"/>
              <p:cNvSpPr txBox="1"/>
              <p:nvPr/>
            </p:nvSpPr>
            <p:spPr>
              <a:xfrm>
                <a:off x="3467160" y="3143160"/>
                <a:ext cx="1962000" cy="25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6643800" y="3143160"/>
                <a:ext cx="124308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0006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– кількість випадків, які сприятливі для події А, </a:t>
            </a:r>
            <a:br>
              <a:rPr sz="3500"/>
            </a:br>
            <a:r>
              <a:rPr b="1" lang="uk-UA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n – загальна кількість випадків у даному експерименті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1571760" y="500040"/>
                <a:ext cx="5286240" cy="32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3143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Якщо A – вірогідна подія, то P(A)=1</a:t>
            </a:r>
            <a:br>
              <a:rPr sz="4400"/>
            </a:br>
            <a:r>
              <a:rPr b="1" i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4400" spc="-1" strike="noStrike">
                <a:solidFill>
                  <a:srgbClr val="103707"/>
                </a:solidFill>
                <a:latin typeface="Times New Roman"/>
                <a:ea typeface="Times New Roman"/>
              </a:rPr>
              <a:t>Якщо A – неможлива подія, то P(A)=0</a:t>
            </a:r>
            <a:br>
              <a:rPr sz="4400"/>
            </a:br>
            <a:r>
              <a:rPr b="1" i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що A – випадкова подія, то </a:t>
            </a:r>
            <a:r>
              <a:rPr b="1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 0≤ </a:t>
            </a:r>
            <a:r>
              <a:rPr b="1" i="1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(A)</a:t>
            </a:r>
            <a:r>
              <a:rPr b="1" lang="uk-UA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≤ 1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2000160" y="642960"/>
            <a:ext cx="455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 ≤ </a:t>
            </a:r>
            <a:r>
              <a:rPr b="1" i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(A)</a:t>
            </a: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≤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600" y="142848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2060"/>
                </a:solidFill>
                <a:latin typeface="Georgia"/>
              </a:rPr>
              <a:t>ЗАДАЧА</a:t>
            </a:r>
            <a:br>
              <a:rPr sz="2500"/>
            </a:br>
            <a:r>
              <a:rPr b="1" lang="uk-UA" sz="2500" spc="-1" strike="noStrike">
                <a:solidFill>
                  <a:srgbClr val="002060"/>
                </a:solidFill>
                <a:latin typeface="Georgia"/>
              </a:rPr>
              <a:t>Підкидають гральний кубик. Знайти імовірність, що випаде парне число.</a:t>
            </a: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2060"/>
                </a:solidFill>
                <a:latin typeface="Georgia"/>
              </a:rPr>
              <a:t>Нехай подія А – випадання парного числа очок.</a:t>
            </a:r>
            <a:br>
              <a:rPr sz="25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Ймовірність  події А обчислюється </a:t>
            </a:r>
            <a:br>
              <a:rPr sz="22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за формулою: </a:t>
            </a:r>
            <a:br>
              <a:rPr sz="22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2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Дана подія може відбутися трьома способами: випало 6 очок, випало 4 очка, випало 2 очка. Отже m=3. 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Всього можливо шість подій під час даного експерименту, тому  n=6. </a:t>
            </a:r>
            <a:br>
              <a:rPr sz="2200"/>
            </a:b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Тоді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Georgia"/>
              </a:rPr>
              <a:t>                                                                                   </a:t>
            </a:r>
            <a:r>
              <a:rPr b="0" lang="uk-UA" sz="2200" spc="-1" strike="noStrike">
                <a:solidFill>
                  <a:srgbClr val="002060"/>
                </a:solidFill>
                <a:latin typeface="Georgia"/>
              </a:rPr>
              <a:t>Відповідь:  50%</a:t>
            </a:r>
            <a:br>
              <a:rPr sz="2500"/>
            </a:b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1474920" y="5072040"/>
                <a:ext cx="35258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715000" y="2355840"/>
                <a:ext cx="20001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4000" y="4714560"/>
            <a:ext cx="8015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знайти відношення сприятливих наслідків до числа усіх наслідкі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19240" y="281160"/>
            <a:ext cx="850392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357120" y="178596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позначити подію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57120" y="26431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підрахувати кількість загальних випадків у даному експерименті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57120" y="3643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 підрахувати кількість випадків, сприятливих для даної події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814392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В урнi мiститься 10 однакових за розмiром кульок: 6 жовтих i 4 синiх. Кульки перемiшали. Знайдiть iмовiрнiсть того, що навмання вибрана кулька буде: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Georgia"/>
              </a:rPr>
              <a:t>    А - </a:t>
            </a: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синього кольору;          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Georgia"/>
              </a:rPr>
              <a:t>    В - </a:t>
            </a: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жовтого кольору;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Georgia"/>
              </a:rPr>
              <a:t>    С - </a:t>
            </a: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чорного кольору;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en-US" sz="2900" spc="-1" strike="noStrike">
                <a:solidFill>
                  <a:srgbClr val="002060"/>
                </a:solidFill>
                <a:latin typeface="Georgia"/>
              </a:rPr>
              <a:t>D</a:t>
            </a:r>
            <a:r>
              <a:rPr b="1" lang="ru-RU" sz="2900" spc="-1" strike="noStrike">
                <a:solidFill>
                  <a:srgbClr val="002060"/>
                </a:solidFill>
                <a:latin typeface="Georgia"/>
              </a:rPr>
              <a:t> - </a:t>
            </a:r>
            <a:r>
              <a:rPr b="1" lang="uk-UA" sz="2900" spc="-1" strike="noStrike">
                <a:solidFill>
                  <a:srgbClr val="002060"/>
                </a:solidFill>
                <a:latin typeface="Georgia"/>
              </a:rPr>
              <a:t>будь-якого кольору.</a:t>
            </a:r>
            <a:br>
              <a:rPr sz="2200"/>
            </a:br>
            <a:br>
              <a:rPr sz="25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ynafani.com.ua/sites/default/files/emvideo-youtube-LA2VSgMGjkk_3.jpg"/>
          <p:cNvPicPr/>
          <p:nvPr/>
        </p:nvPicPr>
        <p:blipFill>
          <a:blip r:embed="rId1"/>
          <a:srcRect l="0" t="16672" r="0" b="16672"/>
          <a:stretch/>
        </p:blipFill>
        <p:spPr>
          <a:xfrm>
            <a:off x="4929120" y="4714920"/>
            <a:ext cx="37148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лотереї 100 квитків, з них 5 виграшних. Яка ймовірність програш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571680" y="2214720"/>
            <a:ext cx="8229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в'язанн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хай подія А – програшний квит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альна кількість білетів – 100, отже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; програшних квитк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-5 = 95, тоді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4799160" y="4500720"/>
                <a:ext cx="32144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34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дготовка до ДПА</a:t>
            </a:r>
            <a:br>
              <a:rPr sz="4000"/>
            </a:br>
            <a:r>
              <a:rPr b="0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 натуральних чисел від 1 до 24 учень навмання називає одне. Яка імовірність того, що це число є дільником числа 24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214200" y="4000680"/>
            <a:ext cx="828684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ільники числа 24: 1,2,3,4,6,8,12,2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642960" y="4643280"/>
            <a:ext cx="60865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(А)=8/24=1/3</a:t>
            </a:r>
            <a:r>
              <a:rPr b="1" lang="uk-UA" sz="3400" spc="-1" strike="noStrike">
                <a:solidFill>
                  <a:srgbClr val="002060"/>
                </a:solidFill>
                <a:latin typeface="Symbol"/>
                <a:ea typeface="Symbol"/>
              </a:rPr>
              <a:t></a:t>
            </a:r>
            <a:r>
              <a:rPr b="1" lang="uk-UA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3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14200" y="1428840"/>
          <a:ext cx="8572680" cy="2071440"/>
        </p:xfrm>
        <a:graphic>
          <a:graphicData uri="http://schemas.openxmlformats.org/drawingml/2006/table">
            <a:tbl>
              <a:tblPr/>
              <a:tblGrid>
                <a:gridCol w="1011240"/>
                <a:gridCol w="1001880"/>
                <a:gridCol w="819000"/>
                <a:gridCol w="978120"/>
                <a:gridCol w="952200"/>
                <a:gridCol w="952560"/>
                <a:gridCol w="952560"/>
                <a:gridCol w="952560"/>
                <a:gridCol w="952560"/>
              </a:tblGrid>
              <a:tr h="857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4200" y="2286000"/>
          <a:ext cx="8572680" cy="1214280"/>
        </p:xfrm>
        <a:graphic>
          <a:graphicData uri="http://schemas.openxmlformats.org/drawingml/2006/table">
            <a:tbl>
              <a:tblPr/>
              <a:tblGrid>
                <a:gridCol w="1011240"/>
                <a:gridCol w="1001880"/>
                <a:gridCol w="819000"/>
                <a:gridCol w="978120"/>
                <a:gridCol w="952200"/>
                <a:gridCol w="952560"/>
                <a:gridCol w="952560"/>
                <a:gridCol w="952560"/>
                <a:gridCol w="952560"/>
              </a:tblGrid>
              <a:tr h="12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407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ПАД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4"/>
          <p:cNvSpPr/>
          <p:nvPr/>
        </p:nvSpPr>
        <p:spPr>
          <a:xfrm>
            <a:off x="71424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амостійна ро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ящику лежать 8 червоних, 2 синіх, 20 зелених олівців. Ви навмання виймаєте олівець. Яка ймовірність того, що це червоний олівець? жовтий олівець? Не зелений олівець? Яку кількість олівців потрібно витягнути, щоб з ймовірністю, яка дорівнює 1, серед них був зелений олівец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57800" y="2631960"/>
            <a:ext cx="36432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6; 2; 20; 28 </a:t>
            </a:r>
            <a:br>
              <a:rPr sz="4800"/>
            </a:br>
            <a:r>
              <a:rPr b="1" lang="uk-UA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57280" y="48888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; 7; 16; 2; 13; 5; 20; 28; 3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віть: </a:t>
            </a: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ні числа</a:t>
            </a: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арні числа </a:t>
            </a: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ільники числа 4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429080" y="3429000"/>
            <a:ext cx="3514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9; 7;13; 5; 3</a:t>
            </a:r>
            <a:br>
              <a:rPr sz="4400"/>
            </a:br>
            <a:r>
              <a:rPr b="1" lang="uk-UA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5129280" y="4060800"/>
            <a:ext cx="1014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uk-UA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</a:t>
            </a:r>
            <a:br>
              <a:rPr sz="4400"/>
            </a:br>
            <a:r>
              <a:rPr b="1" lang="uk-UA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11512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600" spc="-1" strike="noStrike">
                <a:solidFill>
                  <a:srgbClr val="002060"/>
                </a:solidFill>
                <a:latin typeface="Georgia"/>
              </a:rPr>
              <a:t>Теорія ймовірностей.</a:t>
            </a:r>
            <a:br>
              <a:rPr sz="5600"/>
            </a:br>
            <a:r>
              <a:rPr b="1" lang="uk-UA" sz="5600" spc="-1" strike="noStrike">
                <a:solidFill>
                  <a:srgbClr val="002060"/>
                </a:solidFill>
                <a:latin typeface="Georgia"/>
              </a:rPr>
              <a:t>Ймовірність випадкової події</a:t>
            </a: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11512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2060"/>
                </a:solidFill>
                <a:latin typeface="Georgia"/>
              </a:rPr>
              <a:t>Теорія ймовірностей – </a:t>
            </a:r>
            <a:br>
              <a:rPr sz="5000"/>
            </a:br>
            <a:r>
              <a:rPr b="0" lang="uk-UA" sz="5000" spc="-1" strike="noStrike">
                <a:solidFill>
                  <a:srgbClr val="002060"/>
                </a:solidFill>
                <a:latin typeface="Georgia"/>
              </a:rPr>
              <a:t>це математична наука, що вивчає закономірності випадкових процесів </a:t>
            </a:r>
            <a:br>
              <a:rPr sz="5000"/>
            </a:br>
            <a:r>
              <a:rPr b="0" lang="uk-UA" sz="5000" spc="-1" strike="noStrike">
                <a:solidFill>
                  <a:srgbClr val="002060"/>
                </a:solidFill>
                <a:latin typeface="Georgia"/>
              </a:rPr>
              <a:t>і подій.</a:t>
            </a:r>
            <a:br>
              <a:rPr sz="5000"/>
            </a:b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viorelcodrea.ro/wp-content/uploads/2014/05/Blaise-Pascal.jpg"/>
          <p:cNvPicPr/>
          <p:nvPr/>
        </p:nvPicPr>
        <p:blipFill>
          <a:blip r:embed="rId1"/>
          <a:srcRect l="0" t="0" r="0" b="5124"/>
          <a:stretch/>
        </p:blipFill>
        <p:spPr>
          <a:xfrm>
            <a:off x="307800" y="3395520"/>
            <a:ext cx="1890720" cy="271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kykyryzo.ru/wp-content/uploads/2015/07/3814.jpg"/>
          <p:cNvPicPr/>
          <p:nvPr/>
        </p:nvPicPr>
        <p:blipFill>
          <a:blip r:embed="rId2"/>
          <a:srcRect l="3358" t="5558" r="54122" b="3708"/>
          <a:stretch/>
        </p:blipFill>
        <p:spPr>
          <a:xfrm>
            <a:off x="2363760" y="2681280"/>
            <a:ext cx="199404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informat.name/wp-content/uploads/2016/12/Jakob_Bernoulli.png"/>
          <p:cNvPicPr/>
          <p:nvPr/>
        </p:nvPicPr>
        <p:blipFill>
          <a:blip r:embed="rId3"/>
          <a:srcRect l="14065" t="3570" r="4686" b="10716"/>
          <a:stretch/>
        </p:blipFill>
        <p:spPr>
          <a:xfrm>
            <a:off x="4540320" y="2071800"/>
            <a:ext cx="1960560" cy="2714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85680" y="6016680"/>
            <a:ext cx="2133720" cy="5238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6" descr=""/>
          <p:cNvPicPr/>
          <p:nvPr/>
        </p:nvPicPr>
        <p:blipFill>
          <a:blip r:embed="rId5"/>
          <a:stretch/>
        </p:blipFill>
        <p:spPr>
          <a:xfrm>
            <a:off x="2432160" y="5340240"/>
            <a:ext cx="1884240" cy="5241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6"/>
          <a:stretch/>
        </p:blipFill>
        <p:spPr>
          <a:xfrm>
            <a:off x="4327560" y="4737240"/>
            <a:ext cx="2292480" cy="5173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7"/>
          <a:stretch/>
        </p:blipFill>
        <p:spPr>
          <a:xfrm>
            <a:off x="1359000" y="85680"/>
            <a:ext cx="6572160" cy="159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fr.cdn.v5.futura-sciences.com/builds/images/thumbs/d/df90c57eb3_KOLMOGOR_02.jpg?v5"/>
          <p:cNvPicPr/>
          <p:nvPr/>
        </p:nvPicPr>
        <p:blipFill>
          <a:blip r:embed="rId8"/>
          <a:stretch/>
        </p:blipFill>
        <p:spPr>
          <a:xfrm>
            <a:off x="6715080" y="1714680"/>
            <a:ext cx="2071800" cy="27349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9"/>
          <a:stretch/>
        </p:blipFill>
        <p:spPr>
          <a:xfrm>
            <a:off x="6443640" y="4370400"/>
            <a:ext cx="2766960" cy="5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440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вода в чайнику, що стоїть на гарячій плиті закипи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57120" y="2286000"/>
            <a:ext cx="844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черепаха навчиться говори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57120" y="3143160"/>
            <a:ext cx="8440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ви програєте партію в ша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357120" y="2428920"/>
            <a:ext cx="8440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uk-UA" sz="2300" spc="-1" strike="noStrike">
                <a:solidFill>
                  <a:srgbClr val="002060"/>
                </a:solidFill>
                <a:latin typeface="Georgia"/>
              </a:rPr>
              <a:t>на наступному тижні може зіпсуватися погод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357120" y="3643200"/>
            <a:ext cx="8585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2060"/>
                </a:solidFill>
                <a:latin typeface="Georgia"/>
              </a:rPr>
              <a:t>ви натиснули на дзвінок, а він не задзвони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57120" y="4214880"/>
            <a:ext cx="8440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2060"/>
                </a:solidFill>
                <a:latin typeface="Georgia"/>
              </a:rPr>
              <a:t>після четверга буде понеділок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57120" y="482436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влітку у школярів будуть каніку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357120" y="5357880"/>
            <a:ext cx="46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взимку випадає сні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7120" y="582444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при включенні світла, лампочка перег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357120" y="928800"/>
            <a:ext cx="8440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ви виграєте беручи участь у лотере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b6f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Видео2.wmv" descr=""/>
          <p:cNvPicPr/>
          <p:nvPr/>
        </p:nvPicPr>
        <p:blipFill>
          <a:blip r:embed="rId1"/>
          <a:stretch/>
        </p:blipFill>
        <p:spPr>
          <a:xfrm>
            <a:off x="1143000" y="9810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Ймовірністю події </a:t>
            </a:r>
            <a:r>
              <a:rPr b="1" i="1" lang="uk-UA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(А) 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ивається чисельна міра ступеня об'єктивної можливості появи події в результаті нового експеримен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ому буде дорівнювати імовірність події: 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черепаха навчиться говорити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вода в чайнику, що стоїть на гарячій плиті закипить</a:t>
            </a:r>
            <a:br>
              <a:rPr sz="4000"/>
            </a:b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ви виграєте беручи участь у лотере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6:12:52Z</dcterms:created>
  <dc:creator>Виктор</dc:creator>
  <dc:description/>
  <dc:language>en-US</dc:language>
  <cp:lastModifiedBy>Виктор</cp:lastModifiedBy>
  <dcterms:modified xsi:type="dcterms:W3CDTF">2017-03-15T17:19:37Z</dcterms:modified>
  <cp:revision>55</cp:revision>
  <dc:subject/>
  <dc:title>Слайд 1</dc:title>
</cp:coreProperties>
</file>