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93B-C35C-4F82-B5FC-A18677BC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616-9831-4458-B8FD-61C0D07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A813-C537-4AC3-843F-C03D9C3F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5AC38-658D-4A1B-98B1-9A68700E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A15D9-65BF-4B22-97BE-63380881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DB169-D961-4B5F-B667-F645FB7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42A6A-43E4-4618-9D9B-9B94BD8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FBA7E-5C43-4ECF-8EA9-2B86DF8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7654-6AFD-41A9-9A48-DE94FD60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DE152-3540-41B1-A791-2DC5D242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68F69-AD46-408B-8BDD-0EB96981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C715F-70A4-4119-B73E-997F49C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798-B0A6-461D-9972-CC9A54F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B35A-3D00-4A2F-BAC9-8E739BB3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26A9B-ED7E-4FB7-ADB7-73C8D5A7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25C87-2C68-4FCB-8971-E8061E16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BF45-12F9-4342-9DE3-5E13280B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44138-F6BE-4BDC-B564-4D509D83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3A6A-2985-403C-B8B2-7143C22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D450-3B6D-4110-8E8C-6357866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62E2-3A22-4822-BC0A-013F1CA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3F65C-241F-441D-909B-E22A963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89504-81A5-429F-B168-A763831F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F23-E01F-4B65-8535-571A913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DF944-E8D1-4022-8A0A-A1EDDB33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19E9F-EAA2-46E9-BE0E-FC3DF56C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9CFDF-26D2-4F99-BB25-16F63C74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1A05-C13A-4796-8F63-1AC9A7B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75DE-4009-41DC-8CEA-7A772829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E80AD-4551-4D2A-8F12-D32615B3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6997E-58C4-4096-9795-FDDFC71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0587B-458F-4E40-A2B6-59882AF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A09AE-016D-437F-AE84-9C97ADA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F010E-7597-4406-BF2C-C6C5C8D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3313-7F0D-4881-8230-D31C4407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7900-14F3-47F6-B4F2-D43E9519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58D2E-B269-4662-AC43-D3C7E429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35264-365A-41B3-89AD-5A16224F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BC6A3-9F20-4A27-B628-9598E0A4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9A754-52C3-4A90-B6BB-2C317692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D6885-3CE9-4BC6-ADC8-A2B6BDEF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AC47-DA4F-42A7-A4D5-4EE25B5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CF64B-7604-4556-B2F1-6F5EE80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116F2-E7D4-4833-AAA3-288ACD1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EF7D6-40F2-4BFD-B658-2811464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F4F-D4C4-42F7-B5C8-5374835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AA0F8-F2E5-4801-8E12-B5259AD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5020B-75A7-4C82-A143-C8CB5F2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4FA51-1F08-440F-8AA7-CDEFE7A7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880B3-1122-42C8-9481-026F0A3F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A441D-8395-4035-86A7-C397E54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8E49D-98F4-422A-BC5A-F86EEDEE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EA2AE-C833-4FB9-83F2-5708C88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5985E-7D73-4F1D-83C6-4FAB7CF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FDBEF-9D2B-48A7-B07B-8782B1A2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2E599-7D6B-40E9-89D9-86D11F5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C0B-9092-4E6D-970B-513975C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8D39B-E9E8-4350-8243-1C21C04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BF55E-1725-412A-B6D8-F795261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62071-3B86-486F-A120-9BFF22E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1FFC8-C9AD-457C-A8A8-CCF94AE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C5252-10BC-4288-AE4E-3749BD4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BFC2C-7B9C-45E1-B643-FB112A27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B78BA-7531-4874-BD0D-F9BF4ABE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D1329-CC97-46C3-AAEB-DF39EABC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84E6E-7B1F-4465-B7CA-6D931518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40702-FC49-48B2-8DD5-770F7F5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85C-9143-4A1B-8B84-B29D9CE1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D6B24-4610-49C9-920D-0502685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D5695-648B-414D-A869-76B61F5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22B01-A0B2-43E9-B5AF-A4E29D3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E0816-06DA-4A44-AAF1-5A12C00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53220-2468-4C0F-A0A7-60D035E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4AC16-6821-4186-8230-8DCD918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62CB0-6BC7-41A9-9B09-6A74CA3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5E82D-941C-40B7-ABC4-F42DE5E1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DB95F-A907-4953-B20F-C7E12575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519D5-0A6C-41E2-AFC4-2D301E3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F3CF-32F9-4CDD-870A-5A00B42F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7BB3F-DBBF-4563-8642-A0F6D42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DBBF0-61FC-4A28-8F11-3ACB0F2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6DCC9-C25C-4F45-87A8-E544290E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275E8-F8CF-427F-BE92-9607A0D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6DB97-C768-497C-B1F6-4FE4D3B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31392-FF16-4A45-9590-7123070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D3E17-590A-493C-B8B6-C90C4456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9C74A-227A-4544-93D4-9A7D38FB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BC6AC-5A19-4A0B-9BFA-337C636D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61AA0-BABB-48D0-B48F-340099EE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AC68-EB37-4588-B9B9-A3ECB00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87BBA-9094-4FBE-A1AF-0F917818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A6C47-1151-4F51-A3D1-5099F5A8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AD9AC-7D2D-4694-B215-8C669EC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1ACA2-CCCE-4E37-9878-B82681E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33AA7-C21A-47BF-8D68-90DEE2F6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2C0B3-D09A-4442-A645-34B23656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84543-8E38-47C4-B895-45FC48DB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58066-A2DB-48A4-B628-42644E8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9D797-F2EA-49E4-B6DB-F39C97D3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3CFD7-AEEB-41F6-AC00-463894BC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0D0-BEAF-4E4F-A9E8-7C6EA02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F6E32-E1F9-447B-B4EC-AA9689D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D552F-5AF2-4DBB-B749-32BA84E5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EB91C-06F0-465F-AA21-D90BAAB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914E2-6F94-41F1-ABA6-6DBF6221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73C13-ACBE-4F5C-86A4-D3426449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A439F-2E7D-427B-82E2-7297EB63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6DB99-82D5-43B3-B167-C4C1648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CCF6C-6AE5-4A43-9337-3F770EE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95B33-33A5-4BF1-92D1-950793C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B6E0D-AD47-4500-9271-79269763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8B0-464D-4C33-9142-9AE8ECF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B1D4-3089-44C2-9812-5AC6CA0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22C68-8BBA-4C7F-9C17-F4812897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D38DE-7B7D-4EF9-9287-7BDBFDA4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7BABE-AB7C-4D82-9A24-2140123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67C1D-A34E-4736-96EA-B721F95A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7A744-9F2D-4EB4-ABE4-08C853B8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3DCE8-9495-4783-8249-F06F67C2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F37B9-70B0-4CEF-940A-75BE68D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2EF4F-8055-4C14-AD31-8BAC68E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9F57A-6F4C-4B15-AE67-42565F71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036CF-2497-4D6F-9E9A-99E25F1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9ECE-11E8-4D4F-B2E9-14CDA74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FC7E4-1D35-4704-AF11-0880C49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E3CF2-AC28-4138-82E5-9901AB37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C44B4-BBA5-49D5-A60F-B767470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1327D-DCCD-477F-9536-C57E35A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3D3D5-651B-434D-925B-CCA568B8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17DFD-ADBC-4E95-8790-CDEE60D1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821A4-5615-4537-AA14-F09C6092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E2E44-9CBD-4C37-95C9-596500DD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1F5CC-FDC5-4E5C-BB39-510226B7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A51F8-4B34-4D86-84AF-C9A58289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1D4-AFCF-4448-945A-9A549569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E823E1-E3AE-4C19-A758-B2BB1895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86B80-D394-4023-86D8-838B91A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A702A-0BBD-4571-91A6-940959A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EEA1E-C8D7-462A-BD29-4A555F1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0319E-9389-4672-AE5B-BB6A0DE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832BB-3B78-468C-A9CC-5721E60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BC2095-D6FE-4F1C-A354-716DBE6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1311F-7891-448C-9D73-48B4E2FE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9516D-8CF4-4003-84FC-CE6E7B95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49F18-F960-455E-9414-B1B68333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9001-DEA0-44D3-BC34-814AB4DC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17925-E8DC-4214-A35A-08E46D8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7724C-05B8-4D5F-96EA-E5A9569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81F61-6C22-4411-B30C-9395DCFF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ADF7C-1D40-4E58-A3D2-EE4357F9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A369B-B36D-4B77-85D1-ACAFF74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D9BFA-12A7-4508-BC0B-7746DE60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8E334-EAAD-4225-AB33-70D9FE5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D1713-53A1-46D9-B72F-EB12B29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4F8FA-C8F4-4A6D-89AD-84E7DAD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827A9-5A3C-410C-AF77-D4C98438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CCC-2B8C-4CA7-A823-6043137A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B8656-6AAD-4FB8-BF1A-93FA27F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51FD3-56AA-4C7D-ACAD-9C271D18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CEA55-0F6F-42E8-A28B-02A1D05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4ECF3-6C01-4C62-A33F-69469BC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A06A2-EFBC-4E73-A66D-FA7A06B7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77D570-FF8D-499B-A55B-2DD97F2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AA47F2-B6FB-4130-87CC-69906EE5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77CF2-E309-48B9-B1DF-21D2AB7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70B20-CDB6-4BAC-8DB5-C6E2A3A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2271C-F299-4D4A-A244-F0997FB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B098-C7F9-461C-9072-1ADF153E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93F71-F4A1-4C53-88DB-86B4129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5E6C8-46DD-404E-9AAD-3F0A159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0CCCB-2BB6-410E-8844-FA0115F3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FCAB2A-A3B3-4F14-9407-1B361827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D080E-8EF1-4C0C-A1DD-3F187090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53BF2-83CB-4C27-AEF8-E0F06BF1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302D4B-FDB9-4553-962D-8B454E83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F5312-381A-410C-8E12-6BE0C7FC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E361CC-7619-47EF-88E0-C532E29E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024141-A09B-4964-8A80-53928B1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42E7-CBFD-4919-8CB5-38A1ECE7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4BF0BC-42FE-46F4-872F-A7FA438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EEA3CF-3AA4-4189-989C-581CA83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A99DFA-E286-4846-88FC-B6847C71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F5BC6-E5F5-4E19-A48E-4E0B9275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BF7D4-7863-4A05-A842-F198D872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7293B5-5443-4049-A5BD-FF04853F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6D5CB2-47FD-4DA4-8BCC-AAAEE8F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705A48-C35F-4FFA-8131-CB7C379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665A1C-3AA6-480F-B020-38BDA80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59AC91-6C5B-4CD4-92B1-2C024B8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8BE0-2DB1-4464-B0A4-09D5790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24670C-7612-4F59-B973-79AFA53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FB1AEB-08CA-4F76-8EE2-73C9B90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C14E5-B0AC-49BC-B49E-EF1DFC17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A08F49-ABF7-4380-A366-311FED6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0DE78-A72B-46F9-B62D-355C16C7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43B92-9766-41B2-B67B-FFC0ABD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386B6A-9609-484B-960A-68EDEA2C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C62F17-B80B-4E69-84AE-1787FF6A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7E0927-663A-4119-B48B-7FB280B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C5EA22-789F-46D3-9C62-CB95BFFA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A115-7B99-4F92-B8F3-615D048D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C2DAF7-01D0-487F-BF37-FAA4A490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7B5D3-D752-4D7B-80E8-689DB722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ABC9EC-C1CD-48ED-8ABF-3929995A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26B5A5-B583-483D-A7AC-637B033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E36AC-905E-4916-B025-995C953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44F6E-86F6-4E25-97A7-16888E6B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89F6D-71F9-4275-93C0-DC455D18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C5CE0A-7656-4468-BD9D-6E698B3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BE672F-955D-41ED-A5D2-686C22BD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753BA6-2E41-4644-90DE-EFEFDC54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AE21-384E-406B-9084-BBE4B2D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C8E794-30EE-4B23-A252-2D050BAE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2769D0-DCA8-45FF-A671-E1EA48B9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C1629-E202-49CF-B5E7-6B0AE1E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DA5D26-2CD5-421A-AF77-2D57078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9A8C1B-9419-4928-AD71-3D0E664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B47AE8-E2BF-424A-986E-90679FB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553006-439C-4996-8D9F-1DD069C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4E367C-3949-4211-932C-A12571C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A3A322-9908-44B7-BA45-EB67DC9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0E5749-AB4A-49A6-9592-23A13A82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961-8AB2-4411-AF02-D0F4BE49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BB29-FA43-48E0-8607-058D0B11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303E3-ECD6-49B8-8277-0A329B60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6B6DF-7336-46F1-90B1-1573A037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109BF-E1A3-4780-A91B-C14E785C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2AD53E-580B-42B7-8053-95D84A4F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FDC72-1C53-4924-B9ED-0D1F9A1C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9F86B-DD64-4253-8A69-AE4F92D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85E2AA-2208-4A1F-8B98-9C7F57C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E8F9EF-FA9E-4B3D-975F-3A1BF98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0F08BA-D008-417D-98DA-4285F66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19B9CF-702B-46DD-8317-C7C2395D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3F01-D48B-4321-9826-6C9EA04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DA6AF-4B73-46F2-9034-FC37A274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5FE8E3-4BA2-4AEB-B521-116AFC92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0BCE58-8E95-454E-8C28-9D52EB15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3A5453-BFFB-48BF-A678-6F36892C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581439-5D00-4484-A280-262E507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CA5F3E-93BA-4F69-B270-0C5EB325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6C61B7-8BFD-4867-B27E-5A5733D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42F993-7EB7-4BC7-915C-D1F71B1C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CD2DE-BB59-436B-9710-6CD8F1B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BA0FA-F169-488B-B367-DDFBBC1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6A29-B49D-411B-83DF-9122220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796A47-4CB2-4E9F-9C58-2D8B364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AD66E1-55EF-4C79-AF0B-1487005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7130D7-4A1A-419F-A058-2A8B6D0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7FA381-BFC0-44E1-BAAD-3A52D259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756CA8-03AA-4970-B222-4261AE13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BE9945-AAE7-423E-A2E9-0A715F8E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5965D-346F-4266-A3A2-B73F5CB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8FDF14-8479-4F41-AF4A-498FDC24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1DC146-349D-426E-93DB-88FEE17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DB40B5-4FA1-460E-950E-40D3C3C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A664-BDCF-4DFF-BBA7-49F0FBE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239A19-3D93-421F-9F95-36B58C5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41391-E7AE-4161-A627-6544B7B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688F4F-C038-4C23-80D7-A1CD3A7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072495-B249-4435-B8B5-6E2E902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D44D29-9889-401B-8B75-B9332C5C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D6D99F-18C8-4E2F-82C7-928C7E69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7CB5B-F6C0-4575-9FF2-1E04604D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CA9F56-823A-40ED-BFAF-1342348F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29BFF7-6C10-4CF9-B3FC-E8F740A1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366090-6B83-4696-86A3-BF55237A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9DBE-61A7-4F18-A9FF-FEF4C78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51D25E-51A2-4D82-ABFB-D4BA776D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1D0042-1571-4511-9045-E7424B8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3C3D95-8CEE-47D0-9632-CBBFDF4F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5E4EB8-3FF8-4082-B7FE-172EE71D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53CEF7-B605-4E4A-97C6-045AF0B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E24CF2-254F-4E3F-954A-EC7576E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4D0325-2959-432E-B832-EB8A742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C86012-D76A-4DE4-8388-7EF9C6E0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125F14-F9C9-441A-BA24-1D3A78B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632771-A3E7-48DE-926F-4079766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EDE9-41DE-440F-BE28-58AAE411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D3B00-4689-48A4-B18D-B5D1FF2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5E8DF2-FA3D-49DE-A054-CB33FDD5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F4FFB-8C99-438D-9E93-87BECD7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19F2C9-3270-4EDC-B01A-CF35F7F0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1D1BFE-BDE0-4A0A-963B-E071D5D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9C366A-669E-46A4-928C-9EF92FD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C302D7-8898-4B0C-AE11-1C38B61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F572CE-6324-4660-8BA0-BCDB205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3F1FF1-BCA7-45B5-88D1-1DA625D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A449CA-190B-4CC3-97D2-A3A0C77A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546A-62C9-41A6-9E29-620CB918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EE0FF9-ECEF-4FC7-A5BB-A34FE607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9946-2ACD-42A9-882E-ECD54FA7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114F-E2F1-43BB-81D4-A6B196F7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151F-8B05-4B5B-A350-11EA5DE3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F45-0AED-4D85-8916-3B091F3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E888-BBA4-41E7-B8D8-F5A5D72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BA9B-C7ED-49F3-913E-7B91B13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B705-B84A-42E2-86CF-564B2F39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CE05-1DC2-4778-B38A-0EEA9C1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EBB5-5B4B-44DB-BB84-CC383579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8A30-F788-472A-BF77-5CF827A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15E5-63EA-4C22-83F5-6424158D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E56C-C7B6-4302-9E66-816ED4C5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6DFD-D1D5-4BF0-A155-851EECA2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7495-E022-4758-82D9-2AAC427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C2F-28FE-4C04-BB56-153E8B83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4368-8781-472A-912A-F5C19D2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F5852-6C25-403F-BA78-4F75C1EA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741A-ED3B-4AF8-BBA3-FA830879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4EDF-6D65-42C2-BD9B-BEF1968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FD1C5-3B40-4E38-A582-69A1C608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FDF6-B9B6-4270-BAFF-D966B664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FC5F-CDA1-4661-9826-2857B3A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EA9D-8AC2-4EB6-8B27-8873AAB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8BD41-D17E-4DC8-968E-D9B7672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E2E5-E631-43AD-BFD5-0CCA7195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E0D-5EA7-4E59-AA13-B8FE4C8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9B80-6FA8-4F14-A541-8356C8F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CB09-AE5B-489D-9EFF-EA553E15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8F50-D9A6-42E6-B115-6965FD7B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B53E-1C42-46C0-BBDC-789DA822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867DF-64E5-4626-BFF7-073BA40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9FB1-50CF-4C6B-9062-B81B6975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183D-8127-4394-88B1-CB9BC8EF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615C-1EC0-4EF3-BCE6-99118B1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1058E-3901-4980-B16A-F671DA46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4C11-886F-4DD8-900C-19E8F51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0A2-8DFD-4315-933C-CCF465A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C7EE0-0ABF-44B6-A9CD-BDC6AB3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D854-8258-4956-BE21-709A01FC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CEC6-3143-4149-B202-18E31812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1389-8D84-413A-91C5-BE441218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1A78-53BF-4A04-8CE3-4D8A6731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1455-8F64-49CA-8FAB-A8BA4913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F7A0-0099-4E46-9CF8-181A24C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DE0F-B593-4D55-9AAD-006F9E4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B982-A6A0-4E14-BAA2-A0094B89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FFA5-99A0-455C-BA73-9D608DD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2AC-1A9C-4446-A9AF-3C90AC8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3D62B-F252-4EBA-B22A-36A80F5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02331-7DB6-4327-A477-720F434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A895-EB2D-491A-B38A-6F5A161E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D9EA0-342B-484E-858E-77E6877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4B478-717C-4D88-B02F-3BBBB0A6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39AD1-749C-441E-B7CD-0D327825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65B87-B3F9-416B-AC5B-B52FD5B8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1BEE-DEB0-4BC2-9E17-8C0032E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F4B6F-6AF5-430D-8F33-9229550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15CF6-08C4-4CEB-80D2-3DFE020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956-C4E8-4E6A-BF7F-BF2448B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F6D9F-845A-42DB-8B57-B3F163A4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5E56-308F-43DA-A39A-D3E9F55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3F038-3488-4BC4-815D-F81F501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22364-93AD-42F9-87DD-70BCEAC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3C54-FB61-4544-9FCF-25ACF99B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428F6-9A16-45F0-A2F8-860945F5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45169-966B-4403-8382-93A8F316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DC0D6-6FFB-4649-93DA-5E18CF96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5E357-8376-4960-9F11-5E6FC04D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63AF1-5A41-4D20-BD43-0D0397D1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DC2A-FC86-4F4F-A150-41B15D50CB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F647-D32D-4189-850D-B28565AF03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2A6-5097-4C77-8258-06C8C13139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E294-EE32-4B66-B621-75DE483F2F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3F4B-ABC3-4D29-A108-2B9F98E6A5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ABE8-5DF4-41E9-94A6-E1A9B548F4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2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62A-6E33-4A65-A263-2DE659F70A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66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B7DE-89BC-4ED4-98FA-C21748CBA0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321-D724-4DFB-8111-F65CEE024C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62C2-E5A5-49DE-97A6-917BBF02B8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79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E38C-1C8B-4B6D-8779-106AB6DF8A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353-FD56-4AE3-9CFE-767496BDE3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8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4964-0AC6-408D-898C-78A6549564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3FD-E875-486A-8B91-2930DE86D9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75B-7E96-412C-8EEA-BA507441444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97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2E6E-95B2-4FD1-9676-51282C78270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1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1DC-E652-406A-B168-3E7FBEA77E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0CDE-4F02-486F-AC4D-990CBB315A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F7D0-36F1-47A8-A5A6-86FE5BAC8DA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1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5B5-3F22-4CC7-B932-1A0BF0B1B6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1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660-C3D2-4139-BCCB-F5D215EC36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05B9-17EB-4FBB-B26A-A42C5D1B93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208D-CB02-44AA-A85C-2B214E19B8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9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D35A-9754-4D3A-8A95-54FF7B9111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23A-151B-411E-853F-0B39477C385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867F-AB3C-4851-8A2F-3CF4AE9CF3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D472-76E1-47E9-BB95-CFF5C3A489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7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560-5920-4120-B0C1-AC9C2C7E49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1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33EB-6072-4965-A490-87D56317C3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1D5-E6F6-4471-B68B-50F4ABB167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5"/>
          <p:cNvSpPr/>
          <p:nvPr/>
        </p:nvSpPr>
        <p:spPr>
          <a:xfrm>
            <a:off x="642960" y="11196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Енергія  пали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3280" y="2143080"/>
            <a:ext cx="8183520" cy="128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7200" spc="-1" strike="noStrike">
                <a:solidFill>
                  <a:srgbClr val="000000"/>
                </a:solidFill>
                <a:latin typeface="Verdana"/>
              </a:rPr>
              <a:t>Дякую за увагу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Group 12"/>
          <p:cNvGrpSpPr/>
          <p:nvPr/>
        </p:nvGrpSpPr>
        <p:grpSpPr>
          <a:xfrm>
            <a:off x="250920" y="257760"/>
            <a:ext cx="8715240" cy="6092280"/>
            <a:chOff x="250920" y="257760"/>
            <a:chExt cx="8715240" cy="6092280"/>
          </a:xfrm>
        </p:grpSpPr>
        <p:sp>
          <p:nvSpPr>
            <p:cNvPr id="1322" name="Rectangle 5"/>
            <p:cNvSpPr/>
            <p:nvPr/>
          </p:nvSpPr>
          <p:spPr>
            <a:xfrm>
              <a:off x="324000" y="257760"/>
              <a:ext cx="8642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 згорянні палива атоми Карбону, що звичайно містяться в паливі, з’єднуються з атомами Оксигену, що міститься в повітрі, у результаті чого утворюється вуглекислий газ. При утворенні молекул вуглекислого газу вивільнюється певна кількість теплот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Object 4"/>
                <p:cNvSpPr txBox="1"/>
                <p:nvPr/>
              </p:nvSpPr>
              <p:spPr>
                <a:xfrm>
                  <a:off x="3276720" y="2241720"/>
                  <a:ext cx="280800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4" name="Rectangle 6"/>
            <p:cNvSpPr/>
            <p:nvPr/>
          </p:nvSpPr>
          <p:spPr>
            <a:xfrm>
              <a:off x="250920" y="2739240"/>
              <a:ext cx="8578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оріння, пов’язане з руйнуванням одних молекул й утворенням інших, супроводжується виділенням деякої кількості теплоти. При цьому зміна внутрішньої енергії зумовлена термохімічними явищами, що відбуваються з палив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5" name="Picture 7" descr=""/>
            <p:cNvPicPr/>
            <p:nvPr/>
          </p:nvPicPr>
          <p:blipFill>
            <a:blip r:embed="rId1"/>
            <a:stretch/>
          </p:blipFill>
          <p:spPr>
            <a:xfrm>
              <a:off x="430200" y="4797360"/>
              <a:ext cx="1655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Picture 8" descr=""/>
            <p:cNvPicPr/>
            <p:nvPr/>
          </p:nvPicPr>
          <p:blipFill>
            <a:blip r:embed="rId2"/>
            <a:stretch/>
          </p:blipFill>
          <p:spPr>
            <a:xfrm>
              <a:off x="2085840" y="4797360"/>
              <a:ext cx="183672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Picture 9" descr=""/>
            <p:cNvPicPr/>
            <p:nvPr/>
          </p:nvPicPr>
          <p:blipFill>
            <a:blip r:embed="rId3"/>
            <a:stretch/>
          </p:blipFill>
          <p:spPr>
            <a:xfrm>
              <a:off x="3922560" y="4797360"/>
              <a:ext cx="162108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10" descr=""/>
            <p:cNvPicPr/>
            <p:nvPr/>
          </p:nvPicPr>
          <p:blipFill>
            <a:blip r:embed="rId4"/>
            <a:stretch/>
          </p:blipFill>
          <p:spPr>
            <a:xfrm>
              <a:off x="5506920" y="4797360"/>
              <a:ext cx="161928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11" descr=""/>
            <p:cNvPicPr/>
            <p:nvPr/>
          </p:nvPicPr>
          <p:blipFill>
            <a:blip r:embed="rId5"/>
            <a:stretch/>
          </p:blipFill>
          <p:spPr>
            <a:xfrm>
              <a:off x="7128000" y="4797360"/>
              <a:ext cx="1547640" cy="15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Group 8"/>
          <p:cNvGrpSpPr/>
          <p:nvPr/>
        </p:nvGrpSpPr>
        <p:grpSpPr>
          <a:xfrm>
            <a:off x="250920" y="-103320"/>
            <a:ext cx="8713800" cy="6627960"/>
            <a:chOff x="250920" y="-103320"/>
            <a:chExt cx="8713800" cy="6627960"/>
          </a:xfrm>
        </p:grpSpPr>
        <p:sp>
          <p:nvSpPr>
            <p:cNvPr id="1331" name="Rectangle 5"/>
            <p:cNvSpPr/>
            <p:nvPr/>
          </p:nvSpPr>
          <p:spPr>
            <a:xfrm>
              <a:off x="250920" y="-103320"/>
              <a:ext cx="87138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итома теплота згоряння палива чисельно дорівнює кількості теплоти, що виділяється при повному згорянні 1 кг палива</a:t>
              </a:r>
              <a:r>
                <a:rPr b="0" i="1" lang="uk-UA" sz="2400" spc="-1" strike="noStrike">
                  <a:solidFill>
                    <a:srgbClr val="6b9f25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итома теплота згоряння позначається буквою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Одиницею виміру питомої теплоти згоряння є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жоуль на кілограм (Дж/кг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того щоб обчислити кількість теплоти, що виділяється при згорянні довільної кількості палива, можна скористатися формулою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2" name="Object 4"/>
                <p:cNvSpPr txBox="1"/>
                <p:nvPr/>
              </p:nvSpPr>
              <p:spPr>
                <a:xfrm>
                  <a:off x="3786120" y="3500280"/>
                  <a:ext cx="165600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m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333" name="Picture 7" descr=""/>
            <p:cNvPicPr/>
            <p:nvPr/>
          </p:nvPicPr>
          <p:blipFill>
            <a:blip r:embed="rId1"/>
            <a:stretch/>
          </p:blipFill>
          <p:spPr>
            <a:xfrm>
              <a:off x="647640" y="4138560"/>
              <a:ext cx="8028000" cy="238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3"/>
          <p:cNvGrpSpPr/>
          <p:nvPr/>
        </p:nvGrpSpPr>
        <p:grpSpPr>
          <a:xfrm>
            <a:off x="-2520" y="160920"/>
            <a:ext cx="9183960" cy="6141240"/>
            <a:chOff x="-2520" y="160920"/>
            <a:chExt cx="9183960" cy="6141240"/>
          </a:xfrm>
        </p:grpSpPr>
        <p:pic>
          <p:nvPicPr>
            <p:cNvPr id="1335" name="Picture 10" descr=""/>
            <p:cNvPicPr/>
            <p:nvPr/>
          </p:nvPicPr>
          <p:blipFill>
            <a:blip r:embed="rId1"/>
            <a:stretch/>
          </p:blipFill>
          <p:spPr>
            <a:xfrm>
              <a:off x="7093080" y="981000"/>
              <a:ext cx="1881000" cy="1712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36" name="Object 9"/>
                <p:cNvSpPr txBox="1"/>
                <p:nvPr/>
              </p:nvSpPr>
              <p:spPr>
                <a:xfrm>
                  <a:off x="2484360" y="1670040"/>
                  <a:ext cx="10429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m</m:t>
                          </m:r>
                        </m:e>
                        <m:sub>
                          <m:r>
                            <m:t xml:space="preserve">д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7" name="Object 8"/>
                <p:cNvSpPr txBox="1"/>
                <p:nvPr/>
              </p:nvSpPr>
              <p:spPr>
                <a:xfrm>
                  <a:off x="249120" y="2349360"/>
                  <a:ext cx="209412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кип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8" name="Object 7"/>
                <p:cNvSpPr txBox="1"/>
                <p:nvPr/>
              </p:nvSpPr>
              <p:spPr>
                <a:xfrm>
                  <a:off x="230040" y="2781360"/>
                  <a:ext cx="9082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9" name="Object 6"/>
                <p:cNvSpPr txBox="1"/>
                <p:nvPr/>
              </p:nvSpPr>
              <p:spPr>
                <a:xfrm>
                  <a:off x="1619280" y="2782800"/>
                  <a:ext cx="241308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д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кип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0" name="Object 5"/>
                <p:cNvSpPr txBox="1"/>
                <p:nvPr/>
              </p:nvSpPr>
              <p:spPr>
                <a:xfrm>
                  <a:off x="3564000" y="3465360"/>
                  <a:ext cx="2305080" cy="83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д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кип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1" name="Object 4"/>
                <p:cNvSpPr txBox="1"/>
                <p:nvPr/>
              </p:nvSpPr>
              <p:spPr>
                <a:xfrm>
                  <a:off x="3598920" y="5121360"/>
                  <a:ext cx="16207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2" name="Rectangle 11"/>
            <p:cNvSpPr/>
            <p:nvPr/>
          </p:nvSpPr>
          <p:spPr>
            <a:xfrm>
              <a:off x="179280" y="160920"/>
              <a:ext cx="874872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числимо скільки потрібно спалити сухих дров, щоб довести до кипіння воду в повному трилітровому алюмінієвому казанку, якщо спочатку вода мала кімнатну температуру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uk-UA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в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12"/>
            <p:cNvSpPr/>
            <p:nvPr/>
          </p:nvSpPr>
          <p:spPr>
            <a:xfrm>
              <a:off x="0" y="1276920"/>
              <a:ext cx="6948360" cy="75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ількість теплоти, що виділяється при повному згорянні дров масою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uk-UA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д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, 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3"/>
            <p:cNvSpPr/>
            <p:nvPr/>
          </p:nvSpPr>
          <p:spPr>
            <a:xfrm>
              <a:off x="3316680" y="1626120"/>
              <a:ext cx="38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а кількість теплоти, необхід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14"/>
            <p:cNvSpPr/>
            <p:nvPr/>
          </p:nvSpPr>
          <p:spPr>
            <a:xfrm>
              <a:off x="2083680" y="2311920"/>
              <a:ext cx="512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кщо знехтувати тепловими втратами, т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5"/>
            <p:cNvSpPr/>
            <p:nvPr/>
          </p:nvSpPr>
          <p:spPr>
            <a:xfrm>
              <a:off x="1050480" y="2743920"/>
              <a:ext cx="61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б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16"/>
            <p:cNvSpPr/>
            <p:nvPr/>
          </p:nvSpPr>
          <p:spPr>
            <a:xfrm>
              <a:off x="3807000" y="2716560"/>
              <a:ext cx="47052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uk-UA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д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— питома теплота згоряння дров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7"/>
            <p:cNvSpPr/>
            <p:nvPr/>
          </p:nvSpPr>
          <p:spPr>
            <a:xfrm>
              <a:off x="179280" y="4364640"/>
              <a:ext cx="878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кщо враховувати, що енергія палива витрачається ще й на нагрівання казанка, то рівняння теплового балансу матиме вигляд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8"/>
            <p:cNvSpPr/>
            <p:nvPr/>
          </p:nvSpPr>
          <p:spPr>
            <a:xfrm>
              <a:off x="131040" y="5848920"/>
              <a:ext cx="90504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</a:t>
              </a:r>
              <a:r>
                <a:rPr b="0" lang="uk-UA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— кількість теплоти, необхідна для нагрівання алюмінієвого казан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20"/>
            <p:cNvSpPr/>
            <p:nvPr/>
          </p:nvSpPr>
          <p:spPr>
            <a:xfrm>
              <a:off x="-2520" y="1952640"/>
              <a:ext cx="63774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нагрівання води до температури кипіння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uk-UA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кип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, 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22"/>
            <p:cNvSpPr/>
            <p:nvPr/>
          </p:nvSpPr>
          <p:spPr>
            <a:xfrm>
              <a:off x="179280" y="3176640"/>
              <a:ext cx="342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Із цього рівняння одержуємо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099280" cy="435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. Як можна пояснити виділення теплоти під час горіння за допомогою атомно-молекулярного вчення?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. Що означає вираз «питома теплота згоряння палива дорівнює 12 Мдж/кг»?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. Визначте за таблицею, яке речовина має найменшу теплотворну здатність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. Визначте за таблицею, яке речовина має найбільшу теплотворну здатність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3348000" y="115920"/>
            <a:ext cx="24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2878200" cy="54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Задачі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216000" y="4282920"/>
            <a:ext cx="8712000" cy="1882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повному згорянні палива виділилася кількість теплоти, що дорівнює 50 Мдж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значте масу палива, якби як паливо використовували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риродний газ; б) сухі др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Rectangle 5"/>
          <p:cNvSpPr/>
          <p:nvPr/>
        </p:nvSpPr>
        <p:spPr>
          <a:xfrm>
            <a:off x="250920" y="9428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Яка кількість теплоти виділиться при повному згорянні спирту масою 200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Picture 4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616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643960" cy="221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Яку масу гасу треба спалити, щоб кількості теплоти, яка виділилася, вистачило на нагрівання води масою 22 кг від 20 °C до кипіння? Тепловими втратами знехтувати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22"/>
          <p:cNvGrpSpPr/>
          <p:nvPr/>
        </p:nvGrpSpPr>
        <p:grpSpPr>
          <a:xfrm>
            <a:off x="-109800" y="142920"/>
            <a:ext cx="9046440" cy="6369120"/>
            <a:chOff x="-109800" y="142920"/>
            <a:chExt cx="9046440" cy="6369120"/>
          </a:xfrm>
        </p:grpSpPr>
        <mc:AlternateContent>
          <mc:Choice xmlns:a14="http://schemas.microsoft.com/office/drawing/2010/main" Requires="a14">
            <p:sp>
              <p:nvSpPr>
                <p:cNvPr id="1360" name="Object 9"/>
                <p:cNvSpPr txBox="1"/>
                <p:nvPr/>
              </p:nvSpPr>
              <p:spPr>
                <a:xfrm>
                  <a:off x="3984480" y="1619280"/>
                  <a:ext cx="18766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1" name="Object 8"/>
                <p:cNvSpPr txBox="1"/>
                <p:nvPr/>
              </p:nvSpPr>
              <p:spPr>
                <a:xfrm>
                  <a:off x="6070680" y="2168640"/>
                  <a:ext cx="100800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2" name="Object 7"/>
                <p:cNvSpPr txBox="1"/>
                <p:nvPr/>
              </p:nvSpPr>
              <p:spPr>
                <a:xfrm>
                  <a:off x="3693960" y="2627280"/>
                  <a:ext cx="214812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m</m:t>
                          </m:r>
                        </m:e>
                        <m:sub>
                          <m:r>
                            <m:t xml:space="preserve">г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b>
                          <m:r>
                            <m:t xml:space="preserve">в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3" name="Object 6"/>
                <p:cNvSpPr txBox="1"/>
                <p:nvPr/>
              </p:nvSpPr>
              <p:spPr>
                <a:xfrm>
                  <a:off x="5111640" y="3166920"/>
                  <a:ext cx="2384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г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4" name="Object 5"/>
                <p:cNvSpPr txBox="1"/>
                <p:nvPr/>
              </p:nvSpPr>
              <p:spPr>
                <a:xfrm>
                  <a:off x="4665600" y="4246560"/>
                  <a:ext cx="3087720" cy="13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г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Дж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кг</m:t>
                              </m:r>
                              <m:sSup>
                                <m:e>
                                  <m:r>
                                    <m:t xml:space="preserve">⋅</m:t>
                                  </m:r>
                                </m:e>
                                <m:sup>
                                  <m:r>
                                    <m:t xml:space="preserve">∘</m:t>
                                  </m:r>
                                </m:sup>
                              </m:sSup>
                              <m:r>
                                <m:t xml:space="preserve">С</m:t>
                              </m:r>
                            </m:den>
                          </m:f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  <m:sSup>
                            <m:e>
                              <m:r>
                                <m:t xml:space="preserve">⋅</m:t>
                              </m:r>
                            </m:e>
                            <m:sup>
                              <m:r>
                                <m:t xml:space="preserve">∘</m:t>
                              </m:r>
                            </m:sup>
                          </m:sSup>
                          <m:r>
                            <m:t xml:space="preserve">С</m:t>
                          </m:r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Дж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кг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кг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5" name="Object 4"/>
                <p:cNvSpPr txBox="1"/>
                <p:nvPr/>
              </p:nvSpPr>
              <p:spPr>
                <a:xfrm>
                  <a:off x="3997440" y="5722920"/>
                  <a:ext cx="474804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г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00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d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6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72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66" name="Group 21"/>
            <p:cNvGrpSpPr/>
            <p:nvPr/>
          </p:nvGrpSpPr>
          <p:grpSpPr>
            <a:xfrm>
              <a:off x="281160" y="668160"/>
              <a:ext cx="8286480" cy="509400"/>
              <a:chOff x="281160" y="668160"/>
              <a:chExt cx="8286480" cy="509400"/>
            </a:xfrm>
          </p:grpSpPr>
          <mc:AlternateContent>
            <mc:Choice xmlns:a14="http://schemas.microsoft.com/office/drawing/2010/main" Requires="a14">
              <p:sp>
                <p:nvSpPr>
                  <p:cNvPr id="1367" name="Object 10"/>
                  <p:cNvSpPr txBox="1"/>
                  <p:nvPr/>
                </p:nvSpPr>
                <p:spPr>
                  <a:xfrm>
                    <a:off x="7427880" y="668160"/>
                    <a:ext cx="113976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8" name="Rectangle 11"/>
              <p:cNvSpPr/>
              <p:nvPr/>
            </p:nvSpPr>
            <p:spPr>
              <a:xfrm>
                <a:off x="281160" y="717840"/>
                <a:ext cx="700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и згорянні гасу виділяється кількість теплот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Rectangle 12"/>
            <p:cNvSpPr/>
            <p:nvPr/>
          </p:nvSpPr>
          <p:spPr>
            <a:xfrm>
              <a:off x="207720" y="1186200"/>
              <a:ext cx="87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ля нагрівання води до кипіння необхідна кількість тепло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3"/>
            <p:cNvSpPr/>
            <p:nvPr/>
          </p:nvSpPr>
          <p:spPr>
            <a:xfrm>
              <a:off x="-109800" y="2121480"/>
              <a:ext cx="59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 рівняння теплового балансу випливає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4"/>
            <p:cNvSpPr/>
            <p:nvPr/>
          </p:nvSpPr>
          <p:spPr>
            <a:xfrm>
              <a:off x="7037280" y="2095920"/>
              <a:ext cx="6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б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5"/>
            <p:cNvSpPr/>
            <p:nvPr/>
          </p:nvSpPr>
          <p:spPr>
            <a:xfrm>
              <a:off x="-23040" y="3356280"/>
              <a:ext cx="46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ідси можна знайти масу гасу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6"/>
            <p:cNvSpPr/>
            <p:nvPr/>
          </p:nvSpPr>
          <p:spPr>
            <a:xfrm>
              <a:off x="117000" y="4569120"/>
              <a:ext cx="45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віряємо одиниці величин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7"/>
            <p:cNvSpPr/>
            <p:nvPr/>
          </p:nvSpPr>
          <p:spPr>
            <a:xfrm>
              <a:off x="337680" y="5866200"/>
              <a:ext cx="354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числюємо масу гасу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20"/>
            <p:cNvSpPr/>
            <p:nvPr/>
          </p:nvSpPr>
          <p:spPr>
            <a:xfrm>
              <a:off x="3817080" y="142920"/>
              <a:ext cx="20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озв’яз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526920" y="188640"/>
            <a:ext cx="2373480" cy="57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оміркуй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496000" cy="5072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Чому будинок вигідніше опалювати, використовуючи вугілля, природний газ або рідке паливо, ніж дерево й соло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Чому питома теплота згоряння сирих дров менше питомої теплоти згоряння сухих дров тієї ж пород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Чому порох невигідно використовувати як паливо, а в артилерійських знаряддях бензином його замінити не можн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3-18T20:29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Физика 8 класс\Урок 51 Энергия топлива\P-Урок 51 Энергия топлива.Ppt</vt:lpwstr>
  </property>
</Properties>
</file>