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gif" ContentType="image/gif"/>
  <Override PartName="/ppt/media/image7.gif" ContentType="image/gif"/>
  <Override PartName="/ppt/media/image5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13.jpeg" ContentType="image/jpeg"/>
  <Override PartName="/ppt/media/image4.png" ContentType="image/png"/>
  <Override PartName="/ppt/media/image23.gif" ContentType="image/gif"/>
  <Override PartName="/ppt/media/image15.png" ContentType="image/png"/>
  <Override PartName="/ppt/media/image21.gif" ContentType="image/gif"/>
  <Override PartName="/ppt/media/image19.jpeg" ContentType="image/jpeg"/>
  <Override PartName="/ppt/media/image1.jpeg" ContentType="image/jpeg"/>
  <Override PartName="/ppt/media/image20.png" ContentType="image/png"/>
  <Override PartName="/ppt/media/image18.png" ContentType="image/png"/>
  <Override PartName="/ppt/media/image16.jpeg" ContentType="image/jpeg"/>
  <Override PartName="/ppt/media/image14.gif" ContentType="image/gif"/>
  <Override PartName="/ppt/media/image17.png" ContentType="image/png"/>
  <Override PartName="/ppt/media/image22.gif" ContentType="image/gif"/>
  <Override PartName="/ppt/media/image2.png" ContentType="image/png"/>
  <Override PartName="/ppt/media/image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FE22-4C87-4EC4-BF04-EFAC92333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9F7F-EDB1-4C81-A6F6-42C8A286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BBDD-5CD3-4575-B387-61190FADF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1B94-A8A4-4A98-BD22-AA520EE4F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8E5A-33F0-45CC-8460-40EF80B8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DD5F-AA4B-4653-8750-15A75220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BB8F-DB2F-431F-A8ED-1D413921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0ECA-E461-472C-A544-C80B763C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5CFE-1F12-4C2C-A274-91BB92DB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84A0-63F4-4205-B3F7-45ED8C13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7287-0CA6-4634-B251-0FCCC8E9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51D6-138A-4EDC-B836-EE7396AA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4D0E-986D-4FC6-A5AE-32A93DFB1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92960" y="4365720"/>
            <a:ext cx="6252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рок  української мови, 6 кл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Учитель  Іваніна Наталя Сергії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вчально-виховний комплек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«Загальноосвітня школ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. – дитячий садок №10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.Дружківка, Донецька об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411280" y="404640"/>
            <a:ext cx="4319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рок - гра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" descr="Белоснежка - II младшая группа &quot;Солнышко&quot;"/>
          <p:cNvPicPr/>
          <p:nvPr/>
        </p:nvPicPr>
        <p:blipFill>
          <a:blip r:embed="rId2"/>
          <a:stretch/>
        </p:blipFill>
        <p:spPr>
          <a:xfrm>
            <a:off x="4067280" y="1413000"/>
            <a:ext cx="2952720" cy="2793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WordArt 4"/>
          <p:cNvSpPr txBox="1"/>
          <p:nvPr/>
        </p:nvSpPr>
        <p:spPr>
          <a:xfrm>
            <a:off x="2195640" y="549360"/>
            <a:ext cx="540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ексична розминк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2050920" y="2003400"/>
            <a:ext cx="669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Невіглас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uk-UA" sz="1800" spc="-1" strike="noStrike">
                <a:solidFill>
                  <a:srgbClr val="ff9900"/>
                </a:solidFill>
                <a:latin typeface="Arial"/>
              </a:rPr>
              <a:t>неосвчена людина, яка не має достатніх знань, досві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Неук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uk-UA" sz="1800" spc="-1" strike="noStrike">
                <a:solidFill>
                  <a:srgbClr val="00cc00"/>
                </a:solidFill>
                <a:latin typeface="Arial"/>
              </a:rPr>
              <a:t>1. Обмежена невихована, некультурна людина. 2. Нетямуща, неосвічена, малознаюча люд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Неґречність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uk-UA" sz="1800" spc="-1" strike="noStrike">
                <a:solidFill>
                  <a:srgbClr val="66ccff"/>
                </a:solidFill>
                <a:latin typeface="Arial"/>
              </a:rPr>
              <a:t>неповга, неввічливість, грубі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kaplya"/>
          <p:cNvPicPr/>
          <p:nvPr/>
        </p:nvPicPr>
        <p:blipFill>
          <a:blip r:embed="rId2"/>
          <a:stretch/>
        </p:blipFill>
        <p:spPr>
          <a:xfrm>
            <a:off x="7020000" y="4005360"/>
            <a:ext cx="1886040" cy="1885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WordArt 3"/>
          <p:cNvSpPr txBox="1"/>
          <p:nvPr/>
        </p:nvSpPr>
        <p:spPr>
          <a:xfrm>
            <a:off x="1763640" y="333360"/>
            <a:ext cx="5977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вні спостереженн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39640" y="1773360"/>
          <a:ext cx="6120000" cy="1655640"/>
        </p:xfrm>
        <a:graphic>
          <a:graphicData uri="http://schemas.openxmlformats.org/drawingml/2006/table">
            <a:tbl>
              <a:tblPr/>
              <a:tblGrid>
                <a:gridCol w="1098720"/>
                <a:gridCol w="5021280"/>
              </a:tblGrid>
              <a:tr h="16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роб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лі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гайн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ажність – неуважність – ( розсіяніст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жання – небажання – ( знеохот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ум – нерозум – ( глупота, безглузд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4" name="Picture 21" descr="3196"/>
          <p:cNvPicPr/>
          <p:nvPr/>
        </p:nvPicPr>
        <p:blipFill>
          <a:blip r:embed="rId2"/>
          <a:stretch/>
        </p:blipFill>
        <p:spPr>
          <a:xfrm>
            <a:off x="6000840" y="2852640"/>
            <a:ext cx="3143160" cy="3000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WordArt 4"/>
          <p:cNvSpPr txBox="1"/>
          <p:nvPr/>
        </p:nvSpPr>
        <p:spPr>
          <a:xfrm>
            <a:off x="2195640" y="260280"/>
            <a:ext cx="4968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амостійна робота учнів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із підручником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826920" y="1989000"/>
          <a:ext cx="6077160" cy="1127160"/>
        </p:xfrm>
        <a:graphic>
          <a:graphicData uri="http://schemas.openxmlformats.org/drawingml/2006/table">
            <a:tbl>
              <a:tblPr/>
              <a:tblGrid>
                <a:gridCol w="3038760"/>
                <a:gridCol w="3038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ом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ем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Не вживається без н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Запереченн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Синоні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ротиставлення ( сполучник а, але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8" name="Picture 45" descr="C145-081"/>
          <p:cNvPicPr/>
          <p:nvPr/>
        </p:nvPicPr>
        <p:blipFill>
          <a:blip r:embed="rId2"/>
          <a:stretch/>
        </p:blipFill>
        <p:spPr>
          <a:xfrm>
            <a:off x="6969240" y="3068640"/>
            <a:ext cx="1758960" cy="2755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4"/>
          <p:cNvSpPr txBox="1"/>
          <p:nvPr/>
        </p:nvSpPr>
        <p:spPr>
          <a:xfrm>
            <a:off x="1908000" y="549360"/>
            <a:ext cx="540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ментоване письм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692360" y="1554120"/>
            <a:ext cx="597672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еправдою світ пройдеш, а назад не вернешся. Не краса красить, а розум. Чує серце недоленьку, сказати не вміє. Казка була йому не вигадкою, а билицею. Учений іде, а неук слідом спотикається. Грамота не хвороба, літ не збав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629008"/>
          <p:cNvPicPr/>
          <p:nvPr/>
        </p:nvPicPr>
        <p:blipFill>
          <a:blip r:embed="rId2"/>
          <a:stretch/>
        </p:blipFill>
        <p:spPr>
          <a:xfrm>
            <a:off x="6732720" y="3500280"/>
            <a:ext cx="1800000" cy="2303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WordArt 4"/>
          <p:cNvSpPr txBox="1"/>
          <p:nvPr/>
        </p:nvSpPr>
        <p:spPr>
          <a:xfrm>
            <a:off x="2411280" y="404640"/>
            <a:ext cx="4681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Ігрове завданн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2195640" y="1484640"/>
            <a:ext cx="554508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 Круглий, та (не) місяць; зелений, та (не) діброва; з хвостом, та (не) миша. 2) Кинув (не) палку,піймав (не) галку; скубу (не) пір’я, їм (не) м’ясо. 3) Сам чорен, та (не) ворон; є роги, та (не) бик;шість ніг без копит. 4) Солоне, а (не) сіль; біжить, а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не) річка; блищить, а (не) золото (Нар.творчіст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відка: кавун, риба, рогатий жук, сльоз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0_75b6b_156be9d9_M"/>
          <p:cNvPicPr/>
          <p:nvPr/>
        </p:nvPicPr>
        <p:blipFill>
          <a:blip r:embed="rId2"/>
          <a:stretch/>
        </p:blipFill>
        <p:spPr>
          <a:xfrm>
            <a:off x="6156360" y="350028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016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WordArt 4"/>
          <p:cNvSpPr txBox="1"/>
          <p:nvPr/>
        </p:nvSpPr>
        <p:spPr>
          <a:xfrm>
            <a:off x="2340000" y="0"/>
            <a:ext cx="4321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бота у групах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69800" y="981360"/>
            <a:ext cx="226872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 груп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дружелюбність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згода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пам'ять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повага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повага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повага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порядок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послідовність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3637440" y="981000"/>
            <a:ext cx="230832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 груп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поступливість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правдивість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рішучість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слухняність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щирість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справедливість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6806880" y="1052640"/>
            <a:ext cx="177192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 груп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ук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уважність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скореність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щастя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жить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долік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chicks_school_uniforms"/>
          <p:cNvPicPr/>
          <p:nvPr/>
        </p:nvPicPr>
        <p:blipFill>
          <a:blip r:embed="rId2"/>
          <a:stretch/>
        </p:blipFill>
        <p:spPr>
          <a:xfrm>
            <a:off x="5651640" y="3500280"/>
            <a:ext cx="3047760" cy="198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WordArt 3"/>
          <p:cNvSpPr txBox="1"/>
          <p:nvPr/>
        </p:nvSpPr>
        <p:spPr>
          <a:xfrm>
            <a:off x="2050920" y="476280"/>
            <a:ext cx="5545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біркове списуванн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763640" y="1356120"/>
            <a:ext cx="583272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 група: неувага, негода, невіглас, невдача, непохитність, нещастя, небезп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2 група: немовля, неволя, недруг, невидимка, неміч, невмі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3 група: невдаха, непорядок, небилиця, невіглас, недружелюбність, неґречність, неввічливі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0_825f9_23d2bde8_M"/>
          <p:cNvPicPr/>
          <p:nvPr/>
        </p:nvPicPr>
        <p:blipFill>
          <a:blip r:embed="rId2"/>
          <a:stretch/>
        </p:blipFill>
        <p:spPr>
          <a:xfrm>
            <a:off x="6227640" y="3213000"/>
            <a:ext cx="2619360" cy="2857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WordArt 4"/>
          <p:cNvSpPr txBox="1"/>
          <p:nvPr/>
        </p:nvSpPr>
        <p:spPr>
          <a:xfrm>
            <a:off x="2556000" y="404640"/>
            <a:ext cx="4824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ворча лабораторія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1692360" y="2060280"/>
            <a:ext cx="66261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класти алгоритм до написання не з іменниками, підібрати приклади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0_3a872_6e98ade7_L"/>
          <p:cNvPicPr/>
          <p:nvPr/>
        </p:nvPicPr>
        <p:blipFill>
          <a:blip r:embed="rId2"/>
          <a:stretch/>
        </p:blipFill>
        <p:spPr>
          <a:xfrm>
            <a:off x="6156360" y="3870360"/>
            <a:ext cx="2987640" cy="298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nez"/>
          <p:cNvPicPr/>
          <p:nvPr/>
        </p:nvPicPr>
        <p:blipFill>
          <a:blip r:embed="rId2"/>
          <a:stretch/>
        </p:blipFill>
        <p:spPr>
          <a:xfrm>
            <a:off x="1476360" y="1052640"/>
            <a:ext cx="6553080" cy="3816360"/>
          </a:xfrm>
          <a:prstGeom prst="rect">
            <a:avLst/>
          </a:prstGeom>
          <a:ln w="0">
            <a:noFill/>
          </a:ln>
        </p:spPr>
      </p:pic>
      <p:sp>
        <p:nvSpPr>
          <p:cNvPr id="123" name="WordArt 4"/>
          <p:cNvSpPr txBox="1"/>
          <p:nvPr/>
        </p:nvSpPr>
        <p:spPr>
          <a:xfrm>
            <a:off x="2340000" y="260280"/>
            <a:ext cx="4392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вна вікторин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4" name="Picture 6" descr="j151910_1250509651"/>
          <p:cNvPicPr/>
          <p:nvPr/>
        </p:nvPicPr>
        <p:blipFill>
          <a:blip r:embed="rId3"/>
          <a:stretch/>
        </p:blipFill>
        <p:spPr>
          <a:xfrm>
            <a:off x="5364000" y="4221000"/>
            <a:ext cx="3529080" cy="2345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WordArt 4"/>
          <p:cNvSpPr txBox="1"/>
          <p:nvPr/>
        </p:nvSpPr>
        <p:spPr>
          <a:xfrm>
            <a:off x="1763640" y="333360"/>
            <a:ext cx="583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флесія. " Мікрофон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2424600" y="1279080"/>
            <a:ext cx="48834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Що вам на уроці найбільше сподобало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цініть свої досягнення, піднявши ру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763640" y="2336760"/>
          <a:ext cx="6048000" cy="2309760"/>
        </p:xfrm>
        <a:graphic>
          <a:graphicData uri="http://schemas.openxmlformats.org/drawingml/2006/table">
            <a:tbl>
              <a:tblPr/>
              <a:tblGrid>
                <a:gridCol w="2015640"/>
                <a:gridCol w="2014920"/>
                <a:gridCol w="2017440"/>
              </a:tblGrid>
              <a:tr h="1465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ізнали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 нов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мало нов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гато нов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332000" y="404640"/>
            <a:ext cx="6335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укціон знань по вивченному матеріалу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6000" y="1482840"/>
            <a:ext cx="6840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а якою ознакою в українській мові поділяються іменники на відмін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о якої відміни належать іменники жіночого і середньго род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Чому при поділі іменників на відміни беруться до уваги рід слова та його закінченн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Які відміни подібні в українській і російській мов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Яка відміна властива тільки українській мові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WordArt 3"/>
          <p:cNvSpPr txBox="1"/>
          <p:nvPr/>
        </p:nvSpPr>
        <p:spPr>
          <a:xfrm>
            <a:off x="2268360" y="333360"/>
            <a:ext cx="4824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машнє завданн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1547640" y="2120760"/>
            <a:ext cx="683280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ивчити правил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§24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, вправа 1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Додатково: скласти і записати казку про життя іменників у країні « Не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Строительство"/>
          <p:cNvPicPr/>
          <p:nvPr/>
        </p:nvPicPr>
        <p:blipFill>
          <a:blip r:embed="rId2"/>
          <a:stretch/>
        </p:blipFill>
        <p:spPr>
          <a:xfrm>
            <a:off x="5724360" y="3573360"/>
            <a:ext cx="3095640" cy="2352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WordArt 6"/>
          <p:cNvSpPr txBox="1"/>
          <p:nvPr/>
        </p:nvSpPr>
        <p:spPr>
          <a:xfrm>
            <a:off x="1042920" y="476280"/>
            <a:ext cx="7345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нкурс " Кмітливі та спритні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Rectangle 2568"/>
          <p:cNvSpPr/>
          <p:nvPr/>
        </p:nvSpPr>
        <p:spPr>
          <a:xfrm>
            <a:off x="900000" y="1226160"/>
            <a:ext cx="759636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о горизонталі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.Нетямуща, неосвічена, малознаюча людина; профан. ( Неу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.Синонім до слів безділля, байдикування. ( Неробств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. Бруд, неохайність у зошиті. ( Неакуратні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о вертикалі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.Обмежена, невихована, некультурна людина. ( Невігла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.Те, чого насправді не буває; вигадка, брехня. ( Небилиц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.Того, кому не сидиться на місці, називають… ( Непоси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4.Синонім до слів нечемність, неґречність. ( Неввічливі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570" descr="bambi-506"/>
          <p:cNvPicPr/>
          <p:nvPr/>
        </p:nvPicPr>
        <p:blipFill>
          <a:blip r:embed="rId2"/>
          <a:stretch/>
        </p:blipFill>
        <p:spPr>
          <a:xfrm>
            <a:off x="5796000" y="4149720"/>
            <a:ext cx="2990880" cy="2476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WordArt 3"/>
          <p:cNvSpPr txBox="1"/>
          <p:nvPr/>
        </p:nvSpPr>
        <p:spPr>
          <a:xfrm>
            <a:off x="2124000" y="1700280"/>
            <a:ext cx="5616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якую за увагу!!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9" name="Picture 5" descr="238248915"/>
          <p:cNvPicPr/>
          <p:nvPr/>
        </p:nvPicPr>
        <p:blipFill>
          <a:blip r:embed="rId2"/>
          <a:stretch/>
        </p:blipFill>
        <p:spPr>
          <a:xfrm>
            <a:off x="5435640" y="3933720"/>
            <a:ext cx="2449440" cy="1440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%D1%81%D0%BE%D0%BB%D0%BD%D1%86%D0%B5%20%D1%81%20%D0%BB%D1%83%D1%87%D0%B0%D0%BC%D0%B8"/>
          <p:cNvPicPr/>
          <p:nvPr/>
        </p:nvPicPr>
        <p:blipFill>
          <a:blip r:embed="rId2"/>
          <a:stretch/>
        </p:blipFill>
        <p:spPr>
          <a:xfrm>
            <a:off x="6516720" y="3429000"/>
            <a:ext cx="2627280" cy="2514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00000" y="1370160"/>
            <a:ext cx="748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о – дорога(1), доля(1), домовик(2),дотик(2).,подорож(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е – ремінь(2), перемога(1), директор(2), море(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Мі – місто(2), комісар(2), міць(3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Фа – фабрика(1),фальш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оль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Ля – земля(1), лялька(1), футляр(2), весілля(2), теля(4),орля (4), маля(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і – сім’я(1), сік(2), сівба(1),сівач(2), сіль(3), сіно(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908000" y="333360"/>
            <a:ext cx="583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заємоперевірка домашнього завдання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WordArt 4"/>
          <p:cNvSpPr txBox="1"/>
          <p:nvPr/>
        </p:nvSpPr>
        <p:spPr>
          <a:xfrm>
            <a:off x="3203640" y="404640"/>
            <a:ext cx="3529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цінюванн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611280" y="3141720"/>
            <a:ext cx="360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539640" y="33336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7956720" y="2637000"/>
            <a:ext cx="5554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WordArt 8"/>
          <p:cNvSpPr txBox="1"/>
          <p:nvPr/>
        </p:nvSpPr>
        <p:spPr>
          <a:xfrm>
            <a:off x="6516720" y="1413000"/>
            <a:ext cx="57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8" name="WordArt 9"/>
          <p:cNvSpPr txBox="1"/>
          <p:nvPr/>
        </p:nvSpPr>
        <p:spPr>
          <a:xfrm>
            <a:off x="7885080" y="4437000"/>
            <a:ext cx="54612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9" name="WordArt 10"/>
          <p:cNvSpPr txBox="1"/>
          <p:nvPr/>
        </p:nvSpPr>
        <p:spPr>
          <a:xfrm>
            <a:off x="6588000" y="4221000"/>
            <a:ext cx="86364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0" name="WordArt 11"/>
          <p:cNvSpPr txBox="1"/>
          <p:nvPr/>
        </p:nvSpPr>
        <p:spPr>
          <a:xfrm>
            <a:off x="3348000" y="3213000"/>
            <a:ext cx="54612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WordArt 12"/>
          <p:cNvSpPr txBox="1"/>
          <p:nvPr/>
        </p:nvSpPr>
        <p:spPr>
          <a:xfrm>
            <a:off x="5219640" y="4292640"/>
            <a:ext cx="576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8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WordArt 13"/>
          <p:cNvSpPr txBox="1"/>
          <p:nvPr/>
        </p:nvSpPr>
        <p:spPr>
          <a:xfrm>
            <a:off x="8028000" y="404640"/>
            <a:ext cx="9777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3" name="WordArt 14"/>
          <p:cNvSpPr txBox="1"/>
          <p:nvPr/>
        </p:nvSpPr>
        <p:spPr>
          <a:xfrm>
            <a:off x="1979640" y="1628640"/>
            <a:ext cx="1584360" cy="110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1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64" name="WordArt 15"/>
          <p:cNvSpPr txBox="1"/>
          <p:nvPr/>
        </p:nvSpPr>
        <p:spPr>
          <a:xfrm>
            <a:off x="4356000" y="1844640"/>
            <a:ext cx="115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1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WordArt 16"/>
          <p:cNvSpPr txBox="1"/>
          <p:nvPr/>
        </p:nvSpPr>
        <p:spPr>
          <a:xfrm>
            <a:off x="5796000" y="2708280"/>
            <a:ext cx="136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2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016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4730760" y="1747080"/>
            <a:ext cx="387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Відкрий. Це чиста сторі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На ній нема ані с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Мов лілії ніжна пелюст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Тремтить білизна загадк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Перо між рукою й папер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Як дощ-між пелюсткою й неб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Одні тут слова недоречні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А інших нема, коли треба</a:t>
            </a:r>
            <a:r>
              <a:rPr b="0" lang="uk-UA" sz="18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Ліліана Арнаут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4"/>
          <p:cNvSpPr txBox="1"/>
          <p:nvPr/>
        </p:nvSpPr>
        <p:spPr>
          <a:xfrm>
            <a:off x="2916360" y="260280"/>
            <a:ext cx="36003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етичний вступ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9" name="Picture 6" descr="Paradis du web paradisduweb.kazeo.com"/>
          <p:cNvPicPr/>
          <p:nvPr/>
        </p:nvPicPr>
        <p:blipFill>
          <a:blip r:embed="rId2"/>
          <a:stretch/>
        </p:blipFill>
        <p:spPr>
          <a:xfrm>
            <a:off x="684360" y="1628640"/>
            <a:ext cx="1800000" cy="1727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WordArt 3"/>
          <p:cNvSpPr txBox="1"/>
          <p:nvPr/>
        </p:nvSpPr>
        <p:spPr>
          <a:xfrm>
            <a:off x="2268360" y="260280"/>
            <a:ext cx="5183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ідгадайте загадк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2" name="WordArt 5"/>
          <p:cNvSpPr txBox="1"/>
          <p:nvPr/>
        </p:nvSpPr>
        <p:spPr>
          <a:xfrm>
            <a:off x="3348000" y="1773360"/>
            <a:ext cx="3672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віря мені людина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оч маленька я частина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о без мене, безперечно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 буває заперечень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3" name="Picture 7" descr="%D1%81%D0%BE%D0%BB%D0%BD%D1%86%D0%B5%20%D1%81%20%D0%BB%D1%83%D1%87%D0%B0%D0%BC%D0%B8"/>
          <p:cNvPicPr/>
          <p:nvPr/>
        </p:nvPicPr>
        <p:blipFill>
          <a:blip r:embed="rId2"/>
          <a:stretch/>
        </p:blipFill>
        <p:spPr>
          <a:xfrm>
            <a:off x="6516720" y="3429000"/>
            <a:ext cx="2627280" cy="2514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мотивация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5542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WordArt 6"/>
          <p:cNvSpPr txBox="1"/>
          <p:nvPr/>
        </p:nvSpPr>
        <p:spPr>
          <a:xfrm>
            <a:off x="2268360" y="333360"/>
            <a:ext cx="4824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« Мікрофон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971640" y="177336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1.Як ви гадаєте, якою буде мета нашого урок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cc00"/>
                </a:solidFill>
                <a:latin typeface="Arial"/>
              </a:rPr>
              <a:t>2.Що повинні знати і вміти після вивчення цієї те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КАРТИНКА Собака держит в зубах игрушку gif анимация смайлик …"/>
          <p:cNvPicPr/>
          <p:nvPr/>
        </p:nvPicPr>
        <p:blipFill>
          <a:blip r:embed="rId2"/>
          <a:stretch/>
        </p:blipFill>
        <p:spPr>
          <a:xfrm>
            <a:off x="5508720" y="3573360"/>
            <a:ext cx="3168720" cy="2160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WordArt 5"/>
          <p:cNvSpPr txBox="1"/>
          <p:nvPr/>
        </p:nvSpPr>
        <p:spPr>
          <a:xfrm>
            <a:off x="1979640" y="404640"/>
            <a:ext cx="540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вне дослідженн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1" name="" descr="Растровый клипарт"/>
          <p:cNvPicPr/>
          <p:nvPr/>
        </p:nvPicPr>
        <p:blipFill>
          <a:blip r:embed="rId2"/>
          <a:stretch/>
        </p:blipFill>
        <p:spPr>
          <a:xfrm>
            <a:off x="324000" y="1341360"/>
            <a:ext cx="3743280" cy="2411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Растровый клипарт"/>
          <p:cNvPicPr/>
          <p:nvPr/>
        </p:nvPicPr>
        <p:blipFill>
          <a:blip r:embed="rId3"/>
          <a:stretch/>
        </p:blipFill>
        <p:spPr>
          <a:xfrm>
            <a:off x="4788000" y="1341360"/>
            <a:ext cx="3743280" cy="2411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Растровый клипарт"/>
          <p:cNvPicPr/>
          <p:nvPr/>
        </p:nvPicPr>
        <p:blipFill>
          <a:blip r:embed="rId4"/>
          <a:stretch/>
        </p:blipFill>
        <p:spPr>
          <a:xfrm>
            <a:off x="2916360" y="3933720"/>
            <a:ext cx="3743280" cy="2411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332000" y="2276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(не)вігла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867280" y="2421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(не)у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35280" y="50133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(не)ґречні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0T19:36:57Z</dcterms:created>
  <dc:creator>www.PHILka.RU</dc:creator>
  <dc:description/>
  <dc:language>en-US</dc:language>
  <cp:lastModifiedBy>www.PHILka.RU</cp:lastModifiedBy>
  <dcterms:modified xsi:type="dcterms:W3CDTF">2014-12-01T08:37:00Z</dcterms:modified>
  <cp:revision>10</cp:revision>
  <dc:subject/>
  <dc:title>Слайд 1</dc:title>
</cp:coreProperties>
</file>