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C03-45CB-40D6-8AAB-7599479C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C5A-8EF0-46A1-AEDC-61DB6A3A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42D-74F3-4C49-A2BA-65B28359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85E-9FEE-4A11-98E7-BCD4A8DB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EF8-68AA-4F8D-AC9E-38DED095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212-D6B4-4714-B8CA-365612E9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C94-1A2D-4698-9582-F872513B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377-9F02-47CF-A1BB-2C1D4406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061-678A-4EEB-9B00-0062A98C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9BC-3FAD-4218-AFE8-2684E6E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75F-D4C8-4414-9A7E-B600FED2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9D4-E342-470B-8BC7-BB2D64D5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BFB9-83B4-46C9-932F-4ACA07A9C2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eń świętego Mikołaja. Stopniowanie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przymiotni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4220640"/>
            <a:ext cx="6832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готувала Ковальчук Наталія, вчитель польської мов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НВК «Оженинська ЗОШ І – ІІІ ст. (ліцей) – ДНЗ» ім. Т. Г. Шевч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matyka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Stopniowanie przymiotnik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w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topie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ń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y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zy przymiotnik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 tworzy si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ę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za pomoc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ko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ki 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szy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z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now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nowszy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od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odszy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zemu często towarzyszą oboczności w temat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ąc-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ęt-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orąc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oręt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ad-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ed-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led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ł-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l-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wał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wal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ił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il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a ponad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iał-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iel-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iał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iel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śmiał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śmiel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oł-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el-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soł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selsz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0920" y="40464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b końcówki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z obocznościami w temac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ł-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l-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epł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epl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n-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ni-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em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emni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waś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waśni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śmiesz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śmieszni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sn-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śni-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as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aśni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as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aśni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r-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rz-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ąd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ądrz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t-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ci-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żół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żółci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w-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wi-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łatw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→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łatwiejs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lackadder ITC"/>
              </a:rPr>
              <a:t>Dziękuję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lackadder ITC"/>
              </a:rPr>
              <a:t>wszystkim za uwag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fffff"/>
                </a:solidFill>
                <a:latin typeface="Blackadder ITC"/>
              </a:rPr>
              <a:t>Witam was na lekcj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fffff"/>
                </a:solidFill>
                <a:latin typeface="Blackadder ITC"/>
              </a:rPr>
              <a:t> </a:t>
            </a:r>
            <a:r>
              <a:rPr b="0" lang="pl-PL" sz="6600" spc="-1" strike="noStrike">
                <a:solidFill>
                  <a:srgbClr val="ffffff"/>
                </a:solidFill>
                <a:latin typeface="Blackadder ITC"/>
              </a:rPr>
              <a:t>języka polskie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em naszej lekcji j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auczenie opowiadać o wakacjach w Pols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równać obchody dnia św. Mikołaja w Ukrainie i w Pols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szerzyć wiedzę uczniów na temat tradycji i zwyczajów kraju, którego język jest badan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chowywać świadome dążenie do poznania więcej o kraju sąsiad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zgrzewka języko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najdź cząstki wierszyków i połączyć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dzie zima id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ą ś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wi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ę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ta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br>
              <a:rPr sz="1600"/>
            </a:b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Ka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ż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y cz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ł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wiek to pami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ę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ta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</a:t>
            </a:r>
            <a:br>
              <a:rPr sz="1600"/>
            </a:b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Ż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ycz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ę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i rado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ś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i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zdrowia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br>
              <a:rPr sz="1600"/>
            </a:b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zcz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ęś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ia i dobrego s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ł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wa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br>
              <a:rPr sz="1600"/>
            </a:b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u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ż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 jad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ł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a du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ż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 picia oraz d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ł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ugie lata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ż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ycia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 rot="20245200">
            <a:off x="871560" y="3174840"/>
            <a:ext cx="2028960" cy="2710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3635280" y="3716280"/>
            <a:ext cx="28479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ołaja w kominie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zentów ile się nawini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kierków skrzynki,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umetrowej choinki.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zed domem bałwana,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ylwestra do r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963720" y="3500280"/>
            <a:ext cx="3578040" cy="2386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6800760" y="4680"/>
            <a:ext cx="23432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Proszę zobaczyć wideo nagrywanie, i dać odpowiedź o jakim święcie my dzisiaj mówimy</a:t>
            </a:r>
            <a:br>
              <a:rPr sz="2400"/>
            </a:b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«Ś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wi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ty Miko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aj na przestrzeni wiek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755640" y="1614600"/>
            <a:ext cx="2995560" cy="41907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572000" cy="1495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3"/>
          <a:stretch/>
        </p:blipFill>
        <p:spPr>
          <a:xfrm>
            <a:off x="4114800" y="2997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wi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ty Miko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aj przychodzi do dzieci uczciwych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 grzecznych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Najs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odszym i najweselszym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i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em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pachn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ym s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odyczami i pomara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zami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z prezentami pod poduszk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ą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jest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i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kołaja. W Polsce św. Mikołaj odwiedza dzieci 6 grudnia, a d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zieci ukraińskich on przychodzi 19 grudnia. Prezenty otrzymuj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l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, które napisały do niego listy z prośbą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z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Odpowiedz na pyt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czym do nas pędzą Mikoł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aczego jeden ma w torbie mróz i śnieg biały, drugi rodzynki i migdał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e worków ma Mikołaj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Mikołaje wchodzą do budyn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akiej porze pukają srebrną lask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zez jaką krainę pędzą Mikoł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овідомлення про історію св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колай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пол.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Mikołajk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– традиційна, польська назва свята, на честь Святого Миколая. Цей святий став прообразом міфічної фігури Санта Клауса. Також, Святий Миколай зараховується до святих як такий, що опікується воїнами, водіями, мандрівниками, допомагає бідним у скруті. Вважається покровителем дітей та студентів, моряків, торговців, і лучни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Польщі ця традиція відома з XVIII століття. Цього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ливо   чекають діти, адже в цей день дітей, у св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гу, чекають подарунки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вяткують Микола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вічі: 6 грудня і з 24 на 25 грудн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що дітям пощасти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7402680" y="4076640"/>
            <a:ext cx="1725480" cy="2668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3241440" cy="1595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3"/>
          <a:stretch/>
        </p:blipFill>
        <p:spPr>
          <a:xfrm>
            <a:off x="8202600" y="0"/>
            <a:ext cx="925560" cy="1384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4"/>
          <a:stretch/>
        </p:blipFill>
        <p:spPr>
          <a:xfrm>
            <a:off x="-38160" y="0"/>
            <a:ext cx="15080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44:23Z</dcterms:created>
  <dc:creator>Mariajose</dc:creator>
  <dc:description/>
  <dc:language>en-US</dc:language>
  <cp:lastModifiedBy>777</cp:lastModifiedBy>
  <dcterms:modified xsi:type="dcterms:W3CDTF">2016-12-15T17:47:06Z</dcterms:modified>
  <cp:revision>10</cp:revision>
  <dc:subject/>
  <dc:title>Texto</dc:title>
</cp:coreProperties>
</file>