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4DC-BD67-4670-865E-42B2A036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3B0-D4F6-4EA7-9E33-E99806AF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AE3-A8BA-4C9E-9D2A-12BF331D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B7A-9245-44C2-93EE-B4BAE637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DE32F-0D29-4ECB-AE47-AB9C5C8C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E91D1-88B3-4AC7-8D38-5DC9C7B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41924-F018-4320-9165-D9187DBB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D26BD-5144-4E53-B550-9DE32C4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DA73B-45BB-47EA-B436-CB797AEF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A61C3-C61D-454B-A95A-1E111187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83F5-5100-4C36-884C-2F1722D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406-EA78-4340-8C1F-8DE9A81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CA7BB-6D66-45F3-B488-02590A5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3793D-BD02-4295-B307-DBE7C1B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97BE-2D12-480B-9390-C654F96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6E184-6213-4A10-901B-F0AF1925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43E73-768F-4511-8154-ABC3A4E6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DB134-9D33-4526-9A4A-2E54CBAE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92936-1F53-43E1-89E4-A914C0F9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F0BE0-1FB7-4EFB-AE37-89B90082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FB880-4CDA-419E-9436-24154317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2AD30-EEB6-4BAE-8BC2-C733B63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5F1-0464-46D6-9FCB-899F7D9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52785-4FD1-45CA-AD77-E17EBCF1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2E333-C655-4D37-9ED1-652E17C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0EC30-5BBA-4593-AF7F-8E39337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32836-3F70-4052-823C-1C268E6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93918-1853-4341-A767-54B5942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7332B-B6F7-415A-B652-ADC1D952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2BBE3-E02C-4E9F-B032-A102DA57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C87F3-3AE7-4902-BBFC-128E41E4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4B6A3-CD4B-4C05-9973-EBDD3E0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43C0F-1084-4691-AD9E-CE66568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91E-4F18-4C42-B15F-8831618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3521B-661D-46C1-9C49-80FD6FB2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CDD1B-38A0-4CC2-8CFC-4CBFD8C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E6488-6045-40C4-9A3B-B2388A8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FFB1A-9A88-488B-AE8D-FAFD30F1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E4A95-9795-43ED-A221-ECB9CB5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0F1AD-0E20-495A-BC19-947F521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D12E7-2457-4B1F-89FA-487EC48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0586D-0C32-415D-8EA5-BD3BF700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1F1BC-E526-493D-B2AC-3A6202F3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AC97B-3FD7-4066-BCA4-60D0E8DA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8F0-55B9-4B51-A71F-EBBBD9E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D450C-0F11-4A70-AB93-4C2EF8C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18BDE-A446-46BC-9826-ED5E583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0AAB9-A74F-4178-A159-7648CDC0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45DEA-416F-4AED-B4EB-5BE4F4B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854F4-E383-4C17-A4F0-F91F17C9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2ABC6-94DC-4C6B-BFC4-2380327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8673E-9B1D-4B6B-801E-96E2590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B95A1-8115-461F-9F5D-78F6C314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16BFB-C017-4B78-AC72-3B385E6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3B526-399A-4605-9BD0-CD827A59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D64-8ED4-4AE6-9C6C-F538CBA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76B6E-1D7C-4EBA-B65C-161D1C49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548EA-AF06-4ADD-A68D-7A1F593C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E11C1-E578-41CB-9B36-2120A31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AFE7C-624B-4ACF-AF9C-F19EA326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25011-4316-4031-A2D8-91166F4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F62BF-58ED-454B-97E8-B7DC7E3D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33AAF-B78C-469A-B91C-F81534A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6E82E-8F9E-4B52-9F7F-B8E31DE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43F48-1B3F-4B0D-88EC-0CB696A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A9828-43AA-4CE9-BB4D-F4CC74F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CAD-1F71-4FBF-ADA7-74DE0B3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E0F3D-19CF-4B0B-861B-8BCAD8AB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5D891-CAEF-4DD2-8A4A-C21F59C3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2D698-4A66-4E13-A6B9-C17C9CB0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2B9-E5B2-406A-82D3-99C4BC5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686-D2C0-4245-B1DE-5C5D95F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B288-DF94-4DBC-AACA-3A09E61187C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5B45-DF81-4490-8656-FA1AD14F8DA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BD89-8867-4735-9D23-9595A1224855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A6A-2430-4440-B077-FC947B3EC986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6D3-616D-435A-B47C-979BECEA3AB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59BB-AB91-48FB-B2CE-AC8FA8767C3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21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Объект 2" descr=""/>
          <p:cNvPicPr/>
          <p:nvPr/>
        </p:nvPicPr>
        <p:blipFill>
          <a:blip r:embed="rId2"/>
          <a:stretch/>
        </p:blipFill>
        <p:spPr>
          <a:xfrm>
            <a:off x="1438200" y="1901880"/>
            <a:ext cx="9144000" cy="36939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4800" y="69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b050"/>
                </a:solidFill>
                <a:latin typeface="Palatino Linotype"/>
              </a:rPr>
              <a:t>Іван Франко «Лисичка та Журавель»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Рисунок 7" descr=""/>
          <p:cNvPicPr/>
          <p:nvPr/>
        </p:nvPicPr>
        <p:blipFill>
          <a:blip r:embed="rId3"/>
          <a:stretch/>
        </p:blipFill>
        <p:spPr>
          <a:xfrm>
            <a:off x="306360" y="996840"/>
            <a:ext cx="1368360" cy="58327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8" descr=""/>
          <p:cNvPicPr/>
          <p:nvPr/>
        </p:nvPicPr>
        <p:blipFill>
          <a:blip r:embed="rId4"/>
          <a:stretch/>
        </p:blipFill>
        <p:spPr>
          <a:xfrm>
            <a:off x="7451640" y="836640"/>
            <a:ext cx="1368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2340000" y="476280"/>
            <a:ext cx="40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Palatino Linotype"/>
              </a:rPr>
              <a:t>Казки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8" name="Рисунок 2" descr=""/>
          <p:cNvPicPr/>
          <p:nvPr/>
        </p:nvPicPr>
        <p:blipFill>
          <a:blip r:embed="rId2"/>
          <a:stretch/>
        </p:blipFill>
        <p:spPr>
          <a:xfrm>
            <a:off x="6443640" y="330120"/>
            <a:ext cx="1924200" cy="23814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"/>
          <p:cNvPicPr/>
          <p:nvPr/>
        </p:nvPicPr>
        <p:blipFill>
          <a:blip r:embed="rId3"/>
          <a:stretch/>
        </p:blipFill>
        <p:spPr>
          <a:xfrm>
            <a:off x="4500720" y="1487520"/>
            <a:ext cx="1609560" cy="22860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4" descr=""/>
          <p:cNvPicPr/>
          <p:nvPr/>
        </p:nvPicPr>
        <p:blipFill>
          <a:blip r:embed="rId4"/>
          <a:stretch/>
        </p:blipFill>
        <p:spPr>
          <a:xfrm>
            <a:off x="6012000" y="2820960"/>
            <a:ext cx="1752480" cy="26193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"/>
          <p:cNvPicPr/>
          <p:nvPr/>
        </p:nvPicPr>
        <p:blipFill>
          <a:blip r:embed="rId5"/>
          <a:stretch/>
        </p:blipFill>
        <p:spPr>
          <a:xfrm>
            <a:off x="378000" y="330120"/>
            <a:ext cx="1962000" cy="232416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"/>
          <p:cNvPicPr/>
          <p:nvPr/>
        </p:nvPicPr>
        <p:blipFill>
          <a:blip r:embed="rId6"/>
          <a:stretch/>
        </p:blipFill>
        <p:spPr>
          <a:xfrm>
            <a:off x="2050920" y="1566720"/>
            <a:ext cx="2124360" cy="21528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7" descr=""/>
          <p:cNvPicPr/>
          <p:nvPr/>
        </p:nvPicPr>
        <p:blipFill>
          <a:blip r:embed="rId7"/>
          <a:stretch/>
        </p:blipFill>
        <p:spPr>
          <a:xfrm>
            <a:off x="2347920" y="413064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8" descr=""/>
          <p:cNvPicPr/>
          <p:nvPr/>
        </p:nvPicPr>
        <p:blipFill>
          <a:blip r:embed="rId8"/>
          <a:stretch/>
        </p:blipFill>
        <p:spPr>
          <a:xfrm>
            <a:off x="730080" y="3263760"/>
            <a:ext cx="1524240" cy="17337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"/>
          <p:cNvPicPr/>
          <p:nvPr/>
        </p:nvPicPr>
        <p:blipFill>
          <a:blip r:embed="rId9"/>
          <a:stretch/>
        </p:blipFill>
        <p:spPr>
          <a:xfrm>
            <a:off x="179280" y="5654520"/>
            <a:ext cx="8964720" cy="10875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0" descr=""/>
          <p:cNvPicPr/>
          <p:nvPr/>
        </p:nvPicPr>
        <p:blipFill>
          <a:blip r:embed="rId10"/>
          <a:stretch/>
        </p:blipFill>
        <p:spPr>
          <a:xfrm>
            <a:off x="7912080" y="3263760"/>
            <a:ext cx="909720" cy="13716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1" descr=""/>
          <p:cNvPicPr/>
          <p:nvPr/>
        </p:nvPicPr>
        <p:blipFill>
          <a:blip r:embed="rId11"/>
          <a:stretch/>
        </p:blipFill>
        <p:spPr>
          <a:xfrm>
            <a:off x="4051440" y="3440160"/>
            <a:ext cx="166500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"/>
          <p:cNvPicPr/>
          <p:nvPr/>
        </p:nvPicPr>
        <p:blipFill>
          <a:blip r:embed="rId2"/>
          <a:stretch/>
        </p:blipFill>
        <p:spPr>
          <a:xfrm>
            <a:off x="2195640" y="765000"/>
            <a:ext cx="4824360" cy="54007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2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511280" cy="609768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3" descr=""/>
          <p:cNvPicPr/>
          <p:nvPr/>
        </p:nvPicPr>
        <p:blipFill>
          <a:blip r:embed="rId4"/>
          <a:stretch/>
        </p:blipFill>
        <p:spPr>
          <a:xfrm>
            <a:off x="7236000" y="216000"/>
            <a:ext cx="1512720" cy="609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324000" y="333360"/>
            <a:ext cx="8424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Palatino Linotype"/>
              </a:rPr>
              <a:t>Словникова робота </a:t>
            </a:r>
            <a:r>
              <a:rPr b="1" i="1" lang="uk-UA" sz="4400" spc="-1" strike="noStrike">
                <a:solidFill>
                  <a:srgbClr val="00b050"/>
                </a:solidFill>
                <a:latin typeface="Palatino Linotype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призволяйся — </a:t>
            </a: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пригощайся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облизня спіймавши </a:t>
            </a: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— залишитися ні з чим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подружилися </a:t>
            </a: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— можна сказати так: потоваришували, заприятелювали;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почастую</a:t>
            </a: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- нагодую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не погордуй</a:t>
            </a: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  - спробуй; 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0" i="1" lang="uk-UA" sz="3200" spc="-1" strike="noStrike">
                <a:solidFill>
                  <a:srgbClr val="ffff00"/>
                </a:solidFill>
                <a:latin typeface="Palatino Linotype"/>
              </a:rPr>
              <a:t>пісним голосом</a:t>
            </a:r>
            <a:r>
              <a:rPr b="0" lang="uk-UA" sz="3200" spc="-1" strike="noStrike">
                <a:solidFill>
                  <a:srgbClr val="ffff00"/>
                </a:solidFill>
                <a:latin typeface="Palatino Linotype"/>
              </a:rPr>
              <a:t> – тоненьким,  сумним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2" name="Рисунок 2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84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2"/>
          <a:stretch/>
        </p:blipFill>
        <p:spPr>
          <a:xfrm rot="19308000">
            <a:off x="418680" y="1375920"/>
            <a:ext cx="3527640" cy="266400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2" descr=""/>
          <p:cNvPicPr/>
          <p:nvPr/>
        </p:nvPicPr>
        <p:blipFill>
          <a:blip r:embed="rId3"/>
          <a:stretch/>
        </p:blipFill>
        <p:spPr>
          <a:xfrm rot="1586400">
            <a:off x="4500720" y="1312920"/>
            <a:ext cx="4032000" cy="27813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3" descr=""/>
          <p:cNvPicPr/>
          <p:nvPr/>
        </p:nvPicPr>
        <p:blipFill>
          <a:blip r:embed="rId4"/>
          <a:stretch/>
        </p:blipFill>
        <p:spPr>
          <a:xfrm>
            <a:off x="2771640" y="3357720"/>
            <a:ext cx="3240360" cy="23223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0" descr=""/>
          <p:cNvPicPr/>
          <p:nvPr/>
        </p:nvPicPr>
        <p:blipFill>
          <a:blip r:embed="rId5"/>
          <a:stretch/>
        </p:blipFill>
        <p:spPr>
          <a:xfrm>
            <a:off x="395280" y="115920"/>
            <a:ext cx="8353440" cy="10810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1" descr=""/>
          <p:cNvPicPr/>
          <p:nvPr/>
        </p:nvPicPr>
        <p:blipFill>
          <a:blip r:embed="rId6"/>
          <a:stretch/>
        </p:blipFill>
        <p:spPr>
          <a:xfrm>
            <a:off x="395280" y="5499000"/>
            <a:ext cx="835344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468360" y="549360"/>
            <a:ext cx="82072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Palatino Linotype"/>
              </a:rPr>
              <a:t>Гра « Упізнай за рисою характеру»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Palatino Linotype"/>
              </a:rPr>
              <a:t>     </a:t>
            </a:r>
            <a:r>
              <a:rPr b="1" lang="ru-RU" sz="3600" spc="-1" strike="noStrike">
                <a:solidFill>
                  <a:srgbClr val="ffff00"/>
                </a:solidFill>
                <a:latin typeface="Palatino Linotype"/>
              </a:rPr>
              <a:t>Лицемірна,  улеслива,  хитра, злопам’ятна  - Лисиця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Palatino Linotype"/>
              </a:rPr>
              <a:t>Мудрий,   вдячний ,  гостинний, вихований -  Журавель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9" name="Рисунок 2" descr=""/>
          <p:cNvPicPr/>
          <p:nvPr/>
        </p:nvPicPr>
        <p:blipFill>
          <a:blip r:embed="rId2"/>
          <a:stretch/>
        </p:blipFill>
        <p:spPr>
          <a:xfrm>
            <a:off x="4932360" y="5373720"/>
            <a:ext cx="3960720" cy="11509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" descr=""/>
          <p:cNvPicPr/>
          <p:nvPr/>
        </p:nvPicPr>
        <p:blipFill>
          <a:blip r:embed="rId3"/>
          <a:stretch/>
        </p:blipFill>
        <p:spPr>
          <a:xfrm>
            <a:off x="468360" y="5373720"/>
            <a:ext cx="446400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425520" y="260280"/>
            <a:ext cx="835344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Palatino Linotype"/>
              </a:rPr>
              <a:t>Приказки до казки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Наварив каші, тепер їж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Їж сама, мила, коли таке зварила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Як посолиш, так і їстимеш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Сама собі зварила, сама і поїм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Уміла варити та не вміла подават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Зварив кашу, то не жалій масла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Зварив кашу, так і їж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    </a:t>
            </a:r>
            <a:r>
              <a:rPr b="0" lang="uk-UA" sz="2800" spc="-1" strike="noStrike">
                <a:solidFill>
                  <a:srgbClr val="ffff00"/>
                </a:solidFill>
                <a:latin typeface="Palatino Linotype"/>
              </a:rPr>
              <a:t>З ними каші не звариш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3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380988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769440" cy="4680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" descr=""/>
          <p:cNvPicPr/>
          <p:nvPr/>
        </p:nvPicPr>
        <p:blipFill>
          <a:blip r:embed="rId3"/>
          <a:stretch/>
        </p:blipFill>
        <p:spPr>
          <a:xfrm>
            <a:off x="539640" y="0"/>
            <a:ext cx="8353440" cy="981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3" descr=""/>
          <p:cNvPicPr/>
          <p:nvPr/>
        </p:nvPicPr>
        <p:blipFill>
          <a:blip r:embed="rId4"/>
          <a:stretch/>
        </p:blipFill>
        <p:spPr>
          <a:xfrm>
            <a:off x="395280" y="5835600"/>
            <a:ext cx="8353440" cy="9810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"/>
          <p:cNvPicPr/>
          <p:nvPr/>
        </p:nvPicPr>
        <p:blipFill>
          <a:blip r:embed="rId5"/>
          <a:stretch/>
        </p:blipFill>
        <p:spPr>
          <a:xfrm>
            <a:off x="0" y="115920"/>
            <a:ext cx="981000" cy="66261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"/>
          <p:cNvPicPr/>
          <p:nvPr/>
        </p:nvPicPr>
        <p:blipFill>
          <a:blip r:embed="rId6"/>
          <a:stretch/>
        </p:blipFill>
        <p:spPr>
          <a:xfrm>
            <a:off x="8163000" y="490680"/>
            <a:ext cx="981000" cy="625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964720" cy="66261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3995640" y="2205000"/>
            <a:ext cx="390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uk-UA" sz="4400" spc="-1" strike="noStrike">
                <a:solidFill>
                  <a:srgbClr val="ffc000"/>
                </a:solidFill>
                <a:latin typeface="Palatino Linotype"/>
              </a:rPr>
              <a:t>До  зустрічі 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2"/>
          <p:cNvSpPr/>
          <p:nvPr/>
        </p:nvSpPr>
        <p:spPr>
          <a:xfrm>
            <a:off x="250920" y="69228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Palatino Linotype"/>
              </a:rPr>
              <a:t>   </a:t>
            </a:r>
            <a:r>
              <a:rPr b="1" lang="uk-UA" sz="2800" spc="-1" strike="noStrike">
                <a:solidFill>
                  <a:srgbClr val="00b050"/>
                </a:solidFill>
                <a:latin typeface="Palatino Linotype"/>
              </a:rPr>
              <a:t>Гра «Знайди початок речення»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      … </a:t>
            </a: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справжній веселий Казкар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 … </a:t>
            </a: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і дуже бояться сердитого гамору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…</a:t>
            </a: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.   і  під вікном казкаря збиралися діт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                 …  </a:t>
            </a: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і впускає до хати тишу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322200" y="692280"/>
            <a:ext cx="863640" cy="56941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863640" cy="5694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1655640" y="404640"/>
            <a:ext cx="58118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1" lang="uk-UA" sz="3600" spc="-1" strike="noStrike">
                <a:solidFill>
                  <a:srgbClr val="00b050"/>
                </a:solidFill>
                <a:latin typeface="Palatino Linotype"/>
              </a:rPr>
              <a:t>Мовна розминка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Palatino Linotype"/>
              </a:rPr>
              <a:t>              </a:t>
            </a:r>
            <a:r>
              <a:rPr b="1" lang="uk-UA" sz="2800" spc="-1" strike="noStrike">
                <a:solidFill>
                  <a:srgbClr val="ff0000"/>
                </a:solidFill>
                <a:latin typeface="Palatino Linotype"/>
              </a:rPr>
              <a:t>Скоромовк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Лис малий і більший лис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По гриби ходили в ліс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Заздрить білка в лісі лису –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Лис лисички ніс із лісу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0" name="Рисунок 3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381024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971640" y="333360"/>
            <a:ext cx="748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1" lang="uk-UA" sz="3600" spc="-1" strike="noStrike">
                <a:solidFill>
                  <a:srgbClr val="00b050"/>
                </a:solidFill>
                <a:latin typeface="Palatino Linotype"/>
              </a:rPr>
              <a:t>Чистомовка від журавля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Жа-жа-жа – широка меж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Жу-жу-жу – я туди біжу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Жі-жі-жі – журавель на межі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Же-же-же – журавель жабу стереже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Жи-жи-жи – журавлю допомож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Palatino Linotype"/>
              </a:rPr>
              <a:t>Жи-жи-жи – жабку подерж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Рисунок 2" descr=""/>
          <p:cNvPicPr/>
          <p:nvPr/>
        </p:nvPicPr>
        <p:blipFill>
          <a:blip r:embed="rId2"/>
          <a:stretch/>
        </p:blipFill>
        <p:spPr>
          <a:xfrm>
            <a:off x="250920" y="411804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"/>
          <p:cNvPicPr/>
          <p:nvPr/>
        </p:nvPicPr>
        <p:blipFill>
          <a:blip r:embed="rId3"/>
          <a:stretch/>
        </p:blipFill>
        <p:spPr>
          <a:xfrm>
            <a:off x="4651200" y="4143240"/>
            <a:ext cx="3808440" cy="2248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1752480" y="26028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Palatino Linotype"/>
              </a:rPr>
              <a:t>Лисичка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Рисунок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655640" cy="1872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3" descr=""/>
          <p:cNvPicPr/>
          <p:nvPr/>
        </p:nvPicPr>
        <p:blipFill>
          <a:blip r:embed="rId3"/>
          <a:stretch/>
        </p:blipFill>
        <p:spPr>
          <a:xfrm>
            <a:off x="1698480" y="1182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4" descr=""/>
          <p:cNvPicPr/>
          <p:nvPr/>
        </p:nvPicPr>
        <p:blipFill>
          <a:blip r:embed="rId4"/>
          <a:stretch/>
        </p:blipFill>
        <p:spPr>
          <a:xfrm>
            <a:off x="6948360" y="404640"/>
            <a:ext cx="1800360" cy="18720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5" descr=""/>
          <p:cNvPicPr/>
          <p:nvPr/>
        </p:nvPicPr>
        <p:blipFill>
          <a:blip r:embed="rId5"/>
          <a:stretch/>
        </p:blipFill>
        <p:spPr>
          <a:xfrm>
            <a:off x="6919920" y="3357720"/>
            <a:ext cx="1828800" cy="25048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6" descr=""/>
          <p:cNvPicPr/>
          <p:nvPr/>
        </p:nvPicPr>
        <p:blipFill>
          <a:blip r:embed="rId6"/>
          <a:stretch/>
        </p:blipFill>
        <p:spPr>
          <a:xfrm>
            <a:off x="324000" y="3357720"/>
            <a:ext cx="1828800" cy="24955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"/>
          <p:cNvPicPr/>
          <p:nvPr/>
        </p:nvPicPr>
        <p:blipFill>
          <a:blip r:embed="rId7"/>
          <a:stretch/>
        </p:blipFill>
        <p:spPr>
          <a:xfrm>
            <a:off x="5626080" y="120492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8" descr=""/>
          <p:cNvPicPr/>
          <p:nvPr/>
        </p:nvPicPr>
        <p:blipFill>
          <a:blip r:embed="rId8"/>
          <a:stretch/>
        </p:blipFill>
        <p:spPr>
          <a:xfrm>
            <a:off x="3341520" y="2776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9" descr=""/>
          <p:cNvPicPr/>
          <p:nvPr/>
        </p:nvPicPr>
        <p:blipFill>
          <a:blip r:embed="rId9"/>
          <a:stretch/>
        </p:blipFill>
        <p:spPr>
          <a:xfrm>
            <a:off x="2575080" y="4610160"/>
            <a:ext cx="380988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1258920" y="50004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b050"/>
                </a:solidFill>
                <a:latin typeface="Palatino Linotype"/>
              </a:rPr>
              <a:t>Журавель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Рисунок 2" descr=""/>
          <p:cNvPicPr/>
          <p:nvPr/>
        </p:nvPicPr>
        <p:blipFill>
          <a:blip r:embed="rId2"/>
          <a:stretch/>
        </p:blipFill>
        <p:spPr>
          <a:xfrm>
            <a:off x="297000" y="1144440"/>
            <a:ext cx="2403360" cy="22417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3"/>
          <a:stretch/>
        </p:blipFill>
        <p:spPr>
          <a:xfrm>
            <a:off x="3460680" y="121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"/>
          <p:cNvPicPr/>
          <p:nvPr/>
        </p:nvPicPr>
        <p:blipFill>
          <a:blip r:embed="rId4"/>
          <a:stretch/>
        </p:blipFill>
        <p:spPr>
          <a:xfrm>
            <a:off x="6734160" y="1144440"/>
            <a:ext cx="2011320" cy="24480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"/>
          <p:cNvPicPr/>
          <p:nvPr/>
        </p:nvPicPr>
        <p:blipFill>
          <a:blip r:embed="rId5"/>
          <a:stretch/>
        </p:blipFill>
        <p:spPr>
          <a:xfrm>
            <a:off x="5746680" y="2708280"/>
            <a:ext cx="1886040" cy="24192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"/>
          <p:cNvPicPr/>
          <p:nvPr/>
        </p:nvPicPr>
        <p:blipFill>
          <a:blip r:embed="rId6"/>
          <a:stretch/>
        </p:blipFill>
        <p:spPr>
          <a:xfrm>
            <a:off x="3851280" y="298296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"/>
          <p:cNvPicPr/>
          <p:nvPr/>
        </p:nvPicPr>
        <p:blipFill>
          <a:blip r:embed="rId7"/>
          <a:stretch/>
        </p:blipFill>
        <p:spPr>
          <a:xfrm>
            <a:off x="1649520" y="2708280"/>
            <a:ext cx="2011320" cy="21528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"/>
          <p:cNvPicPr/>
          <p:nvPr/>
        </p:nvPicPr>
        <p:blipFill>
          <a:blip r:embed="rId8"/>
          <a:stretch/>
        </p:blipFill>
        <p:spPr>
          <a:xfrm>
            <a:off x="468360" y="5500800"/>
            <a:ext cx="82771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2944800" y="398520"/>
            <a:ext cx="573084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Palatino Linotype"/>
              </a:rPr>
              <a:t>Шифрувальник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Palatino Linotype"/>
              </a:rPr>
              <a:t>      </a:t>
            </a:r>
            <a:r>
              <a:rPr b="1" lang="uk-UA" sz="3600" spc="-1" strike="noStrike">
                <a:solidFill>
                  <a:srgbClr val="ffff00"/>
                </a:solidFill>
                <a:latin typeface="Palatino Linotype"/>
              </a:rPr>
              <a:t>еЦ векийли нийраг тпах. Він ганадує лекуле. В гоньо гідов яши і дзьоб. р'яПі у ражувля ірес. Хіств, часнати говило і яши — рнічо. рилаК кіизачуються чормини напір'їми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2" name="Рисунок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592360" cy="610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539640" y="692280"/>
            <a:ext cx="80647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Palatino Linotype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Прийшла кума із довгим віником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На бесіду із нашим півником,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Схопила півня на обід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  </a:t>
            </a:r>
            <a:r>
              <a:rPr b="1" lang="uk-UA" sz="3200" spc="-1" strike="noStrike">
                <a:solidFill>
                  <a:srgbClr val="ffff00"/>
                </a:solidFill>
                <a:latin typeface="Palatino Linotype"/>
              </a:rPr>
              <a:t>Та й замела мітлою слід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518472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108000" y="47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Palatino Linotype"/>
              </a:rPr>
              <a:t>Іван Якович Франко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6:29:34Z</dcterms:created>
  <dc:creator>Мамка</dc:creator>
  <dc:description/>
  <dc:language>en-US</dc:language>
  <cp:lastModifiedBy>Леся</cp:lastModifiedBy>
  <dcterms:modified xsi:type="dcterms:W3CDTF">2014-10-12T11:37:19Z</dcterms:modified>
  <cp:revision>27</cp:revision>
  <dc:subject/>
  <dc:title>Презентация PowerPoint</dc:title>
</cp:coreProperties>
</file>