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785-7D4F-49C1-B9B0-AD8A0858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16E-C606-4077-B29D-C1D267A9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717-1E10-49F9-A1DA-AA6AEC20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049-4704-497E-86B5-6B526209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C22-2784-4908-8686-BBB0FE5B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174-124B-4252-96A6-53A34610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32B-B38F-48D9-9F31-0B86841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CA0-33D6-4EC1-B5AE-BEDBEA9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06D-7899-4F18-AFAD-D5CBD23E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77E-447A-488C-A254-0FEAEBE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768-E01A-41FF-B9C2-F9F0EA4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5ED-A25E-435F-A7B3-80B8FDF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455F-B127-4284-B0C4-829D64DDD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76500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0000">
                        <a:alpha val="99215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удожній світ авт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0000">
                      <a:alpha val="99215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2997360"/>
            <a:ext cx="6265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ля героя Грегора Зам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56000" y="2060640"/>
            <a:ext cx="5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87280" y="5229360"/>
            <a:ext cx="695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Новела “Перевтілення” Ф.Каф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5080" y="5941800"/>
            <a:ext cx="54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ри презентац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Шульга Євген, Боліла Людмила, Дубров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ерівник: Репецьк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439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удожник створює нову власну художню реальність та експериментує з н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27640" y="1125360"/>
            <a:ext cx="38782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H="1">
            <a:off x="826920" y="2708280"/>
            <a:ext cx="3313440" cy="1584360"/>
          </a:xfrm>
          <a:prstGeom prst="wedgeRoundRectCallout">
            <a:avLst>
              <a:gd name="adj1" fmla="val -42523"/>
              <a:gd name="adj2" fmla="val 88476"/>
              <a:gd name="adj3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85264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 результатами досліджень ми довели взаємовплив світогляду письменника на формування художнього світу героя.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2565360"/>
            <a:ext cx="3313080" cy="1584360"/>
          </a:xfrm>
          <a:prstGeom prst="wedgeRoundRectCallout">
            <a:avLst>
              <a:gd name="adj1" fmla="val -59916"/>
              <a:gd name="adj2" fmla="val 97495"/>
              <a:gd name="adj3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2638440"/>
            <a:ext cx="2592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 світи існують паралельно й пересікаються, взаємодоповнюючи один од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4941720"/>
            <a:ext cx="2060640" cy="1401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059280" y="836640"/>
            <a:ext cx="2950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5e00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сновок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76720" y="476280"/>
            <a:ext cx="25905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Arial"/>
              </a:rPr>
              <a:t>Джерел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cc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0028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2349360"/>
            <a:ext cx="62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. Ф.Кафка.Вибрані твори. Київ “Генеза”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Журнал “Вікно в світ”. Австрійська література. – Київ 1998, №1,2,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Є.Волощук. Вивчення зарубіжної літ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 11 класі. – Київ “Освіта”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440" y="4581360"/>
            <a:ext cx="561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http://openweb.ru/kafka/img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http://krutila.kiev.ua/schriftsteller/kafka/kaf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http://highbook.narod.ru/philos/bataile/kafka.ht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18730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67280" y="1628640"/>
            <a:ext cx="4392360" cy="792360"/>
          </a:xfrm>
          <a:custGeom>
            <a:avLst/>
            <a:gdLst>
              <a:gd name="textAreaLeft" fmla="*/ 1098000 w 4392360"/>
              <a:gd name="textAreaRight" fmla="*/ 3294360 w 439236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іограф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00360" y="692280"/>
            <a:ext cx="4464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вдання для гру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5131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вчаємо життєвий шлях письмен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333360"/>
            <a:ext cx="4392720" cy="792000"/>
          </a:xfrm>
          <a:custGeom>
            <a:avLst/>
            <a:gdLst>
              <a:gd name="textAreaLeft" fmla="*/ 1098000 w 4392720"/>
              <a:gd name="textAreaRight" fmla="*/ 3294720 w 4392720"/>
              <a:gd name="textAreaTop" fmla="*/ 0 h 792000"/>
              <a:gd name="textAreaBottom" fmla="*/ 69300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66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тературознав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95640" y="1916280"/>
            <a:ext cx="4419360" cy="58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алізуємо новелу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836640"/>
            <a:ext cx="4390920" cy="792000"/>
          </a:xfrm>
          <a:custGeom>
            <a:avLst/>
            <a:gdLst>
              <a:gd name="textAreaLeft" fmla="*/ 1097640 w 4390920"/>
              <a:gd name="textAreaRight" fmla="*/ 3293280 w 4390920"/>
              <a:gd name="textAreaTop" fmla="*/ 0 h 792000"/>
              <a:gd name="textAreaBottom" fmla="*/ 69300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663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истецтвознав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1019800">
            <a:off x="394920" y="4437000"/>
            <a:ext cx="2303640" cy="178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877200">
            <a:off x="6011640" y="4436640"/>
            <a:ext cx="232560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084720" y="54936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67280" y="2708280"/>
            <a:ext cx="3024000" cy="165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 rot="20589000">
            <a:off x="2741760" y="4438440"/>
            <a:ext cx="3230280" cy="1874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3840" y="2081160"/>
            <a:ext cx="43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юємо власну мистецьку галер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ізуємо ілюстрації до нов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2a0d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5480" y="189000"/>
            <a:ext cx="697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 збігається художній світ геро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і світоглядною позицією ав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752720" cy="475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03640" y="4292640"/>
            <a:ext cx="20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708360" y="3068640"/>
            <a:ext cx="122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Ф.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2353800">
            <a:off x="5003640" y="2060640"/>
            <a:ext cx="749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руз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19092000">
            <a:off x="2626920" y="2205000"/>
            <a:ext cx="9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ім'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4581360"/>
            <a:ext cx="2449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австрійська куль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16360" y="54936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мер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4720" y="6165720"/>
            <a:ext cx="1671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смерт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54936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ійна 19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451640" y="549360"/>
            <a:ext cx="7048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и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3060000">
            <a:off x="6880320" y="1696680"/>
            <a:ext cx="1257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ажд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4389000">
            <a:off x="7832520" y="2976480"/>
            <a:ext cx="6476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631400">
            <a:off x="5795640" y="691920"/>
            <a:ext cx="933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вороб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659280" y="105228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7956720" y="2420640"/>
            <a:ext cx="142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 rot="17251200">
            <a:off x="1618920" y="2852640"/>
            <a:ext cx="71460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т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19985400">
            <a:off x="2050920" y="1844280"/>
            <a:ext cx="1809720" cy="48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єврей-комерса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 rot="19693200">
            <a:off x="1476360" y="1658520"/>
            <a:ext cx="221940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93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уття пригниче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1785600">
            <a:off x="5579640" y="1341360"/>
            <a:ext cx="119052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ідчуже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19338600">
            <a:off x="1047240" y="1699920"/>
            <a:ext cx="122076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ір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1915800">
            <a:off x="5003280" y="1628640"/>
            <a:ext cx="202896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уття самотност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1453800">
            <a:off x="2340000" y="4868640"/>
            <a:ext cx="12571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осіб житт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 rot="20761200">
            <a:off x="3995640" y="4941720"/>
            <a:ext cx="216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а думки австр. інтелігенці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1784400">
            <a:off x="1402920" y="4869000"/>
            <a:ext cx="1994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уття приналежност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19640" y="5516640"/>
            <a:ext cx="17906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 європ.культу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3498600">
            <a:off x="538560" y="4293000"/>
            <a:ext cx="100008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тн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1900800">
            <a:off x="1258920" y="5300640"/>
            <a:ext cx="14288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тражд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523800">
            <a:off x="2916360" y="5876640"/>
            <a:ext cx="90468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ворч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4869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580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77080" y="6165720"/>
            <a:ext cx="49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83200">
            <a:off x="4356000" y="1628280"/>
            <a:ext cx="113364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кс Б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860200">
            <a:off x="5389560" y="2466720"/>
            <a:ext cx="179064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ілена Єсенсь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91400" y="61128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 Antiqua"/>
              </a:rPr>
              <a:t>Творчий звіт групи “біографі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8200" y="458136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ивши світогляд письменника, ми винайш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тературна біографія Грегора Зам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ожа з людською біографією митц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1952640" cy="302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4784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580536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ізвище головного героя – “Замза”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 криптограмою прізвища “Кафка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653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971640" y="2565360"/>
            <a:ext cx="7704000" cy="4053600"/>
            <a:chOff x="971640" y="2565360"/>
            <a:chExt cx="7704000" cy="4053600"/>
          </a:xfrm>
        </p:grpSpPr>
        <p:sp>
          <p:nvSpPr>
            <p:cNvPr id="101" name=""/>
            <p:cNvSpPr/>
            <p:nvPr/>
          </p:nvSpPr>
          <p:spPr>
            <a:xfrm>
              <a:off x="1908000" y="3355920"/>
              <a:ext cx="1368000" cy="122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68360" y="3789360"/>
              <a:ext cx="647280" cy="72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Гре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4360" y="328464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65080" y="443880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5080" y="443880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24360" y="3357720"/>
              <a:ext cx="1368000" cy="122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00360" y="328608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1440" y="4440240"/>
              <a:ext cx="21528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1080" y="444024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48000" y="2925720"/>
              <a:ext cx="647640" cy="72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Гре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500600">
              <a:off x="2771640" y="5950080"/>
              <a:ext cx="15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7640" y="3357720"/>
              <a:ext cx="36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716360" y="3500280"/>
              <a:ext cx="43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2000" y="3357720"/>
              <a:ext cx="1368360" cy="122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8360" y="328608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29080" y="444024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69080" y="4440240"/>
              <a:ext cx="215640" cy="217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7640" y="2927520"/>
              <a:ext cx="647280" cy="72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Гре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7522920" y="2782800"/>
              <a:ext cx="93636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51640" y="2854440"/>
              <a:ext cx="107928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71640" y="2565360"/>
              <a:ext cx="77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71640" y="4797360"/>
              <a:ext cx="77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75640" y="2565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971640" y="2565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564000" y="2565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011640" y="2565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720" y="4797360"/>
              <a:ext cx="287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27280" y="4797360"/>
              <a:ext cx="2887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4000" y="4797360"/>
              <a:ext cx="286920" cy="287280"/>
            </a:xfrm>
            <a:prstGeom prst="downArrow">
              <a:avLst>
                <a:gd name="adj1" fmla="val 50000"/>
                <a:gd name="adj2" fmla="val 250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26720" y="2584440"/>
              <a:ext cx="192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до перевтіл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1600" y="263700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ісля перевтіл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66000" y="258444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мер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95280" y="29973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бать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11640" y="2997360"/>
              <a:ext cx="94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бать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8000" y="2925720"/>
              <a:ext cx="94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бать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520" y="522936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Гармонійн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  </a:t>
              </a: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стосун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7080" y="522936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Конфлікт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з рідни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3080" y="515772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Зника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Із пам'ят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7c80"/>
                  </a:solidFill>
                  <a:latin typeface="Arial"/>
                </a:rPr>
                <a:t>рідн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20103000">
              <a:off x="1834920" y="3644640"/>
              <a:ext cx="437760" cy="51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ат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 rot="20188800">
              <a:off x="3851280" y="3573360"/>
              <a:ext cx="43776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ат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 rot="19926600">
              <a:off x="6300720" y="3573000"/>
              <a:ext cx="43776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ат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 rot="4876200">
              <a:off x="4886640" y="3763080"/>
              <a:ext cx="47592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естр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 rot="4969800">
              <a:off x="2797560" y="3690360"/>
              <a:ext cx="47628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естр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5059800">
              <a:off x="7309800" y="3859560"/>
              <a:ext cx="52560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естр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1692360" y="260280"/>
            <a:ext cx="5543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 змінюється становище</a:t>
            </a:r>
            <a:endParaRPr b="1" i="1" lang="en-US" sz="20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гора Замзи у родині?</a:t>
            </a:r>
            <a:endParaRPr b="1" i="1" lang="en-US" sz="20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63640" y="170028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1c1c1c">
                    <a:alpha val="60000"/>
                  </a:srgbClr>
                </a:solidFill>
                <a:latin typeface="Arial"/>
              </a:rPr>
              <a:t>Творчий звіт групи “Літературознавців”</a:t>
            </a:r>
            <a:endParaRPr b="1" lang="en-US" sz="2000" spc="1" strike="noStrike">
              <a:ln w="0">
                <a:noFill/>
              </a:ln>
              <a:solidFill>
                <a:srgbClr val="1c1c1c">
                  <a:alpha val="6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3284280"/>
            <a:ext cx="3600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нов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жна ілюстрація виражає особистісну оцінку зображеним епізо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08000" y="476280"/>
            <a:ext cx="52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ому Кафка заборонив </a:t>
            </a:r>
            <a:endParaRPr b="1" i="1" lang="en-US" sz="20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люструвати новелу?</a:t>
            </a:r>
            <a:endParaRPr b="1" i="1" lang="en-US" sz="20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24000" y="1628640"/>
            <a:ext cx="474516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1c1c1c">
                    <a:alpha val="60000"/>
                  </a:srgbClr>
                </a:solidFill>
                <a:latin typeface="Arial"/>
              </a:rPr>
              <a:t>Творчий звіт групи "мистецтвознавців"</a:t>
            </a:r>
            <a:endParaRPr b="1" lang="en-US" sz="2000" spc="1" strike="noStrike">
              <a:ln w="0">
                <a:noFill/>
              </a:ln>
              <a:solidFill>
                <a:srgbClr val="1c1c1c">
                  <a:alpha val="6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64000" y="2421000"/>
            <a:ext cx="2792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23:12Z</dcterms:created>
  <dc:creator>kursy</dc:creator>
  <dc:description/>
  <dc:language>en-US</dc:language>
  <cp:lastModifiedBy>ЗИНОВИЙ</cp:lastModifiedBy>
  <dcterms:modified xsi:type="dcterms:W3CDTF">2007-09-24T17:59:22Z</dcterms:modified>
  <cp:revision>26</cp:revision>
  <dc:subject/>
  <dc:title>Слайд 1</dc:title>
</cp:coreProperties>
</file>