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png" ContentType="image/png"/>
  <Override PartName="/ppt/media/image1.gif" ContentType="image/gif"/>
  <Override PartName="/ppt/media/image22.jpeg" ContentType="image/jpeg"/>
  <Override PartName="/ppt/media/image21.png" ContentType="image/png"/>
  <Override PartName="/ppt/media/image20.jpeg" ContentType="image/jpeg"/>
  <Override PartName="/ppt/media/image29.wmf" ContentType="image/x-wmf"/>
  <Override PartName="/ppt/media/image19.jpeg" ContentType="image/jpeg"/>
  <Override PartName="/ppt/media/image4.jpeg" ContentType="image/jpeg"/>
  <Override PartName="/ppt/media/image25.jpeg" ContentType="image/jpeg"/>
  <Override PartName="/ppt/media/image10.wmf" ContentType="image/x-wmf"/>
  <Override PartName="/ppt/media/image3.png" ContentType="image/png"/>
  <Override PartName="/ppt/media/image17.jpeg" ContentType="image/jpeg"/>
  <Override PartName="/ppt/media/image13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33.wmf" ContentType="image/x-wmf"/>
  <Override PartName="/ppt/media/image37.jpeg" ContentType="image/jpeg"/>
  <Override PartName="/ppt/media/image34.wmf" ContentType="image/x-wmf"/>
  <Override PartName="/ppt/media/image36.wmf" ContentType="image/x-wmf"/>
  <Override PartName="/ppt/media/image31.wmf" ContentType="image/x-wmf"/>
  <Override PartName="/ppt/media/image7.jpeg" ContentType="image/jpeg"/>
  <Override PartName="/ppt/media/image28.jpeg" ContentType="image/jpeg"/>
  <Override PartName="/ppt/media/image12.wmf" ContentType="image/x-wmf"/>
  <Override PartName="/ppt/media/image8.png" ContentType="image/png"/>
  <Override PartName="/ppt/media/image11.wmf" ContentType="image/x-wmf"/>
  <Override PartName="/ppt/media/image5.jpeg" ContentType="image/jpeg"/>
  <Override PartName="/ppt/media/image26.jpeg" ContentType="image/jpeg"/>
  <Override PartName="/ppt/media/image32.wmf" ContentType="image/x-wmf"/>
  <Override PartName="/ppt/media/image2.wmf" ContentType="image/x-wmf"/>
  <Override PartName="/ppt/media/image23.jpeg" ContentType="image/jpeg"/>
  <Override PartName="/ppt/media/image14.wmf" ContentType="image/x-wmf"/>
  <Override PartName="/ppt/media/image16.jpeg" ContentType="image/jpeg"/>
  <Override PartName="/ppt/media/image35.wmf" ContentType="image/x-wmf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1D59-8CB2-4714-914A-C1AD0ACA55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7818-65D8-4626-965C-56D265C2D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ECEC-0449-40DC-898C-2F825897A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ADC9-01BF-48C9-970A-11A08FD17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1E6C-DA76-49C8-AB5B-928BB993CD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62B6-58C8-45AB-9435-CDAC5DEAD5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AB0E-CF2B-4BA4-A4BC-8C049BDAE1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06D0-8271-4B61-9931-6F94EF965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B286-97E7-4C6D-8F1B-3DFFE3B0DF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8381-62F4-4B40-89BE-AA26BD9C48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D614-61DD-4043-9673-B17A0A0DF0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4630-B7E9-47BC-AC17-CC8162604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36A9-D922-49F7-8736-015A441CE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41E4-C663-41FD-A556-623CE4C47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B0D7-99BB-4EA6-A9B7-221B6AE00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0767-A3A6-46EA-97F5-E2748862A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A146-A092-4054-A3EB-D6BD1AA43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7FBF-A35E-4528-A985-BEBEBD4D0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3373-C337-4009-8C19-6D0E17F3A0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433D-58F6-4652-9570-E823DA36E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289E-0284-4F8C-BA67-B3AF6C11F1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C85E-0E73-4741-8428-44E586587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EB66-4B47-40E5-AA4E-09440E863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649B-FA02-4DF5-BB91-071F3A32B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733C-4F59-4010-9B6B-7D1ADCB17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F601-CD0B-463C-8C8D-98AF76D24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6881-125F-4F39-B609-4C247392C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2750-6CC0-4D68-BE35-62B121E048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2C2A-4408-4D3D-827A-5E9142E2D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9F93-762B-4B0C-A409-21AC023C7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5A49-F128-4FEB-A88C-2F0698AED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675D-3BC1-44F3-854B-474C20A810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7767-896A-43EA-809B-AC71A2BE0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57C-DA82-4CC0-8AFE-56A3EF03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BCC-A314-4B74-B386-10E452F2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2D9-4243-492B-BD2D-00B9F183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310-F80C-457A-8C3A-94697266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EDEE-7B30-4C74-9A01-07E71EA6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326D-291D-4638-91D0-F70170A0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BD4E-2162-4208-8DE1-EC1650B2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CB6C-B5E0-4E9F-8056-CA83A69C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19F2-B466-43BD-BEBF-4A358158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5652-FE07-4069-8C97-BC18A3F1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18D6-F1AC-4ABA-8C7C-9E394291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4AA-55E7-4146-9AF2-EA316A5C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D9D3-4833-4EB2-85F6-D62C0AC8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D7FA-4CBF-4F6F-BD8D-7588A47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E47D-FADC-45CA-A375-FA82C3D7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1297-DDC8-4503-B6FE-CCBAC716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65D9-B0BF-4EB0-8AEC-97C3F792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8C5-4B18-4CFE-896F-F09BD023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531-ED4D-485B-AEDB-8891BD56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FBA-BB67-4B50-988C-8470C37C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661-99F1-43B7-A6B6-CEE8BC2C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CAE-BE41-46D8-B513-9AB8FC4B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034-7DC5-4CE6-A3A4-72A7CB18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399-E43E-4289-B467-78A57804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ff"/>
            </a:gs>
            <a:gs pos="100000">
              <a:srgbClr val="d5d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F26D-8711-47B7-AF2B-03259E3F18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ff"/>
            </a:gs>
            <a:gs pos="100000">
              <a:srgbClr val="d5d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CC6F-A365-4503-AB31-6B457F7802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491920"/>
            <a:ext cx="7718760" cy="1731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66"/>
                </a:solidFill>
                <a:latin typeface="Times New Roman"/>
              </a:rPr>
              <a:t>Ґрунт</a:t>
            </a:r>
            <a:r>
              <a:rPr b="0" lang="uk-UA" sz="6200" spc="-1" strike="noStrike">
                <a:solidFill>
                  <a:srgbClr val="000066"/>
                </a:solidFill>
                <a:latin typeface="Times New Roman"/>
              </a:rPr>
              <a:t>. Склад ґрунту. Охорона ґрунту.</a:t>
            </a:r>
            <a:endParaRPr b="0" lang="en-US" sz="6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240" y="5517720"/>
            <a:ext cx="75214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читель початкових класів СЗШ №19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.Киє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роз Вікторія Вікторі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60086"/>
                </a:solidFill>
                <a:latin typeface="Times New Roman"/>
              </a:rPr>
              <a:t>Родючий ґрунт -    </a:t>
            </a:r>
            <a:r>
              <a:rPr b="0" lang="ru-RU" sz="5400" spc="-1" strike="noStrike">
                <a:solidFill>
                  <a:srgbClr val="000066"/>
                </a:solidFill>
                <a:latin typeface="Times New Roman"/>
              </a:rPr>
              <a:t>це такий, на якому добре ростуть і розвиваються рослини. Такий ґрунт містить багато перегною, воду й повітря. Найбільш родючим ґрунтом є </a:t>
            </a:r>
            <a:r>
              <a:rPr b="1" i="1" lang="ru-RU" sz="5400" spc="-1" strike="noStrike">
                <a:solidFill>
                  <a:srgbClr val="860086"/>
                </a:solidFill>
                <a:latin typeface="Times New Roman"/>
              </a:rPr>
              <a:t>чорнозем.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66"/>
                </a:solidFill>
                <a:latin typeface="Times New Roman"/>
              </a:rPr>
              <a:t>Україна багата на чорноземи.</a:t>
            </a:r>
            <a:endParaRPr b="0" lang="en-US" sz="4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орють"/>
          <p:cNvPicPr/>
          <p:nvPr/>
        </p:nvPicPr>
        <p:blipFill>
          <a:blip r:embed="rId1"/>
          <a:stretch/>
        </p:blipFill>
        <p:spPr>
          <a:xfrm>
            <a:off x="395280" y="2349360"/>
            <a:ext cx="3456000" cy="2967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j0401249"/>
          <p:cNvPicPr/>
          <p:nvPr/>
        </p:nvPicPr>
        <p:blipFill>
          <a:blip r:embed="rId2"/>
          <a:stretch/>
        </p:blipFill>
        <p:spPr>
          <a:xfrm>
            <a:off x="4211640" y="2276640"/>
            <a:ext cx="4478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Times New Roman"/>
              </a:rPr>
              <a:t>Основні види ґрунтів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4720" y="1197000"/>
            <a:ext cx="792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3059280" cy="2492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38189_big.jpg"/>
          <p:cNvPicPr/>
          <p:nvPr/>
        </p:nvPicPr>
        <p:blipFill>
          <a:blip r:embed="rId2"/>
          <a:stretch/>
        </p:blipFill>
        <p:spPr>
          <a:xfrm>
            <a:off x="611280" y="1268280"/>
            <a:ext cx="2501640" cy="295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3"/>
          <a:stretch/>
        </p:blipFill>
        <p:spPr>
          <a:xfrm>
            <a:off x="0" y="4221000"/>
            <a:ext cx="3132000" cy="2637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9"/>
          <p:cNvSpPr/>
          <p:nvPr/>
        </p:nvSpPr>
        <p:spPr>
          <a:xfrm>
            <a:off x="3276720" y="141300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ісчан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3492360" y="2492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линист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3348000" y="4292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рнозе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3132000" y="522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ни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3" descr="1116400.jpg"/>
          <p:cNvPicPr/>
          <p:nvPr/>
        </p:nvPicPr>
        <p:blipFill>
          <a:blip r:embed="rId4"/>
          <a:srcRect l="0" t="5886" r="3430" b="11746"/>
          <a:stretch/>
        </p:blipFill>
        <p:spPr>
          <a:xfrm>
            <a:off x="6084720" y="1268280"/>
            <a:ext cx="244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8036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Ґрунт є домівкою для багатьох тварин: для комах та їх личинок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j0346901"/>
          <p:cNvPicPr/>
          <p:nvPr/>
        </p:nvPicPr>
        <p:blipFill>
          <a:blip r:embed="rId1"/>
          <a:stretch/>
        </p:blipFill>
        <p:spPr>
          <a:xfrm>
            <a:off x="3492360" y="4581360"/>
            <a:ext cx="1825920" cy="147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j0346891"/>
          <p:cNvPicPr/>
          <p:nvPr/>
        </p:nvPicPr>
        <p:blipFill>
          <a:blip r:embed="rId2"/>
          <a:stretch/>
        </p:blipFill>
        <p:spPr>
          <a:xfrm>
            <a:off x="755640" y="4724280"/>
            <a:ext cx="2232000" cy="1254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j0346893"/>
          <p:cNvPicPr/>
          <p:nvPr/>
        </p:nvPicPr>
        <p:blipFill>
          <a:blip r:embed="rId3"/>
          <a:stretch/>
        </p:blipFill>
        <p:spPr>
          <a:xfrm>
            <a:off x="6300720" y="4797360"/>
            <a:ext cx="1827360" cy="1165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j0346937"/>
          <p:cNvPicPr/>
          <p:nvPr/>
        </p:nvPicPr>
        <p:blipFill>
          <a:blip r:embed="rId4"/>
          <a:stretch/>
        </p:blipFill>
        <p:spPr>
          <a:xfrm>
            <a:off x="6443640" y="2708280"/>
            <a:ext cx="1828800" cy="158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j0346895"/>
          <p:cNvPicPr/>
          <p:nvPr/>
        </p:nvPicPr>
        <p:blipFill>
          <a:blip r:embed="rId5"/>
          <a:stretch/>
        </p:blipFill>
        <p:spPr>
          <a:xfrm>
            <a:off x="1332000" y="2852640"/>
            <a:ext cx="183996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Ґрунт є домівкою для черв`яків.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дощовий червяк"/>
          <p:cNvPicPr/>
          <p:nvPr/>
        </p:nvPicPr>
        <p:blipFill>
          <a:blip r:embed="rId1"/>
          <a:stretch/>
        </p:blipFill>
        <p:spPr>
          <a:xfrm>
            <a:off x="826920" y="2924280"/>
            <a:ext cx="76662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230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66"/>
                </a:solidFill>
                <a:latin typeface="Times New Roman"/>
              </a:rPr>
              <a:t>Дощовий черв`як живиться рослинними рештками, що є в ґрунті.</a:t>
            </a:r>
            <a:endParaRPr b="0" lang="en-US" sz="5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дощовий червяк"/>
          <p:cNvPicPr/>
          <p:nvPr/>
        </p:nvPicPr>
        <p:blipFill>
          <a:blip r:embed="rId1"/>
          <a:stretch/>
        </p:blipFill>
        <p:spPr>
          <a:xfrm>
            <a:off x="684360" y="3141720"/>
            <a:ext cx="78818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3960720" cy="388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Ґрунт є домівкою для землерийок.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50920" y="333360"/>
            <a:ext cx="396072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зеилерийка"/>
          <p:cNvPicPr/>
          <p:nvPr/>
        </p:nvPicPr>
        <p:blipFill>
          <a:blip r:embed="rId1"/>
          <a:stretch/>
        </p:blipFill>
        <p:spPr>
          <a:xfrm>
            <a:off x="4500720" y="260280"/>
            <a:ext cx="43099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Ґрунт є домівкою для кротів.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крот 2"/>
          <p:cNvPicPr/>
          <p:nvPr/>
        </p:nvPicPr>
        <p:blipFill>
          <a:blip r:embed="rId1"/>
          <a:stretch/>
        </p:blipFill>
        <p:spPr>
          <a:xfrm>
            <a:off x="1332000" y="1268280"/>
            <a:ext cx="655308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3025800" cy="410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Тварини розпушують ґрунт.</a:t>
            </a: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4600"/>
            </a:br>
            <a:endParaRPr b="0" lang="en-US" sz="4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250920" y="333360"/>
            <a:ext cx="288108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жителі грунтів"/>
          <p:cNvPicPr/>
          <p:nvPr/>
        </p:nvPicPr>
        <p:blipFill>
          <a:blip r:embed="rId1"/>
          <a:stretch/>
        </p:blipFill>
        <p:spPr>
          <a:xfrm>
            <a:off x="3354480" y="260280"/>
            <a:ext cx="5445000" cy="6191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жителі грунту"/>
          <p:cNvPicPr/>
          <p:nvPr/>
        </p:nvPicPr>
        <p:blipFill>
          <a:blip r:embed="rId2"/>
          <a:stretch/>
        </p:blipFill>
        <p:spPr>
          <a:xfrm>
            <a:off x="684360" y="4724280"/>
            <a:ext cx="201600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3313080" cy="5113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Повітря у  ґрунті потрібне для дихання рослин і тварин. </a:t>
            </a:r>
            <a:br>
              <a:rPr sz="4600"/>
            </a:br>
            <a:endParaRPr b="0" lang="en-US" sz="4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333360"/>
            <a:ext cx="324144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жителы грунту"/>
          <p:cNvPicPr/>
          <p:nvPr/>
        </p:nvPicPr>
        <p:blipFill>
          <a:blip r:embed="rId1"/>
          <a:stretch/>
        </p:blipFill>
        <p:spPr>
          <a:xfrm>
            <a:off x="3635280" y="549360"/>
            <a:ext cx="540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13600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66"/>
                </a:solidFill>
                <a:latin typeface="Times New Roman"/>
              </a:rPr>
              <a:t>а) твердими;</a:t>
            </a:r>
            <a:br>
              <a:rPr sz="6200"/>
            </a:br>
            <a:r>
              <a:rPr b="0" lang="ru-RU" sz="6200" spc="-1" strike="noStrike">
                <a:solidFill>
                  <a:srgbClr val="000066"/>
                </a:solidFill>
                <a:latin typeface="Times New Roman"/>
              </a:rPr>
              <a:t>б) рідкими;</a:t>
            </a:r>
            <a:br>
              <a:rPr sz="6200"/>
            </a:br>
            <a:r>
              <a:rPr b="0" lang="ru-RU" sz="6200" spc="-1" strike="noStrike">
                <a:solidFill>
                  <a:srgbClr val="000066"/>
                </a:solidFill>
                <a:latin typeface="Times New Roman"/>
              </a:rPr>
              <a:t>в) газоподібними;</a:t>
            </a:r>
            <a:endParaRPr b="0" lang="en-US" sz="6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6560" y="1557000"/>
            <a:ext cx="74804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Більшість гірських порід є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-396720" y="2133720"/>
            <a:ext cx="8135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66"/>
                </a:solidFill>
                <a:latin typeface="Times New Roman"/>
              </a:rPr>
              <a:t>а) твердими;</a:t>
            </a:r>
            <a:br>
              <a:rPr sz="6200"/>
            </a:b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3313080" cy="5113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Вода у ґрунт потрапляє під час випадання дощу чи снігу.</a:t>
            </a:r>
            <a:br>
              <a:rPr sz="4600"/>
            </a:br>
            <a:endParaRPr b="0" lang="en-US" sz="4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50920" y="333360"/>
            <a:ext cx="324144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питание растения"/>
          <p:cNvPicPr/>
          <p:nvPr/>
        </p:nvPicPr>
        <p:blipFill>
          <a:blip r:embed="rId1"/>
          <a:stretch/>
        </p:blipFill>
        <p:spPr>
          <a:xfrm>
            <a:off x="3700440" y="333360"/>
            <a:ext cx="51894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У ґрунті є пісок та глина </a:t>
            </a:r>
            <a:br>
              <a:rPr sz="4600"/>
            </a:br>
            <a:endParaRPr b="0" lang="en-US" sz="4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глина"/>
          <p:cNvPicPr/>
          <p:nvPr/>
        </p:nvPicPr>
        <p:blipFill>
          <a:blip r:embed="rId1"/>
          <a:stretch/>
        </p:blipFill>
        <p:spPr>
          <a:xfrm>
            <a:off x="4356000" y="2205000"/>
            <a:ext cx="3984840" cy="3844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j0395988"/>
          <p:cNvPicPr/>
          <p:nvPr/>
        </p:nvPicPr>
        <p:blipFill>
          <a:blip r:embed="rId2"/>
          <a:stretch/>
        </p:blipFill>
        <p:spPr>
          <a:xfrm>
            <a:off x="1042920" y="1844640"/>
            <a:ext cx="2703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151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Ґрунту загрожує руйнування, забруднення та виснаження. 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грицики"/>
          <p:cNvPicPr/>
          <p:nvPr/>
        </p:nvPicPr>
        <p:blipFill>
          <a:blip r:embed="rId1"/>
          <a:stretch/>
        </p:blipFill>
        <p:spPr>
          <a:xfrm>
            <a:off x="1835280" y="2205000"/>
            <a:ext cx="529416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Вода, що стікає схилами розораних горбів і ярів розмиває ґрунт.</a:t>
            </a: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руйнування грунтів"/>
          <p:cNvPicPr/>
          <p:nvPr/>
        </p:nvPicPr>
        <p:blipFill>
          <a:blip r:embed="rId1"/>
          <a:stretch/>
        </p:blipFill>
        <p:spPr>
          <a:xfrm>
            <a:off x="1258920" y="1700280"/>
            <a:ext cx="691344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3816360" cy="4897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Утворюються яри і змивається найродючіший верхній шар ґрунту.</a:t>
            </a: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50920" y="333360"/>
            <a:ext cx="374472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balka0202"/>
          <p:cNvPicPr/>
          <p:nvPr/>
        </p:nvPicPr>
        <p:blipFill>
          <a:blip r:embed="rId1"/>
          <a:stretch/>
        </p:blipFill>
        <p:spPr>
          <a:xfrm>
            <a:off x="4284720" y="0"/>
            <a:ext cx="45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Похилі місцевості орють упоперек схилів 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N01014_"/>
          <p:cNvPicPr/>
          <p:nvPr/>
        </p:nvPicPr>
        <p:blipFill>
          <a:blip r:embed="rId1"/>
          <a:stretch/>
        </p:blipFill>
        <p:spPr>
          <a:xfrm>
            <a:off x="2556000" y="2205000"/>
            <a:ext cx="39942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На крутих схилах насаджують кущі й дерева, які корінням закріплюють ґрунт і захищають його від розмивання. 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201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Великої шкоди завдають ґрунту вітри. Вони здувають верхній родючий шар ґрунту. 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p5"/>
          <p:cNvPicPr/>
          <p:nvPr/>
        </p:nvPicPr>
        <p:blipFill>
          <a:blip r:embed="rId1"/>
          <a:stretch/>
        </p:blipFill>
        <p:spPr>
          <a:xfrm>
            <a:off x="2195640" y="2997360"/>
            <a:ext cx="4895640" cy="32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201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Насаджуючи лісосмуги, люди стримують руйнівну силу вітрів. 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A02191_"/>
          <p:cNvPicPr/>
          <p:nvPr/>
        </p:nvPicPr>
        <p:blipFill>
          <a:blip r:embed="rId1"/>
          <a:stretch/>
        </p:blipFill>
        <p:spPr>
          <a:xfrm>
            <a:off x="2556000" y="2565360"/>
            <a:ext cx="38052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220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Times New Roman"/>
              </a:rPr>
              <a:t>Ґрунти забруднюють отрутохімікатами, які люди використовують для боротьби зі шкідниками сільського господарства.</a:t>
            </a:r>
            <a:r>
              <a:rPr b="0" lang="ru-RU" sz="5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IN00583_"/>
          <p:cNvPicPr/>
          <p:nvPr/>
        </p:nvPicPr>
        <p:blipFill>
          <a:blip r:embed="rId1"/>
          <a:stretch/>
        </p:blipFill>
        <p:spPr>
          <a:xfrm>
            <a:off x="1187280" y="2997360"/>
            <a:ext cx="3024360" cy="2693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j0285858"/>
          <p:cNvPicPr/>
          <p:nvPr/>
        </p:nvPicPr>
        <p:blipFill>
          <a:blip r:embed="rId2"/>
          <a:stretch/>
        </p:blipFill>
        <p:spPr>
          <a:xfrm>
            <a:off x="5148360" y="2565360"/>
            <a:ext cx="2889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13600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66"/>
                </a:solidFill>
                <a:latin typeface="Times New Roman"/>
              </a:rPr>
              <a:t>а) крейда;</a:t>
            </a:r>
            <a:br>
              <a:rPr sz="6200"/>
            </a:br>
            <a:r>
              <a:rPr b="0" lang="ru-RU" sz="6200" spc="-1" strike="noStrike">
                <a:solidFill>
                  <a:srgbClr val="000066"/>
                </a:solidFill>
                <a:latin typeface="Times New Roman"/>
              </a:rPr>
              <a:t>б) торф;</a:t>
            </a:r>
            <a:br>
              <a:rPr sz="6200"/>
            </a:br>
            <a:r>
              <a:rPr b="0" lang="ru-RU" sz="6200" spc="-1" strike="noStrike">
                <a:solidFill>
                  <a:srgbClr val="000066"/>
                </a:solidFill>
                <a:latin typeface="Times New Roman"/>
              </a:rPr>
              <a:t>в) залізна руда;</a:t>
            </a:r>
            <a:endParaRPr b="0" lang="en-US" sz="6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560" y="1557000"/>
            <a:ext cx="74804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До горючих корисних копалин належать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68360" y="3645000"/>
            <a:ext cx="8136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0066"/>
                </a:solidFill>
                <a:latin typeface="Times New Roman"/>
              </a:rPr>
              <a:t>в) залізна руда;</a:t>
            </a:r>
            <a:br>
              <a:rPr sz="6200"/>
            </a:b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201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Ґрунти забруднюють відходати промисловості, сміттям. 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IN00455_"/>
          <p:cNvPicPr/>
          <p:nvPr/>
        </p:nvPicPr>
        <p:blipFill>
          <a:blip r:embed="rId1"/>
          <a:stretch/>
        </p:blipFill>
        <p:spPr>
          <a:xfrm>
            <a:off x="611280" y="2708280"/>
            <a:ext cx="3260520" cy="3527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BD06760_"/>
          <p:cNvPicPr/>
          <p:nvPr/>
        </p:nvPicPr>
        <p:blipFill>
          <a:blip r:embed="rId2"/>
          <a:stretch/>
        </p:blipFill>
        <p:spPr>
          <a:xfrm>
            <a:off x="4284720" y="3716280"/>
            <a:ext cx="41400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Підвищення родючості забезпечується його переорюванням, розпушуванням, удобренням, поливанням.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N00320_"/>
          <p:cNvPicPr/>
          <p:nvPr/>
        </p:nvPicPr>
        <p:blipFill>
          <a:blip r:embed="rId1"/>
          <a:stretch/>
        </p:blipFill>
        <p:spPr>
          <a:xfrm>
            <a:off x="5219640" y="4076640"/>
            <a:ext cx="3384720" cy="219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bd10417_"/>
          <p:cNvPicPr/>
          <p:nvPr/>
        </p:nvPicPr>
        <p:blipFill>
          <a:blip r:embed="rId2"/>
          <a:stretch/>
        </p:blipFill>
        <p:spPr>
          <a:xfrm>
            <a:off x="324000" y="3500280"/>
            <a:ext cx="2627280" cy="1124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j0231560"/>
          <p:cNvPicPr/>
          <p:nvPr/>
        </p:nvPicPr>
        <p:blipFill>
          <a:blip r:embed="rId3"/>
          <a:stretch/>
        </p:blipFill>
        <p:spPr>
          <a:xfrm>
            <a:off x="2700360" y="4437000"/>
            <a:ext cx="2519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j0406553"/>
          <p:cNvPicPr/>
          <p:nvPr/>
        </p:nvPicPr>
        <p:blipFill>
          <a:blip r:embed="rId1"/>
          <a:stretch/>
        </p:blipFill>
        <p:spPr>
          <a:xfrm>
            <a:off x="-433440" y="0"/>
            <a:ext cx="1047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600" spc="-1" strike="noStrike">
                <a:solidFill>
                  <a:srgbClr val="860086"/>
                </a:solidFill>
                <a:latin typeface="Times New Roman"/>
              </a:rPr>
              <a:t>Домашнє завдання</a:t>
            </a:r>
            <a:r>
              <a:rPr b="1" i="1" lang="ru-RU" sz="6800" spc="-1" strike="noStrike">
                <a:solidFill>
                  <a:srgbClr val="860086"/>
                </a:solidFill>
                <a:latin typeface="Times New Roman"/>
              </a:rPr>
              <a:t> </a:t>
            </a:r>
            <a:br>
              <a:rPr sz="6800"/>
            </a:br>
            <a:br>
              <a:rPr sz="6800"/>
            </a:br>
            <a:r>
              <a:rPr b="0" lang="ru-RU" sz="4600" spc="-1" strike="noStrike">
                <a:solidFill>
                  <a:srgbClr val="000066"/>
                </a:solidFill>
                <a:latin typeface="Times New Roman"/>
              </a:rPr>
              <a:t>Опрацювати статті підручника на с.103 – 104, </a:t>
            </a:r>
            <a:br>
              <a:rPr sz="4600"/>
            </a:br>
            <a:r>
              <a:rPr b="0" lang="ru-RU" sz="4600" spc="-1" strike="noStrike">
                <a:solidFill>
                  <a:srgbClr val="000066"/>
                </a:solidFill>
                <a:latin typeface="Times New Roman"/>
              </a:rPr>
              <a:t>відповісти на запитання.</a:t>
            </a:r>
            <a:br>
              <a:rPr sz="4600"/>
            </a:br>
            <a:r>
              <a:rPr b="0" lang="ru-RU" sz="4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889308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а) горюча корисна копалина;</a:t>
            </a:r>
            <a:br>
              <a:rPr sz="5000"/>
            </a:b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б) рудна корисна копалина;</a:t>
            </a:r>
            <a:br>
              <a:rPr sz="5000"/>
            </a:b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в) нерудна корисна копалина;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26560" y="1557000"/>
            <a:ext cx="74804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Мармур - ц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3500280"/>
            <a:ext cx="8748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в) нерудна корисна копалина;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13336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uk-UA" sz="4200" spc="-1" strike="noStrike">
                <a:solidFill>
                  <a:srgbClr val="000066"/>
                </a:solidFill>
                <a:latin typeface="Times New Roman"/>
              </a:rPr>
              <a:t>Корисні копалини, які горять, виділяючи тепло називаються горючими</a:t>
            </a: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4200"/>
            </a:b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Корисні копалини, з яких виплавляють метали, називаються рудними.</a:t>
            </a:r>
            <a:br>
              <a:rPr sz="4200"/>
            </a:b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ru-RU" sz="4200" spc="-1" strike="noStrike">
                <a:solidFill>
                  <a:srgbClr val="000066"/>
                </a:solidFill>
                <a:latin typeface="Times New Roman"/>
              </a:rPr>
              <a:t>Корисні копалини, які використовуються без переробки, називаються нерудними.</a:t>
            </a:r>
            <a:endParaRPr b="0" lang="en-US" sz="4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993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Доповнені реченн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BALLBLU-"/>
          <p:cNvPicPr/>
          <p:nvPr/>
        </p:nvPicPr>
        <p:blipFill>
          <a:blip r:embed="rId1"/>
          <a:stretch/>
        </p:blipFill>
        <p:spPr>
          <a:xfrm>
            <a:off x="1116000" y="1844640"/>
            <a:ext cx="152280" cy="380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BALLBLU-"/>
          <p:cNvPicPr/>
          <p:nvPr/>
        </p:nvPicPr>
        <p:blipFill>
          <a:blip r:embed="rId2"/>
          <a:stretch/>
        </p:blipFill>
        <p:spPr>
          <a:xfrm>
            <a:off x="1042920" y="3429000"/>
            <a:ext cx="15264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BALLBLU-"/>
          <p:cNvPicPr/>
          <p:nvPr/>
        </p:nvPicPr>
        <p:blipFill>
          <a:blip r:embed="rId3"/>
          <a:stretch/>
        </p:blipFill>
        <p:spPr>
          <a:xfrm>
            <a:off x="1042920" y="4941720"/>
            <a:ext cx="152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9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0" lang="ru-RU" sz="11900" spc="-1" strike="noStrike">
                <a:solidFill>
                  <a:srgbClr val="000066"/>
                </a:solidFill>
                <a:latin typeface="Times New Roman"/>
              </a:rPr>
              <a:t>, ,</a:t>
            </a:r>
            <a:br>
              <a:rPr sz="11900"/>
            </a:br>
            <a:r>
              <a:rPr b="0" lang="ru-RU" sz="11900" spc="-1" strike="noStrike">
                <a:solidFill>
                  <a:srgbClr val="000066"/>
                </a:solidFill>
                <a:latin typeface="Times New Roman"/>
              </a:rPr>
              <a:t>Г Ґ         НТ</a:t>
            </a:r>
            <a:endParaRPr b="0" lang="en-US" sz="1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755640" y="5013360"/>
            <a:ext cx="7718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FD00399_"/>
          <p:cNvPicPr/>
          <p:nvPr/>
        </p:nvPicPr>
        <p:blipFill>
          <a:blip r:embed="rId1"/>
          <a:stretch/>
        </p:blipFill>
        <p:spPr>
          <a:xfrm>
            <a:off x="3348000" y="3068640"/>
            <a:ext cx="1255680" cy="2125800"/>
          </a:xfrm>
          <a:prstGeom prst="rect">
            <a:avLst/>
          </a:prstGeom>
          <a:ln w="0">
            <a:noFill/>
          </a:ln>
        </p:spPr>
      </p:pic>
      <p:sp>
        <p:nvSpPr>
          <p:cNvPr id="122" name="Line 8"/>
          <p:cNvSpPr/>
          <p:nvPr/>
        </p:nvSpPr>
        <p:spPr>
          <a:xfrm>
            <a:off x="611280" y="3789360"/>
            <a:ext cx="1081080" cy="107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 flipV="1">
            <a:off x="611280" y="3789000"/>
            <a:ext cx="1224000" cy="115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280360" cy="3716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800" spc="-1" strike="noStrike">
                <a:solidFill>
                  <a:srgbClr val="cc0066"/>
                </a:solidFill>
                <a:latin typeface="Times New Roman"/>
              </a:rPr>
              <a:t>Ґрунт -</a:t>
            </a:r>
            <a:r>
              <a:rPr b="1" i="1" lang="ru-RU" sz="56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8200" spc="-1" strike="noStrike">
                <a:solidFill>
                  <a:srgbClr val="860086"/>
                </a:solidFill>
                <a:latin typeface="Times New Roman"/>
              </a:rPr>
              <a:t> </a:t>
            </a:r>
            <a:r>
              <a:rPr b="0" lang="ru-RU" sz="4600" spc="-1" strike="noStrike">
                <a:solidFill>
                  <a:srgbClr val="000066"/>
                </a:solidFill>
                <a:latin typeface="Times New Roman"/>
              </a:rPr>
              <a:t>верхній пухкий, родючий шар земної поврехні, у якому ростуть рослини і живуть тварини.</a:t>
            </a:r>
            <a:r>
              <a:rPr b="0" lang="ru-RU" sz="6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6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4103640" cy="494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66"/>
                </a:solidFill>
                <a:latin typeface="Times New Roman"/>
              </a:rPr>
              <a:t>Ґрунт має темний колір, якого йому надає перегній.</a:t>
            </a:r>
            <a:endParaRPr b="0" lang="en-US" sz="5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50920" y="333360"/>
            <a:ext cx="432108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грунт"/>
          <p:cNvPicPr/>
          <p:nvPr/>
        </p:nvPicPr>
        <p:blipFill>
          <a:blip r:embed="rId1"/>
          <a:stretch/>
        </p:blipFill>
        <p:spPr>
          <a:xfrm>
            <a:off x="4716360" y="476280"/>
            <a:ext cx="41515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532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800" spc="-1" strike="noStrike">
                <a:solidFill>
                  <a:srgbClr val="860086"/>
                </a:solidFill>
                <a:latin typeface="Times New Roman"/>
              </a:rPr>
              <a:t>Перегній   </a:t>
            </a:r>
            <a:r>
              <a:rPr b="0" lang="ru-RU" sz="5600" spc="-1" strike="noStrike">
                <a:solidFill>
                  <a:srgbClr val="000066"/>
                </a:solidFill>
                <a:latin typeface="Times New Roman"/>
              </a:rPr>
              <a:t>утворюється внаслідок перегнивання решток рослин і тварин. Чим більше в ґрунті перегною, тим він темніший.</a:t>
            </a:r>
            <a:endParaRPr b="0" lang="en-US" sz="5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9:24:57Z</dcterms:created>
  <dc:creator>1</dc:creator>
  <dc:description/>
  <dc:language>en-US</dc:language>
  <cp:lastModifiedBy>Admin</cp:lastModifiedBy>
  <dcterms:modified xsi:type="dcterms:W3CDTF">2017-03-15T16:05:32Z</dcterms:modified>
  <cp:revision>35</cp:revision>
  <dc:subject/>
  <dc:title>Ґрунт. Склад ґрунту. Охорона ґрунту.</dc:title>
</cp:coreProperties>
</file>