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749-FAFB-4546-A93B-01C7AD41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A76-9697-4AA4-BDEC-E4987C4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07F-81F4-4B57-AB83-2FE6D1EE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11D-4EE5-42B1-A29F-D33CC1F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7E8-8782-4E1F-B23E-514AD30E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F6C-80A1-4A08-ACDF-995958AE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A97-333C-4E10-80C5-6F1C641D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FC6-5540-429D-BB1A-B806F15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3FC-EC13-46E0-8170-AB785E57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942-7ECF-4569-A2EA-4EDBFF0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358-6D5D-45A7-9216-3C38605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95D-BC7A-4D8C-9A03-D91A71F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D25-75E0-4544-B4C5-1E8AA03F3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бій під крутами 1918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ен юний захисник станції мав при собі всього по три обойми патронів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оєприпаси захисників Крут швидко скінчилися, а штаб мовча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явилося, що штабісти поспішили забратися на своєму поїзді подалі від небезпечного місця. Сотня зазнала втрат, будучи не взмозі відбити врога багнетною атакою, загинув і сотник Омельчен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ab419c-kr-1937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шанування пам'я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327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9102ae8-geroyam-krut"/>
          <p:cNvPicPr/>
          <p:nvPr/>
        </p:nvPicPr>
        <p:blipFill>
          <a:blip r:embed="rId1"/>
          <a:stretch/>
        </p:blipFill>
        <p:spPr>
          <a:xfrm>
            <a:off x="1214280" y="857160"/>
            <a:ext cx="707256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000160" y="542592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іла 28 вояків-студентів було перевезено до місця, де відбулася громадська жалоба і поховання. На церемонії виступив Михайло Грушевсь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5390640"/>
            <a:ext cx="914400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 серпня 2006р. нарешті відкрили Меморіал пам'яті героїв Крут на залізничній станції Крути з участю Президента. Автором меморіалу є Анатолій Гайдам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00025-1"/>
          <p:cNvPicPr/>
          <p:nvPr/>
        </p:nvPicPr>
        <p:blipFill>
          <a:blip r:embed="rId1"/>
          <a:stretch/>
        </p:blipFill>
        <p:spPr>
          <a:xfrm>
            <a:off x="1763640" y="0"/>
            <a:ext cx="5724720" cy="536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16"/>
          <p:cNvPicPr/>
          <p:nvPr/>
        </p:nvPicPr>
        <p:blipFill>
          <a:blip r:embed="rId1"/>
          <a:stretch/>
        </p:blipFill>
        <p:spPr>
          <a:xfrm>
            <a:off x="4772160" y="1197000"/>
            <a:ext cx="3571920" cy="5184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ам'яті тридця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285840" y="1166760"/>
            <a:ext cx="41432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Аскольдовій моги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ховали їх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дцять мучнів-українц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авних молоди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Аскольдовій моги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країнський цвіт!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кривавій по доро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м іти у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кого посміла знят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радника ру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вітне сонце, — грає ві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І Дніпро-ріка..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кого завзявся Каї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же, покар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над все вони лю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ій коханий кр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мерли в Новім Запові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 славою свят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Аскольдовій Моги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ховали ї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ло Тичина, 1918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Картинки по запросу бій під крутами 1918"/>
          <p:cNvPicPr/>
          <p:nvPr/>
        </p:nvPicPr>
        <p:blipFill>
          <a:blip r:embed="rId1"/>
          <a:stretch/>
        </p:blipFill>
        <p:spPr>
          <a:xfrm>
            <a:off x="155520" y="214200"/>
            <a:ext cx="884556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и по запросу герої крут"/>
          <p:cNvPicPr/>
          <p:nvPr/>
        </p:nvPicPr>
        <p:blipFill>
          <a:blip r:embed="rId1"/>
          <a:stretch/>
        </p:blipFill>
        <p:spPr>
          <a:xfrm>
            <a:off x="155520" y="214200"/>
            <a:ext cx="877428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17 01 29 Otamanovs ky"/>
          <p:cNvPicPr/>
          <p:nvPr/>
        </p:nvPicPr>
        <p:blipFill>
          <a:blip r:embed="rId1"/>
          <a:stretch/>
        </p:blipFill>
        <p:spPr>
          <a:xfrm>
            <a:off x="214200" y="357120"/>
            <a:ext cx="4345200" cy="607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2017 01 29 Valentyn Otamanovs kyj u robochomu kabineti. 1925 rik"/>
          <p:cNvPicPr/>
          <p:nvPr/>
        </p:nvPicPr>
        <p:blipFill>
          <a:blip r:embed="rId2"/>
          <a:stretch/>
        </p:blipFill>
        <p:spPr>
          <a:xfrm>
            <a:off x="5000760" y="1785960"/>
            <a:ext cx="39290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Картинки по запросу українська революція 1917-1920 рр.картинки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ій під Крута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00720" y="4941360"/>
            <a:ext cx="4643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ij_pid_Krutamu-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 rot="10800000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Бій_під_Крутами_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35280" y="0"/>
            <a:ext cx="370836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1ec519-300-k"/>
          <p:cNvPicPr/>
          <p:nvPr/>
        </p:nvPicPr>
        <p:blipFill>
          <a:blip r:embed="rId1"/>
          <a:stretch/>
        </p:blipFill>
        <p:spPr>
          <a:xfrm>
            <a:off x="2500200" y="3500280"/>
            <a:ext cx="608184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kruty"/>
          <p:cNvPicPr/>
          <p:nvPr/>
        </p:nvPicPr>
        <p:blipFill>
          <a:blip r:embed="rId2"/>
          <a:stretch/>
        </p:blipFill>
        <p:spPr>
          <a:xfrm>
            <a:off x="0" y="0"/>
            <a:ext cx="579600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572160"/>
            <a:ext cx="91440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8eca4e17e4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и по запросу бій під крутами презентація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Хід б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ії, розташовані за кілька сотень метрів від самої станції, були непогано підготовлені для бою. На правому фланзі вони мали насип залізничної колії, на лівому — студентська сотня почала рити окопи й споруджувати земляні укріпл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800px-Battle_of_Kruty"/>
          <p:cNvPicPr/>
          <p:nvPr/>
        </p:nvPicPr>
        <p:blipFill>
          <a:blip r:embed="rId1"/>
          <a:stretch/>
        </p:blipFill>
        <p:spPr>
          <a:xfrm>
            <a:off x="1187280" y="836640"/>
            <a:ext cx="7020000" cy="464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03640" y="465300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нці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ічня перша сот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складалася 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6 студентів прибула на стан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ти. Більшу частину новоприбулих відправили копати окопи вздовж залізничної колії між Крутами і станцією Плиски. По обидві сторони дороги зайняв бойові позиції загін юнкері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rody09_4"/>
          <p:cNvPicPr/>
          <p:nvPr/>
        </p:nvPicPr>
        <p:blipFill>
          <a:blip r:embed="rId1"/>
          <a:stretch/>
        </p:blipFill>
        <p:spPr>
          <a:xfrm>
            <a:off x="1116000" y="0"/>
            <a:ext cx="691200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же вранці 29 січня на зустрічний щільний вогонь юнкерів і студентів несподівано потрапив загін, що складався з 2000 балтійських матросів під проводом Ремньова. Майже відразу до місця подій підоспів броненосець сотника Лощенка з гармато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Бій-під-Крутами-Олександр-Климко_1936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4702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0:42:49Z</dcterms:created>
  <dc:creator>Asus</dc:creator>
  <dc:description/>
  <dc:language>en-US</dc:language>
  <cp:lastModifiedBy>Jeka</cp:lastModifiedBy>
  <dcterms:modified xsi:type="dcterms:W3CDTF">2017-01-30T14:34:48Z</dcterms:modified>
  <cp:revision>18</cp:revision>
  <dc:subject/>
  <dc:title>Бій під Крутами</dc:title>
</cp:coreProperties>
</file>