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3.jpeg" ContentType="image/jpeg"/>
  <Override PartName="/ppt/media/image4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4C7B-253E-485E-876B-36FA053B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7BAA-212F-4106-BDEA-D15A1FA3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342-4CB0-4067-9F44-73023641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8E9-2E6F-481F-95CD-7AEE760B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A51F-5D8A-4CB6-86B7-08F0A75A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F492-D05B-4D2B-87CB-0974756B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53C1-A328-40AD-9378-F4C93745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984F-FA69-4BFF-9CEE-0A4522A5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7CB0-4B98-463D-BEAF-64760BC8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BFF3-0015-4048-8370-1C8758ED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FC18-E4EB-481B-A9BE-9714753B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0007-8192-4C92-B36B-1E81A837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6643-F75F-4C30-A1AA-E9B818F1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1C62-3929-4D09-8D5E-0B8FD257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94B6-6FCF-4D4F-BBDE-804A95E1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DB11-182D-4C27-BABD-DA665FAF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8785-7551-4726-B36A-5B21B3EF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6450-D0F1-42DA-B53C-EA96E670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D221-38C3-49AC-BBBC-5C6A1C12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D9C-4540-4C81-9D87-F3AB2DD7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EE00-AE31-4BFB-B598-ECF0B388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883C-3F25-4D8C-A7BD-366F0C85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1A7E-649E-4096-86A1-A8A02403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7CB-30EB-481A-A03E-E25DBA24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D076-D53E-46BD-9F8E-DF0C69878B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0159-DFD2-47C8-BA80-B3839A65519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5"/>
          <p:cNvSpPr/>
          <p:nvPr/>
        </p:nvSpPr>
        <p:spPr>
          <a:xfrm rot="10800000">
            <a:off x="323640" y="-360"/>
            <a:ext cx="4103640" cy="4149720"/>
          </a:xfrm>
          <a:prstGeom prst="flowChartMulti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268000" y="3933360"/>
            <a:ext cx="5975640" cy="2087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Антон Чехов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(1860-1904). ”Хамелеон”.Висміювання                                                                                                                         підлабузництва у творі. Головні засоби комічного та їхня роль у характеристиці персонажів і розкритті ідеї твор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266220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6"/>
          <p:cNvSpPr/>
          <p:nvPr/>
        </p:nvSpPr>
        <p:spPr>
          <a:xfrm>
            <a:off x="250920" y="3500280"/>
            <a:ext cx="8893080" cy="2665440"/>
          </a:xfrm>
          <a:prstGeom prst="parallelogram">
            <a:avLst>
              <a:gd name="adj" fmla="val -61611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11280" y="2421000"/>
            <a:ext cx="7561080" cy="1224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2349000"/>
            <a:ext cx="800748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Сатира – різке осміяння суттєвих суспільних ва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Антитеза – різке            протиставлення дво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протилежних думок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образів, якостей, явищ тощ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1763640" y="0"/>
            <a:ext cx="5545080" cy="24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ловникова робо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ЕПІГРАФ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412640"/>
            <a:ext cx="800748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Моя мета – правдиво намалюва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життя і показати, наскіль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це життя віддаляється від нор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А.П.Чех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fountainpen_dripping_hg_clr"/>
          <p:cNvPicPr/>
          <p:nvPr/>
        </p:nvPicPr>
        <p:blipFill>
          <a:blip r:embed="rId1"/>
          <a:stretch/>
        </p:blipFill>
        <p:spPr>
          <a:xfrm>
            <a:off x="7010280" y="5300640"/>
            <a:ext cx="1467000" cy="1081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6"/>
          <p:cNvSpPr/>
          <p:nvPr/>
        </p:nvSpPr>
        <p:spPr>
          <a:xfrm>
            <a:off x="1000080" y="2714760"/>
            <a:ext cx="2214720" cy="98568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285840" y="4143240"/>
            <a:ext cx="2428920" cy="207180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1412640"/>
            <a:ext cx="800748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Сьогодні, я зрозумів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що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fountainpen_dripping_hg_clr"/>
          <p:cNvPicPr/>
          <p:nvPr/>
        </p:nvPicPr>
        <p:blipFill>
          <a:blip r:embed="rId1"/>
          <a:stretch/>
        </p:blipFill>
        <p:spPr>
          <a:xfrm>
            <a:off x="7010280" y="5300640"/>
            <a:ext cx="1467000" cy="10810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" descr="Oktava_MK_219"/>
          <p:cNvPicPr/>
          <p:nvPr/>
        </p:nvPicPr>
        <p:blipFill>
          <a:blip r:embed="rId2"/>
          <a:stretch/>
        </p:blipFill>
        <p:spPr>
          <a:xfrm>
            <a:off x="539640" y="3068640"/>
            <a:ext cx="2460600" cy="2665440"/>
          </a:xfrm>
          <a:prstGeom prst="rect">
            <a:avLst/>
          </a:prstGeom>
          <a:ln w="0">
            <a:noFill/>
          </a:ln>
        </p:spPr>
      </p:pic>
      <p:sp>
        <p:nvSpPr>
          <p:cNvPr id="143" name="WordArt 6"/>
          <p:cNvSpPr txBox="1"/>
          <p:nvPr/>
        </p:nvSpPr>
        <p:spPr>
          <a:xfrm>
            <a:off x="1692360" y="404640"/>
            <a:ext cx="626436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Інтерактивна вправ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“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ікрофон”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1476360" y="836640"/>
            <a:ext cx="6551640" cy="12747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40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uk-UA" sz="4000" spc="-1" strike="noStrike">
                <a:solidFill>
                  <a:srgbClr val="ffffb7"/>
                </a:solidFill>
                <a:latin typeface="Arial Black"/>
              </a:rPr>
              <a:t>Домашнє завданн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Picture 4" descr="fountainpen_dripping_hg_clr"/>
          <p:cNvPicPr/>
          <p:nvPr/>
        </p:nvPicPr>
        <p:blipFill>
          <a:blip r:embed="rId1"/>
          <a:stretch/>
        </p:blipFill>
        <p:spPr>
          <a:xfrm>
            <a:off x="7380360" y="4724280"/>
            <a:ext cx="1297080" cy="122400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7"/>
          <p:cNvSpPr/>
          <p:nvPr/>
        </p:nvSpPr>
        <p:spPr>
          <a:xfrm>
            <a:off x="0" y="1700280"/>
            <a:ext cx="4788000" cy="2736720"/>
          </a:xfrm>
          <a:prstGeom prst="wedgeEllipseCallout">
            <a:avLst>
              <a:gd name="adj1" fmla="val 43333"/>
              <a:gd name="adj2" fmla="val -57310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Написати твір, шляхом коментування ключових фраз головного героя, на тему: “Аморальність, підлабузництво і самоприниження”(за оповіданням “Хамелеон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Cloud"/>
          <p:cNvSpPr/>
          <p:nvPr/>
        </p:nvSpPr>
        <p:spPr>
          <a:xfrm>
            <a:off x="3851280" y="2349360"/>
            <a:ext cx="4105440" cy="2143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0" lang="uk-UA" sz="2000" spc="-1" strike="noStrike">
                <a:solidFill>
                  <a:srgbClr val="990000"/>
                </a:solidFill>
                <a:latin typeface="Arial"/>
              </a:rPr>
              <a:t>Прочитати        оповідання “Товстий і тонкий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ubOvalCallout"/>
          <p:cNvSpPr/>
          <p:nvPr/>
        </p:nvSpPr>
        <p:spPr>
          <a:xfrm>
            <a:off x="2195640" y="4292640"/>
            <a:ext cx="4897440" cy="2305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3300"/>
                </a:solidFill>
                <a:latin typeface="Arial"/>
              </a:rPr>
              <a:t>Підготувати повідомлення на тему “Чехов і Україна”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ЕПІГРАФ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2060640"/>
            <a:ext cx="80074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оя мета – правдиво намалюва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життя і показати, наскіль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це життя віддаляється від нор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А.П.Чех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fountainpen_dripping_hg_clr"/>
          <p:cNvPicPr/>
          <p:nvPr/>
        </p:nvPicPr>
        <p:blipFill>
          <a:blip r:embed="rId1"/>
          <a:stretch/>
        </p:blipFill>
        <p:spPr>
          <a:xfrm>
            <a:off x="7010280" y="5229360"/>
            <a:ext cx="1467000" cy="965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773360"/>
            <a:ext cx="83851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uk-UA" sz="4000" spc="-1" strike="noStrike">
                <a:solidFill>
                  <a:srgbClr val="ffffff"/>
                </a:solidFill>
                <a:latin typeface="Arial Black"/>
              </a:rPr>
              <a:t>А.П.Чех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2"/>
          <a:stretch/>
        </p:blipFill>
        <p:spPr>
          <a:xfrm>
            <a:off x="3564000" y="2349360"/>
            <a:ext cx="2151000" cy="2525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5357880" y="4203720"/>
            <a:ext cx="1857240" cy="1950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/>
          <p:cNvPicPr/>
          <p:nvPr/>
        </p:nvPicPr>
        <p:blipFill>
          <a:blip r:embed="rId4"/>
          <a:stretch/>
        </p:blipFill>
        <p:spPr>
          <a:xfrm>
            <a:off x="1835280" y="907920"/>
            <a:ext cx="2022480" cy="2232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b7"/>
                </a:solidFill>
                <a:latin typeface="Arial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0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повідання – прозовий художній твір невеликого обсягу, в якому зображено одну або кілька подій з життя персонажа (або кількох персонажів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Художня деталь – виразна подробиця, яка допомагає уявити зображену автором картину, предмет чи характе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Рисунок 1" descr="http://img0.liveinternet.ru/images/attach/c/1/49/191/49191865_Biblioteka.gif"/>
          <p:cNvPicPr/>
          <p:nvPr/>
        </p:nvPicPr>
        <p:blipFill>
          <a:blip r:embed="rId1"/>
          <a:stretch/>
        </p:blipFill>
        <p:spPr>
          <a:xfrm>
            <a:off x="0" y="404640"/>
            <a:ext cx="2050920" cy="16560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6"/>
          <p:cNvSpPr txBox="1"/>
          <p:nvPr/>
        </p:nvSpPr>
        <p:spPr>
          <a:xfrm>
            <a:off x="2411280" y="476280"/>
            <a:ext cx="5616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ітературознавчий словни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4"/>
          <p:cNvSpPr/>
          <p:nvPr/>
        </p:nvSpPr>
        <p:spPr>
          <a:xfrm>
            <a:off x="285840" y="2500200"/>
            <a:ext cx="7786440" cy="3286080"/>
          </a:xfrm>
          <a:prstGeom prst="rect">
            <a:avLst/>
          </a:prstGeom>
          <a:solidFill>
            <a:srgbClr val="005d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571680" y="2143080"/>
            <a:ext cx="8429400" cy="328608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01120" y="2276280"/>
            <a:ext cx="8642520" cy="2965320"/>
          </a:xfrm>
          <a:prstGeom prst="rect">
            <a:avLst/>
          </a:prstGeom>
          <a:solidFill>
            <a:srgbClr val="ffff4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cc"/>
                </a:solidFill>
                <a:latin typeface="Times New Roman"/>
              </a:rPr>
              <a:t>Городовик – нижчий чин поліцейської охорони в міст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cc"/>
                </a:solidFill>
                <a:latin typeface="Times New Roman"/>
              </a:rPr>
              <a:t>Мировий – суддя, який розбирав дрібні спра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cc"/>
                </a:solidFill>
                <a:latin typeface="Times New Roman"/>
              </a:rPr>
              <a:t>Хамелеон – порода ящірок, які здатні змінювати забарвлення шкіри в разі роздратування чи зміни  кольору навколишнього середовища. В переносному значенні – людина, яка часто і безпринципно змінює свої погляди і поведінку залежно від обстав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WordArt 6"/>
          <p:cNvSpPr txBox="1"/>
          <p:nvPr/>
        </p:nvSpPr>
        <p:spPr>
          <a:xfrm>
            <a:off x="1403280" y="404640"/>
            <a:ext cx="61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ловникова робо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Picture 4" descr="fountainpen_dripping_hg_clr"/>
          <p:cNvPicPr/>
          <p:nvPr/>
        </p:nvPicPr>
        <p:blipFill>
          <a:blip r:embed="rId1"/>
          <a:stretch/>
        </p:blipFill>
        <p:spPr>
          <a:xfrm>
            <a:off x="7667640" y="5508720"/>
            <a:ext cx="1225440" cy="10382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9"/>
          <p:cNvSpPr txBox="1"/>
          <p:nvPr/>
        </p:nvSpPr>
        <p:spPr>
          <a:xfrm>
            <a:off x="1187280" y="404640"/>
            <a:ext cx="6985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Інтерактивна вправа “Незакінчені реченн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Picture 10" descr=""/>
          <p:cNvPicPr/>
          <p:nvPr/>
        </p:nvPicPr>
        <p:blipFill>
          <a:blip r:embed="rId2"/>
          <a:stretch/>
        </p:blipFill>
        <p:spPr>
          <a:xfrm>
            <a:off x="1547640" y="1844640"/>
            <a:ext cx="3241800" cy="2133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3"/>
          <a:stretch/>
        </p:blipFill>
        <p:spPr>
          <a:xfrm>
            <a:off x="5148360" y="3645000"/>
            <a:ext cx="2438280" cy="280980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12"/>
          <p:cNvSpPr/>
          <p:nvPr/>
        </p:nvSpPr>
        <p:spPr>
          <a:xfrm>
            <a:off x="826920" y="4076640"/>
            <a:ext cx="3651480" cy="2521080"/>
          </a:xfrm>
          <a:prstGeom prst="cloudCallout">
            <a:avLst>
              <a:gd name="adj1" fmla="val 26523"/>
              <a:gd name="adj2" fmla="val 1335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На площі присутні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Нова шинель і клуночок у руці свідчать про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5"/>
          <p:cNvSpPr/>
          <p:nvPr/>
        </p:nvSpPr>
        <p:spPr>
          <a:xfrm>
            <a:off x="5651640" y="1484280"/>
            <a:ext cx="2787480" cy="2016000"/>
          </a:xfrm>
          <a:prstGeom prst="cloudCallout">
            <a:avLst>
              <a:gd name="adj1" fmla="val 19250"/>
              <a:gd name="adj2" fmla="val 771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одії відбуваються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чумєлов -це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ый треугольник 3"/>
          <p:cNvSpPr/>
          <p:nvPr/>
        </p:nvSpPr>
        <p:spPr>
          <a:xfrm>
            <a:off x="642960" y="1214280"/>
            <a:ext cx="2786040" cy="5429520"/>
          </a:xfrm>
          <a:prstGeom prst="rtTriangl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4UYJVBCA7CQ1T4CA9WG2R7CA4O5DO8CAJNCX1HCADS2CYMCAUC4P9UCAF7SAKNCAOECTNACAA3LV3WCA0N78ULCAD5FX54CABK9IJ6CA79J39ICATYOVOYCAXJWLKHCA9GETARCA8YMW5ACAGNGI5FCAJSFY84"/>
          <p:cNvPicPr/>
          <p:nvPr/>
        </p:nvPicPr>
        <p:blipFill>
          <a:blip r:embed="rId1"/>
          <a:stretch/>
        </p:blipFill>
        <p:spPr>
          <a:xfrm>
            <a:off x="900000" y="404640"/>
            <a:ext cx="7417080" cy="5985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42560" y="981000"/>
            <a:ext cx="360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uk-UA" sz="3600" spc="-1" strike="noStrike">
                <a:solidFill>
                  <a:srgbClr val="990000"/>
                </a:solidFill>
                <a:latin typeface="Arial"/>
              </a:rPr>
              <a:t>?   Чи можна     підлабузни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0000"/>
                </a:solidFill>
                <a:latin typeface="Arial"/>
              </a:rPr>
              <a:t>вважати справжнім друго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826920" y="2421000"/>
          <a:ext cx="7682040" cy="3672000"/>
        </p:xfrm>
        <a:graphic>
          <a:graphicData uri="http://schemas.openxmlformats.org/drawingml/2006/table">
            <a:tbl>
              <a:tblPr/>
              <a:tblGrid>
                <a:gridCol w="3841920"/>
                <a:gridCol w="38401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приниженн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ідні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ідлабузниц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ликодушні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гоїз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агород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4a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орстокі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лосерд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исливі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ирі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4c4c4"/>
                    </a:solidFill>
                  </a:tcPr>
                </a:tc>
              </a:tr>
            </a:tbl>
          </a:graphicData>
        </a:graphic>
      </p:graphicFrame>
      <p:sp>
        <p:nvSpPr>
          <p:cNvPr id="127" name="WordArt 38"/>
          <p:cNvSpPr txBox="1"/>
          <p:nvPr/>
        </p:nvSpPr>
        <p:spPr>
          <a:xfrm>
            <a:off x="1403280" y="404640"/>
            <a:ext cx="640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обота на дошці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755640" y="0"/>
            <a:ext cx="78138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Щоденник-огляд головних подій оповіданн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57120" y="1447920"/>
          <a:ext cx="8572680" cy="5182920"/>
        </p:xfrm>
        <a:graphic>
          <a:graphicData uri="http://schemas.openxmlformats.org/drawingml/2006/table">
            <a:tbl>
              <a:tblPr/>
              <a:tblGrid>
                <a:gridCol w="4195800"/>
                <a:gridCol w="4376880"/>
              </a:tblGrid>
              <a:tr h="6904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лос збок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ведінка Очумєл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4492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Викладення подій Хрюкін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Голос із наповпу: “- Це, здається,генерала Жигалова!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Городовик: “Ні, це не генеральський”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Голос із натовпу: “Звісно генеральський !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Генеральський кухар: “Таких у нас зроду не було!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Кухар: “Це генералового брата…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“А собаку знищити треба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“Як він міг тебе вкусити?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“Треба провчити!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“Собака – ніжна тварина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“Знищити  - от і все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“То це їхній собачка?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баченятко нічого собі…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ransition spd="slow" advTm="3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3:00:35Z</dcterms:created>
  <dc:creator>Admin</dc:creator>
  <dc:description/>
  <dc:language>en-US</dc:language>
  <cp:lastModifiedBy>Dell</cp:lastModifiedBy>
  <dcterms:modified xsi:type="dcterms:W3CDTF">2017-03-16T10:32:14Z</dcterms:modified>
  <cp:revision>20</cp:revision>
  <dc:subject/>
  <dc:title>Слайд 1</dc:title>
</cp:coreProperties>
</file>