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8.gif" ContentType="image/gif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478-B9F3-457F-AF60-367C941F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D48-893B-408E-816A-D165DB27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A41-78A3-40D2-9CF8-517B2BCF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02D-FA34-436D-A77D-471CA8A8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01CA-A41D-4051-950B-6A188028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C692-BACF-46DE-8D6F-A6BDDE8A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063D-8DC5-4C66-B6B7-92926CC9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289E-2AED-4789-BA20-2DA66B1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2462-0F88-4042-BCFB-70790311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A276-0E8D-4BEF-BCE9-6C83C65E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173D-4BE5-47FF-93BF-0217337F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745-8E94-45EF-802B-A1C373F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38A9-7214-43C5-996C-AEFCAA3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52B5-3DF0-4D88-AD7C-6660FEEC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2B1C-5F50-4BD8-A558-BEA46C6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D75D-6DB8-4BCE-93BC-2551B27E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1228-86B1-4D53-85B9-48102B2B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B8D-AEAE-4836-B462-7517234B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93B-E290-4053-B73B-3282AEC0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894-FE2F-47B0-9AAB-B61B1489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683-8F1C-4160-BBC3-379AB403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403-7D22-4C1E-B1B5-94040DF1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FA8-E033-428E-AD61-1E0FEA93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E99-ED4F-4940-AB8D-BC49E5B4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650A-84AC-4E33-89E4-2E76A3927208}" type="datetime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A3E5-11EE-40B3-8098-CBA8107EC3F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8E2F-D619-4806-B6C6-760AA88E3690}" type="datetime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F209-1DF7-49AC-A9C7-44A9FEB9DF69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3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2638440" cy="2625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95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3635280" y="2060640"/>
            <a:ext cx="5257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1407960" y="476280"/>
            <a:ext cx="720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d3333"/>
                </a:solidFill>
                <a:latin typeface="Arial"/>
              </a:rPr>
              <a:t>Українська мова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d3333"/>
                </a:solidFill>
                <a:latin typeface="Arial"/>
              </a:rPr>
              <a:t>4 клас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33"/>
                </a:solidFill>
                <a:latin typeface="Times New Roman"/>
              </a:rPr>
              <a:t>Стратегія  “Кубування”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52" name="Picture 4" descr="Картинки по запросу нео куб"/>
          <p:cNvPicPr/>
          <p:nvPr/>
        </p:nvPicPr>
        <p:blipFill>
          <a:blip r:embed="rId1"/>
          <a:stretch/>
        </p:blipFill>
        <p:spPr>
          <a:xfrm>
            <a:off x="971640" y="1989000"/>
            <a:ext cx="3097080" cy="3095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356000" y="1828800"/>
            <a:ext cx="440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Завітав сьогодні в клас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На урок я знов до вас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Кубик, діти, непростий,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Кубик, діти, чарівн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Він доріжку прокладає,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Знання ваші перевіряє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33"/>
                </a:solidFill>
                <a:latin typeface="Times New Roman"/>
              </a:rPr>
              <a:t>Хвилинка  відпочинку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6" name="AutoShape 2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57" name="Picture 10" descr="9602bb37f389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1280" y="1197000"/>
            <a:ext cx="8208720" cy="539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uk-UA" sz="4400" spc="-1" strike="noStrike">
                <a:solidFill>
                  <a:srgbClr val="c00000"/>
                </a:solidFill>
                <a:latin typeface="Times New Roman"/>
              </a:rPr>
              <a:t>- Опишіть предмет</a:t>
            </a:r>
            <a:br>
              <a:rPr sz="4400"/>
            </a:br>
            <a:r>
              <a:rPr b="0" i="1" lang="uk-UA" sz="4800" spc="-1" strike="noStrike">
                <a:solidFill>
                  <a:srgbClr val="333399"/>
                </a:solidFill>
                <a:latin typeface="Times New Roman"/>
              </a:rPr>
              <a:t>за кольором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9" name="Picture 3" descr="C:\Users\Рома\Desktop\Презентації\Школа\School_is_Cool_BellaStudio_el (1).png"/>
          <p:cNvPicPr/>
          <p:nvPr/>
        </p:nvPicPr>
        <p:blipFill>
          <a:blip r:embed="rId1"/>
          <a:stretch/>
        </p:blipFill>
        <p:spPr>
          <a:xfrm>
            <a:off x="4141800" y="4087800"/>
            <a:ext cx="2127240" cy="2247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Users\Рома\Desktop\Презентації\Школа\School_is_Cool_BellaStudio_el (20).png"/>
          <p:cNvPicPr/>
          <p:nvPr/>
        </p:nvPicPr>
        <p:blipFill>
          <a:blip r:embed="rId2"/>
          <a:stretch/>
        </p:blipFill>
        <p:spPr>
          <a:xfrm>
            <a:off x="6323040" y="2179800"/>
            <a:ext cx="2457360" cy="245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1403280" y="2179800"/>
            <a:ext cx="2486160" cy="1838160"/>
          </a:xfrm>
          <a:prstGeom prst="rect">
            <a:avLst/>
          </a:prstGeom>
          <a:ln w="0">
            <a:noFill/>
          </a:ln>
        </p:spPr>
      </p:pic>
      <p:sp>
        <p:nvSpPr>
          <p:cNvPr id="162" name="Номер слайда 2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Times New Roman"/>
              </a:rPr>
              <a:t>- Опишіть предмет</a:t>
            </a:r>
            <a:br>
              <a:rPr sz="4400"/>
            </a:br>
            <a:r>
              <a:rPr b="0" i="1" lang="uk-UA" sz="44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i="1" lang="uk-UA" sz="4800" spc="-1" strike="noStrike">
                <a:solidFill>
                  <a:srgbClr val="333399"/>
                </a:solidFill>
                <a:latin typeface="Times New Roman"/>
              </a:rPr>
              <a:t>за розміром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828880" cy="1609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3529080" cy="3087360"/>
          </a:xfrm>
          <a:prstGeom prst="rect">
            <a:avLst/>
          </a:prstGeom>
          <a:ln w="0">
            <a:noFill/>
          </a:ln>
        </p:spPr>
      </p:pic>
      <p:sp>
        <p:nvSpPr>
          <p:cNvPr id="167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Times New Roman"/>
              </a:rPr>
              <a:t>- Опишіть предмет</a:t>
            </a:r>
            <a:br>
              <a:rPr sz="4400"/>
            </a:br>
            <a:r>
              <a:rPr b="0" i="1" lang="uk-UA" sz="44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i="1" lang="uk-UA" sz="4800" spc="-1" strike="noStrike">
                <a:solidFill>
                  <a:srgbClr val="333399"/>
                </a:solidFill>
                <a:latin typeface="Times New Roman"/>
              </a:rPr>
              <a:t>за формою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2232000" cy="2233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3203640" y="3805200"/>
            <a:ext cx="2378160" cy="2378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5940360" y="2048040"/>
            <a:ext cx="2349720" cy="2349360"/>
          </a:xfrm>
          <a:prstGeom prst="rect">
            <a:avLst/>
          </a:prstGeom>
          <a:ln w="0">
            <a:noFill/>
          </a:ln>
        </p:spPr>
      </p:pic>
      <p:sp>
        <p:nvSpPr>
          <p:cNvPr id="173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828720" y="1469880"/>
            <a:ext cx="3527280" cy="2347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2441520" y="3116160"/>
            <a:ext cx="4218120" cy="32590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Times New Roman"/>
              </a:rPr>
              <a:t>- Опишіть предмет</a:t>
            </a:r>
            <a:br>
              <a:rPr sz="4400"/>
            </a:br>
            <a:r>
              <a:rPr b="0" i="1" lang="uk-UA" sz="44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i="1" lang="uk-UA" sz="4800" spc="-1" strike="noStrike">
                <a:solidFill>
                  <a:srgbClr val="333399"/>
                </a:solidFill>
                <a:latin typeface="Times New Roman"/>
              </a:rPr>
              <a:t>за смаком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90720" y="1828440"/>
            <a:ext cx="77724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3"/>
          <a:stretch/>
        </p:blipFill>
        <p:spPr>
          <a:xfrm>
            <a:off x="5724360" y="2060640"/>
            <a:ext cx="2982960" cy="1873080"/>
          </a:xfrm>
          <a:prstGeom prst="rect">
            <a:avLst/>
          </a:prstGeom>
          <a:ln w="0">
            <a:noFill/>
          </a:ln>
        </p:spPr>
      </p:pic>
      <p:sp>
        <p:nvSpPr>
          <p:cNvPr id="179" name="Номер слайда 4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92240" y="765000"/>
            <a:ext cx="2085840" cy="2190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d3333"/>
                </a:solidFill>
                <a:latin typeface="Times New Roman"/>
              </a:rPr>
              <a:t>     </a:t>
            </a:r>
            <a:r>
              <a:rPr b="1" lang="uk-UA" sz="4400" spc="-1" strike="noStrike">
                <a:solidFill>
                  <a:srgbClr val="cd3333"/>
                </a:solidFill>
                <a:latin typeface="Times New Roman"/>
              </a:rPr>
              <a:t>Підсумок уроку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87" name="Picture 12" descr="Картинки по запросу учні"/>
          <p:cNvPicPr/>
          <p:nvPr/>
        </p:nvPicPr>
        <p:blipFill>
          <a:blip r:embed="rId2"/>
          <a:stretch/>
        </p:blipFill>
        <p:spPr>
          <a:xfrm>
            <a:off x="2843280" y="1916280"/>
            <a:ext cx="55735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Домашн</a:t>
            </a:r>
            <a:r>
              <a:rPr b="1" lang="uk-UA" sz="4400" spc="-1" strike="noStrike">
                <a:solidFill>
                  <a:srgbClr val="cd3333"/>
                </a:solidFill>
                <a:latin typeface="Times New Roman"/>
              </a:rPr>
              <a:t>є</a:t>
            </a: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 завданн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                                </a:t>
            </a: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Вправа 154 (3),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розібрати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                       </a:t>
            </a: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прикметник як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                       </a:t>
            </a: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частину мови.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imes New Roman"/>
              </a:rPr>
              <a:t>Повторити правила “Прикметник”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                        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116000" y="1762200"/>
            <a:ext cx="3176640" cy="3335400"/>
          </a:xfrm>
          <a:prstGeom prst="rect">
            <a:avLst/>
          </a:prstGeom>
          <a:ln w="0">
            <a:noFill/>
          </a:ln>
        </p:spPr>
      </p:pic>
      <p:sp>
        <p:nvSpPr>
          <p:cNvPr id="191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d3333"/>
                </a:solidFill>
                <a:latin typeface="Times New Roman"/>
              </a:rPr>
              <a:t>Девіз  уроку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22046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Не  просто  слухати,  а  чути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Не  просто  дивитись,  а  бачити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Не  просто  відповідати,  а  міркувати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Дружно  й  плідно  працювати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d3333"/>
                </a:solidFill>
                <a:latin typeface="Times New Roman"/>
              </a:rPr>
              <a:t>Хвилинка  поезії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1483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- Відгадайте загадку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333399"/>
                </a:solidFill>
                <a:latin typeface="Times New Roman"/>
              </a:rPr>
              <a:t>Стало  біло  навкруги,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333399"/>
                </a:solidFill>
                <a:latin typeface="Times New Roman"/>
              </a:rPr>
              <a:t>Я  розтрушую  сніги,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333399"/>
                </a:solidFill>
                <a:latin typeface="Times New Roman"/>
              </a:rPr>
              <a:t>Наганяю  холоди,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333399"/>
                </a:solidFill>
                <a:latin typeface="Times New Roman"/>
              </a:rPr>
              <a:t>Води  сковую  в льоди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333399"/>
                </a:solidFill>
                <a:latin typeface="Times New Roman"/>
              </a:rPr>
              <a:t>В дружбі з дітьми я всім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333399"/>
                </a:solidFill>
                <a:latin typeface="Times New Roman"/>
              </a:rPr>
              <a:t>Здогадались? Я – …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d3333"/>
                </a:solidFill>
                <a:latin typeface="Times New Roman"/>
              </a:rPr>
              <a:t>зима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Рома\Desktop\Презентації\Школа\734039-8f53ddc9c9751a99.jpg"/>
          <p:cNvPicPr/>
          <p:nvPr/>
        </p:nvPicPr>
        <p:blipFill>
          <a:blip r:embed="rId1"/>
          <a:stretch/>
        </p:blipFill>
        <p:spPr>
          <a:xfrm>
            <a:off x="684360" y="3645000"/>
            <a:ext cx="2950920" cy="2808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852280"/>
            <a:ext cx="5905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uk-UA" sz="4800" spc="-1" strike="noStrike">
                <a:solidFill>
                  <a:srgbClr val="c00000"/>
                </a:solidFill>
                <a:latin typeface="Times New Roman"/>
              </a:rPr>
              <a:t>Повторення  </a:t>
            </a:r>
            <a:br>
              <a:rPr sz="4800"/>
            </a:br>
            <a:r>
              <a:rPr b="1" lang="uk-UA" sz="4800" spc="-1" strike="noStrike">
                <a:solidFill>
                  <a:srgbClr val="c00000"/>
                </a:solidFill>
                <a:latin typeface="Times New Roman"/>
              </a:rPr>
              <a:t>  вивченого </a:t>
            </a:r>
            <a:br>
              <a:rPr sz="4800"/>
            </a:br>
            <a:r>
              <a:rPr b="1" lang="uk-UA" sz="4800" spc="-1" strike="noStrike">
                <a:solidFill>
                  <a:srgbClr val="c00000"/>
                </a:solidFill>
                <a:latin typeface="Times New Roman"/>
              </a:rPr>
              <a:t>   про прикметник як частину мови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990720" y="457200"/>
            <a:ext cx="77724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d3333"/>
                </a:solidFill>
                <a:latin typeface="Times New Roman"/>
              </a:rPr>
              <a:t>Тема  уроку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</a:rPr>
              <a:t>Каліграфічна  хвилинка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зи     им     зм     м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6" name="Picture 6" descr="karanda16"/>
          <p:cNvPicPr/>
          <p:nvPr/>
        </p:nvPicPr>
        <p:blipFill>
          <a:blip r:embed="rId1"/>
          <a:stretch/>
        </p:blipFill>
        <p:spPr>
          <a:xfrm rot="17507400">
            <a:off x="5568120" y="1819800"/>
            <a:ext cx="4566960" cy="95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555 -0.30625 C -0.30937 -0.2963 -0.31076 -0.28495 -0.31441 -0.27477 C -0.31528 -0.27222 -0.31632 -0.26944 -0.31736 -0.2669 C -0.31858 -0.26412 -0.32135 -0.25903 -0.32135 -0.25903 C -0.32309 -0.25093 -0.32812 -0.24398 -0.33021 -0.23565 C -0.33524 -0.21505 -0.33871 -0.19375 -0.34288 -0.17292 C -0.34583 -0.15764 -0.34844 -0.14375 -0.35365 -0.12963 C -0.35538 -0.125 -0.35486 -0.12153 -0.35764 -0.11782 C -0.35885 -0.11065 -0.36128 -0.10509 -0.36354 -0.09838 C -0.36493 -0.09421 -0.36545 -0.09051 -0.36736 -0.08657 C -0.3691 -0.07801 -0.3724 -0.06991 -0.37517 -0.06181 C -0.37708 -0.05625 -0.37691 -0.05139 -0.38021 -0.04745 C -0.38333 -0.0331 -0.38889 -0.01968 -0.39288 -0.00556 C -0.39583 0.00509 -0.39896 0.0162 -0.40365 0.02593 C -0.4059 0.03657 -0.40417 0.03241 -0.40764 0.03889 C -0.40937 0.04653 -0.4125 0.05417 -0.41545 0.06111 C -0.42014 0.07222 -0.41528 0.06343 -0.4184 0.07153 C -0.42448 0.08796 -0.4342 0.10972 -0.44392 0.12269 C -0.44583 0.13148 -0.45417 0.13958 -0.46059 0.14213 C -0.46528 0.14653 -0.47066 0.14792 -0.47621 0.15 C -0.49583 0.14884 -0.49375 0.15231 -0.50469 0.14213 C -0.50851 0.13426 -0.5125 0.12454 -0.5125 0.11481 E">
                                      <p:cBhvr>
                                        <p:cTn id="1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726 -0.16227 C -0.42691 -0.1706 -0.42674 -0.17894 -0.42621 -0.18727 C -0.42517 -0.20347 -0.41701 -0.21597 -0.40851 -0.22639 C -0.40555 -0.23449 -0.39983 -0.23981 -0.39479 -0.24606 C -0.39358 -0.25185 -0.38976 -0.25718 -0.38594 -0.26042 C -0.38351 -0.26551 -0.38073 -0.26574 -0.37726 -0.26968 C -0.37222 -0.27523 -0.36667 -0.28102 -0.36059 -0.28403 C -0.35799 -0.28704 -0.3559 -0.28773 -0.3526 -0.28912 C -0.34601 -0.29583 -0.33715 -0.30509 -0.32917 -0.30741 C -0.32292 -0.31319 -0.31493 -0.31505 -0.30764 -0.31667 C -0.29757 -0.31597 -0.29028 -0.31597 -0.28108 -0.31273 C -0.275 -0.30741 -0.26493 -0.30231 -0.26146 -0.29306 C -0.25937 -0.28727 -0.25833 -0.28125 -0.25555 -0.27616 C -0.25417 -0.27014 -0.25312 -0.26389 -0.25174 -0.25787 C -0.25208 -0.23727 -0.2493 -0.19676 -0.26059 -0.17546 C -0.26406 -0.15995 -0.27621 -0.14583 -0.28594 -0.1375 C -0.28976 -0.13426 -0.29323 -0.13032 -0.29774 -0.12847 C -0.30642 -0.11597 -0.32778 -0.11111 -0.33993 -0.10625 C -0.33368 -0.10579 -0.32743 -0.10602 -0.32135 -0.10486 C -0.3151 -0.1037 -0.30868 -0.09676 -0.3026 -0.09444 C -0.29757 -0.08403 -0.30417 -0.09653 -0.29774 -0.08796 C -0.29514 -0.08449 -0.29288 -0.07685 -0.29184 -0.07222 C -0.2908 -0.06829 -0.28889 -0.06042 -0.28889 -0.06042 C -0.28594 -0.02014 -0.28455 0.02407 -0.29878 0.06111 C -0.30069 0.0662 -0.30121 0.07176 -0.30365 0.07685 C -0.30469 0.08218 -0.30573 0.08472 -0.30851 0.08866 C -0.31076 0.09699 -0.31354 0.1044 -0.3184 0.11088 C -0.31979 0.1169 -0.32326 0.1206 -0.32621 0.12523 C -0.33299 0.13611 -0.33906 0.14815 -0.34965 0.15255 C -0.35503 0.15972 -0.36771 0.16296 -0.37517 0.16435 C -0.38281 0.16296 -0.37934 0.16528 -0.38299 0.16042 C -0.38472 0.1581 -0.38802 0.15394 -0.38802 0.15394 C -0.38906 0.14907 -0.39132 0.14699 -0.39288 0.14213 C -0.39635 0.13125 -0.39687 0.12407 -0.39687 0.11204 E">
                                      <p:cBhvr>
                                        <p:cTn id="1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2 0.13634 C -0.33073 0.13218 -0.32778 0.1294 -0.32309 0.12731 C -0.32083 0.12431 -0.31632 0.1206 -0.31319 0.11944 C -0.30625 0.11319 -0.29896 0.10718 -0.29253 0.09977 C -0.28837 0.09491 -0.28437 0.08796 -0.27986 0.08403 C -0.27795 0.08241 -0.27552 0.08125 -0.27396 0.07894 C -0.27274 0.07708 -0.27049 0.07384 -0.2691 0.07245 C -0.26597 0.06944 -0.2625 0.06736 -0.2592 0.06458 C -0.25712 0.06273 -0.25555 0.05995 -0.25347 0.05787 C -0.24809 0.05278 -0.24288 0.04792 -0.23767 0.04236 C -0.2368 0.04144 -0.23576 0.04051 -0.23472 0.03958 C -0.23351 0.03866 -0.23212 0.03819 -0.2309 0.03704 C -0.22396 0.02986 -0.21823 0.0206 -0.21128 0.01343 C -0.20625 0.00833 -0.20052 0.00417 -0.19549 -0.00093 C -0.19323 -0.00301 -0.19201 -0.00671 -0.18976 -0.0088 C -0.18403 -0.01366 -0.17969 -0.02083 -0.17396 -0.02569 C -0.16701 -0.04005 -0.17743 -0.01968 -0.1691 -0.03218 C -0.16458 -0.03889 -0.16441 -0.04282 -0.1592 -0.04792 C -0.15712 -0.05741 -0.16024 -0.04653 -0.15538 -0.0544 C -0.15469 -0.05556 -0.15486 -0.05718 -0.15434 -0.05833 C -0.15382 -0.05972 -0.15312 -0.06111 -0.15243 -0.06227 C -0.14948 -0.06713 -0.14948 -0.06481 -0.14757 -0.07014 C -0.14601 -0.07407 -0.14253 -0.08194 -0.14253 -0.08171 C -0.14028 -0.0919 -0.14358 -0.07917 -0.13871 -0.08981 C -0.13472 -0.09815 -0.13767 -0.09769 -0.13177 -0.10532 C -0.12812 -0.11528 -0.12517 -0.12523 -0.12014 -0.13426 C -0.11892 -0.13843 -0.1151 -0.14606 -0.1151 -0.14583 C -0.11389 -0.15139 -0.11233 -0.15787 -0.1092 -0.16157 C -0.10642 -0.16944 -0.10417 -0.17639 -0.10052 -0.1838 C -0.09844 -0.18796 -0.09844 -0.19213 -0.09549 -0.1956 C -0.09375 -0.20324 -0.0901 -0.20926 -0.08767 -0.21644 C -0.08628 -0.2206 -0.08281 -0.22824 -0.08281 -0.22801 C -0.0816 -0.23449 -0.07986 -0.2375 -0.07691 -0.24259 C -0.075 -0.24954 -0.0724 -0.25648 -0.07101 -0.26366 C -0.0717 -0.28194 -0.06858 -0.29722 -0.08281 -0.30278 C -0.09566 -0.30023 -0.08299 -0.3037 -0.09253 -0.29884 C -0.09896 -0.2956 -0.1066 -0.29583 -0.11215 -0.28981 C -0.11389 -0.28796 -0.11562 -0.28634 -0.11719 -0.28449 C -0.11927 -0.28194 -0.12309 -0.27662 -0.12309 -0.27639 C -0.12413 -0.27199 -0.12535 -0.26944 -0.12795 -0.2662 C -0.13125 -0.25718 -0.13542 -0.24884 -0.13871 -0.24005 C -0.14028 -0.23565 -0.13993 -0.23194 -0.14253 -0.22824 C -0.14427 -0.21991 -0.14514 -0.21574 -0.14844 -0.2088 C -0.14878 -0.20694 -0.14896 -0.20509 -0.14948 -0.20347 C -0.15 -0.20208 -0.15104 -0.20093 -0.15139 -0.19954 C -0.15278 -0.19398 -0.15312 -0.18819 -0.15434 -0.18264 L -0.15434 -0.18241 C -0.15903 -0.16528 -0.16267 -0.14769 -0.16719 -0.13032 C -0.17101 -0.11597 -0.17187 -0.09954 -0.17691 -0.08588 C -0.17847 -0.07593 -0.1809 -0.06667 -0.18385 -0.05718 C -0.18628 -0.04931 -0.18663 -0.04097 -0.18976 -0.03356 C -0.19097 -0.02407 -0.19514 -0.01481 -0.19844 -0.00602 C -0.20017 -0.00162 -0.20035 0.00278 -0.20243 0.00694 C -0.20347 0.01227 -0.20347 0.0162 -0.20642 0.02014 C -0.20746 0.02454 -0.20833 0.02778 -0.21024 0.03171 C -0.2118 0.04005 -0.21354 0.05093 -0.21719 0.05787 C -0.21892 0.06574 -0.22066 0.07361 -0.22205 0.08148 C -0.22274 0.08542 -0.22396 0.09329 -0.22396 0.09352 C -0.225 0.10602 -0.22674 0.11852 -0.22795 0.13125 C -0.22743 0.1456 -0.23055 0.16597 -0.21805 0.17176 C -0.19878 0.17014 -0.20399 0.17083 -0.19062 0.16389 C -0.18385 0.15486 -0.18698 0.1581 -0.18177 0.15347 C -0.17917 0.1463 -0.17743 0.13889 -0.17587 0.13125 C -0.17483 0.11366 -0.17326 0.0963 -0.17101 0.07894 C -0.16979 0.0088 -0.17934 0.03056 -0.16128 0.03704 C -0.15156 0.03657 -0.13472 0.03889 -0.12396 0.03171 C -0.10729 0.0206 -0.09167 0.00139 -0.07882 -0.01644 C -0.0724 -0.02546 -0.06701 -0.03727 -0.0592 -0.04398 C -0.05746 -0.05208 -0.05903 -0.04722 -0.05139 -0.05718 C -0.0467 -0.06343 -0.04323 -0.07199 -0.03767 -0.07662 C -0.03351 -0.08519 -0.02917 -0.09306 -0.025 -0.10162 C -0.02413 -0.10347 -0.02292 -0.10486 -0.02205 -0.10671 C -0.02066 -0.10926 -0.01805 -0.11458 -0.01805 -0.11435 C -0.01701 -0.11921 -0.01562 -0.12037 -0.01319 -0.12384 C -0.01042 -0.13403 -0.0033 -0.14491 0.00243 -0.15255 C 0.00434 -0.15949 0.01007 -0.16667 0.0132 -0.17199 C 0.01424 -0.17384 0.01424 -0.17662 0.01528 -0.1787 C 0.01719 -0.18287 0.02083 -0.18773 0.02309 -0.19167 C 0.02431 -0.19769 0.02639 -0.2037 0.02899 -0.2088 C 0.03108 -0.21806 0.0283 -0.20671 0.03195 -0.21782 C 0.03403 -0.22431 0.03455 -0.23125 0.03681 -0.2375 C 0.03715 -0.24051 0.03733 -0.24352 0.03785 -0.24653 C 0.03854 -0.25023 0.0408 -0.25718 0.0408 -0.25694 C 0.04149 -0.26944 0.0441 -0.28264 0.04167 -0.29491 C 0.04167 -0.29514 0.03264 -0.3 0.03195 -0.30023 C 0.02344 -0.29907 0.01771 -0.29861 0.01024 -0.29375 C 0.00781 -0.29028 0.0066 -0.28727 0.00347 -0.28449 C -0.00104 -0.27523 -0.00469 -0.26435 -0.00833 -0.2544 C -0.01094 -0.23958 -0.00712 -0.25833 -0.01128 -0.24537 C -0.01319 -0.23935 -0.01354 -0.2331 -0.01719 -0.22824 C -0.01875 -0.21713 -0.02309 -0.20694 -0.02691 -0.19699 C -0.02899 -0.19144 -0.02691 -0.19421 -0.02882 -0.18773 C -0.03055 -0.18194 -0.0309 -0.1838 -0.03281 -0.1787 C -0.03437 -0.17431 -0.03507 -0.16991 -0.0368 -0.16551 C -0.03785 -0.1581 -0.0434 -0.14051 -0.04653 -0.13426 C -0.04826 -0.12569 -0.05174 -0.11667 -0.05538 -0.10926 C -0.05799 -0.10394 -0.05816 -0.09792 -0.06024 -0.09236 C -0.0625 -0.08611 -0.06597 -0.08032 -0.06805 -0.07407 C -0.07153 -0.06389 -0.07378 -0.05208 -0.07986 -0.04398 C -0.08194 -0.03611 -0.08698 -0.02407 -0.09167 -0.01782 C -0.09323 -0.01065 -0.09618 -0.00417 -0.09948 0.00185 C -0.10191 0.01134 -0.10503 0.02222 -0.1092 0.03056 C -0.11059 0.03727 -0.11337 0.04398 -0.11615 0.05023 C -0.11823 0.06042 -0.12153 0.0706 -0.125 0.08009 C -0.12639 0.08843 -0.12778 0.09722 -0.12986 0.10509 C -0.12951 0.12037 -0.12934 0.13542 -0.12882 0.15069 C -0.12795 0.17569 -0.10972 0.18889 -0.09358 0.19259 C -0.07535 0.1912 -0.0783 0.19259 -0.06719 0.18727 C -0.05746 0.17546 -0.0526 0.16319 -0.04462 0.14954 C -0.04271 0.14259 -0.04132 0.13565 -0.03976 0.12847 C -0.03993 0.09699 -0.0217 0.00903 -0.06024 -0.00602 C -0.0684 -0.00556 -0.07656 -0.00602 -0.08472 -0.00486 C -0.0868 -0.00463 -0.09062 -0.00208 -0.09062 -0.00185 C -0.0941 0.00255 -0.09236 0.00116 -0.09549 0.00301 E">
                                      <p:cBhvr>
                                        <p:cTn id="1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Овал 10"/>
          <p:cNvSpPr/>
          <p:nvPr/>
        </p:nvSpPr>
        <p:spPr>
          <a:xfrm>
            <a:off x="6156360" y="3564000"/>
            <a:ext cx="2160720" cy="952560"/>
          </a:xfrm>
          <a:prstGeom prst="ellipse">
            <a:avLst/>
          </a:prstGeom>
          <a:solidFill>
            <a:srgbClr val="f9f4f1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мороз</a:t>
            </a:r>
            <a:endParaRPr b="0" lang="en-US" sz="2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8" name="Овал 1"/>
          <p:cNvSpPr/>
          <p:nvPr/>
        </p:nvSpPr>
        <p:spPr>
          <a:xfrm>
            <a:off x="3614760" y="1960560"/>
            <a:ext cx="2160720" cy="952560"/>
          </a:xfrm>
          <a:prstGeom prst="ellipse">
            <a:avLst/>
          </a:prstGeom>
          <a:solidFill>
            <a:srgbClr val="f4d2d2"/>
          </a:solidFill>
          <a:ln w="38160">
            <a:solidFill>
              <a:srgbClr val="ba2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333399"/>
                </a:solidFill>
                <a:latin typeface="Arial"/>
              </a:rPr>
              <a:t>Зима</a:t>
            </a:r>
            <a:endParaRPr b="0" lang="en-US" sz="2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9" name="Овал 3"/>
          <p:cNvSpPr/>
          <p:nvPr/>
        </p:nvSpPr>
        <p:spPr>
          <a:xfrm>
            <a:off x="826920" y="474840"/>
            <a:ext cx="2160720" cy="950760"/>
          </a:xfrm>
          <a:prstGeom prst="ellipse">
            <a:avLst/>
          </a:prstGeom>
          <a:solidFill>
            <a:srgbClr val="f9f4f1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сніг</a:t>
            </a:r>
            <a:endParaRPr b="0" lang="en-US" sz="2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0" name="Овал 5"/>
          <p:cNvSpPr/>
          <p:nvPr/>
        </p:nvSpPr>
        <p:spPr>
          <a:xfrm>
            <a:off x="6372360" y="404640"/>
            <a:ext cx="2160360" cy="952560"/>
          </a:xfrm>
          <a:prstGeom prst="ellipse">
            <a:avLst/>
          </a:prstGeom>
          <a:solidFill>
            <a:srgbClr val="f9f4f1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лід</a:t>
            </a:r>
            <a:endParaRPr b="0" lang="en-US" sz="2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1" name="Овал 6"/>
          <p:cNvSpPr/>
          <p:nvPr/>
        </p:nvSpPr>
        <p:spPr>
          <a:xfrm>
            <a:off x="324000" y="1994040"/>
            <a:ext cx="2160360" cy="950760"/>
          </a:xfrm>
          <a:prstGeom prst="ellipse">
            <a:avLst/>
          </a:prstGeom>
          <a:solidFill>
            <a:srgbClr val="f9f4f1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санчата</a:t>
            </a:r>
            <a:endParaRPr b="0" lang="en-US" sz="2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Овал 7"/>
          <p:cNvSpPr/>
          <p:nvPr/>
        </p:nvSpPr>
        <p:spPr>
          <a:xfrm>
            <a:off x="826920" y="3564000"/>
            <a:ext cx="2160720" cy="952560"/>
          </a:xfrm>
          <a:prstGeom prst="ellipse">
            <a:avLst/>
          </a:prstGeom>
          <a:solidFill>
            <a:srgbClr val="f9f4f1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лижі</a:t>
            </a:r>
            <a:endParaRPr b="0" lang="en-US" sz="2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3409920" y="3933720"/>
            <a:ext cx="2459160" cy="951120"/>
          </a:xfrm>
          <a:prstGeom prst="ellipse">
            <a:avLst/>
          </a:prstGeom>
          <a:solidFill>
            <a:srgbClr val="f9f4f1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Новий рік</a:t>
            </a:r>
            <a:endParaRPr b="0" lang="en-US" sz="2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4" name="Овал 9"/>
          <p:cNvSpPr/>
          <p:nvPr/>
        </p:nvSpPr>
        <p:spPr>
          <a:xfrm>
            <a:off x="6516720" y="1994040"/>
            <a:ext cx="2448000" cy="950760"/>
          </a:xfrm>
          <a:prstGeom prst="ellipse">
            <a:avLst/>
          </a:prstGeom>
          <a:solidFill>
            <a:srgbClr val="f9f4f1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бурулька</a:t>
            </a:r>
            <a:endParaRPr b="0" lang="en-US" sz="2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5" name="Овал 4"/>
          <p:cNvSpPr/>
          <p:nvPr/>
        </p:nvSpPr>
        <p:spPr>
          <a:xfrm>
            <a:off x="3419640" y="333360"/>
            <a:ext cx="2520720" cy="950760"/>
          </a:xfrm>
          <a:prstGeom prst="ellipse">
            <a:avLst/>
          </a:prstGeom>
          <a:solidFill>
            <a:srgbClr val="f9f4f1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сніжинка</a:t>
            </a:r>
            <a:endParaRPr b="0" lang="en-US" sz="26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6" name="Прямая со стрелкой 11"/>
          <p:cNvCxnSpPr/>
          <p:nvPr/>
        </p:nvCxnSpPr>
        <p:spPr>
          <a:xfrm flipH="1" flipV="1">
            <a:off x="2842560" y="1425240"/>
            <a:ext cx="772200" cy="5688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7" name="Прямая со стрелкой 13"/>
          <p:cNvCxnSpPr/>
          <p:nvPr/>
        </p:nvCxnSpPr>
        <p:spPr>
          <a:xfrm flipV="1">
            <a:off x="4695480" y="1425240"/>
            <a:ext cx="1080" cy="4197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8" name="Прямая со стрелкой 16"/>
          <p:cNvCxnSpPr/>
          <p:nvPr/>
        </p:nvCxnSpPr>
        <p:spPr>
          <a:xfrm flipV="1">
            <a:off x="5610240" y="1356840"/>
            <a:ext cx="907200" cy="5659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9" name="Прямая со стрелкой 18"/>
          <p:cNvCxnSpPr/>
          <p:nvPr/>
        </p:nvCxnSpPr>
        <p:spPr>
          <a:xfrm>
            <a:off x="5919840" y="2356920"/>
            <a:ext cx="597600" cy="802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0" name="Прямая со стрелкой 20"/>
          <p:cNvCxnSpPr/>
          <p:nvPr/>
        </p:nvCxnSpPr>
        <p:spPr>
          <a:xfrm>
            <a:off x="5648040" y="2820960"/>
            <a:ext cx="724680" cy="7437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1" name="Прямая со стрелкой 22"/>
          <p:cNvCxnSpPr/>
          <p:nvPr/>
        </p:nvCxnSpPr>
        <p:spPr>
          <a:xfrm flipH="1">
            <a:off x="4582440" y="3138120"/>
            <a:ext cx="113400" cy="6390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2" name="Прямая со стрелкой 24"/>
          <p:cNvCxnSpPr/>
          <p:nvPr/>
        </p:nvCxnSpPr>
        <p:spPr>
          <a:xfrm flipH="1">
            <a:off x="2842560" y="2935440"/>
            <a:ext cx="827640" cy="6292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3" name="Прямая со стрелкой 26"/>
          <p:cNvCxnSpPr/>
          <p:nvPr/>
        </p:nvCxnSpPr>
        <p:spPr>
          <a:xfrm flipH="1" flipV="1">
            <a:off x="2699640" y="2468160"/>
            <a:ext cx="762840" cy="38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pic>
        <p:nvPicPr>
          <p:cNvPr id="124" name="Picture 2" descr="Картинки по запросу снежинки"/>
          <p:cNvPicPr/>
          <p:nvPr/>
        </p:nvPicPr>
        <p:blipFill>
          <a:blip r:embed="rId1"/>
          <a:stretch/>
        </p:blipFill>
        <p:spPr>
          <a:xfrm>
            <a:off x="971640" y="4941720"/>
            <a:ext cx="1512720" cy="1339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Картинки по запросу снежинки"/>
          <p:cNvPicPr/>
          <p:nvPr/>
        </p:nvPicPr>
        <p:blipFill>
          <a:blip r:embed="rId2"/>
          <a:stretch/>
        </p:blipFill>
        <p:spPr>
          <a:xfrm>
            <a:off x="2484360" y="5229360"/>
            <a:ext cx="1511280" cy="134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33"/>
                </a:solidFill>
                <a:latin typeface="Times New Roman"/>
              </a:rPr>
              <a:t>Колективна  творча  робот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Іду  і  милуюсь  красою  (зимовий)  лісу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Скрізь    лежить    глибокий     сніг.    Зим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подарувала     (могутній)     дубу     (тепла)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шапку.  Стоїть  у  задумі  білокора  берізка.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Святково     погойдує     пишним     гіллям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зелена    ялинк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Прямоугольный треугольник 10"/>
          <p:cNvSpPr/>
          <p:nvPr/>
        </p:nvSpPr>
        <p:spPr>
          <a:xfrm>
            <a:off x="1042920" y="1989000"/>
            <a:ext cx="6408720" cy="3240360"/>
          </a:xfrm>
          <a:prstGeom prst="rtTriangle">
            <a:avLst/>
          </a:prstGeom>
          <a:solidFill>
            <a:srgbClr val="7030a0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Прямоугольный треугольник 12"/>
          <p:cNvSpPr/>
          <p:nvPr/>
        </p:nvSpPr>
        <p:spPr>
          <a:xfrm rot="10800000">
            <a:off x="1042920" y="1988280"/>
            <a:ext cx="6408720" cy="3240360"/>
          </a:xfrm>
          <a:prstGeom prst="rtTriangle">
            <a:avLst/>
          </a:prstGeom>
          <a:solidFill>
            <a:srgbClr val="ff0066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1" name="Прямоугольник 13"/>
          <p:cNvSpPr/>
          <p:nvPr/>
        </p:nvSpPr>
        <p:spPr>
          <a:xfrm>
            <a:off x="7380360" y="1989000"/>
            <a:ext cx="1368360" cy="3240360"/>
          </a:xfrm>
          <a:prstGeom prst="rect">
            <a:avLst/>
          </a:prstGeom>
          <a:solidFill>
            <a:srgbClr val="9a2626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</a:rPr>
              <a:t>Клаптикова  ковд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42920" y="1341360"/>
            <a:ext cx="7850160" cy="519120"/>
          </a:xfrm>
          <a:prstGeom prst="rect">
            <a:avLst/>
          </a:prstGeom>
          <a:solidFill>
            <a:srgbClr val="ffc78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02000"/>
                </a:solidFill>
                <a:latin typeface="Times New Roman"/>
              </a:rPr>
              <a:t>Частина мов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B5A5-D326-4124-9954-CE18630A395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5" name="Содержимое 2"/>
          <p:cNvSpPr/>
          <p:nvPr/>
        </p:nvSpPr>
        <p:spPr>
          <a:xfrm>
            <a:off x="1042920" y="836640"/>
            <a:ext cx="7850160" cy="520560"/>
          </a:xfrm>
          <a:prstGeom prst="rect">
            <a:avLst/>
          </a:prstGeom>
          <a:solidFill>
            <a:srgbClr val="ff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Що таке прикметник?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" name="Содержимое 2"/>
          <p:cNvSpPr/>
          <p:nvPr/>
        </p:nvSpPr>
        <p:spPr>
          <a:xfrm>
            <a:off x="1042920" y="2349360"/>
            <a:ext cx="7850160" cy="519120"/>
          </a:xfrm>
          <a:prstGeom prst="rect">
            <a:avLst/>
          </a:prstGeom>
          <a:solidFill>
            <a:srgbClr val="ffe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02000"/>
                </a:solidFill>
                <a:latin typeface="Times New Roman"/>
              </a:rPr>
              <a:t>На ознаку предмета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7" name="Содержимое 2"/>
          <p:cNvSpPr/>
          <p:nvPr/>
        </p:nvSpPr>
        <p:spPr>
          <a:xfrm>
            <a:off x="1042920" y="1844640"/>
            <a:ext cx="7850160" cy="520560"/>
          </a:xfrm>
          <a:prstGeom prst="rect">
            <a:avLst/>
          </a:prstGeom>
          <a:solidFill>
            <a:srgbClr val="e9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На що вказує?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8" name="Содержимое 2"/>
          <p:cNvSpPr/>
          <p:nvPr/>
        </p:nvSpPr>
        <p:spPr>
          <a:xfrm>
            <a:off x="1042920" y="2852640"/>
            <a:ext cx="7850160" cy="520920"/>
          </a:xfrm>
          <a:prstGeom prst="rect">
            <a:avLst/>
          </a:prstGeom>
          <a:solidFill>
            <a:srgbClr val="f4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На які питання відповідає?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Содержимое 2"/>
          <p:cNvSpPr/>
          <p:nvPr/>
        </p:nvSpPr>
        <p:spPr>
          <a:xfrm>
            <a:off x="1042920" y="6337440"/>
            <a:ext cx="7850160" cy="520560"/>
          </a:xfrm>
          <a:prstGeom prst="rect">
            <a:avLst/>
          </a:prstGeom>
          <a:solidFill>
            <a:srgbClr val="de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02000"/>
                </a:solidFill>
                <a:latin typeface="Times New Roman"/>
              </a:rPr>
              <a:t>Другорядним членом речення, означення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0" name="Содержимое 2"/>
          <p:cNvSpPr/>
          <p:nvPr/>
        </p:nvSpPr>
        <p:spPr>
          <a:xfrm>
            <a:off x="1042920" y="3357720"/>
            <a:ext cx="7850160" cy="519120"/>
          </a:xfrm>
          <a:prstGeom prst="rect">
            <a:avLst/>
          </a:prstGeom>
          <a:solidFill>
            <a:srgbClr val="ffc5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02000"/>
                </a:solidFill>
                <a:latin typeface="Times New Roman"/>
              </a:rPr>
              <a:t>Який?  Яка?  Яке?  Які?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1042920" y="4365720"/>
            <a:ext cx="7850160" cy="519120"/>
          </a:xfrm>
          <a:prstGeom prst="rect">
            <a:avLst/>
          </a:prstGeom>
          <a:solidFill>
            <a:srgbClr val="dcc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02000"/>
                </a:solidFill>
                <a:latin typeface="Times New Roman"/>
              </a:rPr>
              <a:t>За числами, родами, відмінками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2" name="Содержимое 2"/>
          <p:cNvSpPr/>
          <p:nvPr/>
        </p:nvSpPr>
        <p:spPr>
          <a:xfrm>
            <a:off x="1042920" y="3860640"/>
            <a:ext cx="7850160" cy="52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Як  змінюється?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1042920" y="4869000"/>
            <a:ext cx="7850160" cy="520560"/>
          </a:xfrm>
          <a:prstGeom prst="rect">
            <a:avLst/>
          </a:prstGeom>
          <a:solidFill>
            <a:srgbClr val="43f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З якою мовою найчастіше пов’язаний?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4" name="Содержимое 2"/>
          <p:cNvSpPr/>
          <p:nvPr/>
        </p:nvSpPr>
        <p:spPr>
          <a:xfrm>
            <a:off x="1042920" y="5373720"/>
            <a:ext cx="7850160" cy="5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02000"/>
                </a:solidFill>
                <a:latin typeface="Times New Roman"/>
              </a:rPr>
              <a:t>З  іменником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" name="Содержимое 2"/>
          <p:cNvSpPr/>
          <p:nvPr/>
        </p:nvSpPr>
        <p:spPr>
          <a:xfrm>
            <a:off x="1042920" y="5877000"/>
            <a:ext cx="7850160" cy="520560"/>
          </a:xfrm>
          <a:prstGeom prst="rect">
            <a:avLst/>
          </a:prstGeom>
          <a:solidFill>
            <a:srgbClr val="d2c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Яким  членом  речення  буває?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33"/>
                </a:solidFill>
                <a:latin typeface="Times New Roman"/>
              </a:rPr>
              <a:t>Колективна  творча  робот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Іду  і  милуюсь  красою  (зимовий)  лісу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Скрізь    лежить    глибокий     сніг.    Зим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подарувала     (могутній)     дубу     (тепла)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шапку.  Стоїть  у  задумі  білокора  берізка.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Святково     погойдує     пишним     гіллям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зелена    ялинк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</dc:creator>
  <dc:description/>
  <dc:language>en-US</dc:language>
  <cp:lastModifiedBy>Виктория</cp:lastModifiedBy>
  <dcterms:modified xsi:type="dcterms:W3CDTF">2017-03-02T16:59:46Z</dcterms:modified>
  <cp:revision>198</cp:revision>
  <dc:subject/>
  <dc:title>Впровадження ІКТ  в навчально – виховний процес Вознесенської загальноосвітньої школи І-ІІІ ступенів №2</dc:title>
</cp:coreProperties>
</file>