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D29D-EC3A-4F80-A1E2-2F04A600C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A0F0-F2DC-4155-8B3C-3D07D44100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86F3-B0C6-4664-ACDD-77022C39A7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0B3E-73F7-4B40-A31E-AE632ED055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138A-0946-4C33-A0BE-D9391A6439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2D31-E10E-420B-9AE3-41BFD2BC25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3EBD-25A0-4482-BB6A-0A228BA6D9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D5AA-204A-4F09-B587-636FD60E98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D8D-1A05-43DD-A917-8BFEA82EB1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21C-F8D5-4962-86CA-2B28E94770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3986-6DCA-4B08-A3EC-F2916C1B36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A8AA-0852-4742-98A5-943D39E710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C71F-E982-4308-AB1A-6361C8AC6B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2CD-3AE7-4A7C-A46D-0B40D8B0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52C-0D77-42AF-91FC-3CAD522F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E5534-D3D5-4AF3-9CCD-6F1AC3CE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41308-30E2-452E-BB54-019894A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B1BD6-AAA9-4617-AF24-0B384496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65CC1-515E-4E0C-9215-6343BBF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B8AB8-5D97-4667-842F-4FE95BF7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C1BB1-F93C-4DD5-A142-3F90243B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B032C-EDEC-4D0B-83F5-E216CAFC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4568C-5E89-42D3-B67F-EDDF4C62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466CF-1891-4033-81F6-F945503B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87F-ABE8-4428-A0FE-40FA606E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9DE-3BCD-4D70-99DD-177F4008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B7C2-31CB-46D5-B556-C545BB58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906B-3F4F-4929-9D75-FA01BF47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5DE9-A5C2-450C-99BA-5F9BB42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C10D-25E1-4BE0-A4B5-919EA3D8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6674-468A-4933-B383-FFE36720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4398-528A-44F2-B56B-4A34AE0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84A-D01A-413A-8FE4-A4E4E51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726-27D8-450B-80E4-D6B528DF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0002-69BE-418D-B9A0-52F682AB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B91-DBD5-4AEF-8574-CDF7E91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51F9-2027-4FDC-9192-E9AC1EE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2C24-D364-4511-A6FB-3DFE3DBA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FE6C-360B-4A8C-A557-14AA0DA3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94AD-8D91-4E4B-83B1-0E663DF8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2519-BEA1-42DA-A203-4E0992FA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B14F-83D9-40FD-919D-E643C5F1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F4A72-FEB2-496F-BEC7-65690D58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FC13-32D4-4F81-812A-1047126E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C07-B13C-4D66-A31B-42C97900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80DE-7C3F-48A6-8B58-53B5A85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29BA-17C4-48C2-BFFE-57AF979E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6B3E-F47A-4170-92E4-8FE55C4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E7CE5-BB6E-4FB7-811F-A50B3FE1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31F1-1032-479D-9B2E-A55B5EEC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893C7-BE43-42DF-B59B-DD943044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E4E8-A209-419D-858A-43A7C2D7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1CFCA-7EB3-4598-B2BE-96DBCB29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F85A-B42C-4609-8731-8EAF1B1F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AD922-1F1F-4B93-B7D4-A3BC6B0D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259-44C8-48AE-9A8E-D7CE5A95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CEE25-723B-4C59-A9FA-E6AA04BD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13B3-E50F-454F-89B0-AEF19774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59E9-D0F2-4F89-98E4-31A68B1C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1CAA-0EDF-4DD9-AEBD-C8A2CCA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0CFB-0A8A-4EDE-A9E3-3DE20B3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13EF-863F-4E52-90CF-E85FDFC5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03D0-3FA8-44EC-8F22-9A88EAE3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37C3A-7536-4050-BFF8-3C163200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0FF50-A14D-4274-BC61-E7B78AC6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0C1D-0070-4233-BBD2-21C76DFC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100-FC96-42D7-AFC4-EE53CDBC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5E8A-487E-454C-8CB8-1E84F261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E4946-864C-48D2-8EF2-5DF65D9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D279-627E-4C04-875D-637011C9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51D0-7C6C-416F-874A-28F9752E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4046-64AB-4D2B-8D1F-72887B27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43399-52E7-4D02-AD5D-511709B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F375-212C-4FF3-83FF-6BFAB0E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966E6-BF15-4A35-B8AC-198396DB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A7EF3-E1EF-44E1-9EE3-E8F575CC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CE02-36E1-4FF5-A97C-06E26267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688-1C18-4939-82B1-EA1D4DDB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FFE8-FB73-4E0E-8AD8-72099E55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3B5E-4A30-43C1-A6F1-18934E9F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1B35-66ED-4136-96D0-25C0662C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BDBD-BA1B-41F7-BED2-04D180B5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61B5F-3D0F-49D3-B30A-803CD35F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D9601-E0A4-4C19-BAC0-4155820A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2966E-E56D-4BDC-A7FA-6B70EB5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209C-A692-4C03-B2CC-4B2F2A2D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CAA18-D0C6-47C5-B6E5-DCD4BBF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94BF0-01A6-4DDA-9146-87D3B283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0F9-04A4-499E-9961-10DEC0EA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D798-F8FE-44CD-826B-BA8536F8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B14D-6101-4604-939C-283B9D7A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292D3-3FAE-4AA2-9337-8C701D61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554F2-269F-4967-BDA1-D695F0E2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0970D-E88D-4B5A-8F2E-737C43E7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A424D-5CD7-4E78-9669-0C33B3EF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3B5F6-BA97-4027-8B55-4515B9F5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52A5-9AD3-4F20-8AF6-2C44F5DD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7429B-5D36-4011-8F58-FA48688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36F2F-ECA1-40BE-9EA7-F70677C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9CD-4554-4507-86DE-C1C72950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E3500-3034-4E1C-A4F2-8AE0923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E6067-C1DA-4895-8D82-B05971A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F7EEC-2658-47E9-9E30-001CB125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E3511-15F4-4ABC-AB51-02885141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7F51-FF02-4068-9A54-BC930808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2803E-0585-4E42-95DA-4DC0BC76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EF06A-0899-413B-896F-AA157C52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1913A-3213-490A-8F23-C29F0600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E20B9-4351-4C4B-9664-5D759F6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BF4A3-E0D4-46CE-8339-028CC448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9CD-FCAB-4D2C-987F-6D7EA40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44527-5F16-472D-85AA-F250F50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098A0-99B8-4765-A2B8-ACD700DF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D9034-B01B-469F-8861-F484CFC9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26434-2C98-405F-AFBA-AB2E5E47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3AB13-7EF2-47F7-801E-3B58DB7D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AEBFA-6EBF-42F5-BFD5-7AF7E03E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2071D-5F90-40B0-B447-5209B97B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7FFB4-9A90-4193-9E0E-5B779AFA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B2505-9844-41C9-89A9-7B2A1B34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A3807-EA2B-4F8D-B968-7C30D786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A5B7-8899-40F4-BC46-62F1BD5F2C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2E5E-0691-4038-8994-AD56616EB976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8652-E0A9-46B6-BDE8-3F5D71FD2C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C62E-AFEB-4916-BCD2-4998446BC4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EF8F-0397-4E0B-A385-35170EB8F2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184-A09D-469E-B5AA-0569381C64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DA94-EDD1-41F6-B0AB-75036B7C8D4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6FA0-3FC1-4B7A-B576-9CEADCBE79A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3899-FD6B-4047-B447-7D22F03E8D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5" descr="часы"/>
          <p:cNvPicPr/>
          <p:nvPr/>
        </p:nvPicPr>
        <p:blipFill>
          <a:blip r:embed="rId2"/>
          <a:stretch/>
        </p:blipFill>
        <p:spPr>
          <a:xfrm>
            <a:off x="3203640" y="1773360"/>
            <a:ext cx="2881080" cy="264780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12">
            <a:hlinkClick r:id="rId3"/>
          </p:cNvPr>
          <p:cNvSpPr/>
          <p:nvPr/>
        </p:nvSpPr>
        <p:spPr>
          <a:xfrm>
            <a:off x="5580000" y="3933720"/>
            <a:ext cx="432000" cy="40500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39" h="21600">
                <a:moveTo>
                  <a:pt x="0" y="0"/>
                </a:moveTo>
                <a:lnTo>
                  <a:pt x="23039" y="0"/>
                </a:lnTo>
                <a:lnTo>
                  <a:pt x="23039" y="21600"/>
                </a:lnTo>
                <a:lnTo>
                  <a:pt x="0" y="21600"/>
                </a:lnTo>
                <a:close/>
              </a:path>
              <a:path fill="lightenLess" w="23039" h="21600">
                <a:moveTo>
                  <a:pt x="0" y="0"/>
                </a:moveTo>
                <a:lnTo>
                  <a:pt x="23039" y="0"/>
                </a:lnTo>
                <a:lnTo>
                  <a:pt x="21639" y="1400"/>
                </a:lnTo>
                <a:lnTo>
                  <a:pt x="1400" y="1400"/>
                </a:lnTo>
                <a:close/>
              </a:path>
              <a:path fill="darken" w="23039" h="21600">
                <a:moveTo>
                  <a:pt x="23039" y="0"/>
                </a:moveTo>
                <a:lnTo>
                  <a:pt x="23039" y="21600"/>
                </a:lnTo>
                <a:lnTo>
                  <a:pt x="21639" y="20200"/>
                </a:lnTo>
                <a:lnTo>
                  <a:pt x="21639" y="1400"/>
                </a:lnTo>
                <a:close/>
              </a:path>
              <a:path fill="darkenLess" w="23039" h="21600">
                <a:moveTo>
                  <a:pt x="2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9" y="20200"/>
                </a:lnTo>
                <a:close/>
              </a:path>
              <a:path fill="lighten" w="2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9" h="21600">
                <a:moveTo>
                  <a:pt x="4513" y="8406"/>
                </a:moveTo>
                <a:lnTo>
                  <a:pt x="8943" y="8406"/>
                </a:lnTo>
                <a:lnTo>
                  <a:pt x="13365" y="3794"/>
                </a:lnTo>
                <a:lnTo>
                  <a:pt x="13365" y="17806"/>
                </a:lnTo>
                <a:lnTo>
                  <a:pt x="8943" y="13194"/>
                </a:lnTo>
                <a:lnTo>
                  <a:pt x="4513" y="13194"/>
                </a:lnTo>
                <a:close/>
              </a:path>
              <a:path fill="darken" w="23039" h="21600">
                <a:moveTo>
                  <a:pt x="15018" y="10800"/>
                </a:moveTo>
                <a:lnTo>
                  <a:pt x="18526" y="10800"/>
                </a:lnTo>
              </a:path>
              <a:path fill="darken" w="23039" h="21600">
                <a:moveTo>
                  <a:pt x="15018" y="8406"/>
                </a:moveTo>
                <a:lnTo>
                  <a:pt x="18526" y="5639"/>
                </a:lnTo>
              </a:path>
              <a:path fill="darken" w="23039" h="21600">
                <a:moveTo>
                  <a:pt x="15018" y="13194"/>
                </a:moveTo>
                <a:lnTo>
                  <a:pt x="18526" y="15961"/>
                </a:lnTo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3" descr="Рукопись"/>
          <p:cNvPicPr/>
          <p:nvPr/>
        </p:nvPicPr>
        <p:blipFill>
          <a:blip r:embed="rId2"/>
          <a:stretch/>
        </p:blipFill>
        <p:spPr>
          <a:xfrm>
            <a:off x="2411280" y="274680"/>
            <a:ext cx="432144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Содержимое 2" descr="un_bw.jpg"/>
          <p:cNvPicPr/>
          <p:nvPr/>
        </p:nvPicPr>
        <p:blipFill>
          <a:blip r:embed="rId1"/>
          <a:stretch/>
        </p:blipFill>
        <p:spPr>
          <a:xfrm>
            <a:off x="1701720" y="274680"/>
            <a:ext cx="57405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Содержимое 2" descr="329_2017_ukr_new_1.jpg"/>
          <p:cNvPicPr/>
          <p:nvPr/>
        </p:nvPicPr>
        <p:blipFill>
          <a:blip r:embed="rId1"/>
          <a:stretch/>
        </p:blipFill>
        <p:spPr>
          <a:xfrm>
            <a:off x="1927080" y="274680"/>
            <a:ext cx="52898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Види календар</a:t>
            </a:r>
            <a:r>
              <a:rPr b="1" lang="uk-UA" sz="4400" spc="-1" strike="noStrike">
                <a:solidFill>
                  <a:srgbClr val="ffffff"/>
                </a:solidFill>
                <a:latin typeface="Century Gothic"/>
              </a:rPr>
              <a:t>ів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5" name="Picture 2" descr="C:\Users\admin\Downloads\images (1).jpg"/>
          <p:cNvPicPr/>
          <p:nvPr/>
        </p:nvPicPr>
        <p:blipFill>
          <a:blip r:embed="rId1"/>
          <a:stretch/>
        </p:blipFill>
        <p:spPr>
          <a:xfrm>
            <a:off x="500040" y="1285920"/>
            <a:ext cx="3929040" cy="5172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admin\Downloads\1482416238_posvniy-kalendar-na-schen-2017.jpg"/>
          <p:cNvPicPr/>
          <p:nvPr/>
        </p:nvPicPr>
        <p:blipFill>
          <a:blip r:embed="rId2"/>
          <a:stretch/>
        </p:blipFill>
        <p:spPr>
          <a:xfrm>
            <a:off x="3487680" y="3635280"/>
            <a:ext cx="5656320" cy="3222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C:\Users\admin\Downloads\Otryvnoy_kalendar_01.jpg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фізкультхвилинка з інопланетянами.mp4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часы"/>
          <p:cNvPicPr/>
          <p:nvPr/>
        </p:nvPicPr>
        <p:blipFill>
          <a:blip r:embed="rId2"/>
          <a:stretch/>
        </p:blipFill>
        <p:spPr>
          <a:xfrm>
            <a:off x="3203640" y="1773360"/>
            <a:ext cx="2881080" cy="264780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6">
            <a:hlinkClick r:id="rId3"/>
          </p:cNvPr>
          <p:cNvSpPr/>
          <p:nvPr/>
        </p:nvSpPr>
        <p:spPr>
          <a:xfrm>
            <a:off x="5580000" y="393372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2"/>
          <a:stretch/>
        </p:blipFill>
        <p:spPr>
          <a:xfrm>
            <a:off x="-950760" y="176040"/>
            <a:ext cx="10966320" cy="39578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6840" y="1600200"/>
            <a:ext cx="81867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6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6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2"/>
          <a:stretch/>
        </p:blipFill>
        <p:spPr>
          <a:xfrm>
            <a:off x="109440" y="407880"/>
            <a:ext cx="8699760" cy="27432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285480" y="4929120"/>
            <a:ext cx="81867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2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ffffff"/>
                </a:solidFill>
                <a:latin typeface="Century Gothic"/>
              </a:rPr>
              <a:t>Які числові дані не використовувались при розв</a:t>
            </a:r>
            <a:r>
              <a:rPr b="0" lang="en-US" sz="31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lang="uk-UA" sz="3100" spc="-1" strike="noStrike">
                <a:solidFill>
                  <a:srgbClr val="ffffff"/>
                </a:solidFill>
                <a:latin typeface="Century Gothic"/>
              </a:rPr>
              <a:t>язанні задачі?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Горизонтальный свиток 4"/>
          <p:cNvGrpSpPr/>
          <p:nvPr/>
        </p:nvGrpSpPr>
        <p:grpSpPr>
          <a:xfrm>
            <a:off x="274680" y="682560"/>
            <a:ext cx="8491320" cy="4280040"/>
            <a:chOff x="274680" y="682560"/>
            <a:chExt cx="8491320" cy="4280040"/>
          </a:xfrm>
        </p:grpSpPr>
        <p:pic>
          <p:nvPicPr>
            <p:cNvPr id="426" name="Горизонтальный свиток 4" descr=""/>
            <p:cNvPicPr/>
            <p:nvPr/>
          </p:nvPicPr>
          <p:blipFill>
            <a:blip r:embed="rId2"/>
            <a:stretch/>
          </p:blipFill>
          <p:spPr>
            <a:xfrm>
              <a:off x="274680" y="682560"/>
              <a:ext cx="849132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874800" y="1303200"/>
              <a:ext cx="7581960" cy="31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Домашнє завд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Ст. 130 прикл. 798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(за варіантами)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часы"/>
          <p:cNvPicPr/>
          <p:nvPr/>
        </p:nvPicPr>
        <p:blipFill>
          <a:blip r:embed="rId2"/>
          <a:stretch/>
        </p:blipFill>
        <p:spPr>
          <a:xfrm>
            <a:off x="3203640" y="1773360"/>
            <a:ext cx="2881080" cy="264780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6">
            <a:hlinkClick r:id="rId3"/>
          </p:cNvPr>
          <p:cNvSpPr/>
          <p:nvPr/>
        </p:nvSpPr>
        <p:spPr>
          <a:xfrm>
            <a:off x="5580000" y="393372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Gothic"/>
              </a:rPr>
              <a:t>Табель – календар. Розв’язування задач на засвоєння таблиць множення і ділення.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часы"/>
          <p:cNvPicPr/>
          <p:nvPr/>
        </p:nvPicPr>
        <p:blipFill>
          <a:blip r:embed="rId2"/>
          <a:stretch/>
        </p:blipFill>
        <p:spPr>
          <a:xfrm>
            <a:off x="3203640" y="1773360"/>
            <a:ext cx="2881080" cy="26478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5">
            <a:hlinkClick r:id="rId3"/>
          </p:cNvPr>
          <p:cNvSpPr/>
          <p:nvPr/>
        </p:nvSpPr>
        <p:spPr>
          <a:xfrm>
            <a:off x="5580000" y="3933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8406"/>
                </a:moveTo>
                <a:lnTo>
                  <a:pt x="8260" y="8406"/>
                </a:lnTo>
                <a:lnTo>
                  <a:pt x="12681" y="3794"/>
                </a:lnTo>
                <a:lnTo>
                  <a:pt x="12681" y="17806"/>
                </a:lnTo>
                <a:lnTo>
                  <a:pt x="8260" y="13194"/>
                </a:lnTo>
                <a:lnTo>
                  <a:pt x="3829" y="13194"/>
                </a:lnTo>
                <a:close/>
              </a:path>
              <a:path fill="darken" w="21672" h="21600">
                <a:moveTo>
                  <a:pt x="14335" y="10800"/>
                </a:moveTo>
                <a:lnTo>
                  <a:pt x="17842" y="10800"/>
                </a:lnTo>
              </a:path>
              <a:path fill="darken" w="21672" h="21600">
                <a:moveTo>
                  <a:pt x="14335" y="8406"/>
                </a:moveTo>
                <a:lnTo>
                  <a:pt x="17842" y="5639"/>
                </a:lnTo>
              </a:path>
              <a:path fill="darken" w="21672" h="21600">
                <a:moveTo>
                  <a:pt x="14335" y="13194"/>
                </a:moveTo>
                <a:lnTo>
                  <a:pt x="17842" y="15961"/>
                </a:lnTo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2" descr="images.jpg"/>
          <p:cNvPicPr/>
          <p:nvPr/>
        </p:nvPicPr>
        <p:blipFill>
          <a:blip r:embed="rId1"/>
          <a:stretch/>
        </p:blipFill>
        <p:spPr>
          <a:xfrm>
            <a:off x="154080" y="714240"/>
            <a:ext cx="89136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3" descr="shk10.jpg"/>
          <p:cNvPicPr/>
          <p:nvPr/>
        </p:nvPicPr>
        <p:blipFill>
          <a:blip r:embed="rId2"/>
          <a:stretch/>
        </p:blipFill>
        <p:spPr>
          <a:xfrm>
            <a:off x="457200" y="592200"/>
            <a:ext cx="8229600" cy="521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2"/>
          <a:stretch/>
        </p:blipFill>
        <p:spPr>
          <a:xfrm>
            <a:off x="231840" y="262080"/>
            <a:ext cx="8461440" cy="14079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6840" y="1600200"/>
            <a:ext cx="81867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6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6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часы"/>
          <p:cNvPicPr/>
          <p:nvPr/>
        </p:nvPicPr>
        <p:blipFill>
          <a:blip r:embed="rId2"/>
          <a:stretch/>
        </p:blipFill>
        <p:spPr>
          <a:xfrm>
            <a:off x="3203640" y="1773360"/>
            <a:ext cx="2881080" cy="26478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9">
            <a:hlinkClick r:id="rId3"/>
          </p:cNvPr>
          <p:cNvSpPr/>
          <p:nvPr/>
        </p:nvSpPr>
        <p:spPr>
          <a:xfrm>
            <a:off x="5580000" y="393372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500040" y="4500720"/>
            <a:ext cx="8072640" cy="185724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год  60хв;12  3 2 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Содержимое 2" descr="karfagen-big.jpg"/>
          <p:cNvPicPr/>
          <p:nvPr/>
        </p:nvPicPr>
        <p:blipFill>
          <a:blip r:embed="rId1"/>
          <a:stretch/>
        </p:blipFill>
        <p:spPr>
          <a:xfrm>
            <a:off x="457200" y="455760"/>
            <a:ext cx="822960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Содержимое 2" descr="Gur114.jpg"/>
          <p:cNvPicPr/>
          <p:nvPr/>
        </p:nvPicPr>
        <p:blipFill>
          <a:blip r:embed="rId1"/>
          <a:stretch/>
        </p:blipFill>
        <p:spPr>
          <a:xfrm>
            <a:off x="88920" y="203040"/>
            <a:ext cx="904068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12:29Z</dcterms:created>
  <dc:creator>1</dc:creator>
  <dc:description/>
  <dc:language>en-US</dc:language>
  <cp:lastModifiedBy>admin</cp:lastModifiedBy>
  <dcterms:modified xsi:type="dcterms:W3CDTF">2017-03-20T21:53:35Z</dcterms:modified>
  <cp:revision>18</cp:revision>
  <dc:subject/>
  <dc:title>Слайд 1</dc:title>
</cp:coreProperties>
</file>