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314FCA-F0E6-4248-808F-1361BBCEFB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A81D511-F034-4C5D-B97A-8361EDFE3A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13C1BA-4E1B-442B-9520-504C1940DB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191-E9FC-4855-811C-3342A7B5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6324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720" y="4127040"/>
            <a:ext cx="6324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0FD-6D21-4BCD-9473-8B8DBFB9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7480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412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74800" y="412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A10-4CF5-4633-AE27-F36AA91C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120" y="205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0520" y="205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720" y="412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120" y="412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0520" y="4127040"/>
            <a:ext cx="20361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F71-3DDC-4D4D-A34C-5212028D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720" y="2057040"/>
            <a:ext cx="6324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DC6-B5D5-4F9F-85E7-896096C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6324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163-C07A-41E8-9363-381ABD7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3086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74800" y="2057040"/>
            <a:ext cx="3086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0ED-AA5C-49A5-AF8B-B9D662A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23-6E2A-4A65-A326-2E4A24C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06632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BA6-41F8-49CA-97BF-7861FFE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74800" y="2057040"/>
            <a:ext cx="3086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720" y="412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FF2-2251-43BF-A4E0-7725EA9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3086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74800" y="412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143-6F6C-4080-88B5-737313A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2057040"/>
            <a:ext cx="3086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720" y="4127040"/>
            <a:ext cx="6324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C34-3FF2-4D0C-9BEB-3EC36C3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2057040"/>
            <a:ext cx="6324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B5D-954C-4A95-AC97-7DF07E1104E8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258920" y="1557360"/>
            <a:ext cx="7561080" cy="16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42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ра „Що? Де? Коли?”</a:t>
            </a:r>
            <a:endParaRPr b="1" lang="en-US" sz="2400" spc="1" strike="noStrike">
              <a:ln w="442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3" descr="Рисунок11"/>
          <p:cNvPicPr/>
          <p:nvPr/>
        </p:nvPicPr>
        <p:blipFill>
          <a:blip r:embed="rId3"/>
          <a:stretch/>
        </p:blipFill>
        <p:spPr>
          <a:xfrm>
            <a:off x="3708360" y="371628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Данило"/>
          <p:cNvPicPr/>
          <p:nvPr/>
        </p:nvPicPr>
        <p:blipFill>
          <a:blip r:embed="rId1"/>
          <a:stretch/>
        </p:blipFill>
        <p:spPr>
          <a:xfrm>
            <a:off x="5048280" y="1052640"/>
            <a:ext cx="3700440" cy="43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5221440" y="5589720"/>
            <a:ext cx="28796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Данило Романо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1201-1264 р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116000" y="2060640"/>
            <a:ext cx="3887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53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Данила було короновано в Дорогочині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52-1257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Данило чинив вдалий опір монгол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64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Данило пом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Карта"/>
          <p:cNvPicPr/>
          <p:nvPr/>
        </p:nvPicPr>
        <p:blipFill>
          <a:blip r:embed="rId1">
            <a:lum contrast="18000"/>
          </a:blip>
          <a:srcRect l="0" t="1130" r="11711" b="4052"/>
          <a:stretch/>
        </p:blipFill>
        <p:spPr>
          <a:xfrm>
            <a:off x="1042920" y="331920"/>
            <a:ext cx="4700520" cy="619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Text Box 3"/>
          <p:cNvSpPr/>
          <p:nvPr/>
        </p:nvSpPr>
        <p:spPr>
          <a:xfrm>
            <a:off x="6372360" y="907920"/>
            <a:ext cx="24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omic Sans MS"/>
              </a:rPr>
              <a:t>Знайдіть помилки на карті?</a:t>
            </a: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 rot="4129800">
            <a:off x="4283640" y="4293360"/>
            <a:ext cx="107928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П о л ь щ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 rot="247200">
            <a:off x="2195640" y="692280"/>
            <a:ext cx="145728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У г о р щ и н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 rot="2347200">
            <a:off x="1186920" y="4437000"/>
            <a:ext cx="173052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Л и т в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 rot="19581000">
            <a:off x="1144440" y="705960"/>
            <a:ext cx="863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П о л о ц ь к а</a:t>
            </a:r>
            <a:endParaRPr b="0" lang="en-US" sz="18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з е м л я</a:t>
            </a:r>
            <a:endParaRPr b="0" lang="en-US" sz="18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3851280" y="885960"/>
            <a:ext cx="9367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е в т о н с ь к и й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 д е 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14"/>
          <p:cNvSpPr txBox="1"/>
          <p:nvPr/>
        </p:nvSpPr>
        <p:spPr>
          <a:xfrm rot="17588400">
            <a:off x="1252800" y="1996560"/>
            <a:ext cx="1298520" cy="85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43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о л о т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 д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18"/>
          <p:cNvSpPr txBox="1"/>
          <p:nvPr/>
        </p:nvSpPr>
        <p:spPr>
          <a:xfrm rot="3010200">
            <a:off x="2207520" y="2539080"/>
            <a:ext cx="2233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Г а л и ц ь к а  з е м л 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3" name="WordArt 19"/>
          <p:cNvSpPr txBox="1"/>
          <p:nvPr/>
        </p:nvSpPr>
        <p:spPr>
          <a:xfrm rot="2511600">
            <a:off x="2344680" y="4289040"/>
            <a:ext cx="2293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В о л и н с ь к а   з е м л 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5846040" y="2441160"/>
            <a:ext cx="921600" cy="839160"/>
            <a:chOff x="5846040" y="2441160"/>
            <a:chExt cx="921600" cy="839160"/>
          </a:xfrm>
        </p:grpSpPr>
        <p:pic>
          <p:nvPicPr>
            <p:cNvPr id="115" name="Picture 20" descr="Рисунок18"/>
            <p:cNvPicPr/>
            <p:nvPr/>
          </p:nvPicPr>
          <p:blipFill>
            <a:blip r:embed="rId6"/>
            <a:stretch/>
          </p:blipFill>
          <p:spPr>
            <a:xfrm rot="8577600">
              <a:off x="6401520" y="250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1" descr="Рисунок18"/>
            <p:cNvPicPr/>
            <p:nvPr/>
          </p:nvPicPr>
          <p:blipFill>
            <a:blip r:embed="rId7"/>
            <a:stretch/>
          </p:blipFill>
          <p:spPr>
            <a:xfrm rot="8577600">
              <a:off x="6153840" y="2707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2" descr="Рисунок18"/>
            <p:cNvPicPr/>
            <p:nvPr/>
          </p:nvPicPr>
          <p:blipFill>
            <a:blip r:embed="rId8"/>
            <a:stretch/>
          </p:blipFill>
          <p:spPr>
            <a:xfrm rot="8577600">
              <a:off x="5906880" y="291420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Ink 6"/>
          <p:cNvSpPr/>
          <p:nvPr/>
        </p:nvSpPr>
        <p:spPr>
          <a:xfrm>
            <a:off x="1058760" y="334800"/>
            <a:ext cx="1333440" cy="1044720"/>
          </a:xfrm>
          <a:custGeom>
            <a:avLst/>
            <a:gdLst/>
            <a:ahLst/>
            <a:rect l="l" t="t" r="r" b="b"/>
            <a:pathLst>
              <a:path w="3705" h="2901">
                <a:moveTo>
                  <a:pt x="2942" y="3831"/>
                </a:moveTo>
                <a:cubicBezTo>
                  <a:pt x="2991" y="3826"/>
                  <a:pt x="3027" y="3822"/>
                  <a:pt x="3069" y="3810"/>
                </a:cubicBezTo>
                <a:cubicBezTo>
                  <a:pt x="3105" y="3799"/>
                  <a:pt x="3137" y="3793"/>
                  <a:pt x="3175" y="3789"/>
                </a:cubicBezTo>
                <a:cubicBezTo>
                  <a:pt x="3240" y="3782"/>
                  <a:pt x="3288" y="3784"/>
                  <a:pt x="3344" y="3768"/>
                </a:cubicBezTo>
                <a:cubicBezTo>
                  <a:pt x="3368" y="3743"/>
                  <a:pt x="3379" y="3736"/>
                  <a:pt x="3408" y="3746"/>
                </a:cubicBezTo>
                <a:cubicBezTo>
                  <a:pt x="3436" y="3714"/>
                  <a:pt x="3438" y="3689"/>
                  <a:pt x="3471" y="3662"/>
                </a:cubicBezTo>
                <a:cubicBezTo>
                  <a:pt x="3499" y="3639"/>
                  <a:pt x="3545" y="3606"/>
                  <a:pt x="3577" y="3598"/>
                </a:cubicBezTo>
                <a:cubicBezTo>
                  <a:pt x="3623" y="3586"/>
                  <a:pt x="3678" y="3588"/>
                  <a:pt x="3725" y="3577"/>
                </a:cubicBezTo>
                <a:cubicBezTo>
                  <a:pt x="3760" y="3569"/>
                  <a:pt x="3796" y="3565"/>
                  <a:pt x="3831" y="3556"/>
                </a:cubicBezTo>
                <a:cubicBezTo>
                  <a:pt x="3868" y="3546"/>
                  <a:pt x="3902" y="3526"/>
                  <a:pt x="3937" y="3514"/>
                </a:cubicBezTo>
                <a:cubicBezTo>
                  <a:pt x="3976" y="3501"/>
                  <a:pt x="4008" y="3484"/>
                  <a:pt x="4043" y="3471"/>
                </a:cubicBezTo>
                <a:cubicBezTo>
                  <a:pt x="4097" y="3451"/>
                  <a:pt x="4112" y="3451"/>
                  <a:pt x="4170" y="3450"/>
                </a:cubicBezTo>
                <a:cubicBezTo>
                  <a:pt x="4266" y="3448"/>
                  <a:pt x="4355" y="3449"/>
                  <a:pt x="4445" y="3471"/>
                </a:cubicBezTo>
                <a:cubicBezTo>
                  <a:pt x="4480" y="3479"/>
                  <a:pt x="4523" y="3508"/>
                  <a:pt x="4551" y="3514"/>
                </a:cubicBezTo>
                <a:cubicBezTo>
                  <a:pt x="4765" y="3560"/>
                  <a:pt x="5177" y="3549"/>
                  <a:pt x="5376" y="3492"/>
                </a:cubicBezTo>
                <a:cubicBezTo>
                  <a:pt x="5430" y="3476"/>
                  <a:pt x="5475" y="3447"/>
                  <a:pt x="5524" y="3429"/>
                </a:cubicBezTo>
                <a:cubicBezTo>
                  <a:pt x="5565" y="3414"/>
                  <a:pt x="5582" y="3413"/>
                  <a:pt x="5630" y="3408"/>
                </a:cubicBezTo>
                <a:cubicBezTo>
                  <a:pt x="5760" y="3394"/>
                  <a:pt x="5886" y="3418"/>
                  <a:pt x="6011" y="3387"/>
                </a:cubicBezTo>
                <a:cubicBezTo>
                  <a:pt x="6049" y="3378"/>
                  <a:pt x="6081" y="3357"/>
                  <a:pt x="6117" y="3344"/>
                </a:cubicBezTo>
                <a:cubicBezTo>
                  <a:pt x="6162" y="3328"/>
                  <a:pt x="6188" y="3302"/>
                  <a:pt x="6223" y="3281"/>
                </a:cubicBezTo>
                <a:cubicBezTo>
                  <a:pt x="6266" y="3256"/>
                  <a:pt x="6299" y="3248"/>
                  <a:pt x="6350" y="3217"/>
                </a:cubicBezTo>
                <a:cubicBezTo>
                  <a:pt x="6374" y="3217"/>
                  <a:pt x="6383" y="3215"/>
                  <a:pt x="6392" y="3196"/>
                </a:cubicBezTo>
                <a:cubicBezTo>
                  <a:pt x="6432" y="3217"/>
                  <a:pt x="6458" y="3244"/>
                  <a:pt x="6498" y="3260"/>
                </a:cubicBezTo>
                <a:cubicBezTo>
                  <a:pt x="6533" y="3277"/>
                  <a:pt x="6538" y="3284"/>
                  <a:pt x="6562" y="3281"/>
                </a:cubicBezTo>
                <a:cubicBezTo>
                  <a:pt x="6580" y="3320"/>
                  <a:pt x="6569" y="3336"/>
                  <a:pt x="6604" y="3365"/>
                </a:cubicBezTo>
                <a:cubicBezTo>
                  <a:pt x="6618" y="3372"/>
                  <a:pt x="6632" y="3380"/>
                  <a:pt x="6646" y="3387"/>
                </a:cubicBezTo>
              </a:path>
              <a:path w="3705" h="2901">
                <a:moveTo>
                  <a:pt x="6540" y="931"/>
                </a:moveTo>
                <a:cubicBezTo>
                  <a:pt x="6511" y="969"/>
                  <a:pt x="6496" y="995"/>
                  <a:pt x="6477" y="1037"/>
                </a:cubicBezTo>
                <a:cubicBezTo>
                  <a:pt x="6437" y="1050"/>
                  <a:pt x="6414" y="1039"/>
                  <a:pt x="6371" y="1058"/>
                </a:cubicBezTo>
                <a:cubicBezTo>
                  <a:pt x="6337" y="1073"/>
                  <a:pt x="6315" y="1089"/>
                  <a:pt x="6286" y="1101"/>
                </a:cubicBezTo>
                <a:cubicBezTo>
                  <a:pt x="6262" y="1132"/>
                  <a:pt x="6253" y="1163"/>
                  <a:pt x="6223" y="1206"/>
                </a:cubicBezTo>
                <a:cubicBezTo>
                  <a:pt x="6193" y="1248"/>
                  <a:pt x="6163" y="1253"/>
                  <a:pt x="6138" y="1312"/>
                </a:cubicBezTo>
                <a:cubicBezTo>
                  <a:pt x="6123" y="1348"/>
                  <a:pt x="6126" y="1378"/>
                  <a:pt x="6117" y="1418"/>
                </a:cubicBezTo>
                <a:cubicBezTo>
                  <a:pt x="6109" y="1454"/>
                  <a:pt x="6106" y="1489"/>
                  <a:pt x="6096" y="1524"/>
                </a:cubicBezTo>
                <a:cubicBezTo>
                  <a:pt x="6086" y="1558"/>
                  <a:pt x="6066" y="1595"/>
                  <a:pt x="6054" y="1630"/>
                </a:cubicBezTo>
                <a:cubicBezTo>
                  <a:pt x="6042" y="1666"/>
                  <a:pt x="6017" y="1730"/>
                  <a:pt x="5990" y="1757"/>
                </a:cubicBezTo>
                <a:cubicBezTo>
                  <a:pt x="5983" y="1757"/>
                  <a:pt x="5976" y="1757"/>
                  <a:pt x="5969" y="1757"/>
                </a:cubicBezTo>
                <a:cubicBezTo>
                  <a:pt x="5935" y="1790"/>
                  <a:pt x="5938" y="1802"/>
                  <a:pt x="5884" y="1841"/>
                </a:cubicBezTo>
                <a:cubicBezTo>
                  <a:pt x="5865" y="1861"/>
                  <a:pt x="5861" y="1868"/>
                  <a:pt x="5842" y="1863"/>
                </a:cubicBezTo>
                <a:cubicBezTo>
                  <a:pt x="5834" y="1868"/>
                  <a:pt x="5808" y="1900"/>
                  <a:pt x="5800" y="1905"/>
                </a:cubicBezTo>
                <a:cubicBezTo>
                  <a:pt x="5737" y="1922"/>
                  <a:pt x="5733" y="1900"/>
                  <a:pt x="5694" y="1968"/>
                </a:cubicBezTo>
                <a:cubicBezTo>
                  <a:pt x="5681" y="1991"/>
                  <a:pt x="5662" y="2019"/>
                  <a:pt x="5651" y="2032"/>
                </a:cubicBezTo>
                <a:cubicBezTo>
                  <a:pt x="5638" y="2064"/>
                  <a:pt x="5596" y="2122"/>
                  <a:pt x="5588" y="2159"/>
                </a:cubicBezTo>
                <a:cubicBezTo>
                  <a:pt x="5579" y="2201"/>
                  <a:pt x="5571" y="2273"/>
                  <a:pt x="5567" y="2307"/>
                </a:cubicBezTo>
                <a:cubicBezTo>
                  <a:pt x="5557" y="2396"/>
                  <a:pt x="5554" y="2504"/>
                  <a:pt x="5546" y="2582"/>
                </a:cubicBezTo>
                <a:cubicBezTo>
                  <a:pt x="5539" y="2652"/>
                  <a:pt x="5540" y="2713"/>
                  <a:pt x="5524" y="2773"/>
                </a:cubicBezTo>
                <a:cubicBezTo>
                  <a:pt x="5511" y="2822"/>
                  <a:pt x="5504" y="2850"/>
                  <a:pt x="5482" y="2900"/>
                </a:cubicBezTo>
                <a:cubicBezTo>
                  <a:pt x="5467" y="2934"/>
                  <a:pt x="5445" y="2974"/>
                  <a:pt x="5419" y="3006"/>
                </a:cubicBezTo>
                <a:cubicBezTo>
                  <a:pt x="5393" y="3038"/>
                  <a:pt x="5358" y="3054"/>
                  <a:pt x="5334" y="3090"/>
                </a:cubicBezTo>
                <a:cubicBezTo>
                  <a:pt x="5301" y="3140"/>
                  <a:pt x="5272" y="3209"/>
                  <a:pt x="5249" y="3260"/>
                </a:cubicBezTo>
                <a:cubicBezTo>
                  <a:pt x="5227" y="3279"/>
                  <a:pt x="5173" y="3304"/>
                  <a:pt x="5143" y="3344"/>
                </a:cubicBezTo>
                <a:cubicBezTo>
                  <a:pt x="5125" y="3368"/>
                  <a:pt x="5126" y="3434"/>
                  <a:pt x="5080" y="3429"/>
                </a:cubicBezTo>
                <a:cubicBezTo>
                  <a:pt x="5080" y="3415"/>
                  <a:pt x="5080" y="3401"/>
                  <a:pt x="5080" y="3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Ink 7"/>
          <p:cNvSpPr/>
          <p:nvPr/>
        </p:nvSpPr>
        <p:spPr>
          <a:xfrm>
            <a:off x="3505320" y="351000"/>
            <a:ext cx="1562040" cy="1295280"/>
          </a:xfrm>
          <a:custGeom>
            <a:avLst/>
            <a:gdLst/>
            <a:ahLst/>
            <a:rect l="l" t="t" r="r" b="b"/>
            <a:pathLst>
              <a:path w="4340" h="3599">
                <a:moveTo>
                  <a:pt x="10880" y="995"/>
                </a:moveTo>
                <a:cubicBezTo>
                  <a:pt x="10857" y="1045"/>
                  <a:pt x="10835" y="1062"/>
                  <a:pt x="10816" y="1101"/>
                </a:cubicBezTo>
                <a:cubicBezTo>
                  <a:pt x="10816" y="1108"/>
                  <a:pt x="10816" y="1115"/>
                  <a:pt x="10816" y="1122"/>
                </a:cubicBezTo>
                <a:cubicBezTo>
                  <a:pt x="10751" y="1141"/>
                  <a:pt x="10766" y="1108"/>
                  <a:pt x="10731" y="1164"/>
                </a:cubicBezTo>
                <a:cubicBezTo>
                  <a:pt x="10714" y="1192"/>
                  <a:pt x="10715" y="1236"/>
                  <a:pt x="10710" y="1270"/>
                </a:cubicBezTo>
                <a:cubicBezTo>
                  <a:pt x="10688" y="1431"/>
                  <a:pt x="10733" y="1607"/>
                  <a:pt x="10689" y="1757"/>
                </a:cubicBezTo>
                <a:cubicBezTo>
                  <a:pt x="10679" y="1792"/>
                  <a:pt x="10652" y="1846"/>
                  <a:pt x="10647" y="1884"/>
                </a:cubicBezTo>
                <a:cubicBezTo>
                  <a:pt x="10637" y="1967"/>
                  <a:pt x="10646" y="2043"/>
                  <a:pt x="10626" y="2117"/>
                </a:cubicBezTo>
                <a:cubicBezTo>
                  <a:pt x="10613" y="2166"/>
                  <a:pt x="10605" y="2194"/>
                  <a:pt x="10583" y="2244"/>
                </a:cubicBezTo>
                <a:cubicBezTo>
                  <a:pt x="10569" y="2277"/>
                  <a:pt x="10554" y="2312"/>
                  <a:pt x="10541" y="2349"/>
                </a:cubicBezTo>
                <a:cubicBezTo>
                  <a:pt x="10530" y="2379"/>
                  <a:pt x="10533" y="2427"/>
                  <a:pt x="10520" y="2455"/>
                </a:cubicBezTo>
                <a:cubicBezTo>
                  <a:pt x="10496" y="2507"/>
                  <a:pt x="10474" y="2533"/>
                  <a:pt x="10456" y="2582"/>
                </a:cubicBezTo>
                <a:cubicBezTo>
                  <a:pt x="10441" y="2622"/>
                  <a:pt x="10443" y="2642"/>
                  <a:pt x="10435" y="2688"/>
                </a:cubicBezTo>
                <a:cubicBezTo>
                  <a:pt x="10428" y="2726"/>
                  <a:pt x="10410" y="2760"/>
                  <a:pt x="10393" y="2794"/>
                </a:cubicBezTo>
                <a:cubicBezTo>
                  <a:pt x="10374" y="2832"/>
                  <a:pt x="10363" y="2862"/>
                  <a:pt x="10350" y="2900"/>
                </a:cubicBezTo>
                <a:cubicBezTo>
                  <a:pt x="10335" y="2944"/>
                  <a:pt x="10316" y="2990"/>
                  <a:pt x="10287" y="3027"/>
                </a:cubicBezTo>
                <a:cubicBezTo>
                  <a:pt x="10265" y="3056"/>
                  <a:pt x="10247" y="3089"/>
                  <a:pt x="10223" y="3111"/>
                </a:cubicBezTo>
                <a:cubicBezTo>
                  <a:pt x="10216" y="3111"/>
                  <a:pt x="10209" y="3111"/>
                  <a:pt x="10202" y="3111"/>
                </a:cubicBezTo>
                <a:cubicBezTo>
                  <a:pt x="10184" y="3133"/>
                  <a:pt x="10156" y="3178"/>
                  <a:pt x="10139" y="3196"/>
                </a:cubicBezTo>
                <a:cubicBezTo>
                  <a:pt x="10106" y="3230"/>
                  <a:pt x="10088" y="3254"/>
                  <a:pt x="10054" y="3281"/>
                </a:cubicBezTo>
                <a:cubicBezTo>
                  <a:pt x="10018" y="3309"/>
                  <a:pt x="9970" y="3331"/>
                  <a:pt x="9927" y="3344"/>
                </a:cubicBezTo>
                <a:cubicBezTo>
                  <a:pt x="9889" y="3356"/>
                  <a:pt x="9869" y="3362"/>
                  <a:pt x="9821" y="3365"/>
                </a:cubicBezTo>
                <a:cubicBezTo>
                  <a:pt x="9793" y="3367"/>
                  <a:pt x="9765" y="3365"/>
                  <a:pt x="9737" y="3365"/>
                </a:cubicBezTo>
              </a:path>
              <a:path w="4340" h="3599">
                <a:moveTo>
                  <a:pt x="14076" y="974"/>
                </a:moveTo>
                <a:cubicBezTo>
                  <a:pt x="14050" y="1016"/>
                  <a:pt x="14002" y="1054"/>
                  <a:pt x="13991" y="1101"/>
                </a:cubicBezTo>
                <a:cubicBezTo>
                  <a:pt x="13979" y="1150"/>
                  <a:pt x="13973" y="1250"/>
                  <a:pt x="13970" y="1291"/>
                </a:cubicBezTo>
                <a:cubicBezTo>
                  <a:pt x="13965" y="1348"/>
                  <a:pt x="13972" y="1364"/>
                  <a:pt x="13949" y="1418"/>
                </a:cubicBezTo>
                <a:cubicBezTo>
                  <a:pt x="13934" y="1453"/>
                  <a:pt x="13902" y="1488"/>
                  <a:pt x="13885" y="1524"/>
                </a:cubicBezTo>
                <a:cubicBezTo>
                  <a:pt x="13872" y="1551"/>
                  <a:pt x="13854" y="1573"/>
                  <a:pt x="13843" y="1587"/>
                </a:cubicBezTo>
                <a:cubicBezTo>
                  <a:pt x="13815" y="1624"/>
                  <a:pt x="13809" y="1641"/>
                  <a:pt x="13779" y="1693"/>
                </a:cubicBezTo>
                <a:cubicBezTo>
                  <a:pt x="13756" y="1733"/>
                  <a:pt x="13750" y="1759"/>
                  <a:pt x="13737" y="1799"/>
                </a:cubicBezTo>
                <a:cubicBezTo>
                  <a:pt x="13721" y="1849"/>
                  <a:pt x="13709" y="1897"/>
                  <a:pt x="13695" y="1947"/>
                </a:cubicBezTo>
                <a:cubicBezTo>
                  <a:pt x="13683" y="1993"/>
                  <a:pt x="13648" y="2031"/>
                  <a:pt x="13631" y="2074"/>
                </a:cubicBezTo>
                <a:cubicBezTo>
                  <a:pt x="13611" y="2124"/>
                  <a:pt x="13603" y="2152"/>
                  <a:pt x="13589" y="2201"/>
                </a:cubicBezTo>
                <a:cubicBezTo>
                  <a:pt x="13580" y="2235"/>
                  <a:pt x="13576" y="2273"/>
                  <a:pt x="13568" y="2307"/>
                </a:cubicBezTo>
                <a:cubicBezTo>
                  <a:pt x="13557" y="2354"/>
                  <a:pt x="13538" y="2374"/>
                  <a:pt x="13525" y="2413"/>
                </a:cubicBezTo>
                <a:cubicBezTo>
                  <a:pt x="13516" y="2438"/>
                  <a:pt x="13507" y="2494"/>
                  <a:pt x="13504" y="2519"/>
                </a:cubicBezTo>
                <a:cubicBezTo>
                  <a:pt x="13497" y="2571"/>
                  <a:pt x="13486" y="2647"/>
                  <a:pt x="13483" y="2688"/>
                </a:cubicBezTo>
                <a:cubicBezTo>
                  <a:pt x="13477" y="2755"/>
                  <a:pt x="13450" y="2753"/>
                  <a:pt x="13441" y="2794"/>
                </a:cubicBezTo>
                <a:cubicBezTo>
                  <a:pt x="13429" y="2848"/>
                  <a:pt x="13431" y="2915"/>
                  <a:pt x="13420" y="2963"/>
                </a:cubicBezTo>
                <a:cubicBezTo>
                  <a:pt x="13410" y="3009"/>
                  <a:pt x="13385" y="3046"/>
                  <a:pt x="13377" y="3090"/>
                </a:cubicBezTo>
                <a:cubicBezTo>
                  <a:pt x="13367" y="3142"/>
                  <a:pt x="13369" y="3192"/>
                  <a:pt x="13356" y="3238"/>
                </a:cubicBezTo>
                <a:cubicBezTo>
                  <a:pt x="13341" y="3293"/>
                  <a:pt x="13338" y="3307"/>
                  <a:pt x="13335" y="3365"/>
                </a:cubicBezTo>
                <a:cubicBezTo>
                  <a:pt x="13332" y="3416"/>
                  <a:pt x="13317" y="3475"/>
                  <a:pt x="13314" y="3514"/>
                </a:cubicBezTo>
                <a:cubicBezTo>
                  <a:pt x="13309" y="3575"/>
                  <a:pt x="13297" y="3654"/>
                  <a:pt x="13293" y="3704"/>
                </a:cubicBezTo>
                <a:cubicBezTo>
                  <a:pt x="13279" y="3884"/>
                  <a:pt x="13385" y="4347"/>
                  <a:pt x="13271" y="4487"/>
                </a:cubicBezTo>
                <a:cubicBezTo>
                  <a:pt x="13241" y="4523"/>
                  <a:pt x="13186" y="4555"/>
                  <a:pt x="13166" y="45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Ink 8"/>
          <p:cNvSpPr/>
          <p:nvPr/>
        </p:nvSpPr>
        <p:spPr>
          <a:xfrm>
            <a:off x="3603600" y="1477800"/>
            <a:ext cx="2173320" cy="2286000"/>
          </a:xfrm>
          <a:custGeom>
            <a:avLst/>
            <a:gdLst/>
            <a:ahLst/>
            <a:rect l="l" t="t" r="r" b="b"/>
            <a:pathLst>
              <a:path w="6033" h="6351">
                <a:moveTo>
                  <a:pt x="10181" y="4106"/>
                </a:moveTo>
                <a:cubicBezTo>
                  <a:pt x="10205" y="4118"/>
                  <a:pt x="10251" y="4143"/>
                  <a:pt x="10266" y="4149"/>
                </a:cubicBezTo>
                <a:cubicBezTo>
                  <a:pt x="10288" y="4159"/>
                  <a:pt x="10303" y="4156"/>
                  <a:pt x="10329" y="4170"/>
                </a:cubicBezTo>
                <a:cubicBezTo>
                  <a:pt x="10404" y="4211"/>
                  <a:pt x="10379" y="4208"/>
                  <a:pt x="10456" y="4191"/>
                </a:cubicBezTo>
                <a:cubicBezTo>
                  <a:pt x="10489" y="4184"/>
                  <a:pt x="10530" y="4137"/>
                  <a:pt x="10562" y="4127"/>
                </a:cubicBezTo>
                <a:cubicBezTo>
                  <a:pt x="10605" y="4113"/>
                  <a:pt x="10639" y="4109"/>
                  <a:pt x="10689" y="4106"/>
                </a:cubicBezTo>
                <a:cubicBezTo>
                  <a:pt x="10822" y="4098"/>
                  <a:pt x="10958" y="4106"/>
                  <a:pt x="11091" y="4106"/>
                </a:cubicBezTo>
                <a:cubicBezTo>
                  <a:pt x="11110" y="4117"/>
                  <a:pt x="11153" y="4177"/>
                  <a:pt x="11197" y="4191"/>
                </a:cubicBezTo>
                <a:cubicBezTo>
                  <a:pt x="11217" y="4197"/>
                  <a:pt x="11287" y="4210"/>
                  <a:pt x="11303" y="4212"/>
                </a:cubicBezTo>
                <a:cubicBezTo>
                  <a:pt x="11458" y="4229"/>
                  <a:pt x="11624" y="4210"/>
                  <a:pt x="11769" y="4233"/>
                </a:cubicBezTo>
                <a:cubicBezTo>
                  <a:pt x="11797" y="4237"/>
                  <a:pt x="11824" y="4246"/>
                  <a:pt x="11853" y="4254"/>
                </a:cubicBezTo>
                <a:cubicBezTo>
                  <a:pt x="11905" y="4269"/>
                  <a:pt x="11887" y="4270"/>
                  <a:pt x="11938" y="4276"/>
                </a:cubicBezTo>
                <a:cubicBezTo>
                  <a:pt x="12060" y="4291"/>
                  <a:pt x="12187" y="4261"/>
                  <a:pt x="12298" y="4297"/>
                </a:cubicBezTo>
                <a:cubicBezTo>
                  <a:pt x="12342" y="4311"/>
                  <a:pt x="12378" y="4338"/>
                  <a:pt x="12425" y="4360"/>
                </a:cubicBezTo>
                <a:cubicBezTo>
                  <a:pt x="12457" y="4375"/>
                  <a:pt x="12493" y="4395"/>
                  <a:pt x="12531" y="4403"/>
                </a:cubicBezTo>
                <a:cubicBezTo>
                  <a:pt x="12667" y="4430"/>
                  <a:pt x="12836" y="4403"/>
                  <a:pt x="12975" y="4403"/>
                </a:cubicBezTo>
                <a:cubicBezTo>
                  <a:pt x="12987" y="4409"/>
                  <a:pt x="13039" y="4448"/>
                  <a:pt x="13081" y="4466"/>
                </a:cubicBezTo>
                <a:cubicBezTo>
                  <a:pt x="13138" y="4490"/>
                  <a:pt x="13123" y="4465"/>
                  <a:pt x="13166" y="4508"/>
                </a:cubicBezTo>
                <a:cubicBezTo>
                  <a:pt x="13196" y="4538"/>
                  <a:pt x="13182" y="4557"/>
                  <a:pt x="13229" y="4593"/>
                </a:cubicBezTo>
                <a:cubicBezTo>
                  <a:pt x="13243" y="4604"/>
                  <a:pt x="13316" y="4652"/>
                  <a:pt x="13335" y="4657"/>
                </a:cubicBezTo>
                <a:cubicBezTo>
                  <a:pt x="13388" y="4671"/>
                  <a:pt x="13440" y="4645"/>
                  <a:pt x="13483" y="4635"/>
                </a:cubicBezTo>
                <a:cubicBezTo>
                  <a:pt x="13528" y="4625"/>
                  <a:pt x="13568" y="4621"/>
                  <a:pt x="13610" y="4593"/>
                </a:cubicBezTo>
                <a:cubicBezTo>
                  <a:pt x="13644" y="4571"/>
                  <a:pt x="13661" y="4542"/>
                  <a:pt x="13695" y="4530"/>
                </a:cubicBezTo>
                <a:cubicBezTo>
                  <a:pt x="13735" y="4516"/>
                  <a:pt x="13776" y="4504"/>
                  <a:pt x="13822" y="4508"/>
                </a:cubicBezTo>
                <a:cubicBezTo>
                  <a:pt x="13870" y="4512"/>
                  <a:pt x="13887" y="4534"/>
                  <a:pt x="13928" y="4551"/>
                </a:cubicBezTo>
                <a:cubicBezTo>
                  <a:pt x="13960" y="4564"/>
                  <a:pt x="14000" y="4587"/>
                  <a:pt x="14033" y="4593"/>
                </a:cubicBezTo>
                <a:cubicBezTo>
                  <a:pt x="14105" y="4607"/>
                  <a:pt x="14254" y="4609"/>
                  <a:pt x="14309" y="4572"/>
                </a:cubicBezTo>
                <a:cubicBezTo>
                  <a:pt x="14350" y="4545"/>
                  <a:pt x="14340" y="4503"/>
                  <a:pt x="14393" y="4487"/>
                </a:cubicBezTo>
                <a:cubicBezTo>
                  <a:pt x="14423" y="4478"/>
                  <a:pt x="14537" y="4465"/>
                  <a:pt x="14563" y="4466"/>
                </a:cubicBezTo>
                <a:cubicBezTo>
                  <a:pt x="14600" y="4467"/>
                  <a:pt x="14644" y="4486"/>
                  <a:pt x="14668" y="4487"/>
                </a:cubicBezTo>
                <a:cubicBezTo>
                  <a:pt x="14746" y="4490"/>
                  <a:pt x="14831" y="4491"/>
                  <a:pt x="14880" y="4508"/>
                </a:cubicBezTo>
                <a:cubicBezTo>
                  <a:pt x="14925" y="4524"/>
                  <a:pt x="14950" y="4540"/>
                  <a:pt x="14986" y="4551"/>
                </a:cubicBezTo>
                <a:cubicBezTo>
                  <a:pt x="15022" y="4562"/>
                  <a:pt x="15054" y="4568"/>
                  <a:pt x="15092" y="4572"/>
                </a:cubicBezTo>
                <a:cubicBezTo>
                  <a:pt x="15205" y="4585"/>
                  <a:pt x="15323" y="4569"/>
                  <a:pt x="15430" y="4551"/>
                </a:cubicBezTo>
                <a:cubicBezTo>
                  <a:pt x="15472" y="4544"/>
                  <a:pt x="15517" y="4534"/>
                  <a:pt x="15557" y="4530"/>
                </a:cubicBezTo>
                <a:cubicBezTo>
                  <a:pt x="15706" y="4517"/>
                  <a:pt x="15871" y="4565"/>
                  <a:pt x="16002" y="4487"/>
                </a:cubicBezTo>
                <a:cubicBezTo>
                  <a:pt x="16023" y="4466"/>
                  <a:pt x="16030" y="4459"/>
                  <a:pt x="16044" y="4445"/>
                </a:cubicBezTo>
                <a:cubicBezTo>
                  <a:pt x="16004" y="4435"/>
                  <a:pt x="15997" y="4429"/>
                  <a:pt x="15960" y="4424"/>
                </a:cubicBezTo>
              </a:path>
              <a:path w="6033" h="6351">
                <a:moveTo>
                  <a:pt x="10012" y="4699"/>
                </a:moveTo>
                <a:cubicBezTo>
                  <a:pt x="10027" y="4731"/>
                  <a:pt x="10018" y="4742"/>
                  <a:pt x="10033" y="4762"/>
                </a:cubicBezTo>
                <a:cubicBezTo>
                  <a:pt x="10055" y="4792"/>
                  <a:pt x="10060" y="4788"/>
                  <a:pt x="10096" y="4826"/>
                </a:cubicBezTo>
                <a:cubicBezTo>
                  <a:pt x="10118" y="4850"/>
                  <a:pt x="10149" y="4876"/>
                  <a:pt x="10160" y="4889"/>
                </a:cubicBezTo>
                <a:cubicBezTo>
                  <a:pt x="10186" y="4920"/>
                  <a:pt x="10205" y="4938"/>
                  <a:pt x="10223" y="4974"/>
                </a:cubicBezTo>
                <a:cubicBezTo>
                  <a:pt x="10242" y="5012"/>
                  <a:pt x="10262" y="5017"/>
                  <a:pt x="10266" y="5059"/>
                </a:cubicBezTo>
                <a:cubicBezTo>
                  <a:pt x="10270" y="5098"/>
                  <a:pt x="10226" y="5131"/>
                  <a:pt x="10245" y="5165"/>
                </a:cubicBezTo>
                <a:cubicBezTo>
                  <a:pt x="10252" y="5178"/>
                  <a:pt x="10306" y="5214"/>
                  <a:pt x="10329" y="5228"/>
                </a:cubicBezTo>
                <a:cubicBezTo>
                  <a:pt x="10353" y="5242"/>
                  <a:pt x="10384" y="5231"/>
                  <a:pt x="10414" y="5249"/>
                </a:cubicBezTo>
                <a:cubicBezTo>
                  <a:pt x="10446" y="5268"/>
                  <a:pt x="10460" y="5294"/>
                  <a:pt x="10499" y="5313"/>
                </a:cubicBezTo>
                <a:cubicBezTo>
                  <a:pt x="10541" y="5333"/>
                  <a:pt x="10571" y="5338"/>
                  <a:pt x="10604" y="5355"/>
                </a:cubicBezTo>
                <a:cubicBezTo>
                  <a:pt x="10636" y="5371"/>
                  <a:pt x="10659" y="5382"/>
                  <a:pt x="10689" y="5397"/>
                </a:cubicBezTo>
                <a:cubicBezTo>
                  <a:pt x="10734" y="5419"/>
                  <a:pt x="10744" y="5425"/>
                  <a:pt x="10795" y="5440"/>
                </a:cubicBezTo>
                <a:cubicBezTo>
                  <a:pt x="10845" y="5455"/>
                  <a:pt x="10884" y="5459"/>
                  <a:pt x="10943" y="5461"/>
                </a:cubicBezTo>
                <a:cubicBezTo>
                  <a:pt x="11008" y="5464"/>
                  <a:pt x="11054" y="5473"/>
                  <a:pt x="11112" y="5482"/>
                </a:cubicBezTo>
                <a:cubicBezTo>
                  <a:pt x="11144" y="5487"/>
                  <a:pt x="11163" y="5497"/>
                  <a:pt x="11197" y="5503"/>
                </a:cubicBezTo>
                <a:cubicBezTo>
                  <a:pt x="11244" y="5511"/>
                  <a:pt x="11275" y="5515"/>
                  <a:pt x="11324" y="5524"/>
                </a:cubicBezTo>
                <a:cubicBezTo>
                  <a:pt x="11351" y="5529"/>
                  <a:pt x="11395" y="5539"/>
                  <a:pt x="11430" y="5546"/>
                </a:cubicBezTo>
                <a:cubicBezTo>
                  <a:pt x="11494" y="5559"/>
                  <a:pt x="11540" y="5556"/>
                  <a:pt x="11599" y="5588"/>
                </a:cubicBezTo>
                <a:cubicBezTo>
                  <a:pt x="11637" y="5609"/>
                  <a:pt x="11681" y="5678"/>
                  <a:pt x="11705" y="5694"/>
                </a:cubicBezTo>
                <a:cubicBezTo>
                  <a:pt x="11723" y="5706"/>
                  <a:pt x="11772" y="5698"/>
                  <a:pt x="11790" y="5715"/>
                </a:cubicBezTo>
                <a:cubicBezTo>
                  <a:pt x="11816" y="5739"/>
                  <a:pt x="11824" y="5744"/>
                  <a:pt x="11832" y="5778"/>
                </a:cubicBezTo>
                <a:cubicBezTo>
                  <a:pt x="11841" y="5816"/>
                  <a:pt x="11828" y="5866"/>
                  <a:pt x="11832" y="5905"/>
                </a:cubicBezTo>
                <a:cubicBezTo>
                  <a:pt x="11915" y="5909"/>
                  <a:pt x="11986" y="5914"/>
                  <a:pt x="12065" y="5927"/>
                </a:cubicBezTo>
                <a:cubicBezTo>
                  <a:pt x="12127" y="5937"/>
                  <a:pt x="12190" y="5940"/>
                  <a:pt x="12255" y="5948"/>
                </a:cubicBezTo>
                <a:cubicBezTo>
                  <a:pt x="12304" y="5954"/>
                  <a:pt x="12358" y="5966"/>
                  <a:pt x="12404" y="5969"/>
                </a:cubicBezTo>
                <a:cubicBezTo>
                  <a:pt x="12578" y="5981"/>
                  <a:pt x="12771" y="5980"/>
                  <a:pt x="12933" y="5990"/>
                </a:cubicBezTo>
                <a:cubicBezTo>
                  <a:pt x="12982" y="5993"/>
                  <a:pt x="13043" y="6008"/>
                  <a:pt x="13081" y="6011"/>
                </a:cubicBezTo>
                <a:cubicBezTo>
                  <a:pt x="13152" y="6017"/>
                  <a:pt x="13209" y="6010"/>
                  <a:pt x="13271" y="6032"/>
                </a:cubicBezTo>
                <a:cubicBezTo>
                  <a:pt x="13341" y="6057"/>
                  <a:pt x="13311" y="6030"/>
                  <a:pt x="13356" y="6075"/>
                </a:cubicBezTo>
                <a:cubicBezTo>
                  <a:pt x="13379" y="6098"/>
                  <a:pt x="13373" y="6153"/>
                  <a:pt x="13420" y="6181"/>
                </a:cubicBezTo>
                <a:cubicBezTo>
                  <a:pt x="13466" y="6208"/>
                  <a:pt x="13496" y="6191"/>
                  <a:pt x="13547" y="6202"/>
                </a:cubicBezTo>
                <a:cubicBezTo>
                  <a:pt x="13556" y="6271"/>
                  <a:pt x="13572" y="6276"/>
                  <a:pt x="13589" y="6308"/>
                </a:cubicBezTo>
                <a:cubicBezTo>
                  <a:pt x="13599" y="6363"/>
                  <a:pt x="13606" y="6339"/>
                  <a:pt x="13610" y="6392"/>
                </a:cubicBezTo>
                <a:cubicBezTo>
                  <a:pt x="13616" y="6461"/>
                  <a:pt x="13593" y="6527"/>
                  <a:pt x="13589" y="6583"/>
                </a:cubicBezTo>
                <a:cubicBezTo>
                  <a:pt x="13584" y="6654"/>
                  <a:pt x="13552" y="6736"/>
                  <a:pt x="13547" y="6773"/>
                </a:cubicBezTo>
                <a:cubicBezTo>
                  <a:pt x="13542" y="6808"/>
                  <a:pt x="13551" y="6844"/>
                  <a:pt x="13547" y="6879"/>
                </a:cubicBezTo>
                <a:cubicBezTo>
                  <a:pt x="13508" y="6863"/>
                  <a:pt x="13454" y="6921"/>
                  <a:pt x="13462" y="6879"/>
                </a:cubicBezTo>
                <a:cubicBezTo>
                  <a:pt x="13492" y="6721"/>
                  <a:pt x="13408" y="7030"/>
                  <a:pt x="13525" y="6816"/>
                </a:cubicBezTo>
                <a:cubicBezTo>
                  <a:pt x="13480" y="6816"/>
                  <a:pt x="13542" y="6841"/>
                  <a:pt x="13504" y="6816"/>
                </a:cubicBezTo>
                <a:cubicBezTo>
                  <a:pt x="13530" y="6836"/>
                  <a:pt x="13559" y="6855"/>
                  <a:pt x="13589" y="6879"/>
                </a:cubicBezTo>
                <a:cubicBezTo>
                  <a:pt x="13596" y="6886"/>
                  <a:pt x="13603" y="6893"/>
                  <a:pt x="13610" y="6900"/>
                </a:cubicBezTo>
                <a:cubicBezTo>
                  <a:pt x="13610" y="6951"/>
                  <a:pt x="13591" y="6947"/>
                  <a:pt x="13610" y="6900"/>
                </a:cubicBezTo>
                <a:cubicBezTo>
                  <a:pt x="13610" y="6879"/>
                  <a:pt x="13610" y="6872"/>
                  <a:pt x="13610" y="6858"/>
                </a:cubicBezTo>
                <a:cubicBezTo>
                  <a:pt x="13625" y="6891"/>
                  <a:pt x="13639" y="6860"/>
                  <a:pt x="13652" y="6921"/>
                </a:cubicBezTo>
                <a:cubicBezTo>
                  <a:pt x="13652" y="6921"/>
                  <a:pt x="13650" y="6970"/>
                  <a:pt x="13652" y="7006"/>
                </a:cubicBezTo>
                <a:cubicBezTo>
                  <a:pt x="13659" y="7171"/>
                  <a:pt x="13653" y="7335"/>
                  <a:pt x="13674" y="7493"/>
                </a:cubicBezTo>
                <a:cubicBezTo>
                  <a:pt x="13662" y="7522"/>
                  <a:pt x="13649" y="7512"/>
                  <a:pt x="13631" y="7578"/>
                </a:cubicBezTo>
                <a:cubicBezTo>
                  <a:pt x="13631" y="7599"/>
                  <a:pt x="13631" y="7606"/>
                  <a:pt x="13631" y="7620"/>
                </a:cubicBezTo>
              </a:path>
              <a:path w="6033" h="6351">
                <a:moveTo>
                  <a:pt x="13822" y="8615"/>
                </a:moveTo>
                <a:cubicBezTo>
                  <a:pt x="13829" y="8615"/>
                  <a:pt x="13836" y="8615"/>
                  <a:pt x="13843" y="8615"/>
                </a:cubicBezTo>
                <a:cubicBezTo>
                  <a:pt x="13845" y="8646"/>
                  <a:pt x="13861" y="8677"/>
                  <a:pt x="13864" y="8699"/>
                </a:cubicBezTo>
                <a:cubicBezTo>
                  <a:pt x="13874" y="8785"/>
                  <a:pt x="13878" y="8766"/>
                  <a:pt x="13906" y="8826"/>
                </a:cubicBezTo>
                <a:cubicBezTo>
                  <a:pt x="13925" y="8868"/>
                  <a:pt x="13950" y="8886"/>
                  <a:pt x="13970" y="8911"/>
                </a:cubicBezTo>
                <a:cubicBezTo>
                  <a:pt x="13995" y="8942"/>
                  <a:pt x="14008" y="8969"/>
                  <a:pt x="14033" y="8996"/>
                </a:cubicBezTo>
                <a:cubicBezTo>
                  <a:pt x="14059" y="9024"/>
                  <a:pt x="14082" y="9051"/>
                  <a:pt x="14097" y="9080"/>
                </a:cubicBezTo>
                <a:cubicBezTo>
                  <a:pt x="14120" y="9122"/>
                  <a:pt x="14138" y="9128"/>
                  <a:pt x="14160" y="9165"/>
                </a:cubicBezTo>
                <a:cubicBezTo>
                  <a:pt x="14183" y="9204"/>
                  <a:pt x="14197" y="9230"/>
                  <a:pt x="14224" y="9271"/>
                </a:cubicBezTo>
                <a:cubicBezTo>
                  <a:pt x="14236" y="9289"/>
                  <a:pt x="14306" y="9368"/>
                  <a:pt x="14309" y="9377"/>
                </a:cubicBezTo>
                <a:cubicBezTo>
                  <a:pt x="14326" y="9427"/>
                  <a:pt x="14304" y="9443"/>
                  <a:pt x="14351" y="9483"/>
                </a:cubicBezTo>
                <a:cubicBezTo>
                  <a:pt x="14390" y="9516"/>
                  <a:pt x="14423" y="9515"/>
                  <a:pt x="14457" y="9546"/>
                </a:cubicBezTo>
                <a:cubicBezTo>
                  <a:pt x="14457" y="9553"/>
                  <a:pt x="14457" y="9560"/>
                  <a:pt x="14457" y="9567"/>
                </a:cubicBezTo>
                <a:cubicBezTo>
                  <a:pt x="14489" y="9577"/>
                  <a:pt x="14528" y="9604"/>
                  <a:pt x="14541" y="9610"/>
                </a:cubicBezTo>
                <a:cubicBezTo>
                  <a:pt x="14548" y="9610"/>
                  <a:pt x="14556" y="9610"/>
                  <a:pt x="14563" y="9610"/>
                </a:cubicBezTo>
                <a:cubicBezTo>
                  <a:pt x="14553" y="9650"/>
                  <a:pt x="14546" y="9642"/>
                  <a:pt x="14541" y="9694"/>
                </a:cubicBezTo>
                <a:cubicBezTo>
                  <a:pt x="14574" y="9724"/>
                  <a:pt x="14596" y="9729"/>
                  <a:pt x="14626" y="9779"/>
                </a:cubicBezTo>
                <a:cubicBezTo>
                  <a:pt x="14643" y="9807"/>
                  <a:pt x="14675" y="9846"/>
                  <a:pt x="14690" y="9864"/>
                </a:cubicBezTo>
                <a:cubicBezTo>
                  <a:pt x="14702" y="9928"/>
                  <a:pt x="14700" y="9920"/>
                  <a:pt x="14732" y="9969"/>
                </a:cubicBezTo>
                <a:cubicBezTo>
                  <a:pt x="14761" y="10012"/>
                  <a:pt x="14781" y="10025"/>
                  <a:pt x="14817" y="10054"/>
                </a:cubicBezTo>
                <a:cubicBezTo>
                  <a:pt x="14896" y="10118"/>
                  <a:pt x="14864" y="10065"/>
                  <a:pt x="14944" y="10096"/>
                </a:cubicBezTo>
                <a:cubicBezTo>
                  <a:pt x="14975" y="10108"/>
                  <a:pt x="15017" y="10126"/>
                  <a:pt x="15049" y="10139"/>
                </a:cubicBezTo>
                <a:cubicBezTo>
                  <a:pt x="15100" y="10161"/>
                  <a:pt x="15129" y="10164"/>
                  <a:pt x="15176" y="10181"/>
                </a:cubicBezTo>
                <a:cubicBezTo>
                  <a:pt x="15208" y="10193"/>
                  <a:pt x="15256" y="10226"/>
                  <a:pt x="15282" y="10245"/>
                </a:cubicBezTo>
                <a:cubicBezTo>
                  <a:pt x="15322" y="10273"/>
                  <a:pt x="15353" y="10287"/>
                  <a:pt x="15388" y="10308"/>
                </a:cubicBezTo>
                <a:cubicBezTo>
                  <a:pt x="15414" y="10323"/>
                  <a:pt x="15441" y="10363"/>
                  <a:pt x="15452" y="10372"/>
                </a:cubicBezTo>
                <a:cubicBezTo>
                  <a:pt x="15485" y="10385"/>
                  <a:pt x="15517" y="10409"/>
                  <a:pt x="15557" y="10414"/>
                </a:cubicBezTo>
                <a:cubicBezTo>
                  <a:pt x="15598" y="10419"/>
                  <a:pt x="15628" y="10425"/>
                  <a:pt x="15663" y="10435"/>
                </a:cubicBezTo>
                <a:cubicBezTo>
                  <a:pt x="15716" y="10451"/>
                  <a:pt x="15752" y="10463"/>
                  <a:pt x="15811" y="10456"/>
                </a:cubicBezTo>
                <a:cubicBezTo>
                  <a:pt x="15849" y="10451"/>
                  <a:pt x="15880" y="10438"/>
                  <a:pt x="15917" y="10435"/>
                </a:cubicBezTo>
                <a:cubicBezTo>
                  <a:pt x="15959" y="10431"/>
                  <a:pt x="16002" y="10435"/>
                  <a:pt x="16044" y="10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Ink 9"/>
          <p:cNvSpPr/>
          <p:nvPr/>
        </p:nvSpPr>
        <p:spPr>
          <a:xfrm>
            <a:off x="1044720" y="2797200"/>
            <a:ext cx="3062160" cy="1265040"/>
          </a:xfrm>
          <a:custGeom>
            <a:avLst/>
            <a:gdLst/>
            <a:ahLst/>
            <a:rect l="l" t="t" r="r" b="b"/>
            <a:pathLst>
              <a:path w="8510" h="3515">
                <a:moveTo>
                  <a:pt x="2900" y="9842"/>
                </a:moveTo>
                <a:cubicBezTo>
                  <a:pt x="2946" y="9842"/>
                  <a:pt x="2987" y="9850"/>
                  <a:pt x="3027" y="9821"/>
                </a:cubicBezTo>
                <a:cubicBezTo>
                  <a:pt x="3063" y="9795"/>
                  <a:pt x="3091" y="9766"/>
                  <a:pt x="3133" y="9758"/>
                </a:cubicBezTo>
                <a:cubicBezTo>
                  <a:pt x="3172" y="9751"/>
                  <a:pt x="3203" y="9743"/>
                  <a:pt x="3238" y="9737"/>
                </a:cubicBezTo>
                <a:cubicBezTo>
                  <a:pt x="3289" y="9729"/>
                  <a:pt x="3318" y="9731"/>
                  <a:pt x="3365" y="9715"/>
                </a:cubicBezTo>
                <a:cubicBezTo>
                  <a:pt x="3400" y="9703"/>
                  <a:pt x="3435" y="9706"/>
                  <a:pt x="3471" y="9694"/>
                </a:cubicBezTo>
                <a:cubicBezTo>
                  <a:pt x="3509" y="9681"/>
                  <a:pt x="3528" y="9675"/>
                  <a:pt x="3577" y="9673"/>
                </a:cubicBezTo>
                <a:cubicBezTo>
                  <a:pt x="3692" y="9669"/>
                  <a:pt x="3832" y="9698"/>
                  <a:pt x="3937" y="9652"/>
                </a:cubicBezTo>
                <a:cubicBezTo>
                  <a:pt x="3972" y="9636"/>
                  <a:pt x="4000" y="9633"/>
                  <a:pt x="4043" y="9631"/>
                </a:cubicBezTo>
                <a:cubicBezTo>
                  <a:pt x="4110" y="9628"/>
                  <a:pt x="4176" y="9618"/>
                  <a:pt x="4233" y="9610"/>
                </a:cubicBezTo>
                <a:cubicBezTo>
                  <a:pt x="4259" y="9606"/>
                  <a:pt x="4292" y="9610"/>
                  <a:pt x="4318" y="9610"/>
                </a:cubicBezTo>
                <a:cubicBezTo>
                  <a:pt x="4334" y="9562"/>
                  <a:pt x="4345" y="9556"/>
                  <a:pt x="4403" y="9546"/>
                </a:cubicBezTo>
                <a:cubicBezTo>
                  <a:pt x="4437" y="9540"/>
                  <a:pt x="4503" y="9541"/>
                  <a:pt x="4530" y="9567"/>
                </a:cubicBezTo>
                <a:cubicBezTo>
                  <a:pt x="4530" y="9574"/>
                  <a:pt x="4530" y="9581"/>
                  <a:pt x="4530" y="9588"/>
                </a:cubicBezTo>
                <a:cubicBezTo>
                  <a:pt x="4635" y="9588"/>
                  <a:pt x="4750" y="9572"/>
                  <a:pt x="4847" y="9610"/>
                </a:cubicBezTo>
              </a:path>
              <a:path w="8510" h="3515">
                <a:moveTo>
                  <a:pt x="6138" y="7768"/>
                </a:moveTo>
                <a:cubicBezTo>
                  <a:pt x="6138" y="7811"/>
                  <a:pt x="6103" y="7821"/>
                  <a:pt x="6117" y="7874"/>
                </a:cubicBezTo>
                <a:cubicBezTo>
                  <a:pt x="6126" y="7909"/>
                  <a:pt x="6148" y="7942"/>
                  <a:pt x="6159" y="7980"/>
                </a:cubicBezTo>
                <a:cubicBezTo>
                  <a:pt x="6179" y="7999"/>
                  <a:pt x="6186" y="8003"/>
                  <a:pt x="6181" y="8022"/>
                </a:cubicBezTo>
                <a:cubicBezTo>
                  <a:pt x="6193" y="8032"/>
                  <a:pt x="6225" y="8094"/>
                  <a:pt x="6244" y="8107"/>
                </a:cubicBezTo>
                <a:cubicBezTo>
                  <a:pt x="6281" y="8132"/>
                  <a:pt x="6331" y="8152"/>
                  <a:pt x="6371" y="8170"/>
                </a:cubicBezTo>
                <a:cubicBezTo>
                  <a:pt x="6409" y="8187"/>
                  <a:pt x="6457" y="8205"/>
                  <a:pt x="6498" y="8213"/>
                </a:cubicBezTo>
                <a:cubicBezTo>
                  <a:pt x="6525" y="8219"/>
                  <a:pt x="6556" y="8207"/>
                  <a:pt x="6583" y="8213"/>
                </a:cubicBezTo>
                <a:cubicBezTo>
                  <a:pt x="6611" y="8243"/>
                  <a:pt x="6631" y="8228"/>
                  <a:pt x="6667" y="8276"/>
                </a:cubicBezTo>
                <a:cubicBezTo>
                  <a:pt x="6685" y="8300"/>
                  <a:pt x="6706" y="8333"/>
                  <a:pt x="6731" y="8361"/>
                </a:cubicBezTo>
                <a:cubicBezTo>
                  <a:pt x="6746" y="8378"/>
                  <a:pt x="6811" y="8437"/>
                  <a:pt x="6816" y="8445"/>
                </a:cubicBezTo>
                <a:cubicBezTo>
                  <a:pt x="6842" y="8494"/>
                  <a:pt x="6854" y="8544"/>
                  <a:pt x="6879" y="8594"/>
                </a:cubicBezTo>
                <a:cubicBezTo>
                  <a:pt x="6898" y="8613"/>
                  <a:pt x="6905" y="8617"/>
                  <a:pt x="6900" y="8636"/>
                </a:cubicBezTo>
                <a:cubicBezTo>
                  <a:pt x="6928" y="8642"/>
                  <a:pt x="6927" y="8641"/>
                  <a:pt x="6964" y="8657"/>
                </a:cubicBezTo>
                <a:cubicBezTo>
                  <a:pt x="6999" y="8663"/>
                  <a:pt x="7013" y="8677"/>
                  <a:pt x="7048" y="8678"/>
                </a:cubicBezTo>
                <a:cubicBezTo>
                  <a:pt x="7113" y="8679"/>
                  <a:pt x="7163" y="8678"/>
                  <a:pt x="7218" y="8699"/>
                </a:cubicBezTo>
                <a:cubicBezTo>
                  <a:pt x="7271" y="8720"/>
                  <a:pt x="7284" y="8743"/>
                  <a:pt x="7324" y="8763"/>
                </a:cubicBezTo>
                <a:cubicBezTo>
                  <a:pt x="7373" y="8787"/>
                  <a:pt x="7425" y="8828"/>
                  <a:pt x="7472" y="8848"/>
                </a:cubicBezTo>
                <a:cubicBezTo>
                  <a:pt x="7510" y="8864"/>
                  <a:pt x="7590" y="8866"/>
                  <a:pt x="7620" y="8890"/>
                </a:cubicBezTo>
                <a:cubicBezTo>
                  <a:pt x="7665" y="8926"/>
                  <a:pt x="7700" y="8972"/>
                  <a:pt x="7726" y="9017"/>
                </a:cubicBezTo>
                <a:cubicBezTo>
                  <a:pt x="7745" y="9049"/>
                  <a:pt x="7745" y="9112"/>
                  <a:pt x="7768" y="9144"/>
                </a:cubicBezTo>
                <a:cubicBezTo>
                  <a:pt x="7794" y="9179"/>
                  <a:pt x="7813" y="9202"/>
                  <a:pt x="7853" y="9229"/>
                </a:cubicBezTo>
                <a:cubicBezTo>
                  <a:pt x="7901" y="9262"/>
                  <a:pt x="7902" y="9258"/>
                  <a:pt x="7959" y="9271"/>
                </a:cubicBezTo>
                <a:cubicBezTo>
                  <a:pt x="8162" y="9317"/>
                  <a:pt x="8458" y="9277"/>
                  <a:pt x="8657" y="9250"/>
                </a:cubicBezTo>
                <a:cubicBezTo>
                  <a:pt x="8704" y="9244"/>
                  <a:pt x="8735" y="9237"/>
                  <a:pt x="8784" y="9229"/>
                </a:cubicBezTo>
                <a:cubicBezTo>
                  <a:pt x="8821" y="9223"/>
                  <a:pt x="8860" y="9197"/>
                  <a:pt x="8911" y="9207"/>
                </a:cubicBezTo>
                <a:cubicBezTo>
                  <a:pt x="8936" y="9212"/>
                  <a:pt x="8968" y="9242"/>
                  <a:pt x="8996" y="9250"/>
                </a:cubicBezTo>
                <a:cubicBezTo>
                  <a:pt x="9040" y="9262"/>
                  <a:pt x="9082" y="9278"/>
                  <a:pt x="9123" y="9292"/>
                </a:cubicBezTo>
                <a:cubicBezTo>
                  <a:pt x="9127" y="9295"/>
                  <a:pt x="9179" y="9306"/>
                  <a:pt x="9186" y="9313"/>
                </a:cubicBezTo>
                <a:cubicBezTo>
                  <a:pt x="9225" y="9351"/>
                  <a:pt x="9290" y="9408"/>
                  <a:pt x="9313" y="9440"/>
                </a:cubicBezTo>
                <a:cubicBezTo>
                  <a:pt x="9343" y="9481"/>
                  <a:pt x="9344" y="9525"/>
                  <a:pt x="9377" y="9567"/>
                </a:cubicBezTo>
                <a:cubicBezTo>
                  <a:pt x="9404" y="9601"/>
                  <a:pt x="9426" y="9619"/>
                  <a:pt x="9461" y="9652"/>
                </a:cubicBezTo>
                <a:cubicBezTo>
                  <a:pt x="9489" y="9678"/>
                  <a:pt x="9522" y="9696"/>
                  <a:pt x="9546" y="9715"/>
                </a:cubicBezTo>
                <a:cubicBezTo>
                  <a:pt x="9562" y="9737"/>
                  <a:pt x="9564" y="9801"/>
                  <a:pt x="9588" y="9821"/>
                </a:cubicBezTo>
                <a:cubicBezTo>
                  <a:pt x="9619" y="9847"/>
                  <a:pt x="9668" y="9861"/>
                  <a:pt x="9694" y="9885"/>
                </a:cubicBezTo>
                <a:cubicBezTo>
                  <a:pt x="9725" y="9913"/>
                  <a:pt x="9751" y="9945"/>
                  <a:pt x="9779" y="9969"/>
                </a:cubicBezTo>
                <a:cubicBezTo>
                  <a:pt x="9802" y="9999"/>
                  <a:pt x="9815" y="10017"/>
                  <a:pt x="9842" y="10054"/>
                </a:cubicBezTo>
                <a:cubicBezTo>
                  <a:pt x="9856" y="10073"/>
                  <a:pt x="9874" y="10104"/>
                  <a:pt x="9885" y="10118"/>
                </a:cubicBezTo>
                <a:cubicBezTo>
                  <a:pt x="9925" y="10128"/>
                  <a:pt x="9905" y="10122"/>
                  <a:pt x="9927" y="10139"/>
                </a:cubicBezTo>
                <a:cubicBezTo>
                  <a:pt x="10032" y="10198"/>
                  <a:pt x="10139" y="10273"/>
                  <a:pt x="10223" y="10350"/>
                </a:cubicBezTo>
                <a:cubicBezTo>
                  <a:pt x="10250" y="10375"/>
                  <a:pt x="10271" y="10408"/>
                  <a:pt x="10308" y="10435"/>
                </a:cubicBezTo>
                <a:cubicBezTo>
                  <a:pt x="10315" y="10435"/>
                  <a:pt x="10322" y="10435"/>
                  <a:pt x="10329" y="10435"/>
                </a:cubicBezTo>
                <a:cubicBezTo>
                  <a:pt x="10335" y="10458"/>
                  <a:pt x="10337" y="10460"/>
                  <a:pt x="10350" y="10477"/>
                </a:cubicBezTo>
                <a:cubicBezTo>
                  <a:pt x="10396" y="10493"/>
                  <a:pt x="10428" y="10502"/>
                  <a:pt x="10477" y="10520"/>
                </a:cubicBezTo>
                <a:cubicBezTo>
                  <a:pt x="10515" y="10534"/>
                  <a:pt x="10539" y="10545"/>
                  <a:pt x="10583" y="10562"/>
                </a:cubicBezTo>
                <a:cubicBezTo>
                  <a:pt x="10606" y="10597"/>
                  <a:pt x="10644" y="10638"/>
                  <a:pt x="10668" y="10668"/>
                </a:cubicBezTo>
                <a:cubicBezTo>
                  <a:pt x="10683" y="10688"/>
                  <a:pt x="10709" y="10719"/>
                  <a:pt x="10731" y="10753"/>
                </a:cubicBezTo>
                <a:cubicBezTo>
                  <a:pt x="10751" y="10785"/>
                  <a:pt x="10776" y="10806"/>
                  <a:pt x="10795" y="10837"/>
                </a:cubicBezTo>
                <a:cubicBezTo>
                  <a:pt x="10795" y="10844"/>
                  <a:pt x="10795" y="10851"/>
                  <a:pt x="10795" y="10858"/>
                </a:cubicBezTo>
                <a:cubicBezTo>
                  <a:pt x="10816" y="10872"/>
                  <a:pt x="10845" y="10903"/>
                  <a:pt x="10880" y="10922"/>
                </a:cubicBezTo>
                <a:cubicBezTo>
                  <a:pt x="10915" y="10941"/>
                  <a:pt x="10950" y="10961"/>
                  <a:pt x="10985" y="10985"/>
                </a:cubicBezTo>
                <a:cubicBezTo>
                  <a:pt x="11002" y="10996"/>
                  <a:pt x="11041" y="11022"/>
                  <a:pt x="11049" y="11028"/>
                </a:cubicBezTo>
                <a:cubicBezTo>
                  <a:pt x="11099" y="11050"/>
                  <a:pt x="11148" y="11066"/>
                  <a:pt x="11197" y="11091"/>
                </a:cubicBezTo>
                <a:cubicBezTo>
                  <a:pt x="11242" y="11115"/>
                  <a:pt x="11274" y="11126"/>
                  <a:pt x="11303" y="11155"/>
                </a:cubicBezTo>
                <a:cubicBezTo>
                  <a:pt x="11333" y="11185"/>
                  <a:pt x="11345" y="11238"/>
                  <a:pt x="11366" y="11261"/>
                </a:cubicBezTo>
                <a:cubicBezTo>
                  <a:pt x="11389" y="11272"/>
                  <a:pt x="11389" y="11267"/>
                  <a:pt x="11409" y="112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Ink 15"/>
          <p:cNvSpPr/>
          <p:nvPr/>
        </p:nvSpPr>
        <p:spPr>
          <a:xfrm>
            <a:off x="4465800" y="3772080"/>
            <a:ext cx="1180800" cy="91800"/>
          </a:xfrm>
          <a:custGeom>
            <a:avLst/>
            <a:gdLst/>
            <a:ahLst/>
            <a:rect l="l" t="t" r="r" b="b"/>
            <a:pathLst>
              <a:path w="3281" h="255">
                <a:moveTo>
                  <a:pt x="12404" y="10710"/>
                </a:moveTo>
                <a:cubicBezTo>
                  <a:pt x="12472" y="10710"/>
                  <a:pt x="12532" y="10696"/>
                  <a:pt x="12594" y="10689"/>
                </a:cubicBezTo>
                <a:cubicBezTo>
                  <a:pt x="12640" y="10684"/>
                  <a:pt x="12676" y="10681"/>
                  <a:pt x="12721" y="10668"/>
                </a:cubicBezTo>
                <a:cubicBezTo>
                  <a:pt x="12777" y="10651"/>
                  <a:pt x="12777" y="10658"/>
                  <a:pt x="12827" y="10668"/>
                </a:cubicBezTo>
                <a:cubicBezTo>
                  <a:pt x="12875" y="10677"/>
                  <a:pt x="12905" y="10709"/>
                  <a:pt x="12933" y="10731"/>
                </a:cubicBezTo>
                <a:cubicBezTo>
                  <a:pt x="12943" y="10721"/>
                  <a:pt x="13002" y="10656"/>
                  <a:pt x="13017" y="10647"/>
                </a:cubicBezTo>
                <a:cubicBezTo>
                  <a:pt x="13053" y="10627"/>
                  <a:pt x="13079" y="10622"/>
                  <a:pt x="13123" y="10626"/>
                </a:cubicBezTo>
                <a:cubicBezTo>
                  <a:pt x="13182" y="10631"/>
                  <a:pt x="13154" y="10640"/>
                  <a:pt x="13208" y="10647"/>
                </a:cubicBezTo>
                <a:cubicBezTo>
                  <a:pt x="13298" y="10658"/>
                  <a:pt x="13405" y="10649"/>
                  <a:pt x="13483" y="10626"/>
                </a:cubicBezTo>
                <a:cubicBezTo>
                  <a:pt x="13517" y="10616"/>
                  <a:pt x="13551" y="10590"/>
                  <a:pt x="13589" y="10583"/>
                </a:cubicBezTo>
                <a:cubicBezTo>
                  <a:pt x="13656" y="10571"/>
                  <a:pt x="13725" y="10598"/>
                  <a:pt x="13779" y="10604"/>
                </a:cubicBezTo>
                <a:cubicBezTo>
                  <a:pt x="13793" y="10604"/>
                  <a:pt x="13808" y="10604"/>
                  <a:pt x="13822" y="10604"/>
                </a:cubicBezTo>
                <a:cubicBezTo>
                  <a:pt x="13865" y="10677"/>
                  <a:pt x="13831" y="10648"/>
                  <a:pt x="13906" y="10689"/>
                </a:cubicBezTo>
                <a:cubicBezTo>
                  <a:pt x="13925" y="10699"/>
                  <a:pt x="13927" y="10708"/>
                  <a:pt x="13970" y="10710"/>
                </a:cubicBezTo>
                <a:cubicBezTo>
                  <a:pt x="14168" y="10718"/>
                  <a:pt x="14377" y="10710"/>
                  <a:pt x="14563" y="10731"/>
                </a:cubicBezTo>
                <a:cubicBezTo>
                  <a:pt x="14659" y="10742"/>
                  <a:pt x="14844" y="10755"/>
                  <a:pt x="14922" y="10710"/>
                </a:cubicBezTo>
                <a:cubicBezTo>
                  <a:pt x="14960" y="10688"/>
                  <a:pt x="14967" y="10632"/>
                  <a:pt x="15007" y="10604"/>
                </a:cubicBezTo>
                <a:cubicBezTo>
                  <a:pt x="15047" y="10576"/>
                  <a:pt x="15061" y="10586"/>
                  <a:pt x="15113" y="10583"/>
                </a:cubicBezTo>
                <a:cubicBezTo>
                  <a:pt x="15243" y="10575"/>
                  <a:pt x="15370" y="10592"/>
                  <a:pt x="15494" y="10562"/>
                </a:cubicBezTo>
                <a:cubicBezTo>
                  <a:pt x="15532" y="10553"/>
                  <a:pt x="15565" y="10533"/>
                  <a:pt x="15600" y="10520"/>
                </a:cubicBezTo>
                <a:cubicBezTo>
                  <a:pt x="15632" y="10509"/>
                  <a:pt x="15655" y="10493"/>
                  <a:pt x="15684" y="10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Ink 16"/>
          <p:cNvSpPr/>
          <p:nvPr/>
        </p:nvSpPr>
        <p:spPr>
          <a:xfrm>
            <a:off x="2187720" y="1036800"/>
            <a:ext cx="2757240" cy="4297320"/>
          </a:xfrm>
          <a:custGeom>
            <a:avLst/>
            <a:gdLst/>
            <a:ahLst/>
            <a:rect l="l" t="t" r="r" b="b"/>
            <a:pathLst>
              <a:path w="7663" h="11939">
                <a:moveTo>
                  <a:pt x="9250" y="3260"/>
                </a:moveTo>
                <a:cubicBezTo>
                  <a:pt x="9194" y="3310"/>
                  <a:pt x="9220" y="3281"/>
                  <a:pt x="9186" y="3323"/>
                </a:cubicBezTo>
                <a:cubicBezTo>
                  <a:pt x="9175" y="3337"/>
                  <a:pt x="9142" y="3415"/>
                  <a:pt x="9123" y="3429"/>
                </a:cubicBezTo>
                <a:cubicBezTo>
                  <a:pt x="9109" y="3429"/>
                  <a:pt x="9094" y="3429"/>
                  <a:pt x="9080" y="3429"/>
                </a:cubicBezTo>
                <a:cubicBezTo>
                  <a:pt x="9064" y="3485"/>
                  <a:pt x="9062" y="3499"/>
                  <a:pt x="9038" y="3556"/>
                </a:cubicBezTo>
                <a:cubicBezTo>
                  <a:pt x="9023" y="3539"/>
                  <a:pt x="8973" y="3502"/>
                  <a:pt x="8953" y="3471"/>
                </a:cubicBezTo>
                <a:cubicBezTo>
                  <a:pt x="8907" y="3397"/>
                  <a:pt x="8862" y="3339"/>
                  <a:pt x="8805" y="3281"/>
                </a:cubicBezTo>
                <a:cubicBezTo>
                  <a:pt x="8783" y="3258"/>
                  <a:pt x="8745" y="3215"/>
                  <a:pt x="8721" y="3196"/>
                </a:cubicBezTo>
                <a:cubicBezTo>
                  <a:pt x="8697" y="3177"/>
                  <a:pt x="8669" y="3153"/>
                  <a:pt x="8636" y="3133"/>
                </a:cubicBezTo>
                <a:cubicBezTo>
                  <a:pt x="8598" y="3111"/>
                  <a:pt x="8513" y="3085"/>
                  <a:pt x="8467" y="3069"/>
                </a:cubicBezTo>
                <a:cubicBezTo>
                  <a:pt x="8431" y="3057"/>
                  <a:pt x="8401" y="3058"/>
                  <a:pt x="8361" y="3048"/>
                </a:cubicBezTo>
                <a:cubicBezTo>
                  <a:pt x="8320" y="3038"/>
                  <a:pt x="8290" y="3021"/>
                  <a:pt x="8255" y="3006"/>
                </a:cubicBezTo>
                <a:cubicBezTo>
                  <a:pt x="8205" y="2984"/>
                  <a:pt x="8164" y="2970"/>
                  <a:pt x="8107" y="2963"/>
                </a:cubicBezTo>
                <a:cubicBezTo>
                  <a:pt x="8003" y="2950"/>
                  <a:pt x="7945" y="2930"/>
                  <a:pt x="7853" y="2900"/>
                </a:cubicBezTo>
                <a:cubicBezTo>
                  <a:pt x="7815" y="2888"/>
                  <a:pt x="7797" y="2873"/>
                  <a:pt x="7747" y="2879"/>
                </a:cubicBezTo>
                <a:cubicBezTo>
                  <a:pt x="7713" y="2883"/>
                  <a:pt x="7667" y="2904"/>
                  <a:pt x="7641" y="2921"/>
                </a:cubicBezTo>
                <a:cubicBezTo>
                  <a:pt x="7603" y="2946"/>
                  <a:pt x="7601" y="2964"/>
                  <a:pt x="7556" y="2984"/>
                </a:cubicBezTo>
                <a:cubicBezTo>
                  <a:pt x="7525" y="2998"/>
                  <a:pt x="7482" y="2994"/>
                  <a:pt x="7451" y="3006"/>
                </a:cubicBezTo>
                <a:cubicBezTo>
                  <a:pt x="7428" y="3015"/>
                  <a:pt x="7363" y="3036"/>
                  <a:pt x="7345" y="3048"/>
                </a:cubicBezTo>
                <a:cubicBezTo>
                  <a:pt x="7293" y="3081"/>
                  <a:pt x="7280" y="3090"/>
                  <a:pt x="7239" y="3111"/>
                </a:cubicBezTo>
                <a:cubicBezTo>
                  <a:pt x="7201" y="3131"/>
                  <a:pt x="7150" y="3159"/>
                  <a:pt x="7112" y="3175"/>
                </a:cubicBezTo>
                <a:cubicBezTo>
                  <a:pt x="7071" y="3192"/>
                  <a:pt x="7070" y="3177"/>
                  <a:pt x="7027" y="3196"/>
                </a:cubicBezTo>
                <a:cubicBezTo>
                  <a:pt x="7003" y="3206"/>
                  <a:pt x="6983" y="3226"/>
                  <a:pt x="6943" y="3238"/>
                </a:cubicBezTo>
                <a:cubicBezTo>
                  <a:pt x="6918" y="3245"/>
                  <a:pt x="6894" y="3246"/>
                  <a:pt x="6858" y="3260"/>
                </a:cubicBezTo>
                <a:cubicBezTo>
                  <a:pt x="6798" y="3283"/>
                  <a:pt x="6794" y="3315"/>
                  <a:pt x="6752" y="3344"/>
                </a:cubicBezTo>
                <a:cubicBezTo>
                  <a:pt x="6718" y="3368"/>
                  <a:pt x="6692" y="3388"/>
                  <a:pt x="6667" y="3429"/>
                </a:cubicBezTo>
                <a:cubicBezTo>
                  <a:pt x="6662" y="3438"/>
                  <a:pt x="6657" y="3471"/>
                  <a:pt x="6646" y="3492"/>
                </a:cubicBezTo>
                <a:cubicBezTo>
                  <a:pt x="6595" y="3515"/>
                  <a:pt x="6592" y="3524"/>
                  <a:pt x="6540" y="3556"/>
                </a:cubicBezTo>
                <a:cubicBezTo>
                  <a:pt x="6513" y="3573"/>
                  <a:pt x="6482" y="3580"/>
                  <a:pt x="6456" y="3598"/>
                </a:cubicBezTo>
                <a:cubicBezTo>
                  <a:pt x="6411" y="3629"/>
                  <a:pt x="6402" y="3641"/>
                  <a:pt x="6350" y="3662"/>
                </a:cubicBezTo>
                <a:cubicBezTo>
                  <a:pt x="6336" y="3662"/>
                  <a:pt x="6322" y="3662"/>
                  <a:pt x="6308" y="3662"/>
                </a:cubicBezTo>
                <a:cubicBezTo>
                  <a:pt x="6283" y="3711"/>
                  <a:pt x="6275" y="3717"/>
                  <a:pt x="6244" y="3768"/>
                </a:cubicBezTo>
                <a:cubicBezTo>
                  <a:pt x="6229" y="3792"/>
                  <a:pt x="6208" y="3845"/>
                  <a:pt x="6202" y="3873"/>
                </a:cubicBezTo>
                <a:cubicBezTo>
                  <a:pt x="6189" y="3929"/>
                  <a:pt x="6211" y="3996"/>
                  <a:pt x="6223" y="4022"/>
                </a:cubicBezTo>
                <a:cubicBezTo>
                  <a:pt x="6243" y="4066"/>
                  <a:pt x="6258" y="4100"/>
                  <a:pt x="6286" y="4127"/>
                </a:cubicBezTo>
                <a:cubicBezTo>
                  <a:pt x="6330" y="4170"/>
                  <a:pt x="6335" y="4161"/>
                  <a:pt x="6392" y="4170"/>
                </a:cubicBezTo>
                <a:cubicBezTo>
                  <a:pt x="6431" y="4176"/>
                  <a:pt x="6462" y="4156"/>
                  <a:pt x="6498" y="4149"/>
                </a:cubicBezTo>
                <a:cubicBezTo>
                  <a:pt x="6544" y="4140"/>
                  <a:pt x="6590" y="4131"/>
                  <a:pt x="6646" y="4127"/>
                </a:cubicBezTo>
                <a:cubicBezTo>
                  <a:pt x="6667" y="4127"/>
                  <a:pt x="6675" y="4127"/>
                  <a:pt x="6689" y="4127"/>
                </a:cubicBezTo>
                <a:cubicBezTo>
                  <a:pt x="6645" y="4148"/>
                  <a:pt x="6595" y="4145"/>
                  <a:pt x="6562" y="4191"/>
                </a:cubicBezTo>
                <a:cubicBezTo>
                  <a:pt x="6528" y="4239"/>
                  <a:pt x="6544" y="4284"/>
                  <a:pt x="6540" y="4339"/>
                </a:cubicBezTo>
                <a:cubicBezTo>
                  <a:pt x="6534" y="4434"/>
                  <a:pt x="6563" y="4555"/>
                  <a:pt x="6519" y="4635"/>
                </a:cubicBezTo>
                <a:cubicBezTo>
                  <a:pt x="6486" y="4694"/>
                  <a:pt x="6489" y="4682"/>
                  <a:pt x="6435" y="4720"/>
                </a:cubicBezTo>
                <a:cubicBezTo>
                  <a:pt x="6410" y="4738"/>
                  <a:pt x="6358" y="4773"/>
                  <a:pt x="6329" y="4784"/>
                </a:cubicBezTo>
                <a:cubicBezTo>
                  <a:pt x="6281" y="4801"/>
                  <a:pt x="6247" y="4817"/>
                  <a:pt x="6202" y="4847"/>
                </a:cubicBezTo>
                <a:cubicBezTo>
                  <a:pt x="6179" y="4862"/>
                  <a:pt x="6131" y="4875"/>
                  <a:pt x="6117" y="4911"/>
                </a:cubicBezTo>
                <a:cubicBezTo>
                  <a:pt x="6086" y="4991"/>
                  <a:pt x="6133" y="5118"/>
                  <a:pt x="6138" y="5186"/>
                </a:cubicBezTo>
                <a:cubicBezTo>
                  <a:pt x="6141" y="5235"/>
                  <a:pt x="6136" y="5285"/>
                  <a:pt x="6138" y="5334"/>
                </a:cubicBezTo>
                <a:cubicBezTo>
                  <a:pt x="6123" y="5358"/>
                  <a:pt x="6073" y="5332"/>
                  <a:pt x="6075" y="5397"/>
                </a:cubicBezTo>
                <a:cubicBezTo>
                  <a:pt x="6078" y="5470"/>
                  <a:pt x="6095" y="5448"/>
                  <a:pt x="6117" y="5503"/>
                </a:cubicBezTo>
                <a:cubicBezTo>
                  <a:pt x="6123" y="5519"/>
                  <a:pt x="6166" y="5579"/>
                  <a:pt x="6181" y="5609"/>
                </a:cubicBezTo>
                <a:cubicBezTo>
                  <a:pt x="6187" y="5622"/>
                  <a:pt x="6212" y="5659"/>
                  <a:pt x="6223" y="5694"/>
                </a:cubicBezTo>
              </a:path>
              <a:path w="7663" h="11939">
                <a:moveTo>
                  <a:pt x="9250" y="3302"/>
                </a:moveTo>
                <a:cubicBezTo>
                  <a:pt x="9301" y="3291"/>
                  <a:pt x="9352" y="3268"/>
                  <a:pt x="9398" y="3260"/>
                </a:cubicBezTo>
                <a:cubicBezTo>
                  <a:pt x="9437" y="3253"/>
                  <a:pt x="9493" y="3256"/>
                  <a:pt x="9525" y="3281"/>
                </a:cubicBezTo>
                <a:cubicBezTo>
                  <a:pt x="9537" y="3290"/>
                  <a:pt x="9568" y="3346"/>
                  <a:pt x="9588" y="3365"/>
                </a:cubicBezTo>
                <a:cubicBezTo>
                  <a:pt x="9629" y="3404"/>
                  <a:pt x="9663" y="3456"/>
                  <a:pt x="9694" y="3492"/>
                </a:cubicBezTo>
                <a:cubicBezTo>
                  <a:pt x="9711" y="3512"/>
                  <a:pt x="9762" y="3552"/>
                  <a:pt x="9779" y="3577"/>
                </a:cubicBezTo>
                <a:cubicBezTo>
                  <a:pt x="9820" y="3639"/>
                  <a:pt x="9798" y="3620"/>
                  <a:pt x="9864" y="3662"/>
                </a:cubicBezTo>
                <a:cubicBezTo>
                  <a:pt x="9888" y="3677"/>
                  <a:pt x="9922" y="3716"/>
                  <a:pt x="9948" y="3725"/>
                </a:cubicBezTo>
                <a:cubicBezTo>
                  <a:pt x="9962" y="3725"/>
                  <a:pt x="9977" y="3725"/>
                  <a:pt x="9991" y="3725"/>
                </a:cubicBezTo>
                <a:cubicBezTo>
                  <a:pt x="10024" y="3792"/>
                  <a:pt x="9992" y="3752"/>
                  <a:pt x="10054" y="3810"/>
                </a:cubicBezTo>
                <a:cubicBezTo>
                  <a:pt x="10079" y="3834"/>
                  <a:pt x="10086" y="3854"/>
                  <a:pt x="10118" y="3895"/>
                </a:cubicBezTo>
                <a:cubicBezTo>
                  <a:pt x="10131" y="3911"/>
                  <a:pt x="10169" y="3957"/>
                  <a:pt x="10181" y="3979"/>
                </a:cubicBezTo>
                <a:cubicBezTo>
                  <a:pt x="10208" y="4028"/>
                  <a:pt x="10199" y="4052"/>
                  <a:pt x="10202" y="4106"/>
                </a:cubicBezTo>
                <a:cubicBezTo>
                  <a:pt x="10208" y="4206"/>
                  <a:pt x="10231" y="4379"/>
                  <a:pt x="10181" y="4466"/>
                </a:cubicBezTo>
                <a:cubicBezTo>
                  <a:pt x="10168" y="4490"/>
                  <a:pt x="10105" y="4584"/>
                  <a:pt x="10096" y="4593"/>
                </a:cubicBezTo>
                <a:cubicBezTo>
                  <a:pt x="10078" y="4612"/>
                  <a:pt x="10036" y="4643"/>
                  <a:pt x="10012" y="4657"/>
                </a:cubicBezTo>
                <a:cubicBezTo>
                  <a:pt x="9970" y="4681"/>
                  <a:pt x="9915" y="4693"/>
                  <a:pt x="9864" y="4699"/>
                </a:cubicBezTo>
                <a:cubicBezTo>
                  <a:pt x="9797" y="4707"/>
                  <a:pt x="9753" y="4683"/>
                  <a:pt x="9694" y="4678"/>
                </a:cubicBezTo>
                <a:cubicBezTo>
                  <a:pt x="9572" y="4667"/>
                  <a:pt x="9463" y="4682"/>
                  <a:pt x="9377" y="4720"/>
                </a:cubicBezTo>
                <a:cubicBezTo>
                  <a:pt x="9346" y="4734"/>
                  <a:pt x="9304" y="4748"/>
                  <a:pt x="9271" y="4762"/>
                </a:cubicBezTo>
                <a:cubicBezTo>
                  <a:pt x="9229" y="4780"/>
                  <a:pt x="9204" y="4774"/>
                  <a:pt x="9165" y="4784"/>
                </a:cubicBezTo>
                <a:cubicBezTo>
                  <a:pt x="9152" y="4822"/>
                  <a:pt x="9138" y="4848"/>
                  <a:pt x="9123" y="4889"/>
                </a:cubicBezTo>
                <a:cubicBezTo>
                  <a:pt x="9110" y="4926"/>
                  <a:pt x="9107" y="4952"/>
                  <a:pt x="9102" y="4995"/>
                </a:cubicBezTo>
                <a:cubicBezTo>
                  <a:pt x="9098" y="5029"/>
                  <a:pt x="9082" y="5078"/>
                  <a:pt x="9080" y="5101"/>
                </a:cubicBezTo>
                <a:cubicBezTo>
                  <a:pt x="9076" y="5145"/>
                  <a:pt x="9100" y="5179"/>
                  <a:pt x="9102" y="5207"/>
                </a:cubicBezTo>
                <a:cubicBezTo>
                  <a:pt x="9107" y="5295"/>
                  <a:pt x="9086" y="5387"/>
                  <a:pt x="9080" y="5461"/>
                </a:cubicBezTo>
                <a:cubicBezTo>
                  <a:pt x="9072" y="5549"/>
                  <a:pt x="9080" y="5640"/>
                  <a:pt x="9102" y="5715"/>
                </a:cubicBezTo>
                <a:cubicBezTo>
                  <a:pt x="9109" y="5738"/>
                  <a:pt x="9112" y="5779"/>
                  <a:pt x="9123" y="5800"/>
                </a:cubicBezTo>
                <a:cubicBezTo>
                  <a:pt x="9150" y="5854"/>
                  <a:pt x="9149" y="5873"/>
                  <a:pt x="9165" y="5927"/>
                </a:cubicBezTo>
                <a:cubicBezTo>
                  <a:pt x="9173" y="5954"/>
                  <a:pt x="9184" y="5985"/>
                  <a:pt x="9186" y="6011"/>
                </a:cubicBezTo>
                <a:cubicBezTo>
                  <a:pt x="9195" y="6115"/>
                  <a:pt x="9199" y="6236"/>
                  <a:pt x="9207" y="6329"/>
                </a:cubicBezTo>
                <a:cubicBezTo>
                  <a:pt x="9213" y="6395"/>
                  <a:pt x="9213" y="6442"/>
                  <a:pt x="9229" y="6498"/>
                </a:cubicBezTo>
                <a:cubicBezTo>
                  <a:pt x="9243" y="6547"/>
                  <a:pt x="9258" y="6599"/>
                  <a:pt x="9292" y="6646"/>
                </a:cubicBezTo>
                <a:cubicBezTo>
                  <a:pt x="9322" y="6646"/>
                  <a:pt x="9333" y="6654"/>
                  <a:pt x="9334" y="6689"/>
                </a:cubicBezTo>
              </a:path>
              <a:path w="7663" h="11939">
                <a:moveTo>
                  <a:pt x="9313" y="6689"/>
                </a:moveTo>
                <a:cubicBezTo>
                  <a:pt x="9331" y="6713"/>
                  <a:pt x="9363" y="6696"/>
                  <a:pt x="9377" y="6731"/>
                </a:cubicBezTo>
                <a:cubicBezTo>
                  <a:pt x="9394" y="6775"/>
                  <a:pt x="9377" y="6858"/>
                  <a:pt x="9398" y="6900"/>
                </a:cubicBezTo>
                <a:cubicBezTo>
                  <a:pt x="9411" y="6926"/>
                  <a:pt x="9424" y="6959"/>
                  <a:pt x="9440" y="6985"/>
                </a:cubicBezTo>
                <a:cubicBezTo>
                  <a:pt x="9456" y="7012"/>
                  <a:pt x="9513" y="7030"/>
                  <a:pt x="9525" y="7070"/>
                </a:cubicBezTo>
                <a:cubicBezTo>
                  <a:pt x="9550" y="7157"/>
                  <a:pt x="9528" y="7213"/>
                  <a:pt x="9567" y="7281"/>
                </a:cubicBezTo>
                <a:cubicBezTo>
                  <a:pt x="9590" y="7321"/>
                  <a:pt x="9637" y="7358"/>
                  <a:pt x="9652" y="7387"/>
                </a:cubicBezTo>
                <a:cubicBezTo>
                  <a:pt x="9668" y="7418"/>
                  <a:pt x="9678" y="7462"/>
                  <a:pt x="9694" y="7493"/>
                </a:cubicBezTo>
                <a:cubicBezTo>
                  <a:pt x="9709" y="7522"/>
                  <a:pt x="9731" y="7550"/>
                  <a:pt x="9737" y="7578"/>
                </a:cubicBezTo>
                <a:cubicBezTo>
                  <a:pt x="9757" y="7619"/>
                  <a:pt x="9766" y="7633"/>
                  <a:pt x="9715" y="7620"/>
                </a:cubicBezTo>
                <a:cubicBezTo>
                  <a:pt x="9742" y="7637"/>
                  <a:pt x="9773" y="7645"/>
                  <a:pt x="9800" y="7662"/>
                </a:cubicBezTo>
                <a:cubicBezTo>
                  <a:pt x="9848" y="7691"/>
                  <a:pt x="9838" y="7703"/>
                  <a:pt x="9864" y="7726"/>
                </a:cubicBezTo>
                <a:cubicBezTo>
                  <a:pt x="9883" y="7743"/>
                  <a:pt x="9907" y="7750"/>
                  <a:pt x="9927" y="7768"/>
                </a:cubicBezTo>
                <a:cubicBezTo>
                  <a:pt x="9950" y="7789"/>
                  <a:pt x="9997" y="7835"/>
                  <a:pt x="10012" y="7853"/>
                </a:cubicBezTo>
                <a:cubicBezTo>
                  <a:pt x="10022" y="7865"/>
                  <a:pt x="10034" y="7926"/>
                  <a:pt x="10054" y="7937"/>
                </a:cubicBezTo>
                <a:cubicBezTo>
                  <a:pt x="10082" y="7952"/>
                  <a:pt x="10082" y="7945"/>
                  <a:pt x="10118" y="7959"/>
                </a:cubicBezTo>
                <a:cubicBezTo>
                  <a:pt x="10151" y="7972"/>
                  <a:pt x="10228" y="7994"/>
                  <a:pt x="10245" y="8001"/>
                </a:cubicBezTo>
                <a:cubicBezTo>
                  <a:pt x="10277" y="8014"/>
                  <a:pt x="10325" y="8028"/>
                  <a:pt x="10350" y="8043"/>
                </a:cubicBezTo>
                <a:cubicBezTo>
                  <a:pt x="10397" y="8072"/>
                  <a:pt x="10413" y="8101"/>
                  <a:pt x="10456" y="8128"/>
                </a:cubicBezTo>
                <a:cubicBezTo>
                  <a:pt x="10456" y="8156"/>
                  <a:pt x="10463" y="8163"/>
                  <a:pt x="10499" y="8149"/>
                </a:cubicBezTo>
                <a:cubicBezTo>
                  <a:pt x="10536" y="8180"/>
                  <a:pt x="10501" y="8164"/>
                  <a:pt x="10541" y="8191"/>
                </a:cubicBezTo>
                <a:cubicBezTo>
                  <a:pt x="10582" y="8219"/>
                  <a:pt x="10605" y="8234"/>
                  <a:pt x="10647" y="8255"/>
                </a:cubicBezTo>
                <a:cubicBezTo>
                  <a:pt x="10671" y="8279"/>
                  <a:pt x="10682" y="8286"/>
                  <a:pt x="10710" y="8276"/>
                </a:cubicBezTo>
                <a:cubicBezTo>
                  <a:pt x="10731" y="8323"/>
                  <a:pt x="10768" y="8314"/>
                  <a:pt x="10774" y="8382"/>
                </a:cubicBezTo>
                <a:cubicBezTo>
                  <a:pt x="10778" y="8433"/>
                  <a:pt x="10767" y="8450"/>
                  <a:pt x="10753" y="8488"/>
                </a:cubicBezTo>
                <a:cubicBezTo>
                  <a:pt x="10736" y="8534"/>
                  <a:pt x="10699" y="8556"/>
                  <a:pt x="10689" y="8594"/>
                </a:cubicBezTo>
                <a:cubicBezTo>
                  <a:pt x="10679" y="8630"/>
                  <a:pt x="10672" y="8661"/>
                  <a:pt x="10668" y="8699"/>
                </a:cubicBezTo>
                <a:cubicBezTo>
                  <a:pt x="10660" y="8777"/>
                  <a:pt x="10634" y="9030"/>
                  <a:pt x="10689" y="9080"/>
                </a:cubicBezTo>
                <a:cubicBezTo>
                  <a:pt x="10710" y="9099"/>
                  <a:pt x="10764" y="9098"/>
                  <a:pt x="10795" y="9102"/>
                </a:cubicBezTo>
                <a:cubicBezTo>
                  <a:pt x="10859" y="9110"/>
                  <a:pt x="10906" y="9093"/>
                  <a:pt x="10964" y="9080"/>
                </a:cubicBezTo>
                <a:cubicBezTo>
                  <a:pt x="11038" y="9063"/>
                  <a:pt x="11086" y="9024"/>
                  <a:pt x="11176" y="9038"/>
                </a:cubicBezTo>
                <a:cubicBezTo>
                  <a:pt x="11207" y="9043"/>
                  <a:pt x="11233" y="9043"/>
                  <a:pt x="11261" y="9059"/>
                </a:cubicBezTo>
                <a:cubicBezTo>
                  <a:pt x="11289" y="9075"/>
                  <a:pt x="11329" y="9110"/>
                  <a:pt x="11345" y="9144"/>
                </a:cubicBezTo>
                <a:cubicBezTo>
                  <a:pt x="11360" y="9176"/>
                  <a:pt x="11359" y="9214"/>
                  <a:pt x="11366" y="9250"/>
                </a:cubicBezTo>
                <a:cubicBezTo>
                  <a:pt x="11387" y="9355"/>
                  <a:pt x="11313" y="9574"/>
                  <a:pt x="11388" y="9652"/>
                </a:cubicBezTo>
                <a:cubicBezTo>
                  <a:pt x="11413" y="9678"/>
                  <a:pt x="11407" y="9659"/>
                  <a:pt x="11451" y="9673"/>
                </a:cubicBezTo>
                <a:cubicBezTo>
                  <a:pt x="11527" y="9697"/>
                  <a:pt x="11556" y="9681"/>
                  <a:pt x="11620" y="9715"/>
                </a:cubicBezTo>
                <a:cubicBezTo>
                  <a:pt x="11620" y="9722"/>
                  <a:pt x="11620" y="9730"/>
                  <a:pt x="11620" y="9737"/>
                </a:cubicBezTo>
                <a:cubicBezTo>
                  <a:pt x="11660" y="9723"/>
                  <a:pt x="11699" y="9672"/>
                  <a:pt x="11726" y="9673"/>
                </a:cubicBezTo>
                <a:cubicBezTo>
                  <a:pt x="11778" y="9674"/>
                  <a:pt x="11771" y="9698"/>
                  <a:pt x="11811" y="9715"/>
                </a:cubicBezTo>
                <a:cubicBezTo>
                  <a:pt x="11862" y="9736"/>
                  <a:pt x="11843" y="9739"/>
                  <a:pt x="11874" y="9758"/>
                </a:cubicBezTo>
                <a:cubicBezTo>
                  <a:pt x="11930" y="9793"/>
                  <a:pt x="11938" y="9786"/>
                  <a:pt x="11980" y="9842"/>
                </a:cubicBezTo>
                <a:cubicBezTo>
                  <a:pt x="12008" y="9879"/>
                  <a:pt x="12000" y="9909"/>
                  <a:pt x="12023" y="9948"/>
                </a:cubicBezTo>
                <a:cubicBezTo>
                  <a:pt x="12040" y="9968"/>
                  <a:pt x="12082" y="9986"/>
                  <a:pt x="12107" y="10033"/>
                </a:cubicBezTo>
                <a:cubicBezTo>
                  <a:pt x="12107" y="10047"/>
                  <a:pt x="12107" y="10061"/>
                  <a:pt x="12107" y="10075"/>
                </a:cubicBezTo>
                <a:cubicBezTo>
                  <a:pt x="12126" y="10105"/>
                  <a:pt x="12125" y="10114"/>
                  <a:pt x="12150" y="10139"/>
                </a:cubicBezTo>
                <a:cubicBezTo>
                  <a:pt x="12182" y="10171"/>
                  <a:pt x="12209" y="10164"/>
                  <a:pt x="12234" y="10202"/>
                </a:cubicBezTo>
                <a:cubicBezTo>
                  <a:pt x="12262" y="10245"/>
                  <a:pt x="12258" y="10266"/>
                  <a:pt x="12277" y="10308"/>
                </a:cubicBezTo>
                <a:cubicBezTo>
                  <a:pt x="12289" y="10333"/>
                  <a:pt x="12314" y="10383"/>
                  <a:pt x="12319" y="10393"/>
                </a:cubicBezTo>
                <a:cubicBezTo>
                  <a:pt x="12328" y="10413"/>
                  <a:pt x="12356" y="10444"/>
                  <a:pt x="12361" y="10456"/>
                </a:cubicBezTo>
                <a:cubicBezTo>
                  <a:pt x="12378" y="10494"/>
                  <a:pt x="12386" y="10540"/>
                  <a:pt x="12404" y="10583"/>
                </a:cubicBezTo>
                <a:cubicBezTo>
                  <a:pt x="12412" y="10603"/>
                  <a:pt x="12452" y="10669"/>
                  <a:pt x="12446" y="10689"/>
                </a:cubicBezTo>
                <a:cubicBezTo>
                  <a:pt x="12425" y="10759"/>
                  <a:pt x="12444" y="10730"/>
                  <a:pt x="12404" y="10774"/>
                </a:cubicBezTo>
                <a:cubicBezTo>
                  <a:pt x="12387" y="10793"/>
                  <a:pt x="12323" y="10800"/>
                  <a:pt x="12298" y="10816"/>
                </a:cubicBezTo>
                <a:cubicBezTo>
                  <a:pt x="12259" y="10840"/>
                  <a:pt x="12224" y="10852"/>
                  <a:pt x="12192" y="10880"/>
                </a:cubicBezTo>
                <a:cubicBezTo>
                  <a:pt x="12177" y="10893"/>
                  <a:pt x="12152" y="10942"/>
                  <a:pt x="12150" y="10943"/>
                </a:cubicBezTo>
                <a:cubicBezTo>
                  <a:pt x="12110" y="10967"/>
                  <a:pt x="12049" y="10992"/>
                  <a:pt x="12001" y="11007"/>
                </a:cubicBezTo>
                <a:cubicBezTo>
                  <a:pt x="11945" y="11024"/>
                  <a:pt x="11884" y="11004"/>
                  <a:pt x="11832" y="11028"/>
                </a:cubicBezTo>
                <a:cubicBezTo>
                  <a:pt x="11805" y="11041"/>
                  <a:pt x="11780" y="11061"/>
                  <a:pt x="11747" y="11091"/>
                </a:cubicBezTo>
                <a:cubicBezTo>
                  <a:pt x="11735" y="11102"/>
                  <a:pt x="11696" y="11168"/>
                  <a:pt x="11684" y="11176"/>
                </a:cubicBezTo>
                <a:cubicBezTo>
                  <a:pt x="11670" y="11176"/>
                  <a:pt x="11656" y="11176"/>
                  <a:pt x="11642" y="11176"/>
                </a:cubicBezTo>
                <a:cubicBezTo>
                  <a:pt x="11618" y="11200"/>
                  <a:pt x="11613" y="11212"/>
                  <a:pt x="11578" y="11239"/>
                </a:cubicBezTo>
                <a:cubicBezTo>
                  <a:pt x="11536" y="11272"/>
                  <a:pt x="11508" y="11292"/>
                  <a:pt x="11472" y="11324"/>
                </a:cubicBezTo>
                <a:cubicBezTo>
                  <a:pt x="11472" y="11354"/>
                  <a:pt x="11464" y="11365"/>
                  <a:pt x="11430" y="11366"/>
                </a:cubicBezTo>
              </a:path>
              <a:path w="7663" h="11939">
                <a:moveTo>
                  <a:pt x="11472" y="11366"/>
                </a:moveTo>
                <a:cubicBezTo>
                  <a:pt x="11453" y="11386"/>
                  <a:pt x="11446" y="11390"/>
                  <a:pt x="11451" y="11409"/>
                </a:cubicBezTo>
                <a:cubicBezTo>
                  <a:pt x="11537" y="11437"/>
                  <a:pt x="11487" y="11389"/>
                  <a:pt x="11515" y="11472"/>
                </a:cubicBezTo>
                <a:cubicBezTo>
                  <a:pt x="11524" y="11500"/>
                  <a:pt x="11529" y="11529"/>
                  <a:pt x="11536" y="11557"/>
                </a:cubicBezTo>
                <a:cubicBezTo>
                  <a:pt x="11554" y="11573"/>
                  <a:pt x="11590" y="11595"/>
                  <a:pt x="11620" y="11620"/>
                </a:cubicBezTo>
                <a:cubicBezTo>
                  <a:pt x="11669" y="11661"/>
                  <a:pt x="11717" y="11726"/>
                  <a:pt x="11747" y="11769"/>
                </a:cubicBezTo>
                <a:cubicBezTo>
                  <a:pt x="11747" y="11793"/>
                  <a:pt x="11749" y="11802"/>
                  <a:pt x="11769" y="11811"/>
                </a:cubicBezTo>
                <a:cubicBezTo>
                  <a:pt x="11699" y="11748"/>
                  <a:pt x="11749" y="11810"/>
                  <a:pt x="11769" y="11832"/>
                </a:cubicBezTo>
                <a:cubicBezTo>
                  <a:pt x="11790" y="11832"/>
                  <a:pt x="11797" y="11832"/>
                  <a:pt x="11790" y="11853"/>
                </a:cubicBezTo>
                <a:cubicBezTo>
                  <a:pt x="11733" y="11871"/>
                  <a:pt x="11734" y="11828"/>
                  <a:pt x="11811" y="11874"/>
                </a:cubicBezTo>
                <a:cubicBezTo>
                  <a:pt x="11838" y="11890"/>
                  <a:pt x="11875" y="11905"/>
                  <a:pt x="11896" y="11938"/>
                </a:cubicBezTo>
                <a:cubicBezTo>
                  <a:pt x="11919" y="11974"/>
                  <a:pt x="11916" y="12017"/>
                  <a:pt x="11959" y="12044"/>
                </a:cubicBezTo>
                <a:cubicBezTo>
                  <a:pt x="11991" y="12064"/>
                  <a:pt x="12046" y="12082"/>
                  <a:pt x="12086" y="12107"/>
                </a:cubicBezTo>
                <a:cubicBezTo>
                  <a:pt x="12112" y="12124"/>
                  <a:pt x="12137" y="12160"/>
                  <a:pt x="12150" y="12171"/>
                </a:cubicBezTo>
                <a:cubicBezTo>
                  <a:pt x="12191" y="12197"/>
                  <a:pt x="12199" y="12188"/>
                  <a:pt x="12234" y="12234"/>
                </a:cubicBezTo>
                <a:cubicBezTo>
                  <a:pt x="12253" y="12253"/>
                  <a:pt x="12260" y="12258"/>
                  <a:pt x="12255" y="12277"/>
                </a:cubicBezTo>
                <a:cubicBezTo>
                  <a:pt x="12271" y="12293"/>
                  <a:pt x="12322" y="12323"/>
                  <a:pt x="12340" y="12340"/>
                </a:cubicBezTo>
                <a:cubicBezTo>
                  <a:pt x="12355" y="12354"/>
                  <a:pt x="12414" y="12402"/>
                  <a:pt x="12425" y="12425"/>
                </a:cubicBezTo>
                <a:cubicBezTo>
                  <a:pt x="12443" y="12464"/>
                  <a:pt x="12474" y="12501"/>
                  <a:pt x="12488" y="12531"/>
                </a:cubicBezTo>
                <a:cubicBezTo>
                  <a:pt x="12488" y="12538"/>
                  <a:pt x="12488" y="12545"/>
                  <a:pt x="12488" y="12552"/>
                </a:cubicBezTo>
                <a:cubicBezTo>
                  <a:pt x="12498" y="12561"/>
                  <a:pt x="12535" y="12626"/>
                  <a:pt x="12552" y="12636"/>
                </a:cubicBezTo>
                <a:cubicBezTo>
                  <a:pt x="12566" y="12636"/>
                  <a:pt x="12580" y="12636"/>
                  <a:pt x="12594" y="12636"/>
                </a:cubicBezTo>
                <a:cubicBezTo>
                  <a:pt x="12616" y="12696"/>
                  <a:pt x="12593" y="12662"/>
                  <a:pt x="12615" y="12721"/>
                </a:cubicBezTo>
                <a:cubicBezTo>
                  <a:pt x="12620" y="12729"/>
                  <a:pt x="12656" y="12791"/>
                  <a:pt x="12679" y="12806"/>
                </a:cubicBezTo>
                <a:cubicBezTo>
                  <a:pt x="12686" y="12806"/>
                  <a:pt x="12693" y="12806"/>
                  <a:pt x="12700" y="12806"/>
                </a:cubicBezTo>
                <a:cubicBezTo>
                  <a:pt x="12716" y="12841"/>
                  <a:pt x="12720" y="12871"/>
                  <a:pt x="12742" y="12912"/>
                </a:cubicBezTo>
                <a:cubicBezTo>
                  <a:pt x="12765" y="12955"/>
                  <a:pt x="12810" y="13026"/>
                  <a:pt x="12848" y="13060"/>
                </a:cubicBezTo>
                <a:cubicBezTo>
                  <a:pt x="12867" y="13079"/>
                  <a:pt x="12871" y="13086"/>
                  <a:pt x="12890" y="13081"/>
                </a:cubicBezTo>
                <a:cubicBezTo>
                  <a:pt x="12906" y="13101"/>
                  <a:pt x="12927" y="13134"/>
                  <a:pt x="12954" y="13166"/>
                </a:cubicBezTo>
                <a:cubicBezTo>
                  <a:pt x="12983" y="13201"/>
                  <a:pt x="13001" y="13189"/>
                  <a:pt x="13039" y="13208"/>
                </a:cubicBezTo>
                <a:cubicBezTo>
                  <a:pt x="13039" y="13236"/>
                  <a:pt x="13039" y="13250"/>
                  <a:pt x="13039" y="13271"/>
                </a:cubicBezTo>
              </a:path>
              <a:path w="7663" h="11939">
                <a:moveTo>
                  <a:pt x="12890" y="13166"/>
                </a:moveTo>
                <a:cubicBezTo>
                  <a:pt x="12918" y="13166"/>
                  <a:pt x="12947" y="13166"/>
                  <a:pt x="12975" y="13166"/>
                </a:cubicBezTo>
              </a:path>
              <a:path w="7663" h="11939">
                <a:moveTo>
                  <a:pt x="13102" y="13335"/>
                </a:moveTo>
                <a:cubicBezTo>
                  <a:pt x="13088" y="13335"/>
                  <a:pt x="13074" y="13335"/>
                  <a:pt x="13060" y="13335"/>
                </a:cubicBezTo>
                <a:cubicBezTo>
                  <a:pt x="13187" y="13335"/>
                  <a:pt x="13068" y="13309"/>
                  <a:pt x="13081" y="13377"/>
                </a:cubicBezTo>
                <a:cubicBezTo>
                  <a:pt x="13091" y="13429"/>
                  <a:pt x="13112" y="13483"/>
                  <a:pt x="13144" y="13525"/>
                </a:cubicBezTo>
                <a:cubicBezTo>
                  <a:pt x="13159" y="13545"/>
                  <a:pt x="13225" y="13598"/>
                  <a:pt x="13229" y="13610"/>
                </a:cubicBezTo>
                <a:cubicBezTo>
                  <a:pt x="13242" y="13646"/>
                  <a:pt x="13260" y="13683"/>
                  <a:pt x="13271" y="13716"/>
                </a:cubicBezTo>
                <a:cubicBezTo>
                  <a:pt x="13271" y="13730"/>
                  <a:pt x="13271" y="13744"/>
                  <a:pt x="13271" y="13758"/>
                </a:cubicBezTo>
                <a:cubicBezTo>
                  <a:pt x="13323" y="13775"/>
                  <a:pt x="13309" y="13769"/>
                  <a:pt x="13335" y="13801"/>
                </a:cubicBezTo>
                <a:cubicBezTo>
                  <a:pt x="13341" y="13852"/>
                  <a:pt x="13354" y="13846"/>
                  <a:pt x="13356" y="13906"/>
                </a:cubicBezTo>
                <a:cubicBezTo>
                  <a:pt x="13359" y="13982"/>
                  <a:pt x="13348" y="14053"/>
                  <a:pt x="13377" y="14118"/>
                </a:cubicBezTo>
                <a:cubicBezTo>
                  <a:pt x="13396" y="14162"/>
                  <a:pt x="13422" y="14203"/>
                  <a:pt x="13441" y="14245"/>
                </a:cubicBezTo>
                <a:cubicBezTo>
                  <a:pt x="13455" y="14277"/>
                  <a:pt x="13451" y="14319"/>
                  <a:pt x="13462" y="14351"/>
                </a:cubicBezTo>
                <a:cubicBezTo>
                  <a:pt x="13478" y="14398"/>
                  <a:pt x="13489" y="14433"/>
                  <a:pt x="13504" y="14478"/>
                </a:cubicBezTo>
                <a:cubicBezTo>
                  <a:pt x="13517" y="14518"/>
                  <a:pt x="13548" y="14547"/>
                  <a:pt x="13568" y="14584"/>
                </a:cubicBezTo>
                <a:cubicBezTo>
                  <a:pt x="13583" y="14611"/>
                  <a:pt x="13593" y="14640"/>
                  <a:pt x="13610" y="14668"/>
                </a:cubicBezTo>
                <a:cubicBezTo>
                  <a:pt x="13634" y="14707"/>
                  <a:pt x="13663" y="14740"/>
                  <a:pt x="13695" y="14774"/>
                </a:cubicBezTo>
                <a:cubicBezTo>
                  <a:pt x="13716" y="14795"/>
                  <a:pt x="13723" y="14802"/>
                  <a:pt x="13737" y="14817"/>
                </a:cubicBezTo>
              </a:path>
              <a:path w="7663" h="11939">
                <a:moveTo>
                  <a:pt x="13039" y="13250"/>
                </a:moveTo>
                <a:cubicBezTo>
                  <a:pt x="13072" y="13308"/>
                  <a:pt x="13077" y="13318"/>
                  <a:pt x="13123" y="13356"/>
                </a:cubicBezTo>
                <a:cubicBezTo>
                  <a:pt x="13130" y="13363"/>
                  <a:pt x="13137" y="13370"/>
                  <a:pt x="13144" y="13377"/>
                </a:cubicBezTo>
              </a:path>
            </a:pathLst>
          </a:custGeom>
          <a:noFill/>
          <a:ln cap="rnd"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Ink 17"/>
          <p:cNvSpPr/>
          <p:nvPr/>
        </p:nvSpPr>
        <p:spPr>
          <a:xfrm>
            <a:off x="1714680" y="2065320"/>
            <a:ext cx="2773080" cy="4084560"/>
          </a:xfrm>
          <a:custGeom>
            <a:avLst/>
            <a:gdLst/>
            <a:ahLst/>
            <a:rect l="l" t="t" r="r" b="b"/>
            <a:pathLst>
              <a:path w="7706" h="11346">
                <a:moveTo>
                  <a:pt x="5567" y="7959"/>
                </a:moveTo>
                <a:cubicBezTo>
                  <a:pt x="5574" y="7959"/>
                  <a:pt x="5581" y="7959"/>
                  <a:pt x="5588" y="7959"/>
                </a:cubicBezTo>
                <a:cubicBezTo>
                  <a:pt x="5588" y="7987"/>
                  <a:pt x="5588" y="8015"/>
                  <a:pt x="5588" y="8043"/>
                </a:cubicBezTo>
                <a:cubicBezTo>
                  <a:pt x="5547" y="8050"/>
                  <a:pt x="5527" y="8048"/>
                  <a:pt x="5482" y="8064"/>
                </a:cubicBezTo>
                <a:cubicBezTo>
                  <a:pt x="5422" y="8085"/>
                  <a:pt x="5417" y="8122"/>
                  <a:pt x="5376" y="8149"/>
                </a:cubicBezTo>
                <a:cubicBezTo>
                  <a:pt x="5355" y="8163"/>
                  <a:pt x="5319" y="8154"/>
                  <a:pt x="5292" y="8170"/>
                </a:cubicBezTo>
              </a:path>
              <a:path w="7706" h="11346">
                <a:moveTo>
                  <a:pt x="7556" y="12086"/>
                </a:moveTo>
                <a:cubicBezTo>
                  <a:pt x="7584" y="12086"/>
                  <a:pt x="7613" y="12086"/>
                  <a:pt x="7641" y="12086"/>
                </a:cubicBezTo>
                <a:cubicBezTo>
                  <a:pt x="7641" y="12107"/>
                  <a:pt x="7641" y="12129"/>
                  <a:pt x="7641" y="12150"/>
                </a:cubicBezTo>
                <a:cubicBezTo>
                  <a:pt x="7662" y="12150"/>
                  <a:pt x="7684" y="12150"/>
                  <a:pt x="7705" y="12150"/>
                </a:cubicBezTo>
                <a:cubicBezTo>
                  <a:pt x="7705" y="12178"/>
                  <a:pt x="7705" y="12206"/>
                  <a:pt x="7705" y="12234"/>
                </a:cubicBezTo>
                <a:cubicBezTo>
                  <a:pt x="7737" y="12245"/>
                  <a:pt x="7726" y="12260"/>
                  <a:pt x="7726" y="12298"/>
                </a:cubicBezTo>
                <a:cubicBezTo>
                  <a:pt x="7726" y="12460"/>
                  <a:pt x="7726" y="12623"/>
                  <a:pt x="7726" y="12785"/>
                </a:cubicBezTo>
                <a:cubicBezTo>
                  <a:pt x="7726" y="12763"/>
                  <a:pt x="7726" y="12756"/>
                  <a:pt x="7726" y="12742"/>
                </a:cubicBezTo>
              </a:path>
              <a:path w="7706" h="11346">
                <a:moveTo>
                  <a:pt x="7641" y="12636"/>
                </a:moveTo>
                <a:cubicBezTo>
                  <a:pt x="7641" y="12736"/>
                  <a:pt x="7607" y="12926"/>
                  <a:pt x="7683" y="12975"/>
                </a:cubicBezTo>
                <a:cubicBezTo>
                  <a:pt x="7710" y="12993"/>
                  <a:pt x="7752" y="12942"/>
                  <a:pt x="7789" y="12954"/>
                </a:cubicBezTo>
                <a:cubicBezTo>
                  <a:pt x="7811" y="12974"/>
                  <a:pt x="7816" y="12986"/>
                  <a:pt x="7853" y="13017"/>
                </a:cubicBezTo>
                <a:cubicBezTo>
                  <a:pt x="7879" y="13039"/>
                  <a:pt x="7940" y="13046"/>
                  <a:pt x="7959" y="13081"/>
                </a:cubicBezTo>
                <a:cubicBezTo>
                  <a:pt x="7990" y="13137"/>
                  <a:pt x="7962" y="13179"/>
                  <a:pt x="8001" y="13229"/>
                </a:cubicBezTo>
                <a:cubicBezTo>
                  <a:pt x="8020" y="13248"/>
                  <a:pt x="8024" y="13255"/>
                  <a:pt x="8043" y="13250"/>
                </a:cubicBezTo>
                <a:cubicBezTo>
                  <a:pt x="8067" y="13276"/>
                  <a:pt x="8065" y="13279"/>
                  <a:pt x="8107" y="13314"/>
                </a:cubicBezTo>
                <a:cubicBezTo>
                  <a:pt x="8141" y="13343"/>
                  <a:pt x="8156" y="13374"/>
                  <a:pt x="8191" y="13398"/>
                </a:cubicBezTo>
                <a:cubicBezTo>
                  <a:pt x="8198" y="13398"/>
                  <a:pt x="8206" y="13398"/>
                  <a:pt x="8213" y="13398"/>
                </a:cubicBezTo>
                <a:cubicBezTo>
                  <a:pt x="8231" y="13435"/>
                  <a:pt x="8201" y="13493"/>
                  <a:pt x="8234" y="13525"/>
                </a:cubicBezTo>
                <a:cubicBezTo>
                  <a:pt x="8264" y="13554"/>
                  <a:pt x="8285" y="13570"/>
                  <a:pt x="8318" y="13589"/>
                </a:cubicBezTo>
                <a:cubicBezTo>
                  <a:pt x="8380" y="13625"/>
                  <a:pt x="8467" y="13631"/>
                  <a:pt x="8530" y="13652"/>
                </a:cubicBezTo>
                <a:cubicBezTo>
                  <a:pt x="8558" y="13661"/>
                  <a:pt x="8608" y="13683"/>
                  <a:pt x="8636" y="13695"/>
                </a:cubicBezTo>
                <a:cubicBezTo>
                  <a:pt x="8656" y="13703"/>
                  <a:pt x="8698" y="13737"/>
                  <a:pt x="8699" y="13737"/>
                </a:cubicBezTo>
                <a:cubicBezTo>
                  <a:pt x="8735" y="13759"/>
                  <a:pt x="8750" y="13771"/>
                  <a:pt x="8784" y="13801"/>
                </a:cubicBezTo>
                <a:cubicBezTo>
                  <a:pt x="8801" y="13822"/>
                  <a:pt x="8822" y="13848"/>
                  <a:pt x="8848" y="13885"/>
                </a:cubicBezTo>
                <a:cubicBezTo>
                  <a:pt x="8871" y="13917"/>
                  <a:pt x="8879" y="13941"/>
                  <a:pt x="8911" y="13970"/>
                </a:cubicBezTo>
                <a:cubicBezTo>
                  <a:pt x="8966" y="14020"/>
                  <a:pt x="9002" y="14043"/>
                  <a:pt x="9059" y="14076"/>
                </a:cubicBezTo>
                <a:cubicBezTo>
                  <a:pt x="9092" y="14095"/>
                  <a:pt x="9133" y="14101"/>
                  <a:pt x="9165" y="14118"/>
                </a:cubicBezTo>
                <a:cubicBezTo>
                  <a:pt x="9171" y="14141"/>
                  <a:pt x="9173" y="14143"/>
                  <a:pt x="9186" y="14160"/>
                </a:cubicBezTo>
                <a:cubicBezTo>
                  <a:pt x="9236" y="14182"/>
                  <a:pt x="9259" y="14170"/>
                  <a:pt x="9313" y="14203"/>
                </a:cubicBezTo>
                <a:cubicBezTo>
                  <a:pt x="9370" y="14237"/>
                  <a:pt x="9352" y="14247"/>
                  <a:pt x="9398" y="14287"/>
                </a:cubicBezTo>
                <a:cubicBezTo>
                  <a:pt x="9429" y="14314"/>
                  <a:pt x="9457" y="14330"/>
                  <a:pt x="9483" y="14372"/>
                </a:cubicBezTo>
                <a:cubicBezTo>
                  <a:pt x="9509" y="14414"/>
                  <a:pt x="9484" y="14411"/>
                  <a:pt x="9504" y="14457"/>
                </a:cubicBezTo>
                <a:cubicBezTo>
                  <a:pt x="9508" y="14492"/>
                  <a:pt x="9524" y="14506"/>
                  <a:pt x="9525" y="14541"/>
                </a:cubicBezTo>
                <a:cubicBezTo>
                  <a:pt x="9526" y="14591"/>
                  <a:pt x="9523" y="14640"/>
                  <a:pt x="9525" y="14690"/>
                </a:cubicBezTo>
                <a:cubicBezTo>
                  <a:pt x="9555" y="14696"/>
                  <a:pt x="9581" y="14708"/>
                  <a:pt x="9588" y="14711"/>
                </a:cubicBezTo>
                <a:cubicBezTo>
                  <a:pt x="9593" y="14726"/>
                  <a:pt x="9620" y="14801"/>
                  <a:pt x="9631" y="14838"/>
                </a:cubicBezTo>
                <a:cubicBezTo>
                  <a:pt x="9646" y="14887"/>
                  <a:pt x="9655" y="14941"/>
                  <a:pt x="9673" y="14986"/>
                </a:cubicBezTo>
                <a:cubicBezTo>
                  <a:pt x="9688" y="15023"/>
                  <a:pt x="9730" y="15052"/>
                  <a:pt x="9737" y="15092"/>
                </a:cubicBezTo>
                <a:cubicBezTo>
                  <a:pt x="9748" y="15156"/>
                  <a:pt x="9737" y="15204"/>
                  <a:pt x="9758" y="15261"/>
                </a:cubicBezTo>
                <a:cubicBezTo>
                  <a:pt x="9777" y="15312"/>
                  <a:pt x="9803" y="15354"/>
                  <a:pt x="9821" y="15409"/>
                </a:cubicBezTo>
                <a:cubicBezTo>
                  <a:pt x="9836" y="15453"/>
                  <a:pt x="9852" y="15509"/>
                  <a:pt x="9864" y="15536"/>
                </a:cubicBezTo>
                <a:cubicBezTo>
                  <a:pt x="9882" y="15579"/>
                  <a:pt x="9913" y="15603"/>
                  <a:pt x="9927" y="15642"/>
                </a:cubicBezTo>
                <a:cubicBezTo>
                  <a:pt x="9927" y="15670"/>
                  <a:pt x="9927" y="15685"/>
                  <a:pt x="9927" y="15706"/>
                </a:cubicBezTo>
                <a:cubicBezTo>
                  <a:pt x="9934" y="15717"/>
                  <a:pt x="9934" y="15769"/>
                  <a:pt x="9948" y="15790"/>
                </a:cubicBezTo>
                <a:cubicBezTo>
                  <a:pt x="9961" y="15810"/>
                  <a:pt x="10010" y="15875"/>
                  <a:pt x="10033" y="15896"/>
                </a:cubicBezTo>
                <a:cubicBezTo>
                  <a:pt x="10058" y="15919"/>
                  <a:pt x="10102" y="15908"/>
                  <a:pt x="10118" y="15938"/>
                </a:cubicBezTo>
                <a:cubicBezTo>
                  <a:pt x="10133" y="15967"/>
                  <a:pt x="10146" y="15998"/>
                  <a:pt x="10160" y="16023"/>
                </a:cubicBezTo>
                <a:cubicBezTo>
                  <a:pt x="10178" y="16056"/>
                  <a:pt x="10182" y="16109"/>
                  <a:pt x="10202" y="16150"/>
                </a:cubicBezTo>
                <a:cubicBezTo>
                  <a:pt x="10213" y="16173"/>
                  <a:pt x="10204" y="16215"/>
                  <a:pt x="10223" y="16235"/>
                </a:cubicBezTo>
                <a:cubicBezTo>
                  <a:pt x="10255" y="16269"/>
                  <a:pt x="10290" y="16286"/>
                  <a:pt x="10329" y="16298"/>
                </a:cubicBezTo>
                <a:cubicBezTo>
                  <a:pt x="10518" y="16356"/>
                  <a:pt x="10754" y="16271"/>
                  <a:pt x="10943" y="16319"/>
                </a:cubicBezTo>
                <a:cubicBezTo>
                  <a:pt x="10992" y="16331"/>
                  <a:pt x="11039" y="16363"/>
                  <a:pt x="11091" y="16383"/>
                </a:cubicBezTo>
                <a:cubicBezTo>
                  <a:pt x="11133" y="16399"/>
                  <a:pt x="11178" y="16427"/>
                  <a:pt x="11218" y="16446"/>
                </a:cubicBezTo>
                <a:cubicBezTo>
                  <a:pt x="11265" y="16469"/>
                  <a:pt x="11286" y="16494"/>
                  <a:pt x="11324" y="16510"/>
                </a:cubicBezTo>
                <a:cubicBezTo>
                  <a:pt x="11353" y="16522"/>
                  <a:pt x="11440" y="16544"/>
                  <a:pt x="11472" y="16552"/>
                </a:cubicBezTo>
                <a:cubicBezTo>
                  <a:pt x="11505" y="16560"/>
                  <a:pt x="11526" y="16563"/>
                  <a:pt x="11557" y="16573"/>
                </a:cubicBezTo>
                <a:cubicBezTo>
                  <a:pt x="11590" y="16583"/>
                  <a:pt x="11635" y="16609"/>
                  <a:pt x="11663" y="16616"/>
                </a:cubicBezTo>
                <a:cubicBezTo>
                  <a:pt x="11677" y="16616"/>
                  <a:pt x="11691" y="16616"/>
                  <a:pt x="11705" y="16616"/>
                </a:cubicBezTo>
                <a:cubicBezTo>
                  <a:pt x="11717" y="16662"/>
                  <a:pt x="11721" y="16665"/>
                  <a:pt x="11747" y="16700"/>
                </a:cubicBezTo>
                <a:cubicBezTo>
                  <a:pt x="11782" y="16717"/>
                  <a:pt x="11793" y="16730"/>
                  <a:pt x="11832" y="16743"/>
                </a:cubicBezTo>
                <a:cubicBezTo>
                  <a:pt x="11862" y="16753"/>
                  <a:pt x="11885" y="16776"/>
                  <a:pt x="11917" y="16785"/>
                </a:cubicBezTo>
                <a:cubicBezTo>
                  <a:pt x="11945" y="16785"/>
                  <a:pt x="11959" y="16785"/>
                  <a:pt x="11980" y="16785"/>
                </a:cubicBezTo>
                <a:cubicBezTo>
                  <a:pt x="11998" y="16807"/>
                  <a:pt x="12049" y="16844"/>
                  <a:pt x="12065" y="16870"/>
                </a:cubicBezTo>
                <a:cubicBezTo>
                  <a:pt x="12065" y="16877"/>
                  <a:pt x="12065" y="16884"/>
                  <a:pt x="12065" y="16891"/>
                </a:cubicBezTo>
                <a:cubicBezTo>
                  <a:pt x="12122" y="16907"/>
                  <a:pt x="12179" y="16915"/>
                  <a:pt x="12234" y="16933"/>
                </a:cubicBezTo>
                <a:cubicBezTo>
                  <a:pt x="12246" y="16937"/>
                  <a:pt x="12354" y="16972"/>
                  <a:pt x="12361" y="16976"/>
                </a:cubicBezTo>
                <a:cubicBezTo>
                  <a:pt x="12401" y="17003"/>
                  <a:pt x="12429" y="17051"/>
                  <a:pt x="12467" y="17081"/>
                </a:cubicBezTo>
              </a:path>
              <a:path w="7706" h="11346">
                <a:moveTo>
                  <a:pt x="6181" y="5736"/>
                </a:moveTo>
                <a:cubicBezTo>
                  <a:pt x="6188" y="5736"/>
                  <a:pt x="6195" y="5736"/>
                  <a:pt x="6202" y="5736"/>
                </a:cubicBezTo>
                <a:cubicBezTo>
                  <a:pt x="6189" y="5771"/>
                  <a:pt x="6165" y="5808"/>
                  <a:pt x="6159" y="5842"/>
                </a:cubicBezTo>
                <a:cubicBezTo>
                  <a:pt x="6149" y="5898"/>
                  <a:pt x="6165" y="5946"/>
                  <a:pt x="6181" y="5990"/>
                </a:cubicBezTo>
                <a:cubicBezTo>
                  <a:pt x="6198" y="6039"/>
                  <a:pt x="6216" y="6048"/>
                  <a:pt x="6223" y="6096"/>
                </a:cubicBezTo>
                <a:cubicBezTo>
                  <a:pt x="6231" y="6150"/>
                  <a:pt x="6222" y="6201"/>
                  <a:pt x="6202" y="6244"/>
                </a:cubicBezTo>
                <a:cubicBezTo>
                  <a:pt x="6183" y="6285"/>
                  <a:pt x="6158" y="6328"/>
                  <a:pt x="6138" y="6371"/>
                </a:cubicBezTo>
                <a:cubicBezTo>
                  <a:pt x="6122" y="6405"/>
                  <a:pt x="6091" y="6441"/>
                  <a:pt x="6075" y="6477"/>
                </a:cubicBezTo>
                <a:cubicBezTo>
                  <a:pt x="6061" y="6508"/>
                  <a:pt x="6020" y="6551"/>
                  <a:pt x="6011" y="6583"/>
                </a:cubicBezTo>
                <a:cubicBezTo>
                  <a:pt x="5987" y="6665"/>
                  <a:pt x="6018" y="6627"/>
                  <a:pt x="5948" y="6689"/>
                </a:cubicBezTo>
                <a:cubicBezTo>
                  <a:pt x="5938" y="6698"/>
                  <a:pt x="5899" y="6786"/>
                  <a:pt x="5884" y="6794"/>
                </a:cubicBezTo>
                <a:cubicBezTo>
                  <a:pt x="5870" y="6794"/>
                  <a:pt x="5856" y="6794"/>
                  <a:pt x="5842" y="6794"/>
                </a:cubicBezTo>
                <a:cubicBezTo>
                  <a:pt x="5814" y="6831"/>
                  <a:pt x="5808" y="6848"/>
                  <a:pt x="5778" y="6900"/>
                </a:cubicBezTo>
                <a:cubicBezTo>
                  <a:pt x="5757" y="6936"/>
                  <a:pt x="5732" y="6971"/>
                  <a:pt x="5715" y="7006"/>
                </a:cubicBezTo>
                <a:cubicBezTo>
                  <a:pt x="5701" y="7035"/>
                  <a:pt x="5655" y="7104"/>
                  <a:pt x="5651" y="7133"/>
                </a:cubicBezTo>
                <a:cubicBezTo>
                  <a:pt x="5631" y="7267"/>
                  <a:pt x="5671" y="7412"/>
                  <a:pt x="5630" y="7535"/>
                </a:cubicBezTo>
                <a:cubicBezTo>
                  <a:pt x="5619" y="7568"/>
                  <a:pt x="5619" y="7608"/>
                  <a:pt x="5609" y="7641"/>
                </a:cubicBezTo>
                <a:cubicBezTo>
                  <a:pt x="5598" y="7676"/>
                  <a:pt x="5572" y="7730"/>
                  <a:pt x="5567" y="7768"/>
                </a:cubicBezTo>
                <a:cubicBezTo>
                  <a:pt x="5558" y="7835"/>
                  <a:pt x="5567" y="7912"/>
                  <a:pt x="5567" y="7980"/>
                </a:cubicBezTo>
              </a:path>
              <a:path w="7706" h="11346">
                <a:moveTo>
                  <a:pt x="5292" y="8170"/>
                </a:moveTo>
                <a:cubicBezTo>
                  <a:pt x="5271" y="8202"/>
                  <a:pt x="5244" y="8224"/>
                  <a:pt x="5228" y="8255"/>
                </a:cubicBezTo>
                <a:cubicBezTo>
                  <a:pt x="5211" y="8289"/>
                  <a:pt x="5192" y="8327"/>
                  <a:pt x="5186" y="8361"/>
                </a:cubicBezTo>
                <a:cubicBezTo>
                  <a:pt x="5164" y="8482"/>
                  <a:pt x="5241" y="8710"/>
                  <a:pt x="5165" y="8805"/>
                </a:cubicBezTo>
                <a:cubicBezTo>
                  <a:pt x="5142" y="8834"/>
                  <a:pt x="5089" y="8836"/>
                  <a:pt x="5059" y="8869"/>
                </a:cubicBezTo>
                <a:cubicBezTo>
                  <a:pt x="5028" y="8903"/>
                  <a:pt x="5006" y="8941"/>
                  <a:pt x="4974" y="8975"/>
                </a:cubicBezTo>
                <a:cubicBezTo>
                  <a:pt x="4947" y="9003"/>
                  <a:pt x="4912" y="9026"/>
                  <a:pt x="4889" y="9059"/>
                </a:cubicBezTo>
                <a:cubicBezTo>
                  <a:pt x="4870" y="9087"/>
                  <a:pt x="4833" y="9125"/>
                  <a:pt x="4826" y="9165"/>
                </a:cubicBezTo>
                <a:cubicBezTo>
                  <a:pt x="4817" y="9215"/>
                  <a:pt x="4836" y="9234"/>
                  <a:pt x="4847" y="9271"/>
                </a:cubicBezTo>
                <a:cubicBezTo>
                  <a:pt x="4861" y="9317"/>
                  <a:pt x="4902" y="9353"/>
                  <a:pt x="4911" y="9398"/>
                </a:cubicBezTo>
                <a:cubicBezTo>
                  <a:pt x="4924" y="9459"/>
                  <a:pt x="4937" y="9484"/>
                  <a:pt x="4953" y="9525"/>
                </a:cubicBezTo>
                <a:cubicBezTo>
                  <a:pt x="4962" y="9550"/>
                  <a:pt x="4963" y="9587"/>
                  <a:pt x="4974" y="9610"/>
                </a:cubicBezTo>
                <a:cubicBezTo>
                  <a:pt x="4988" y="9639"/>
                  <a:pt x="5017" y="9715"/>
                  <a:pt x="5038" y="9737"/>
                </a:cubicBezTo>
                <a:cubicBezTo>
                  <a:pt x="5062" y="9761"/>
                  <a:pt x="5073" y="9768"/>
                  <a:pt x="5101" y="9758"/>
                </a:cubicBezTo>
                <a:cubicBezTo>
                  <a:pt x="5117" y="9795"/>
                  <a:pt x="5158" y="9816"/>
                  <a:pt x="5165" y="9842"/>
                </a:cubicBezTo>
                <a:cubicBezTo>
                  <a:pt x="5191" y="9935"/>
                  <a:pt x="5142" y="9998"/>
                  <a:pt x="5122" y="10054"/>
                </a:cubicBezTo>
                <a:cubicBezTo>
                  <a:pt x="5112" y="10083"/>
                  <a:pt x="5097" y="10130"/>
                  <a:pt x="5080" y="10160"/>
                </a:cubicBezTo>
                <a:cubicBezTo>
                  <a:pt x="5048" y="10216"/>
                  <a:pt x="5010" y="10216"/>
                  <a:pt x="4974" y="10245"/>
                </a:cubicBezTo>
                <a:cubicBezTo>
                  <a:pt x="4968" y="10287"/>
                  <a:pt x="4956" y="10306"/>
                  <a:pt x="4953" y="10350"/>
                </a:cubicBezTo>
                <a:cubicBezTo>
                  <a:pt x="4947" y="10428"/>
                  <a:pt x="4947" y="10450"/>
                  <a:pt x="4911" y="10520"/>
                </a:cubicBezTo>
                <a:cubicBezTo>
                  <a:pt x="4903" y="10536"/>
                  <a:pt x="4856" y="10595"/>
                  <a:pt x="4847" y="10604"/>
                </a:cubicBezTo>
                <a:cubicBezTo>
                  <a:pt x="4813" y="10641"/>
                  <a:pt x="4800" y="10635"/>
                  <a:pt x="4762" y="10668"/>
                </a:cubicBezTo>
                <a:cubicBezTo>
                  <a:pt x="4769" y="10676"/>
                  <a:pt x="4822" y="10703"/>
                  <a:pt x="4826" y="10710"/>
                </a:cubicBezTo>
                <a:cubicBezTo>
                  <a:pt x="4841" y="10735"/>
                  <a:pt x="4862" y="10808"/>
                  <a:pt x="4868" y="10837"/>
                </a:cubicBezTo>
                <a:cubicBezTo>
                  <a:pt x="4883" y="10908"/>
                  <a:pt x="4861" y="10983"/>
                  <a:pt x="4889" y="11028"/>
                </a:cubicBezTo>
                <a:cubicBezTo>
                  <a:pt x="4907" y="11058"/>
                  <a:pt x="4949" y="11089"/>
                  <a:pt x="4974" y="11112"/>
                </a:cubicBezTo>
                <a:cubicBezTo>
                  <a:pt x="5014" y="11150"/>
                  <a:pt x="5041" y="11166"/>
                  <a:pt x="5080" y="11197"/>
                </a:cubicBezTo>
                <a:cubicBezTo>
                  <a:pt x="5098" y="11211"/>
                  <a:pt x="5135" y="11243"/>
                  <a:pt x="5165" y="11261"/>
                </a:cubicBezTo>
                <a:cubicBezTo>
                  <a:pt x="5222" y="11296"/>
                  <a:pt x="5211" y="11242"/>
                  <a:pt x="5249" y="11303"/>
                </a:cubicBezTo>
                <a:cubicBezTo>
                  <a:pt x="5252" y="11308"/>
                  <a:pt x="5269" y="11402"/>
                  <a:pt x="5270" y="11409"/>
                </a:cubicBezTo>
                <a:cubicBezTo>
                  <a:pt x="5284" y="11504"/>
                  <a:pt x="5273" y="11538"/>
                  <a:pt x="5313" y="11620"/>
                </a:cubicBezTo>
                <a:cubicBezTo>
                  <a:pt x="5326" y="11646"/>
                  <a:pt x="5312" y="11671"/>
                  <a:pt x="5334" y="11684"/>
                </a:cubicBezTo>
                <a:cubicBezTo>
                  <a:pt x="5384" y="11713"/>
                  <a:pt x="5657" y="11719"/>
                  <a:pt x="5715" y="11726"/>
                </a:cubicBezTo>
                <a:cubicBezTo>
                  <a:pt x="5835" y="11741"/>
                  <a:pt x="5953" y="11736"/>
                  <a:pt x="6032" y="11663"/>
                </a:cubicBezTo>
                <a:cubicBezTo>
                  <a:pt x="6057" y="11640"/>
                  <a:pt x="6089" y="11590"/>
                  <a:pt x="6117" y="11557"/>
                </a:cubicBezTo>
                <a:cubicBezTo>
                  <a:pt x="6138" y="11533"/>
                  <a:pt x="6149" y="11509"/>
                  <a:pt x="6181" y="11472"/>
                </a:cubicBezTo>
                <a:cubicBezTo>
                  <a:pt x="6207" y="11442"/>
                  <a:pt x="6229" y="11419"/>
                  <a:pt x="6265" y="11388"/>
                </a:cubicBezTo>
                <a:cubicBezTo>
                  <a:pt x="6290" y="11367"/>
                  <a:pt x="6330" y="11349"/>
                  <a:pt x="6350" y="11324"/>
                </a:cubicBezTo>
                <a:cubicBezTo>
                  <a:pt x="6375" y="11293"/>
                  <a:pt x="6372" y="11282"/>
                  <a:pt x="6392" y="11239"/>
                </a:cubicBezTo>
                <a:cubicBezTo>
                  <a:pt x="6426" y="11225"/>
                  <a:pt x="6442" y="11207"/>
                  <a:pt x="6477" y="11197"/>
                </a:cubicBezTo>
                <a:cubicBezTo>
                  <a:pt x="6502" y="11190"/>
                  <a:pt x="6563" y="11179"/>
                  <a:pt x="6583" y="11176"/>
                </a:cubicBezTo>
                <a:cubicBezTo>
                  <a:pt x="6618" y="11176"/>
                  <a:pt x="6625" y="11176"/>
                  <a:pt x="6646" y="11176"/>
                </a:cubicBezTo>
                <a:cubicBezTo>
                  <a:pt x="6670" y="11134"/>
                  <a:pt x="6650" y="11119"/>
                  <a:pt x="6689" y="11091"/>
                </a:cubicBezTo>
                <a:cubicBezTo>
                  <a:pt x="6715" y="11072"/>
                  <a:pt x="6761" y="11049"/>
                  <a:pt x="6794" y="11049"/>
                </a:cubicBezTo>
                <a:cubicBezTo>
                  <a:pt x="6850" y="11049"/>
                  <a:pt x="6875" y="11058"/>
                  <a:pt x="6921" y="11091"/>
                </a:cubicBezTo>
                <a:cubicBezTo>
                  <a:pt x="6949" y="11111"/>
                  <a:pt x="6954" y="11157"/>
                  <a:pt x="6985" y="11176"/>
                </a:cubicBezTo>
                <a:cubicBezTo>
                  <a:pt x="7007" y="11189"/>
                  <a:pt x="7081" y="11210"/>
                  <a:pt x="7091" y="11218"/>
                </a:cubicBezTo>
                <a:cubicBezTo>
                  <a:pt x="7138" y="11255"/>
                  <a:pt x="7148" y="11315"/>
                  <a:pt x="7175" y="11345"/>
                </a:cubicBezTo>
                <a:cubicBezTo>
                  <a:pt x="7263" y="11441"/>
                  <a:pt x="7307" y="11457"/>
                  <a:pt x="7429" y="11472"/>
                </a:cubicBezTo>
                <a:cubicBezTo>
                  <a:pt x="7436" y="11472"/>
                  <a:pt x="7444" y="11472"/>
                  <a:pt x="7451" y="11472"/>
                </a:cubicBezTo>
                <a:cubicBezTo>
                  <a:pt x="7456" y="11503"/>
                  <a:pt x="7470" y="11557"/>
                  <a:pt x="7472" y="11578"/>
                </a:cubicBezTo>
                <a:cubicBezTo>
                  <a:pt x="7477" y="11641"/>
                  <a:pt x="7488" y="11716"/>
                  <a:pt x="7493" y="11769"/>
                </a:cubicBezTo>
                <a:cubicBezTo>
                  <a:pt x="7499" y="11839"/>
                  <a:pt x="7482" y="11900"/>
                  <a:pt x="7514" y="11959"/>
                </a:cubicBezTo>
                <a:cubicBezTo>
                  <a:pt x="7547" y="12020"/>
                  <a:pt x="7551" y="12007"/>
                  <a:pt x="7578" y="12044"/>
                </a:cubicBezTo>
                <a:cubicBezTo>
                  <a:pt x="7599" y="12065"/>
                  <a:pt x="7606" y="12072"/>
                  <a:pt x="7620" y="12086"/>
                </a:cubicBezTo>
              </a:path>
            </a:pathLst>
          </a:custGeom>
          <a:noFill/>
          <a:ln cap="rnd"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765000"/>
            <a:ext cx="662940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Скільки років було Данилові Романовичу під час битви на ріці Калці, у якій він брав участь, якщо з літопису відомо, що, коли загинув його батько у 1205 р., князеві було 4 роки?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25520" y="-459000"/>
            <a:ext cx="749448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Скільки років було князеві, коли він здійснив подорож до Золотої Орди в 1245 р.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88960" y="836280"/>
            <a:ext cx="725976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1. Що називають добою роздробленості Київської Русі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168720" y="1773360"/>
            <a:ext cx="5867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Її розпад на окремі князівства, які не бажали підкорятися київському князев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58920" y="2205000"/>
            <a:ext cx="68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476360" y="24782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2. Де жили половці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168720" y="2900520"/>
            <a:ext cx="586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У Причорноморських степах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47640" y="5789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5. Хто такий х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313080" y="6284880"/>
            <a:ext cx="586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Правитель у східних державах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403280" y="321480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. Де відбулась битва монгольської орди з руськими князями і половц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03640" y="4292640"/>
            <a:ext cx="381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у 1223 р. на ріці Калці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47640" y="46386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4. Хто очолював монголів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274920" y="5349960"/>
            <a:ext cx="374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Хан Бат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47280" y="909720"/>
            <a:ext cx="66963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6. В якому році монголи напали на Київ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531800"/>
            <a:ext cx="568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1240 р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58920" y="2205000"/>
            <a:ext cx="68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19280" y="1839960"/>
            <a:ext cx="75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7. Де відбулась остання битва монголів із захисниками Києва під час штурму міста 1240 р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132000" y="3213000"/>
            <a:ext cx="58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Біля стін Десятинної церкв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619280" y="54309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10. Що таке Сара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168720" y="6066000"/>
            <a:ext cx="5867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Назва міста яке було столицею Золотої Орд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619280" y="3630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8. Яку державу заснували монго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203640" y="4197240"/>
            <a:ext cx="273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Золоту Орду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619280" y="4565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9. Що таке ор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41800" y="5060880"/>
            <a:ext cx="3635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(військо кочовикі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187280" y="1846440"/>
            <a:ext cx="76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ема: Галицько-Волинська </a:t>
            </a:r>
            <a:endParaRPr b="1" i="1" lang="en-US" sz="2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ржава</a:t>
            </a:r>
            <a:endParaRPr b="1" i="1" lang="en-US" sz="2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84360" y="907920"/>
            <a:ext cx="61912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Познайомимось з історією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Галицько-Волинської держав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З такими особистостями як князі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Роман Мстиславович і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Данило Романович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З’ясуємо чи є підстави вважа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Галицько-Волинську державу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ff"/>
                </a:solidFill>
                <a:latin typeface="Comic Sans MS"/>
              </a:rPr>
              <a:t>спадкоємицею Київської Русі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59" dur="1" fill="hold"/>
                                  <p:tgtEl>
                                    <p:spTgt spid="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60" dur="1" fill="hold"/>
                                  <p:tgtEl>
                                    <p:spTgt spid="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а"/>
          <p:cNvPicPr/>
          <p:nvPr/>
        </p:nvPicPr>
        <p:blipFill>
          <a:blip r:embed="rId1">
            <a:lum contrast="18000"/>
          </a:blip>
          <a:srcRect l="0" t="1130" r="11711" b="4052"/>
          <a:stretch/>
        </p:blipFill>
        <p:spPr>
          <a:xfrm>
            <a:off x="1042920" y="331920"/>
            <a:ext cx="4700520" cy="619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6372360" y="907920"/>
            <a:ext cx="244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omic Sans MS"/>
              </a:rPr>
              <a:t>З якими державами межували Галицьке та Волинське князівства?</a:t>
            </a: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4" descr="Рисунок27"/>
          <p:cNvPicPr/>
          <p:nvPr/>
        </p:nvPicPr>
        <p:blipFill>
          <a:blip r:embed="rId2"/>
          <a:stretch/>
        </p:blipFill>
        <p:spPr>
          <a:xfrm rot="5400000">
            <a:off x="6025320" y="2623320"/>
            <a:ext cx="26208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 rot="16526400">
            <a:off x="980280" y="2224800"/>
            <a:ext cx="14364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П о л ь щ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78" name="WordArt 10"/>
          <p:cNvSpPr txBox="1"/>
          <p:nvPr/>
        </p:nvSpPr>
        <p:spPr>
          <a:xfrm rot="2599200">
            <a:off x="1042920" y="443700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У г о р щ и н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2050920" y="765000"/>
            <a:ext cx="1725840" cy="5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1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Л и т в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24360" y="620640"/>
            <a:ext cx="934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П о л о ц ь к а</a:t>
            </a:r>
            <a:endParaRPr b="0" lang="en-US" sz="18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з е м л я</a:t>
            </a:r>
            <a:endParaRPr b="0" lang="en-US" sz="1800" spc="1" strike="noStrike">
              <a:ln cap="sq"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81" name="WordArt 13"/>
          <p:cNvSpPr txBox="1"/>
          <p:nvPr/>
        </p:nvSpPr>
        <p:spPr>
          <a:xfrm rot="19705800">
            <a:off x="1176480" y="653760"/>
            <a:ext cx="93636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е в т о н с ь к и й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 д е 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WordArt 14"/>
          <p:cNvSpPr txBox="1"/>
          <p:nvPr/>
        </p:nvSpPr>
        <p:spPr>
          <a:xfrm rot="1957800">
            <a:off x="4500720" y="4149720"/>
            <a:ext cx="10810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о л о т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 д а</a:t>
            </a:r>
            <a:endParaRPr b="1" lang="en-US" sz="2400" spc="1" strike="noStrike">
              <a:ln cap="sq"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29"/>
          <p:cNvSpPr txBox="1"/>
          <p:nvPr/>
        </p:nvSpPr>
        <p:spPr>
          <a:xfrm rot="2575200">
            <a:off x="2511000" y="4359240"/>
            <a:ext cx="22939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Г а л и ц ь к а  з е м л 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WordArt 30"/>
          <p:cNvSpPr txBox="1"/>
          <p:nvPr/>
        </p:nvSpPr>
        <p:spPr>
          <a:xfrm rot="3070800">
            <a:off x="2200680" y="2559600"/>
            <a:ext cx="2293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В о л и н с ь к а   з е м л 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5" name="Ink 6"/>
          <p:cNvSpPr/>
          <p:nvPr/>
        </p:nvSpPr>
        <p:spPr>
          <a:xfrm>
            <a:off x="1058760" y="334800"/>
            <a:ext cx="1333440" cy="1044720"/>
          </a:xfrm>
          <a:custGeom>
            <a:avLst/>
            <a:gdLst/>
            <a:ahLst/>
            <a:rect l="l" t="t" r="r" b="b"/>
            <a:pathLst>
              <a:path w="3705" h="2901">
                <a:moveTo>
                  <a:pt x="2942" y="3831"/>
                </a:moveTo>
                <a:cubicBezTo>
                  <a:pt x="2991" y="3826"/>
                  <a:pt x="3027" y="3822"/>
                  <a:pt x="3069" y="3810"/>
                </a:cubicBezTo>
                <a:cubicBezTo>
                  <a:pt x="3105" y="3799"/>
                  <a:pt x="3137" y="3793"/>
                  <a:pt x="3175" y="3789"/>
                </a:cubicBezTo>
                <a:cubicBezTo>
                  <a:pt x="3240" y="3782"/>
                  <a:pt x="3288" y="3784"/>
                  <a:pt x="3344" y="3768"/>
                </a:cubicBezTo>
                <a:cubicBezTo>
                  <a:pt x="3368" y="3743"/>
                  <a:pt x="3379" y="3736"/>
                  <a:pt x="3408" y="3746"/>
                </a:cubicBezTo>
                <a:cubicBezTo>
                  <a:pt x="3436" y="3714"/>
                  <a:pt x="3438" y="3689"/>
                  <a:pt x="3471" y="3662"/>
                </a:cubicBezTo>
                <a:cubicBezTo>
                  <a:pt x="3499" y="3639"/>
                  <a:pt x="3545" y="3606"/>
                  <a:pt x="3577" y="3598"/>
                </a:cubicBezTo>
                <a:cubicBezTo>
                  <a:pt x="3623" y="3586"/>
                  <a:pt x="3678" y="3588"/>
                  <a:pt x="3725" y="3577"/>
                </a:cubicBezTo>
                <a:cubicBezTo>
                  <a:pt x="3760" y="3569"/>
                  <a:pt x="3796" y="3565"/>
                  <a:pt x="3831" y="3556"/>
                </a:cubicBezTo>
                <a:cubicBezTo>
                  <a:pt x="3868" y="3546"/>
                  <a:pt x="3902" y="3526"/>
                  <a:pt x="3937" y="3514"/>
                </a:cubicBezTo>
                <a:cubicBezTo>
                  <a:pt x="3976" y="3501"/>
                  <a:pt x="4008" y="3484"/>
                  <a:pt x="4043" y="3471"/>
                </a:cubicBezTo>
                <a:cubicBezTo>
                  <a:pt x="4097" y="3451"/>
                  <a:pt x="4112" y="3451"/>
                  <a:pt x="4170" y="3450"/>
                </a:cubicBezTo>
                <a:cubicBezTo>
                  <a:pt x="4266" y="3448"/>
                  <a:pt x="4355" y="3449"/>
                  <a:pt x="4445" y="3471"/>
                </a:cubicBezTo>
                <a:cubicBezTo>
                  <a:pt x="4480" y="3479"/>
                  <a:pt x="4523" y="3508"/>
                  <a:pt x="4551" y="3514"/>
                </a:cubicBezTo>
                <a:cubicBezTo>
                  <a:pt x="4765" y="3560"/>
                  <a:pt x="5177" y="3549"/>
                  <a:pt x="5376" y="3492"/>
                </a:cubicBezTo>
                <a:cubicBezTo>
                  <a:pt x="5430" y="3476"/>
                  <a:pt x="5475" y="3447"/>
                  <a:pt x="5524" y="3429"/>
                </a:cubicBezTo>
                <a:cubicBezTo>
                  <a:pt x="5565" y="3414"/>
                  <a:pt x="5582" y="3413"/>
                  <a:pt x="5630" y="3408"/>
                </a:cubicBezTo>
                <a:cubicBezTo>
                  <a:pt x="5760" y="3394"/>
                  <a:pt x="5886" y="3418"/>
                  <a:pt x="6011" y="3387"/>
                </a:cubicBezTo>
                <a:cubicBezTo>
                  <a:pt x="6049" y="3378"/>
                  <a:pt x="6081" y="3357"/>
                  <a:pt x="6117" y="3344"/>
                </a:cubicBezTo>
                <a:cubicBezTo>
                  <a:pt x="6162" y="3328"/>
                  <a:pt x="6188" y="3302"/>
                  <a:pt x="6223" y="3281"/>
                </a:cubicBezTo>
                <a:cubicBezTo>
                  <a:pt x="6266" y="3256"/>
                  <a:pt x="6299" y="3248"/>
                  <a:pt x="6350" y="3217"/>
                </a:cubicBezTo>
                <a:cubicBezTo>
                  <a:pt x="6374" y="3217"/>
                  <a:pt x="6383" y="3215"/>
                  <a:pt x="6392" y="3196"/>
                </a:cubicBezTo>
                <a:cubicBezTo>
                  <a:pt x="6432" y="3217"/>
                  <a:pt x="6458" y="3244"/>
                  <a:pt x="6498" y="3260"/>
                </a:cubicBezTo>
                <a:cubicBezTo>
                  <a:pt x="6533" y="3277"/>
                  <a:pt x="6538" y="3284"/>
                  <a:pt x="6562" y="3281"/>
                </a:cubicBezTo>
                <a:cubicBezTo>
                  <a:pt x="6580" y="3320"/>
                  <a:pt x="6569" y="3336"/>
                  <a:pt x="6604" y="3365"/>
                </a:cubicBezTo>
                <a:cubicBezTo>
                  <a:pt x="6618" y="3372"/>
                  <a:pt x="6632" y="3380"/>
                  <a:pt x="6646" y="3387"/>
                </a:cubicBezTo>
              </a:path>
              <a:path w="3705" h="2901">
                <a:moveTo>
                  <a:pt x="6540" y="931"/>
                </a:moveTo>
                <a:cubicBezTo>
                  <a:pt x="6511" y="969"/>
                  <a:pt x="6496" y="995"/>
                  <a:pt x="6477" y="1037"/>
                </a:cubicBezTo>
                <a:cubicBezTo>
                  <a:pt x="6437" y="1050"/>
                  <a:pt x="6414" y="1039"/>
                  <a:pt x="6371" y="1058"/>
                </a:cubicBezTo>
                <a:cubicBezTo>
                  <a:pt x="6337" y="1073"/>
                  <a:pt x="6315" y="1089"/>
                  <a:pt x="6286" y="1101"/>
                </a:cubicBezTo>
                <a:cubicBezTo>
                  <a:pt x="6262" y="1132"/>
                  <a:pt x="6253" y="1163"/>
                  <a:pt x="6223" y="1206"/>
                </a:cubicBezTo>
                <a:cubicBezTo>
                  <a:pt x="6193" y="1248"/>
                  <a:pt x="6163" y="1253"/>
                  <a:pt x="6138" y="1312"/>
                </a:cubicBezTo>
                <a:cubicBezTo>
                  <a:pt x="6123" y="1348"/>
                  <a:pt x="6126" y="1378"/>
                  <a:pt x="6117" y="1418"/>
                </a:cubicBezTo>
                <a:cubicBezTo>
                  <a:pt x="6109" y="1454"/>
                  <a:pt x="6106" y="1489"/>
                  <a:pt x="6096" y="1524"/>
                </a:cubicBezTo>
                <a:cubicBezTo>
                  <a:pt x="6086" y="1558"/>
                  <a:pt x="6066" y="1595"/>
                  <a:pt x="6054" y="1630"/>
                </a:cubicBezTo>
                <a:cubicBezTo>
                  <a:pt x="6042" y="1666"/>
                  <a:pt x="6017" y="1730"/>
                  <a:pt x="5990" y="1757"/>
                </a:cubicBezTo>
                <a:cubicBezTo>
                  <a:pt x="5983" y="1757"/>
                  <a:pt x="5976" y="1757"/>
                  <a:pt x="5969" y="1757"/>
                </a:cubicBezTo>
                <a:cubicBezTo>
                  <a:pt x="5935" y="1790"/>
                  <a:pt x="5938" y="1802"/>
                  <a:pt x="5884" y="1841"/>
                </a:cubicBezTo>
                <a:cubicBezTo>
                  <a:pt x="5865" y="1861"/>
                  <a:pt x="5861" y="1868"/>
                  <a:pt x="5842" y="1863"/>
                </a:cubicBezTo>
                <a:cubicBezTo>
                  <a:pt x="5834" y="1868"/>
                  <a:pt x="5808" y="1900"/>
                  <a:pt x="5800" y="1905"/>
                </a:cubicBezTo>
                <a:cubicBezTo>
                  <a:pt x="5737" y="1922"/>
                  <a:pt x="5733" y="1900"/>
                  <a:pt x="5694" y="1968"/>
                </a:cubicBezTo>
                <a:cubicBezTo>
                  <a:pt x="5681" y="1991"/>
                  <a:pt x="5662" y="2019"/>
                  <a:pt x="5651" y="2032"/>
                </a:cubicBezTo>
                <a:cubicBezTo>
                  <a:pt x="5638" y="2064"/>
                  <a:pt x="5596" y="2122"/>
                  <a:pt x="5588" y="2159"/>
                </a:cubicBezTo>
                <a:cubicBezTo>
                  <a:pt x="5579" y="2201"/>
                  <a:pt x="5571" y="2273"/>
                  <a:pt x="5567" y="2307"/>
                </a:cubicBezTo>
                <a:cubicBezTo>
                  <a:pt x="5557" y="2396"/>
                  <a:pt x="5554" y="2504"/>
                  <a:pt x="5546" y="2582"/>
                </a:cubicBezTo>
                <a:cubicBezTo>
                  <a:pt x="5539" y="2652"/>
                  <a:pt x="5540" y="2713"/>
                  <a:pt x="5524" y="2773"/>
                </a:cubicBezTo>
                <a:cubicBezTo>
                  <a:pt x="5511" y="2822"/>
                  <a:pt x="5504" y="2850"/>
                  <a:pt x="5482" y="2900"/>
                </a:cubicBezTo>
                <a:cubicBezTo>
                  <a:pt x="5467" y="2934"/>
                  <a:pt x="5445" y="2974"/>
                  <a:pt x="5419" y="3006"/>
                </a:cubicBezTo>
                <a:cubicBezTo>
                  <a:pt x="5393" y="3038"/>
                  <a:pt x="5358" y="3054"/>
                  <a:pt x="5334" y="3090"/>
                </a:cubicBezTo>
                <a:cubicBezTo>
                  <a:pt x="5301" y="3140"/>
                  <a:pt x="5272" y="3209"/>
                  <a:pt x="5249" y="3260"/>
                </a:cubicBezTo>
                <a:cubicBezTo>
                  <a:pt x="5227" y="3279"/>
                  <a:pt x="5173" y="3304"/>
                  <a:pt x="5143" y="3344"/>
                </a:cubicBezTo>
                <a:cubicBezTo>
                  <a:pt x="5125" y="3368"/>
                  <a:pt x="5126" y="3434"/>
                  <a:pt x="5080" y="3429"/>
                </a:cubicBezTo>
                <a:cubicBezTo>
                  <a:pt x="5080" y="3415"/>
                  <a:pt x="5080" y="3401"/>
                  <a:pt x="5080" y="3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Ink 7"/>
          <p:cNvSpPr/>
          <p:nvPr/>
        </p:nvSpPr>
        <p:spPr>
          <a:xfrm>
            <a:off x="3505320" y="351000"/>
            <a:ext cx="1562040" cy="1295280"/>
          </a:xfrm>
          <a:custGeom>
            <a:avLst/>
            <a:gdLst/>
            <a:ahLst/>
            <a:rect l="l" t="t" r="r" b="b"/>
            <a:pathLst>
              <a:path w="4340" h="3599">
                <a:moveTo>
                  <a:pt x="10880" y="995"/>
                </a:moveTo>
                <a:cubicBezTo>
                  <a:pt x="10857" y="1045"/>
                  <a:pt x="10835" y="1062"/>
                  <a:pt x="10816" y="1101"/>
                </a:cubicBezTo>
                <a:cubicBezTo>
                  <a:pt x="10816" y="1108"/>
                  <a:pt x="10816" y="1115"/>
                  <a:pt x="10816" y="1122"/>
                </a:cubicBezTo>
                <a:cubicBezTo>
                  <a:pt x="10751" y="1141"/>
                  <a:pt x="10766" y="1108"/>
                  <a:pt x="10731" y="1164"/>
                </a:cubicBezTo>
                <a:cubicBezTo>
                  <a:pt x="10714" y="1192"/>
                  <a:pt x="10715" y="1236"/>
                  <a:pt x="10710" y="1270"/>
                </a:cubicBezTo>
                <a:cubicBezTo>
                  <a:pt x="10688" y="1431"/>
                  <a:pt x="10733" y="1607"/>
                  <a:pt x="10689" y="1757"/>
                </a:cubicBezTo>
                <a:cubicBezTo>
                  <a:pt x="10679" y="1792"/>
                  <a:pt x="10652" y="1846"/>
                  <a:pt x="10647" y="1884"/>
                </a:cubicBezTo>
                <a:cubicBezTo>
                  <a:pt x="10637" y="1967"/>
                  <a:pt x="10646" y="2043"/>
                  <a:pt x="10626" y="2117"/>
                </a:cubicBezTo>
                <a:cubicBezTo>
                  <a:pt x="10613" y="2166"/>
                  <a:pt x="10605" y="2194"/>
                  <a:pt x="10583" y="2244"/>
                </a:cubicBezTo>
                <a:cubicBezTo>
                  <a:pt x="10569" y="2277"/>
                  <a:pt x="10554" y="2312"/>
                  <a:pt x="10541" y="2349"/>
                </a:cubicBezTo>
                <a:cubicBezTo>
                  <a:pt x="10530" y="2379"/>
                  <a:pt x="10533" y="2427"/>
                  <a:pt x="10520" y="2455"/>
                </a:cubicBezTo>
                <a:cubicBezTo>
                  <a:pt x="10496" y="2507"/>
                  <a:pt x="10474" y="2533"/>
                  <a:pt x="10456" y="2582"/>
                </a:cubicBezTo>
                <a:cubicBezTo>
                  <a:pt x="10441" y="2622"/>
                  <a:pt x="10443" y="2642"/>
                  <a:pt x="10435" y="2688"/>
                </a:cubicBezTo>
                <a:cubicBezTo>
                  <a:pt x="10428" y="2726"/>
                  <a:pt x="10410" y="2760"/>
                  <a:pt x="10393" y="2794"/>
                </a:cubicBezTo>
                <a:cubicBezTo>
                  <a:pt x="10374" y="2832"/>
                  <a:pt x="10363" y="2862"/>
                  <a:pt x="10350" y="2900"/>
                </a:cubicBezTo>
                <a:cubicBezTo>
                  <a:pt x="10335" y="2944"/>
                  <a:pt x="10316" y="2990"/>
                  <a:pt x="10287" y="3027"/>
                </a:cubicBezTo>
                <a:cubicBezTo>
                  <a:pt x="10265" y="3056"/>
                  <a:pt x="10247" y="3089"/>
                  <a:pt x="10223" y="3111"/>
                </a:cubicBezTo>
                <a:cubicBezTo>
                  <a:pt x="10216" y="3111"/>
                  <a:pt x="10209" y="3111"/>
                  <a:pt x="10202" y="3111"/>
                </a:cubicBezTo>
                <a:cubicBezTo>
                  <a:pt x="10184" y="3133"/>
                  <a:pt x="10156" y="3178"/>
                  <a:pt x="10139" y="3196"/>
                </a:cubicBezTo>
                <a:cubicBezTo>
                  <a:pt x="10106" y="3230"/>
                  <a:pt x="10088" y="3254"/>
                  <a:pt x="10054" y="3281"/>
                </a:cubicBezTo>
                <a:cubicBezTo>
                  <a:pt x="10018" y="3309"/>
                  <a:pt x="9970" y="3331"/>
                  <a:pt x="9927" y="3344"/>
                </a:cubicBezTo>
                <a:cubicBezTo>
                  <a:pt x="9889" y="3356"/>
                  <a:pt x="9869" y="3362"/>
                  <a:pt x="9821" y="3365"/>
                </a:cubicBezTo>
                <a:cubicBezTo>
                  <a:pt x="9793" y="3367"/>
                  <a:pt x="9765" y="3365"/>
                  <a:pt x="9737" y="3365"/>
                </a:cubicBezTo>
              </a:path>
              <a:path w="4340" h="3599">
                <a:moveTo>
                  <a:pt x="14076" y="974"/>
                </a:moveTo>
                <a:cubicBezTo>
                  <a:pt x="14050" y="1016"/>
                  <a:pt x="14002" y="1054"/>
                  <a:pt x="13991" y="1101"/>
                </a:cubicBezTo>
                <a:cubicBezTo>
                  <a:pt x="13979" y="1150"/>
                  <a:pt x="13973" y="1250"/>
                  <a:pt x="13970" y="1291"/>
                </a:cubicBezTo>
                <a:cubicBezTo>
                  <a:pt x="13965" y="1348"/>
                  <a:pt x="13972" y="1364"/>
                  <a:pt x="13949" y="1418"/>
                </a:cubicBezTo>
                <a:cubicBezTo>
                  <a:pt x="13934" y="1453"/>
                  <a:pt x="13902" y="1488"/>
                  <a:pt x="13885" y="1524"/>
                </a:cubicBezTo>
                <a:cubicBezTo>
                  <a:pt x="13872" y="1551"/>
                  <a:pt x="13854" y="1573"/>
                  <a:pt x="13843" y="1587"/>
                </a:cubicBezTo>
                <a:cubicBezTo>
                  <a:pt x="13815" y="1624"/>
                  <a:pt x="13809" y="1641"/>
                  <a:pt x="13779" y="1693"/>
                </a:cubicBezTo>
                <a:cubicBezTo>
                  <a:pt x="13756" y="1733"/>
                  <a:pt x="13750" y="1759"/>
                  <a:pt x="13737" y="1799"/>
                </a:cubicBezTo>
                <a:cubicBezTo>
                  <a:pt x="13721" y="1849"/>
                  <a:pt x="13709" y="1897"/>
                  <a:pt x="13695" y="1947"/>
                </a:cubicBezTo>
                <a:cubicBezTo>
                  <a:pt x="13683" y="1993"/>
                  <a:pt x="13648" y="2031"/>
                  <a:pt x="13631" y="2074"/>
                </a:cubicBezTo>
                <a:cubicBezTo>
                  <a:pt x="13611" y="2124"/>
                  <a:pt x="13603" y="2152"/>
                  <a:pt x="13589" y="2201"/>
                </a:cubicBezTo>
                <a:cubicBezTo>
                  <a:pt x="13580" y="2235"/>
                  <a:pt x="13576" y="2273"/>
                  <a:pt x="13568" y="2307"/>
                </a:cubicBezTo>
                <a:cubicBezTo>
                  <a:pt x="13557" y="2354"/>
                  <a:pt x="13538" y="2374"/>
                  <a:pt x="13525" y="2413"/>
                </a:cubicBezTo>
                <a:cubicBezTo>
                  <a:pt x="13516" y="2438"/>
                  <a:pt x="13507" y="2494"/>
                  <a:pt x="13504" y="2519"/>
                </a:cubicBezTo>
                <a:cubicBezTo>
                  <a:pt x="13497" y="2571"/>
                  <a:pt x="13486" y="2647"/>
                  <a:pt x="13483" y="2688"/>
                </a:cubicBezTo>
                <a:cubicBezTo>
                  <a:pt x="13477" y="2755"/>
                  <a:pt x="13450" y="2753"/>
                  <a:pt x="13441" y="2794"/>
                </a:cubicBezTo>
                <a:cubicBezTo>
                  <a:pt x="13429" y="2848"/>
                  <a:pt x="13431" y="2915"/>
                  <a:pt x="13420" y="2963"/>
                </a:cubicBezTo>
                <a:cubicBezTo>
                  <a:pt x="13410" y="3009"/>
                  <a:pt x="13385" y="3046"/>
                  <a:pt x="13377" y="3090"/>
                </a:cubicBezTo>
                <a:cubicBezTo>
                  <a:pt x="13367" y="3142"/>
                  <a:pt x="13369" y="3192"/>
                  <a:pt x="13356" y="3238"/>
                </a:cubicBezTo>
                <a:cubicBezTo>
                  <a:pt x="13341" y="3293"/>
                  <a:pt x="13338" y="3307"/>
                  <a:pt x="13335" y="3365"/>
                </a:cubicBezTo>
                <a:cubicBezTo>
                  <a:pt x="13332" y="3416"/>
                  <a:pt x="13317" y="3475"/>
                  <a:pt x="13314" y="3514"/>
                </a:cubicBezTo>
                <a:cubicBezTo>
                  <a:pt x="13309" y="3575"/>
                  <a:pt x="13297" y="3654"/>
                  <a:pt x="13293" y="3704"/>
                </a:cubicBezTo>
                <a:cubicBezTo>
                  <a:pt x="13279" y="3884"/>
                  <a:pt x="13385" y="4347"/>
                  <a:pt x="13271" y="4487"/>
                </a:cubicBezTo>
                <a:cubicBezTo>
                  <a:pt x="13241" y="4523"/>
                  <a:pt x="13186" y="4555"/>
                  <a:pt x="13166" y="45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Ink 8"/>
          <p:cNvSpPr/>
          <p:nvPr/>
        </p:nvSpPr>
        <p:spPr>
          <a:xfrm>
            <a:off x="3603600" y="1477800"/>
            <a:ext cx="2173320" cy="2286000"/>
          </a:xfrm>
          <a:custGeom>
            <a:avLst/>
            <a:gdLst/>
            <a:ahLst/>
            <a:rect l="l" t="t" r="r" b="b"/>
            <a:pathLst>
              <a:path w="6033" h="6351">
                <a:moveTo>
                  <a:pt x="10181" y="4106"/>
                </a:moveTo>
                <a:cubicBezTo>
                  <a:pt x="10205" y="4118"/>
                  <a:pt x="10251" y="4143"/>
                  <a:pt x="10266" y="4149"/>
                </a:cubicBezTo>
                <a:cubicBezTo>
                  <a:pt x="10288" y="4159"/>
                  <a:pt x="10303" y="4156"/>
                  <a:pt x="10329" y="4170"/>
                </a:cubicBezTo>
                <a:cubicBezTo>
                  <a:pt x="10404" y="4211"/>
                  <a:pt x="10379" y="4208"/>
                  <a:pt x="10456" y="4191"/>
                </a:cubicBezTo>
                <a:cubicBezTo>
                  <a:pt x="10489" y="4184"/>
                  <a:pt x="10530" y="4137"/>
                  <a:pt x="10562" y="4127"/>
                </a:cubicBezTo>
                <a:cubicBezTo>
                  <a:pt x="10605" y="4113"/>
                  <a:pt x="10639" y="4109"/>
                  <a:pt x="10689" y="4106"/>
                </a:cubicBezTo>
                <a:cubicBezTo>
                  <a:pt x="10822" y="4098"/>
                  <a:pt x="10958" y="4106"/>
                  <a:pt x="11091" y="4106"/>
                </a:cubicBezTo>
                <a:cubicBezTo>
                  <a:pt x="11110" y="4117"/>
                  <a:pt x="11153" y="4177"/>
                  <a:pt x="11197" y="4191"/>
                </a:cubicBezTo>
                <a:cubicBezTo>
                  <a:pt x="11217" y="4197"/>
                  <a:pt x="11287" y="4210"/>
                  <a:pt x="11303" y="4212"/>
                </a:cubicBezTo>
                <a:cubicBezTo>
                  <a:pt x="11458" y="4229"/>
                  <a:pt x="11624" y="4210"/>
                  <a:pt x="11769" y="4233"/>
                </a:cubicBezTo>
                <a:cubicBezTo>
                  <a:pt x="11797" y="4237"/>
                  <a:pt x="11824" y="4246"/>
                  <a:pt x="11853" y="4254"/>
                </a:cubicBezTo>
                <a:cubicBezTo>
                  <a:pt x="11905" y="4269"/>
                  <a:pt x="11887" y="4270"/>
                  <a:pt x="11938" y="4276"/>
                </a:cubicBezTo>
                <a:cubicBezTo>
                  <a:pt x="12060" y="4291"/>
                  <a:pt x="12187" y="4261"/>
                  <a:pt x="12298" y="4297"/>
                </a:cubicBezTo>
                <a:cubicBezTo>
                  <a:pt x="12342" y="4311"/>
                  <a:pt x="12378" y="4338"/>
                  <a:pt x="12425" y="4360"/>
                </a:cubicBezTo>
                <a:cubicBezTo>
                  <a:pt x="12457" y="4375"/>
                  <a:pt x="12493" y="4395"/>
                  <a:pt x="12531" y="4403"/>
                </a:cubicBezTo>
                <a:cubicBezTo>
                  <a:pt x="12667" y="4430"/>
                  <a:pt x="12836" y="4403"/>
                  <a:pt x="12975" y="4403"/>
                </a:cubicBezTo>
                <a:cubicBezTo>
                  <a:pt x="12987" y="4409"/>
                  <a:pt x="13039" y="4448"/>
                  <a:pt x="13081" y="4466"/>
                </a:cubicBezTo>
                <a:cubicBezTo>
                  <a:pt x="13138" y="4490"/>
                  <a:pt x="13123" y="4465"/>
                  <a:pt x="13166" y="4508"/>
                </a:cubicBezTo>
                <a:cubicBezTo>
                  <a:pt x="13196" y="4538"/>
                  <a:pt x="13182" y="4557"/>
                  <a:pt x="13229" y="4593"/>
                </a:cubicBezTo>
                <a:cubicBezTo>
                  <a:pt x="13243" y="4604"/>
                  <a:pt x="13316" y="4652"/>
                  <a:pt x="13335" y="4657"/>
                </a:cubicBezTo>
                <a:cubicBezTo>
                  <a:pt x="13388" y="4671"/>
                  <a:pt x="13440" y="4645"/>
                  <a:pt x="13483" y="4635"/>
                </a:cubicBezTo>
                <a:cubicBezTo>
                  <a:pt x="13528" y="4625"/>
                  <a:pt x="13568" y="4621"/>
                  <a:pt x="13610" y="4593"/>
                </a:cubicBezTo>
                <a:cubicBezTo>
                  <a:pt x="13644" y="4571"/>
                  <a:pt x="13661" y="4542"/>
                  <a:pt x="13695" y="4530"/>
                </a:cubicBezTo>
                <a:cubicBezTo>
                  <a:pt x="13735" y="4516"/>
                  <a:pt x="13776" y="4504"/>
                  <a:pt x="13822" y="4508"/>
                </a:cubicBezTo>
                <a:cubicBezTo>
                  <a:pt x="13870" y="4512"/>
                  <a:pt x="13887" y="4534"/>
                  <a:pt x="13928" y="4551"/>
                </a:cubicBezTo>
                <a:cubicBezTo>
                  <a:pt x="13960" y="4564"/>
                  <a:pt x="14000" y="4587"/>
                  <a:pt x="14033" y="4593"/>
                </a:cubicBezTo>
                <a:cubicBezTo>
                  <a:pt x="14105" y="4607"/>
                  <a:pt x="14254" y="4609"/>
                  <a:pt x="14309" y="4572"/>
                </a:cubicBezTo>
                <a:cubicBezTo>
                  <a:pt x="14350" y="4545"/>
                  <a:pt x="14340" y="4503"/>
                  <a:pt x="14393" y="4487"/>
                </a:cubicBezTo>
                <a:cubicBezTo>
                  <a:pt x="14423" y="4478"/>
                  <a:pt x="14537" y="4465"/>
                  <a:pt x="14563" y="4466"/>
                </a:cubicBezTo>
                <a:cubicBezTo>
                  <a:pt x="14600" y="4467"/>
                  <a:pt x="14644" y="4486"/>
                  <a:pt x="14668" y="4487"/>
                </a:cubicBezTo>
                <a:cubicBezTo>
                  <a:pt x="14746" y="4490"/>
                  <a:pt x="14831" y="4491"/>
                  <a:pt x="14880" y="4508"/>
                </a:cubicBezTo>
                <a:cubicBezTo>
                  <a:pt x="14925" y="4524"/>
                  <a:pt x="14950" y="4540"/>
                  <a:pt x="14986" y="4551"/>
                </a:cubicBezTo>
                <a:cubicBezTo>
                  <a:pt x="15022" y="4562"/>
                  <a:pt x="15054" y="4568"/>
                  <a:pt x="15092" y="4572"/>
                </a:cubicBezTo>
                <a:cubicBezTo>
                  <a:pt x="15205" y="4585"/>
                  <a:pt x="15323" y="4569"/>
                  <a:pt x="15430" y="4551"/>
                </a:cubicBezTo>
                <a:cubicBezTo>
                  <a:pt x="15472" y="4544"/>
                  <a:pt x="15517" y="4534"/>
                  <a:pt x="15557" y="4530"/>
                </a:cubicBezTo>
                <a:cubicBezTo>
                  <a:pt x="15706" y="4517"/>
                  <a:pt x="15871" y="4565"/>
                  <a:pt x="16002" y="4487"/>
                </a:cubicBezTo>
                <a:cubicBezTo>
                  <a:pt x="16023" y="4466"/>
                  <a:pt x="16030" y="4459"/>
                  <a:pt x="16044" y="4445"/>
                </a:cubicBezTo>
                <a:cubicBezTo>
                  <a:pt x="16004" y="4435"/>
                  <a:pt x="15997" y="4429"/>
                  <a:pt x="15960" y="4424"/>
                </a:cubicBezTo>
              </a:path>
              <a:path w="6033" h="6351">
                <a:moveTo>
                  <a:pt x="10012" y="4699"/>
                </a:moveTo>
                <a:cubicBezTo>
                  <a:pt x="10027" y="4731"/>
                  <a:pt x="10018" y="4742"/>
                  <a:pt x="10033" y="4762"/>
                </a:cubicBezTo>
                <a:cubicBezTo>
                  <a:pt x="10055" y="4792"/>
                  <a:pt x="10060" y="4788"/>
                  <a:pt x="10096" y="4826"/>
                </a:cubicBezTo>
                <a:cubicBezTo>
                  <a:pt x="10118" y="4850"/>
                  <a:pt x="10149" y="4876"/>
                  <a:pt x="10160" y="4889"/>
                </a:cubicBezTo>
                <a:cubicBezTo>
                  <a:pt x="10186" y="4920"/>
                  <a:pt x="10205" y="4938"/>
                  <a:pt x="10223" y="4974"/>
                </a:cubicBezTo>
                <a:cubicBezTo>
                  <a:pt x="10242" y="5012"/>
                  <a:pt x="10262" y="5017"/>
                  <a:pt x="10266" y="5059"/>
                </a:cubicBezTo>
                <a:cubicBezTo>
                  <a:pt x="10270" y="5098"/>
                  <a:pt x="10226" y="5131"/>
                  <a:pt x="10245" y="5165"/>
                </a:cubicBezTo>
                <a:cubicBezTo>
                  <a:pt x="10252" y="5178"/>
                  <a:pt x="10306" y="5214"/>
                  <a:pt x="10329" y="5228"/>
                </a:cubicBezTo>
                <a:cubicBezTo>
                  <a:pt x="10353" y="5242"/>
                  <a:pt x="10384" y="5231"/>
                  <a:pt x="10414" y="5249"/>
                </a:cubicBezTo>
                <a:cubicBezTo>
                  <a:pt x="10446" y="5268"/>
                  <a:pt x="10460" y="5294"/>
                  <a:pt x="10499" y="5313"/>
                </a:cubicBezTo>
                <a:cubicBezTo>
                  <a:pt x="10541" y="5333"/>
                  <a:pt x="10571" y="5338"/>
                  <a:pt x="10604" y="5355"/>
                </a:cubicBezTo>
                <a:cubicBezTo>
                  <a:pt x="10636" y="5371"/>
                  <a:pt x="10659" y="5382"/>
                  <a:pt x="10689" y="5397"/>
                </a:cubicBezTo>
                <a:cubicBezTo>
                  <a:pt x="10734" y="5419"/>
                  <a:pt x="10744" y="5425"/>
                  <a:pt x="10795" y="5440"/>
                </a:cubicBezTo>
                <a:cubicBezTo>
                  <a:pt x="10845" y="5455"/>
                  <a:pt x="10884" y="5459"/>
                  <a:pt x="10943" y="5461"/>
                </a:cubicBezTo>
                <a:cubicBezTo>
                  <a:pt x="11008" y="5464"/>
                  <a:pt x="11054" y="5473"/>
                  <a:pt x="11112" y="5482"/>
                </a:cubicBezTo>
                <a:cubicBezTo>
                  <a:pt x="11144" y="5487"/>
                  <a:pt x="11163" y="5497"/>
                  <a:pt x="11197" y="5503"/>
                </a:cubicBezTo>
                <a:cubicBezTo>
                  <a:pt x="11244" y="5511"/>
                  <a:pt x="11275" y="5515"/>
                  <a:pt x="11324" y="5524"/>
                </a:cubicBezTo>
                <a:cubicBezTo>
                  <a:pt x="11351" y="5529"/>
                  <a:pt x="11395" y="5539"/>
                  <a:pt x="11430" y="5546"/>
                </a:cubicBezTo>
                <a:cubicBezTo>
                  <a:pt x="11494" y="5559"/>
                  <a:pt x="11540" y="5556"/>
                  <a:pt x="11599" y="5588"/>
                </a:cubicBezTo>
                <a:cubicBezTo>
                  <a:pt x="11637" y="5609"/>
                  <a:pt x="11681" y="5678"/>
                  <a:pt x="11705" y="5694"/>
                </a:cubicBezTo>
                <a:cubicBezTo>
                  <a:pt x="11723" y="5706"/>
                  <a:pt x="11772" y="5698"/>
                  <a:pt x="11790" y="5715"/>
                </a:cubicBezTo>
                <a:cubicBezTo>
                  <a:pt x="11816" y="5739"/>
                  <a:pt x="11824" y="5744"/>
                  <a:pt x="11832" y="5778"/>
                </a:cubicBezTo>
                <a:cubicBezTo>
                  <a:pt x="11841" y="5816"/>
                  <a:pt x="11828" y="5866"/>
                  <a:pt x="11832" y="5905"/>
                </a:cubicBezTo>
                <a:cubicBezTo>
                  <a:pt x="11915" y="5909"/>
                  <a:pt x="11986" y="5914"/>
                  <a:pt x="12065" y="5927"/>
                </a:cubicBezTo>
                <a:cubicBezTo>
                  <a:pt x="12127" y="5937"/>
                  <a:pt x="12190" y="5940"/>
                  <a:pt x="12255" y="5948"/>
                </a:cubicBezTo>
                <a:cubicBezTo>
                  <a:pt x="12304" y="5954"/>
                  <a:pt x="12358" y="5966"/>
                  <a:pt x="12404" y="5969"/>
                </a:cubicBezTo>
                <a:cubicBezTo>
                  <a:pt x="12578" y="5981"/>
                  <a:pt x="12771" y="5980"/>
                  <a:pt x="12933" y="5990"/>
                </a:cubicBezTo>
                <a:cubicBezTo>
                  <a:pt x="12982" y="5993"/>
                  <a:pt x="13043" y="6008"/>
                  <a:pt x="13081" y="6011"/>
                </a:cubicBezTo>
                <a:cubicBezTo>
                  <a:pt x="13152" y="6017"/>
                  <a:pt x="13209" y="6010"/>
                  <a:pt x="13271" y="6032"/>
                </a:cubicBezTo>
                <a:cubicBezTo>
                  <a:pt x="13341" y="6057"/>
                  <a:pt x="13311" y="6030"/>
                  <a:pt x="13356" y="6075"/>
                </a:cubicBezTo>
                <a:cubicBezTo>
                  <a:pt x="13379" y="6098"/>
                  <a:pt x="13373" y="6153"/>
                  <a:pt x="13420" y="6181"/>
                </a:cubicBezTo>
                <a:cubicBezTo>
                  <a:pt x="13466" y="6208"/>
                  <a:pt x="13496" y="6191"/>
                  <a:pt x="13547" y="6202"/>
                </a:cubicBezTo>
                <a:cubicBezTo>
                  <a:pt x="13556" y="6271"/>
                  <a:pt x="13572" y="6276"/>
                  <a:pt x="13589" y="6308"/>
                </a:cubicBezTo>
                <a:cubicBezTo>
                  <a:pt x="13599" y="6363"/>
                  <a:pt x="13606" y="6339"/>
                  <a:pt x="13610" y="6392"/>
                </a:cubicBezTo>
                <a:cubicBezTo>
                  <a:pt x="13616" y="6461"/>
                  <a:pt x="13593" y="6527"/>
                  <a:pt x="13589" y="6583"/>
                </a:cubicBezTo>
                <a:cubicBezTo>
                  <a:pt x="13584" y="6654"/>
                  <a:pt x="13552" y="6736"/>
                  <a:pt x="13547" y="6773"/>
                </a:cubicBezTo>
                <a:cubicBezTo>
                  <a:pt x="13542" y="6808"/>
                  <a:pt x="13551" y="6844"/>
                  <a:pt x="13547" y="6879"/>
                </a:cubicBezTo>
                <a:cubicBezTo>
                  <a:pt x="13508" y="6863"/>
                  <a:pt x="13454" y="6921"/>
                  <a:pt x="13462" y="6879"/>
                </a:cubicBezTo>
                <a:cubicBezTo>
                  <a:pt x="13492" y="6721"/>
                  <a:pt x="13408" y="7030"/>
                  <a:pt x="13525" y="6816"/>
                </a:cubicBezTo>
                <a:cubicBezTo>
                  <a:pt x="13480" y="6816"/>
                  <a:pt x="13542" y="6841"/>
                  <a:pt x="13504" y="6816"/>
                </a:cubicBezTo>
                <a:cubicBezTo>
                  <a:pt x="13530" y="6836"/>
                  <a:pt x="13559" y="6855"/>
                  <a:pt x="13589" y="6879"/>
                </a:cubicBezTo>
                <a:cubicBezTo>
                  <a:pt x="13596" y="6886"/>
                  <a:pt x="13603" y="6893"/>
                  <a:pt x="13610" y="6900"/>
                </a:cubicBezTo>
                <a:cubicBezTo>
                  <a:pt x="13610" y="6951"/>
                  <a:pt x="13591" y="6947"/>
                  <a:pt x="13610" y="6900"/>
                </a:cubicBezTo>
                <a:cubicBezTo>
                  <a:pt x="13610" y="6879"/>
                  <a:pt x="13610" y="6872"/>
                  <a:pt x="13610" y="6858"/>
                </a:cubicBezTo>
                <a:cubicBezTo>
                  <a:pt x="13625" y="6891"/>
                  <a:pt x="13639" y="6860"/>
                  <a:pt x="13652" y="6921"/>
                </a:cubicBezTo>
                <a:cubicBezTo>
                  <a:pt x="13652" y="6921"/>
                  <a:pt x="13650" y="6970"/>
                  <a:pt x="13652" y="7006"/>
                </a:cubicBezTo>
                <a:cubicBezTo>
                  <a:pt x="13659" y="7171"/>
                  <a:pt x="13653" y="7335"/>
                  <a:pt x="13674" y="7493"/>
                </a:cubicBezTo>
                <a:cubicBezTo>
                  <a:pt x="13662" y="7522"/>
                  <a:pt x="13649" y="7512"/>
                  <a:pt x="13631" y="7578"/>
                </a:cubicBezTo>
                <a:cubicBezTo>
                  <a:pt x="13631" y="7599"/>
                  <a:pt x="13631" y="7606"/>
                  <a:pt x="13631" y="7620"/>
                </a:cubicBezTo>
              </a:path>
              <a:path w="6033" h="6351">
                <a:moveTo>
                  <a:pt x="13822" y="8615"/>
                </a:moveTo>
                <a:cubicBezTo>
                  <a:pt x="13829" y="8615"/>
                  <a:pt x="13836" y="8615"/>
                  <a:pt x="13843" y="8615"/>
                </a:cubicBezTo>
                <a:cubicBezTo>
                  <a:pt x="13845" y="8646"/>
                  <a:pt x="13861" y="8677"/>
                  <a:pt x="13864" y="8699"/>
                </a:cubicBezTo>
                <a:cubicBezTo>
                  <a:pt x="13874" y="8785"/>
                  <a:pt x="13878" y="8766"/>
                  <a:pt x="13906" y="8826"/>
                </a:cubicBezTo>
                <a:cubicBezTo>
                  <a:pt x="13925" y="8868"/>
                  <a:pt x="13950" y="8886"/>
                  <a:pt x="13970" y="8911"/>
                </a:cubicBezTo>
                <a:cubicBezTo>
                  <a:pt x="13995" y="8942"/>
                  <a:pt x="14008" y="8969"/>
                  <a:pt x="14033" y="8996"/>
                </a:cubicBezTo>
                <a:cubicBezTo>
                  <a:pt x="14059" y="9024"/>
                  <a:pt x="14082" y="9051"/>
                  <a:pt x="14097" y="9080"/>
                </a:cubicBezTo>
                <a:cubicBezTo>
                  <a:pt x="14120" y="9122"/>
                  <a:pt x="14138" y="9128"/>
                  <a:pt x="14160" y="9165"/>
                </a:cubicBezTo>
                <a:cubicBezTo>
                  <a:pt x="14183" y="9204"/>
                  <a:pt x="14197" y="9230"/>
                  <a:pt x="14224" y="9271"/>
                </a:cubicBezTo>
                <a:cubicBezTo>
                  <a:pt x="14236" y="9289"/>
                  <a:pt x="14306" y="9368"/>
                  <a:pt x="14309" y="9377"/>
                </a:cubicBezTo>
                <a:cubicBezTo>
                  <a:pt x="14326" y="9427"/>
                  <a:pt x="14304" y="9443"/>
                  <a:pt x="14351" y="9483"/>
                </a:cubicBezTo>
                <a:cubicBezTo>
                  <a:pt x="14390" y="9516"/>
                  <a:pt x="14423" y="9515"/>
                  <a:pt x="14457" y="9546"/>
                </a:cubicBezTo>
                <a:cubicBezTo>
                  <a:pt x="14457" y="9553"/>
                  <a:pt x="14457" y="9560"/>
                  <a:pt x="14457" y="9567"/>
                </a:cubicBezTo>
                <a:cubicBezTo>
                  <a:pt x="14489" y="9577"/>
                  <a:pt x="14528" y="9604"/>
                  <a:pt x="14541" y="9610"/>
                </a:cubicBezTo>
                <a:cubicBezTo>
                  <a:pt x="14548" y="9610"/>
                  <a:pt x="14556" y="9610"/>
                  <a:pt x="14563" y="9610"/>
                </a:cubicBezTo>
                <a:cubicBezTo>
                  <a:pt x="14553" y="9650"/>
                  <a:pt x="14546" y="9642"/>
                  <a:pt x="14541" y="9694"/>
                </a:cubicBezTo>
                <a:cubicBezTo>
                  <a:pt x="14574" y="9724"/>
                  <a:pt x="14596" y="9729"/>
                  <a:pt x="14626" y="9779"/>
                </a:cubicBezTo>
                <a:cubicBezTo>
                  <a:pt x="14643" y="9807"/>
                  <a:pt x="14675" y="9846"/>
                  <a:pt x="14690" y="9864"/>
                </a:cubicBezTo>
                <a:cubicBezTo>
                  <a:pt x="14702" y="9928"/>
                  <a:pt x="14700" y="9920"/>
                  <a:pt x="14732" y="9969"/>
                </a:cubicBezTo>
                <a:cubicBezTo>
                  <a:pt x="14761" y="10012"/>
                  <a:pt x="14781" y="10025"/>
                  <a:pt x="14817" y="10054"/>
                </a:cubicBezTo>
                <a:cubicBezTo>
                  <a:pt x="14896" y="10118"/>
                  <a:pt x="14864" y="10065"/>
                  <a:pt x="14944" y="10096"/>
                </a:cubicBezTo>
                <a:cubicBezTo>
                  <a:pt x="14975" y="10108"/>
                  <a:pt x="15017" y="10126"/>
                  <a:pt x="15049" y="10139"/>
                </a:cubicBezTo>
                <a:cubicBezTo>
                  <a:pt x="15100" y="10161"/>
                  <a:pt x="15129" y="10164"/>
                  <a:pt x="15176" y="10181"/>
                </a:cubicBezTo>
                <a:cubicBezTo>
                  <a:pt x="15208" y="10193"/>
                  <a:pt x="15256" y="10226"/>
                  <a:pt x="15282" y="10245"/>
                </a:cubicBezTo>
                <a:cubicBezTo>
                  <a:pt x="15322" y="10273"/>
                  <a:pt x="15353" y="10287"/>
                  <a:pt x="15388" y="10308"/>
                </a:cubicBezTo>
                <a:cubicBezTo>
                  <a:pt x="15414" y="10323"/>
                  <a:pt x="15441" y="10363"/>
                  <a:pt x="15452" y="10372"/>
                </a:cubicBezTo>
                <a:cubicBezTo>
                  <a:pt x="15485" y="10385"/>
                  <a:pt x="15517" y="10409"/>
                  <a:pt x="15557" y="10414"/>
                </a:cubicBezTo>
                <a:cubicBezTo>
                  <a:pt x="15598" y="10419"/>
                  <a:pt x="15628" y="10425"/>
                  <a:pt x="15663" y="10435"/>
                </a:cubicBezTo>
                <a:cubicBezTo>
                  <a:pt x="15716" y="10451"/>
                  <a:pt x="15752" y="10463"/>
                  <a:pt x="15811" y="10456"/>
                </a:cubicBezTo>
                <a:cubicBezTo>
                  <a:pt x="15849" y="10451"/>
                  <a:pt x="15880" y="10438"/>
                  <a:pt x="15917" y="10435"/>
                </a:cubicBezTo>
                <a:cubicBezTo>
                  <a:pt x="15959" y="10431"/>
                  <a:pt x="16002" y="10435"/>
                  <a:pt x="16044" y="10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Ink 9"/>
          <p:cNvSpPr/>
          <p:nvPr/>
        </p:nvSpPr>
        <p:spPr>
          <a:xfrm>
            <a:off x="1044720" y="2797200"/>
            <a:ext cx="3062160" cy="1265040"/>
          </a:xfrm>
          <a:custGeom>
            <a:avLst/>
            <a:gdLst/>
            <a:ahLst/>
            <a:rect l="l" t="t" r="r" b="b"/>
            <a:pathLst>
              <a:path w="8510" h="3515">
                <a:moveTo>
                  <a:pt x="2900" y="9842"/>
                </a:moveTo>
                <a:cubicBezTo>
                  <a:pt x="2946" y="9842"/>
                  <a:pt x="2987" y="9850"/>
                  <a:pt x="3027" y="9821"/>
                </a:cubicBezTo>
                <a:cubicBezTo>
                  <a:pt x="3063" y="9795"/>
                  <a:pt x="3091" y="9766"/>
                  <a:pt x="3133" y="9758"/>
                </a:cubicBezTo>
                <a:cubicBezTo>
                  <a:pt x="3172" y="9751"/>
                  <a:pt x="3203" y="9743"/>
                  <a:pt x="3238" y="9737"/>
                </a:cubicBezTo>
                <a:cubicBezTo>
                  <a:pt x="3289" y="9729"/>
                  <a:pt x="3318" y="9731"/>
                  <a:pt x="3365" y="9715"/>
                </a:cubicBezTo>
                <a:cubicBezTo>
                  <a:pt x="3400" y="9703"/>
                  <a:pt x="3435" y="9706"/>
                  <a:pt x="3471" y="9694"/>
                </a:cubicBezTo>
                <a:cubicBezTo>
                  <a:pt x="3509" y="9681"/>
                  <a:pt x="3528" y="9675"/>
                  <a:pt x="3577" y="9673"/>
                </a:cubicBezTo>
                <a:cubicBezTo>
                  <a:pt x="3692" y="9669"/>
                  <a:pt x="3832" y="9698"/>
                  <a:pt x="3937" y="9652"/>
                </a:cubicBezTo>
                <a:cubicBezTo>
                  <a:pt x="3972" y="9636"/>
                  <a:pt x="4000" y="9633"/>
                  <a:pt x="4043" y="9631"/>
                </a:cubicBezTo>
                <a:cubicBezTo>
                  <a:pt x="4110" y="9628"/>
                  <a:pt x="4176" y="9618"/>
                  <a:pt x="4233" y="9610"/>
                </a:cubicBezTo>
                <a:cubicBezTo>
                  <a:pt x="4259" y="9606"/>
                  <a:pt x="4292" y="9610"/>
                  <a:pt x="4318" y="9610"/>
                </a:cubicBezTo>
                <a:cubicBezTo>
                  <a:pt x="4334" y="9562"/>
                  <a:pt x="4345" y="9556"/>
                  <a:pt x="4403" y="9546"/>
                </a:cubicBezTo>
                <a:cubicBezTo>
                  <a:pt x="4437" y="9540"/>
                  <a:pt x="4503" y="9541"/>
                  <a:pt x="4530" y="9567"/>
                </a:cubicBezTo>
                <a:cubicBezTo>
                  <a:pt x="4530" y="9574"/>
                  <a:pt x="4530" y="9581"/>
                  <a:pt x="4530" y="9588"/>
                </a:cubicBezTo>
                <a:cubicBezTo>
                  <a:pt x="4635" y="9588"/>
                  <a:pt x="4750" y="9572"/>
                  <a:pt x="4847" y="9610"/>
                </a:cubicBezTo>
              </a:path>
              <a:path w="8510" h="3515">
                <a:moveTo>
                  <a:pt x="6138" y="7768"/>
                </a:moveTo>
                <a:cubicBezTo>
                  <a:pt x="6138" y="7811"/>
                  <a:pt x="6103" y="7821"/>
                  <a:pt x="6117" y="7874"/>
                </a:cubicBezTo>
                <a:cubicBezTo>
                  <a:pt x="6126" y="7909"/>
                  <a:pt x="6148" y="7942"/>
                  <a:pt x="6159" y="7980"/>
                </a:cubicBezTo>
                <a:cubicBezTo>
                  <a:pt x="6179" y="7999"/>
                  <a:pt x="6186" y="8003"/>
                  <a:pt x="6181" y="8022"/>
                </a:cubicBezTo>
                <a:cubicBezTo>
                  <a:pt x="6193" y="8032"/>
                  <a:pt x="6225" y="8094"/>
                  <a:pt x="6244" y="8107"/>
                </a:cubicBezTo>
                <a:cubicBezTo>
                  <a:pt x="6281" y="8132"/>
                  <a:pt x="6331" y="8152"/>
                  <a:pt x="6371" y="8170"/>
                </a:cubicBezTo>
                <a:cubicBezTo>
                  <a:pt x="6409" y="8187"/>
                  <a:pt x="6457" y="8205"/>
                  <a:pt x="6498" y="8213"/>
                </a:cubicBezTo>
                <a:cubicBezTo>
                  <a:pt x="6525" y="8219"/>
                  <a:pt x="6556" y="8207"/>
                  <a:pt x="6583" y="8213"/>
                </a:cubicBezTo>
                <a:cubicBezTo>
                  <a:pt x="6611" y="8243"/>
                  <a:pt x="6631" y="8228"/>
                  <a:pt x="6667" y="8276"/>
                </a:cubicBezTo>
                <a:cubicBezTo>
                  <a:pt x="6685" y="8300"/>
                  <a:pt x="6706" y="8333"/>
                  <a:pt x="6731" y="8361"/>
                </a:cubicBezTo>
                <a:cubicBezTo>
                  <a:pt x="6746" y="8378"/>
                  <a:pt x="6811" y="8437"/>
                  <a:pt x="6816" y="8445"/>
                </a:cubicBezTo>
                <a:cubicBezTo>
                  <a:pt x="6842" y="8494"/>
                  <a:pt x="6854" y="8544"/>
                  <a:pt x="6879" y="8594"/>
                </a:cubicBezTo>
                <a:cubicBezTo>
                  <a:pt x="6898" y="8613"/>
                  <a:pt x="6905" y="8617"/>
                  <a:pt x="6900" y="8636"/>
                </a:cubicBezTo>
                <a:cubicBezTo>
                  <a:pt x="6928" y="8642"/>
                  <a:pt x="6927" y="8641"/>
                  <a:pt x="6964" y="8657"/>
                </a:cubicBezTo>
                <a:cubicBezTo>
                  <a:pt x="6999" y="8663"/>
                  <a:pt x="7013" y="8677"/>
                  <a:pt x="7048" y="8678"/>
                </a:cubicBezTo>
                <a:cubicBezTo>
                  <a:pt x="7113" y="8679"/>
                  <a:pt x="7163" y="8678"/>
                  <a:pt x="7218" y="8699"/>
                </a:cubicBezTo>
                <a:cubicBezTo>
                  <a:pt x="7271" y="8720"/>
                  <a:pt x="7284" y="8743"/>
                  <a:pt x="7324" y="8763"/>
                </a:cubicBezTo>
                <a:cubicBezTo>
                  <a:pt x="7373" y="8787"/>
                  <a:pt x="7425" y="8828"/>
                  <a:pt x="7472" y="8848"/>
                </a:cubicBezTo>
                <a:cubicBezTo>
                  <a:pt x="7510" y="8864"/>
                  <a:pt x="7590" y="8866"/>
                  <a:pt x="7620" y="8890"/>
                </a:cubicBezTo>
                <a:cubicBezTo>
                  <a:pt x="7665" y="8926"/>
                  <a:pt x="7700" y="8972"/>
                  <a:pt x="7726" y="9017"/>
                </a:cubicBezTo>
                <a:cubicBezTo>
                  <a:pt x="7745" y="9049"/>
                  <a:pt x="7745" y="9112"/>
                  <a:pt x="7768" y="9144"/>
                </a:cubicBezTo>
                <a:cubicBezTo>
                  <a:pt x="7794" y="9179"/>
                  <a:pt x="7813" y="9202"/>
                  <a:pt x="7853" y="9229"/>
                </a:cubicBezTo>
                <a:cubicBezTo>
                  <a:pt x="7901" y="9262"/>
                  <a:pt x="7902" y="9258"/>
                  <a:pt x="7959" y="9271"/>
                </a:cubicBezTo>
                <a:cubicBezTo>
                  <a:pt x="8162" y="9317"/>
                  <a:pt x="8458" y="9277"/>
                  <a:pt x="8657" y="9250"/>
                </a:cubicBezTo>
                <a:cubicBezTo>
                  <a:pt x="8704" y="9244"/>
                  <a:pt x="8735" y="9237"/>
                  <a:pt x="8784" y="9229"/>
                </a:cubicBezTo>
                <a:cubicBezTo>
                  <a:pt x="8821" y="9223"/>
                  <a:pt x="8860" y="9197"/>
                  <a:pt x="8911" y="9207"/>
                </a:cubicBezTo>
                <a:cubicBezTo>
                  <a:pt x="8936" y="9212"/>
                  <a:pt x="8968" y="9242"/>
                  <a:pt x="8996" y="9250"/>
                </a:cubicBezTo>
                <a:cubicBezTo>
                  <a:pt x="9040" y="9262"/>
                  <a:pt x="9082" y="9278"/>
                  <a:pt x="9123" y="9292"/>
                </a:cubicBezTo>
                <a:cubicBezTo>
                  <a:pt x="9127" y="9295"/>
                  <a:pt x="9179" y="9306"/>
                  <a:pt x="9186" y="9313"/>
                </a:cubicBezTo>
                <a:cubicBezTo>
                  <a:pt x="9225" y="9351"/>
                  <a:pt x="9290" y="9408"/>
                  <a:pt x="9313" y="9440"/>
                </a:cubicBezTo>
                <a:cubicBezTo>
                  <a:pt x="9343" y="9481"/>
                  <a:pt x="9344" y="9525"/>
                  <a:pt x="9377" y="9567"/>
                </a:cubicBezTo>
                <a:cubicBezTo>
                  <a:pt x="9404" y="9601"/>
                  <a:pt x="9426" y="9619"/>
                  <a:pt x="9461" y="9652"/>
                </a:cubicBezTo>
                <a:cubicBezTo>
                  <a:pt x="9489" y="9678"/>
                  <a:pt x="9522" y="9696"/>
                  <a:pt x="9546" y="9715"/>
                </a:cubicBezTo>
                <a:cubicBezTo>
                  <a:pt x="9562" y="9737"/>
                  <a:pt x="9564" y="9801"/>
                  <a:pt x="9588" y="9821"/>
                </a:cubicBezTo>
                <a:cubicBezTo>
                  <a:pt x="9619" y="9847"/>
                  <a:pt x="9668" y="9861"/>
                  <a:pt x="9694" y="9885"/>
                </a:cubicBezTo>
                <a:cubicBezTo>
                  <a:pt x="9725" y="9913"/>
                  <a:pt x="9751" y="9945"/>
                  <a:pt x="9779" y="9969"/>
                </a:cubicBezTo>
                <a:cubicBezTo>
                  <a:pt x="9802" y="9999"/>
                  <a:pt x="9815" y="10017"/>
                  <a:pt x="9842" y="10054"/>
                </a:cubicBezTo>
                <a:cubicBezTo>
                  <a:pt x="9856" y="10073"/>
                  <a:pt x="9874" y="10104"/>
                  <a:pt x="9885" y="10118"/>
                </a:cubicBezTo>
                <a:cubicBezTo>
                  <a:pt x="9925" y="10128"/>
                  <a:pt x="9905" y="10122"/>
                  <a:pt x="9927" y="10139"/>
                </a:cubicBezTo>
                <a:cubicBezTo>
                  <a:pt x="10032" y="10198"/>
                  <a:pt x="10139" y="10273"/>
                  <a:pt x="10223" y="10350"/>
                </a:cubicBezTo>
                <a:cubicBezTo>
                  <a:pt x="10250" y="10375"/>
                  <a:pt x="10271" y="10408"/>
                  <a:pt x="10308" y="10435"/>
                </a:cubicBezTo>
                <a:cubicBezTo>
                  <a:pt x="10315" y="10435"/>
                  <a:pt x="10322" y="10435"/>
                  <a:pt x="10329" y="10435"/>
                </a:cubicBezTo>
                <a:cubicBezTo>
                  <a:pt x="10335" y="10458"/>
                  <a:pt x="10337" y="10460"/>
                  <a:pt x="10350" y="10477"/>
                </a:cubicBezTo>
                <a:cubicBezTo>
                  <a:pt x="10396" y="10493"/>
                  <a:pt x="10428" y="10502"/>
                  <a:pt x="10477" y="10520"/>
                </a:cubicBezTo>
                <a:cubicBezTo>
                  <a:pt x="10515" y="10534"/>
                  <a:pt x="10539" y="10545"/>
                  <a:pt x="10583" y="10562"/>
                </a:cubicBezTo>
                <a:cubicBezTo>
                  <a:pt x="10606" y="10597"/>
                  <a:pt x="10644" y="10638"/>
                  <a:pt x="10668" y="10668"/>
                </a:cubicBezTo>
                <a:cubicBezTo>
                  <a:pt x="10683" y="10688"/>
                  <a:pt x="10709" y="10719"/>
                  <a:pt x="10731" y="10753"/>
                </a:cubicBezTo>
                <a:cubicBezTo>
                  <a:pt x="10751" y="10785"/>
                  <a:pt x="10776" y="10806"/>
                  <a:pt x="10795" y="10837"/>
                </a:cubicBezTo>
                <a:cubicBezTo>
                  <a:pt x="10795" y="10844"/>
                  <a:pt x="10795" y="10851"/>
                  <a:pt x="10795" y="10858"/>
                </a:cubicBezTo>
                <a:cubicBezTo>
                  <a:pt x="10816" y="10872"/>
                  <a:pt x="10845" y="10903"/>
                  <a:pt x="10880" y="10922"/>
                </a:cubicBezTo>
                <a:cubicBezTo>
                  <a:pt x="10915" y="10941"/>
                  <a:pt x="10950" y="10961"/>
                  <a:pt x="10985" y="10985"/>
                </a:cubicBezTo>
                <a:cubicBezTo>
                  <a:pt x="11002" y="10996"/>
                  <a:pt x="11041" y="11022"/>
                  <a:pt x="11049" y="11028"/>
                </a:cubicBezTo>
                <a:cubicBezTo>
                  <a:pt x="11099" y="11050"/>
                  <a:pt x="11148" y="11066"/>
                  <a:pt x="11197" y="11091"/>
                </a:cubicBezTo>
                <a:cubicBezTo>
                  <a:pt x="11242" y="11115"/>
                  <a:pt x="11274" y="11126"/>
                  <a:pt x="11303" y="11155"/>
                </a:cubicBezTo>
                <a:cubicBezTo>
                  <a:pt x="11333" y="11185"/>
                  <a:pt x="11345" y="11238"/>
                  <a:pt x="11366" y="11261"/>
                </a:cubicBezTo>
                <a:cubicBezTo>
                  <a:pt x="11389" y="11272"/>
                  <a:pt x="11389" y="11267"/>
                  <a:pt x="11409" y="112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Ink 15"/>
          <p:cNvSpPr/>
          <p:nvPr/>
        </p:nvSpPr>
        <p:spPr>
          <a:xfrm>
            <a:off x="4465800" y="3772080"/>
            <a:ext cx="1180800" cy="91800"/>
          </a:xfrm>
          <a:custGeom>
            <a:avLst/>
            <a:gdLst/>
            <a:ahLst/>
            <a:rect l="l" t="t" r="r" b="b"/>
            <a:pathLst>
              <a:path w="3281" h="255">
                <a:moveTo>
                  <a:pt x="12404" y="10710"/>
                </a:moveTo>
                <a:cubicBezTo>
                  <a:pt x="12472" y="10710"/>
                  <a:pt x="12532" y="10696"/>
                  <a:pt x="12594" y="10689"/>
                </a:cubicBezTo>
                <a:cubicBezTo>
                  <a:pt x="12640" y="10684"/>
                  <a:pt x="12676" y="10681"/>
                  <a:pt x="12721" y="10668"/>
                </a:cubicBezTo>
                <a:cubicBezTo>
                  <a:pt x="12777" y="10651"/>
                  <a:pt x="12777" y="10658"/>
                  <a:pt x="12827" y="10668"/>
                </a:cubicBezTo>
                <a:cubicBezTo>
                  <a:pt x="12875" y="10677"/>
                  <a:pt x="12905" y="10709"/>
                  <a:pt x="12933" y="10731"/>
                </a:cubicBezTo>
                <a:cubicBezTo>
                  <a:pt x="12943" y="10721"/>
                  <a:pt x="13002" y="10656"/>
                  <a:pt x="13017" y="10647"/>
                </a:cubicBezTo>
                <a:cubicBezTo>
                  <a:pt x="13053" y="10627"/>
                  <a:pt x="13079" y="10622"/>
                  <a:pt x="13123" y="10626"/>
                </a:cubicBezTo>
                <a:cubicBezTo>
                  <a:pt x="13182" y="10631"/>
                  <a:pt x="13154" y="10640"/>
                  <a:pt x="13208" y="10647"/>
                </a:cubicBezTo>
                <a:cubicBezTo>
                  <a:pt x="13298" y="10658"/>
                  <a:pt x="13405" y="10649"/>
                  <a:pt x="13483" y="10626"/>
                </a:cubicBezTo>
                <a:cubicBezTo>
                  <a:pt x="13517" y="10616"/>
                  <a:pt x="13551" y="10590"/>
                  <a:pt x="13589" y="10583"/>
                </a:cubicBezTo>
                <a:cubicBezTo>
                  <a:pt x="13656" y="10571"/>
                  <a:pt x="13725" y="10598"/>
                  <a:pt x="13779" y="10604"/>
                </a:cubicBezTo>
                <a:cubicBezTo>
                  <a:pt x="13793" y="10604"/>
                  <a:pt x="13808" y="10604"/>
                  <a:pt x="13822" y="10604"/>
                </a:cubicBezTo>
                <a:cubicBezTo>
                  <a:pt x="13865" y="10677"/>
                  <a:pt x="13831" y="10648"/>
                  <a:pt x="13906" y="10689"/>
                </a:cubicBezTo>
                <a:cubicBezTo>
                  <a:pt x="13925" y="10699"/>
                  <a:pt x="13927" y="10708"/>
                  <a:pt x="13970" y="10710"/>
                </a:cubicBezTo>
                <a:cubicBezTo>
                  <a:pt x="14168" y="10718"/>
                  <a:pt x="14377" y="10710"/>
                  <a:pt x="14563" y="10731"/>
                </a:cubicBezTo>
                <a:cubicBezTo>
                  <a:pt x="14659" y="10742"/>
                  <a:pt x="14844" y="10755"/>
                  <a:pt x="14922" y="10710"/>
                </a:cubicBezTo>
                <a:cubicBezTo>
                  <a:pt x="14960" y="10688"/>
                  <a:pt x="14967" y="10632"/>
                  <a:pt x="15007" y="10604"/>
                </a:cubicBezTo>
                <a:cubicBezTo>
                  <a:pt x="15047" y="10576"/>
                  <a:pt x="15061" y="10586"/>
                  <a:pt x="15113" y="10583"/>
                </a:cubicBezTo>
                <a:cubicBezTo>
                  <a:pt x="15243" y="10575"/>
                  <a:pt x="15370" y="10592"/>
                  <a:pt x="15494" y="10562"/>
                </a:cubicBezTo>
                <a:cubicBezTo>
                  <a:pt x="15532" y="10553"/>
                  <a:pt x="15565" y="10533"/>
                  <a:pt x="15600" y="10520"/>
                </a:cubicBezTo>
                <a:cubicBezTo>
                  <a:pt x="15632" y="10509"/>
                  <a:pt x="15655" y="10493"/>
                  <a:pt x="15684" y="10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Ink 27"/>
          <p:cNvSpPr/>
          <p:nvPr/>
        </p:nvSpPr>
        <p:spPr>
          <a:xfrm>
            <a:off x="2187720" y="1036800"/>
            <a:ext cx="2757240" cy="4297320"/>
          </a:xfrm>
          <a:custGeom>
            <a:avLst/>
            <a:gdLst/>
            <a:ahLst/>
            <a:rect l="l" t="t" r="r" b="b"/>
            <a:pathLst>
              <a:path w="7663" h="11939">
                <a:moveTo>
                  <a:pt x="9250" y="3260"/>
                </a:moveTo>
                <a:cubicBezTo>
                  <a:pt x="9194" y="3310"/>
                  <a:pt x="9220" y="3281"/>
                  <a:pt x="9186" y="3323"/>
                </a:cubicBezTo>
                <a:cubicBezTo>
                  <a:pt x="9175" y="3337"/>
                  <a:pt x="9142" y="3415"/>
                  <a:pt x="9123" y="3429"/>
                </a:cubicBezTo>
                <a:cubicBezTo>
                  <a:pt x="9109" y="3429"/>
                  <a:pt x="9094" y="3429"/>
                  <a:pt x="9080" y="3429"/>
                </a:cubicBezTo>
                <a:cubicBezTo>
                  <a:pt x="9064" y="3485"/>
                  <a:pt x="9062" y="3499"/>
                  <a:pt x="9038" y="3556"/>
                </a:cubicBezTo>
                <a:cubicBezTo>
                  <a:pt x="9023" y="3539"/>
                  <a:pt x="8973" y="3502"/>
                  <a:pt x="8953" y="3471"/>
                </a:cubicBezTo>
                <a:cubicBezTo>
                  <a:pt x="8907" y="3397"/>
                  <a:pt x="8862" y="3339"/>
                  <a:pt x="8805" y="3281"/>
                </a:cubicBezTo>
                <a:cubicBezTo>
                  <a:pt x="8783" y="3258"/>
                  <a:pt x="8745" y="3215"/>
                  <a:pt x="8721" y="3196"/>
                </a:cubicBezTo>
                <a:cubicBezTo>
                  <a:pt x="8697" y="3177"/>
                  <a:pt x="8669" y="3153"/>
                  <a:pt x="8636" y="3133"/>
                </a:cubicBezTo>
                <a:cubicBezTo>
                  <a:pt x="8598" y="3111"/>
                  <a:pt x="8513" y="3085"/>
                  <a:pt x="8467" y="3069"/>
                </a:cubicBezTo>
                <a:cubicBezTo>
                  <a:pt x="8431" y="3057"/>
                  <a:pt x="8401" y="3058"/>
                  <a:pt x="8361" y="3048"/>
                </a:cubicBezTo>
                <a:cubicBezTo>
                  <a:pt x="8320" y="3038"/>
                  <a:pt x="8290" y="3021"/>
                  <a:pt x="8255" y="3006"/>
                </a:cubicBezTo>
                <a:cubicBezTo>
                  <a:pt x="8205" y="2984"/>
                  <a:pt x="8164" y="2970"/>
                  <a:pt x="8107" y="2963"/>
                </a:cubicBezTo>
                <a:cubicBezTo>
                  <a:pt x="8003" y="2950"/>
                  <a:pt x="7945" y="2930"/>
                  <a:pt x="7853" y="2900"/>
                </a:cubicBezTo>
                <a:cubicBezTo>
                  <a:pt x="7815" y="2888"/>
                  <a:pt x="7797" y="2873"/>
                  <a:pt x="7747" y="2879"/>
                </a:cubicBezTo>
                <a:cubicBezTo>
                  <a:pt x="7713" y="2883"/>
                  <a:pt x="7667" y="2904"/>
                  <a:pt x="7641" y="2921"/>
                </a:cubicBezTo>
                <a:cubicBezTo>
                  <a:pt x="7603" y="2946"/>
                  <a:pt x="7601" y="2964"/>
                  <a:pt x="7556" y="2984"/>
                </a:cubicBezTo>
                <a:cubicBezTo>
                  <a:pt x="7525" y="2998"/>
                  <a:pt x="7482" y="2994"/>
                  <a:pt x="7451" y="3006"/>
                </a:cubicBezTo>
                <a:cubicBezTo>
                  <a:pt x="7428" y="3015"/>
                  <a:pt x="7363" y="3036"/>
                  <a:pt x="7345" y="3048"/>
                </a:cubicBezTo>
                <a:cubicBezTo>
                  <a:pt x="7293" y="3081"/>
                  <a:pt x="7280" y="3090"/>
                  <a:pt x="7239" y="3111"/>
                </a:cubicBezTo>
                <a:cubicBezTo>
                  <a:pt x="7201" y="3131"/>
                  <a:pt x="7150" y="3159"/>
                  <a:pt x="7112" y="3175"/>
                </a:cubicBezTo>
                <a:cubicBezTo>
                  <a:pt x="7071" y="3192"/>
                  <a:pt x="7070" y="3177"/>
                  <a:pt x="7027" y="3196"/>
                </a:cubicBezTo>
                <a:cubicBezTo>
                  <a:pt x="7003" y="3206"/>
                  <a:pt x="6983" y="3226"/>
                  <a:pt x="6943" y="3238"/>
                </a:cubicBezTo>
                <a:cubicBezTo>
                  <a:pt x="6918" y="3245"/>
                  <a:pt x="6894" y="3246"/>
                  <a:pt x="6858" y="3260"/>
                </a:cubicBezTo>
                <a:cubicBezTo>
                  <a:pt x="6798" y="3283"/>
                  <a:pt x="6794" y="3315"/>
                  <a:pt x="6752" y="3344"/>
                </a:cubicBezTo>
                <a:cubicBezTo>
                  <a:pt x="6718" y="3368"/>
                  <a:pt x="6692" y="3388"/>
                  <a:pt x="6667" y="3429"/>
                </a:cubicBezTo>
                <a:cubicBezTo>
                  <a:pt x="6662" y="3438"/>
                  <a:pt x="6657" y="3471"/>
                  <a:pt x="6646" y="3492"/>
                </a:cubicBezTo>
                <a:cubicBezTo>
                  <a:pt x="6595" y="3515"/>
                  <a:pt x="6592" y="3524"/>
                  <a:pt x="6540" y="3556"/>
                </a:cubicBezTo>
                <a:cubicBezTo>
                  <a:pt x="6513" y="3573"/>
                  <a:pt x="6482" y="3580"/>
                  <a:pt x="6456" y="3598"/>
                </a:cubicBezTo>
                <a:cubicBezTo>
                  <a:pt x="6411" y="3629"/>
                  <a:pt x="6402" y="3641"/>
                  <a:pt x="6350" y="3662"/>
                </a:cubicBezTo>
                <a:cubicBezTo>
                  <a:pt x="6336" y="3662"/>
                  <a:pt x="6322" y="3662"/>
                  <a:pt x="6308" y="3662"/>
                </a:cubicBezTo>
                <a:cubicBezTo>
                  <a:pt x="6283" y="3711"/>
                  <a:pt x="6275" y="3717"/>
                  <a:pt x="6244" y="3768"/>
                </a:cubicBezTo>
                <a:cubicBezTo>
                  <a:pt x="6229" y="3792"/>
                  <a:pt x="6208" y="3845"/>
                  <a:pt x="6202" y="3873"/>
                </a:cubicBezTo>
                <a:cubicBezTo>
                  <a:pt x="6189" y="3929"/>
                  <a:pt x="6211" y="3996"/>
                  <a:pt x="6223" y="4022"/>
                </a:cubicBezTo>
                <a:cubicBezTo>
                  <a:pt x="6243" y="4066"/>
                  <a:pt x="6258" y="4100"/>
                  <a:pt x="6286" y="4127"/>
                </a:cubicBezTo>
                <a:cubicBezTo>
                  <a:pt x="6330" y="4170"/>
                  <a:pt x="6335" y="4161"/>
                  <a:pt x="6392" y="4170"/>
                </a:cubicBezTo>
                <a:cubicBezTo>
                  <a:pt x="6431" y="4176"/>
                  <a:pt x="6462" y="4156"/>
                  <a:pt x="6498" y="4149"/>
                </a:cubicBezTo>
                <a:cubicBezTo>
                  <a:pt x="6544" y="4140"/>
                  <a:pt x="6590" y="4131"/>
                  <a:pt x="6646" y="4127"/>
                </a:cubicBezTo>
                <a:cubicBezTo>
                  <a:pt x="6667" y="4127"/>
                  <a:pt x="6675" y="4127"/>
                  <a:pt x="6689" y="4127"/>
                </a:cubicBezTo>
                <a:cubicBezTo>
                  <a:pt x="6645" y="4148"/>
                  <a:pt x="6595" y="4145"/>
                  <a:pt x="6562" y="4191"/>
                </a:cubicBezTo>
                <a:cubicBezTo>
                  <a:pt x="6528" y="4239"/>
                  <a:pt x="6544" y="4284"/>
                  <a:pt x="6540" y="4339"/>
                </a:cubicBezTo>
                <a:cubicBezTo>
                  <a:pt x="6534" y="4434"/>
                  <a:pt x="6563" y="4555"/>
                  <a:pt x="6519" y="4635"/>
                </a:cubicBezTo>
                <a:cubicBezTo>
                  <a:pt x="6486" y="4694"/>
                  <a:pt x="6489" y="4682"/>
                  <a:pt x="6435" y="4720"/>
                </a:cubicBezTo>
                <a:cubicBezTo>
                  <a:pt x="6410" y="4738"/>
                  <a:pt x="6358" y="4773"/>
                  <a:pt x="6329" y="4784"/>
                </a:cubicBezTo>
                <a:cubicBezTo>
                  <a:pt x="6281" y="4801"/>
                  <a:pt x="6247" y="4817"/>
                  <a:pt x="6202" y="4847"/>
                </a:cubicBezTo>
                <a:cubicBezTo>
                  <a:pt x="6179" y="4862"/>
                  <a:pt x="6131" y="4875"/>
                  <a:pt x="6117" y="4911"/>
                </a:cubicBezTo>
                <a:cubicBezTo>
                  <a:pt x="6086" y="4991"/>
                  <a:pt x="6133" y="5118"/>
                  <a:pt x="6138" y="5186"/>
                </a:cubicBezTo>
                <a:cubicBezTo>
                  <a:pt x="6141" y="5235"/>
                  <a:pt x="6136" y="5285"/>
                  <a:pt x="6138" y="5334"/>
                </a:cubicBezTo>
                <a:cubicBezTo>
                  <a:pt x="6123" y="5358"/>
                  <a:pt x="6073" y="5332"/>
                  <a:pt x="6075" y="5397"/>
                </a:cubicBezTo>
                <a:cubicBezTo>
                  <a:pt x="6078" y="5470"/>
                  <a:pt x="6095" y="5448"/>
                  <a:pt x="6117" y="5503"/>
                </a:cubicBezTo>
                <a:cubicBezTo>
                  <a:pt x="6123" y="5519"/>
                  <a:pt x="6166" y="5579"/>
                  <a:pt x="6181" y="5609"/>
                </a:cubicBezTo>
                <a:cubicBezTo>
                  <a:pt x="6187" y="5622"/>
                  <a:pt x="6212" y="5659"/>
                  <a:pt x="6223" y="5694"/>
                </a:cubicBezTo>
              </a:path>
              <a:path w="7663" h="11939">
                <a:moveTo>
                  <a:pt x="9250" y="3302"/>
                </a:moveTo>
                <a:cubicBezTo>
                  <a:pt x="9301" y="3291"/>
                  <a:pt x="9352" y="3268"/>
                  <a:pt x="9398" y="3260"/>
                </a:cubicBezTo>
                <a:cubicBezTo>
                  <a:pt x="9437" y="3253"/>
                  <a:pt x="9493" y="3256"/>
                  <a:pt x="9525" y="3281"/>
                </a:cubicBezTo>
                <a:cubicBezTo>
                  <a:pt x="9537" y="3290"/>
                  <a:pt x="9568" y="3346"/>
                  <a:pt x="9588" y="3365"/>
                </a:cubicBezTo>
                <a:cubicBezTo>
                  <a:pt x="9629" y="3404"/>
                  <a:pt x="9663" y="3456"/>
                  <a:pt x="9694" y="3492"/>
                </a:cubicBezTo>
                <a:cubicBezTo>
                  <a:pt x="9711" y="3512"/>
                  <a:pt x="9762" y="3552"/>
                  <a:pt x="9779" y="3577"/>
                </a:cubicBezTo>
                <a:cubicBezTo>
                  <a:pt x="9820" y="3639"/>
                  <a:pt x="9798" y="3620"/>
                  <a:pt x="9864" y="3662"/>
                </a:cubicBezTo>
                <a:cubicBezTo>
                  <a:pt x="9888" y="3677"/>
                  <a:pt x="9922" y="3716"/>
                  <a:pt x="9948" y="3725"/>
                </a:cubicBezTo>
                <a:cubicBezTo>
                  <a:pt x="9962" y="3725"/>
                  <a:pt x="9977" y="3725"/>
                  <a:pt x="9991" y="3725"/>
                </a:cubicBezTo>
                <a:cubicBezTo>
                  <a:pt x="10024" y="3792"/>
                  <a:pt x="9992" y="3752"/>
                  <a:pt x="10054" y="3810"/>
                </a:cubicBezTo>
                <a:cubicBezTo>
                  <a:pt x="10079" y="3834"/>
                  <a:pt x="10086" y="3854"/>
                  <a:pt x="10118" y="3895"/>
                </a:cubicBezTo>
                <a:cubicBezTo>
                  <a:pt x="10131" y="3911"/>
                  <a:pt x="10169" y="3957"/>
                  <a:pt x="10181" y="3979"/>
                </a:cubicBezTo>
                <a:cubicBezTo>
                  <a:pt x="10208" y="4028"/>
                  <a:pt x="10199" y="4052"/>
                  <a:pt x="10202" y="4106"/>
                </a:cubicBezTo>
                <a:cubicBezTo>
                  <a:pt x="10208" y="4206"/>
                  <a:pt x="10231" y="4379"/>
                  <a:pt x="10181" y="4466"/>
                </a:cubicBezTo>
                <a:cubicBezTo>
                  <a:pt x="10168" y="4490"/>
                  <a:pt x="10105" y="4584"/>
                  <a:pt x="10096" y="4593"/>
                </a:cubicBezTo>
                <a:cubicBezTo>
                  <a:pt x="10078" y="4612"/>
                  <a:pt x="10036" y="4643"/>
                  <a:pt x="10012" y="4657"/>
                </a:cubicBezTo>
                <a:cubicBezTo>
                  <a:pt x="9970" y="4681"/>
                  <a:pt x="9915" y="4693"/>
                  <a:pt x="9864" y="4699"/>
                </a:cubicBezTo>
                <a:cubicBezTo>
                  <a:pt x="9797" y="4707"/>
                  <a:pt x="9753" y="4683"/>
                  <a:pt x="9694" y="4678"/>
                </a:cubicBezTo>
                <a:cubicBezTo>
                  <a:pt x="9572" y="4667"/>
                  <a:pt x="9463" y="4682"/>
                  <a:pt x="9377" y="4720"/>
                </a:cubicBezTo>
                <a:cubicBezTo>
                  <a:pt x="9346" y="4734"/>
                  <a:pt x="9304" y="4748"/>
                  <a:pt x="9271" y="4762"/>
                </a:cubicBezTo>
                <a:cubicBezTo>
                  <a:pt x="9229" y="4780"/>
                  <a:pt x="9204" y="4774"/>
                  <a:pt x="9165" y="4784"/>
                </a:cubicBezTo>
                <a:cubicBezTo>
                  <a:pt x="9152" y="4822"/>
                  <a:pt x="9138" y="4848"/>
                  <a:pt x="9123" y="4889"/>
                </a:cubicBezTo>
                <a:cubicBezTo>
                  <a:pt x="9110" y="4926"/>
                  <a:pt x="9107" y="4952"/>
                  <a:pt x="9102" y="4995"/>
                </a:cubicBezTo>
                <a:cubicBezTo>
                  <a:pt x="9098" y="5029"/>
                  <a:pt x="9082" y="5078"/>
                  <a:pt x="9080" y="5101"/>
                </a:cubicBezTo>
                <a:cubicBezTo>
                  <a:pt x="9076" y="5145"/>
                  <a:pt x="9100" y="5179"/>
                  <a:pt x="9102" y="5207"/>
                </a:cubicBezTo>
                <a:cubicBezTo>
                  <a:pt x="9107" y="5295"/>
                  <a:pt x="9086" y="5387"/>
                  <a:pt x="9080" y="5461"/>
                </a:cubicBezTo>
                <a:cubicBezTo>
                  <a:pt x="9072" y="5549"/>
                  <a:pt x="9080" y="5640"/>
                  <a:pt x="9102" y="5715"/>
                </a:cubicBezTo>
                <a:cubicBezTo>
                  <a:pt x="9109" y="5738"/>
                  <a:pt x="9112" y="5779"/>
                  <a:pt x="9123" y="5800"/>
                </a:cubicBezTo>
                <a:cubicBezTo>
                  <a:pt x="9150" y="5854"/>
                  <a:pt x="9149" y="5873"/>
                  <a:pt x="9165" y="5927"/>
                </a:cubicBezTo>
                <a:cubicBezTo>
                  <a:pt x="9173" y="5954"/>
                  <a:pt x="9184" y="5985"/>
                  <a:pt x="9186" y="6011"/>
                </a:cubicBezTo>
                <a:cubicBezTo>
                  <a:pt x="9195" y="6115"/>
                  <a:pt x="9199" y="6236"/>
                  <a:pt x="9207" y="6329"/>
                </a:cubicBezTo>
                <a:cubicBezTo>
                  <a:pt x="9213" y="6395"/>
                  <a:pt x="9213" y="6442"/>
                  <a:pt x="9229" y="6498"/>
                </a:cubicBezTo>
                <a:cubicBezTo>
                  <a:pt x="9243" y="6547"/>
                  <a:pt x="9258" y="6599"/>
                  <a:pt x="9292" y="6646"/>
                </a:cubicBezTo>
                <a:cubicBezTo>
                  <a:pt x="9322" y="6646"/>
                  <a:pt x="9333" y="6654"/>
                  <a:pt x="9334" y="6689"/>
                </a:cubicBezTo>
              </a:path>
              <a:path w="7663" h="11939">
                <a:moveTo>
                  <a:pt x="9313" y="6689"/>
                </a:moveTo>
                <a:cubicBezTo>
                  <a:pt x="9331" y="6713"/>
                  <a:pt x="9363" y="6696"/>
                  <a:pt x="9377" y="6731"/>
                </a:cubicBezTo>
                <a:cubicBezTo>
                  <a:pt x="9394" y="6775"/>
                  <a:pt x="9377" y="6858"/>
                  <a:pt x="9398" y="6900"/>
                </a:cubicBezTo>
                <a:cubicBezTo>
                  <a:pt x="9411" y="6926"/>
                  <a:pt x="9424" y="6959"/>
                  <a:pt x="9440" y="6985"/>
                </a:cubicBezTo>
                <a:cubicBezTo>
                  <a:pt x="9456" y="7012"/>
                  <a:pt x="9513" y="7030"/>
                  <a:pt x="9525" y="7070"/>
                </a:cubicBezTo>
                <a:cubicBezTo>
                  <a:pt x="9550" y="7157"/>
                  <a:pt x="9528" y="7213"/>
                  <a:pt x="9567" y="7281"/>
                </a:cubicBezTo>
                <a:cubicBezTo>
                  <a:pt x="9590" y="7321"/>
                  <a:pt x="9637" y="7358"/>
                  <a:pt x="9652" y="7387"/>
                </a:cubicBezTo>
                <a:cubicBezTo>
                  <a:pt x="9668" y="7418"/>
                  <a:pt x="9678" y="7462"/>
                  <a:pt x="9694" y="7493"/>
                </a:cubicBezTo>
                <a:cubicBezTo>
                  <a:pt x="9709" y="7522"/>
                  <a:pt x="9731" y="7550"/>
                  <a:pt x="9737" y="7578"/>
                </a:cubicBezTo>
                <a:cubicBezTo>
                  <a:pt x="9757" y="7619"/>
                  <a:pt x="9766" y="7633"/>
                  <a:pt x="9715" y="7620"/>
                </a:cubicBezTo>
                <a:cubicBezTo>
                  <a:pt x="9742" y="7637"/>
                  <a:pt x="9773" y="7645"/>
                  <a:pt x="9800" y="7662"/>
                </a:cubicBezTo>
                <a:cubicBezTo>
                  <a:pt x="9848" y="7691"/>
                  <a:pt x="9838" y="7703"/>
                  <a:pt x="9864" y="7726"/>
                </a:cubicBezTo>
                <a:cubicBezTo>
                  <a:pt x="9883" y="7743"/>
                  <a:pt x="9907" y="7750"/>
                  <a:pt x="9927" y="7768"/>
                </a:cubicBezTo>
                <a:cubicBezTo>
                  <a:pt x="9950" y="7789"/>
                  <a:pt x="9997" y="7835"/>
                  <a:pt x="10012" y="7853"/>
                </a:cubicBezTo>
                <a:cubicBezTo>
                  <a:pt x="10022" y="7865"/>
                  <a:pt x="10034" y="7926"/>
                  <a:pt x="10054" y="7937"/>
                </a:cubicBezTo>
                <a:cubicBezTo>
                  <a:pt x="10082" y="7952"/>
                  <a:pt x="10082" y="7945"/>
                  <a:pt x="10118" y="7959"/>
                </a:cubicBezTo>
                <a:cubicBezTo>
                  <a:pt x="10151" y="7972"/>
                  <a:pt x="10228" y="7994"/>
                  <a:pt x="10245" y="8001"/>
                </a:cubicBezTo>
                <a:cubicBezTo>
                  <a:pt x="10277" y="8014"/>
                  <a:pt x="10325" y="8028"/>
                  <a:pt x="10350" y="8043"/>
                </a:cubicBezTo>
                <a:cubicBezTo>
                  <a:pt x="10397" y="8072"/>
                  <a:pt x="10413" y="8101"/>
                  <a:pt x="10456" y="8128"/>
                </a:cubicBezTo>
                <a:cubicBezTo>
                  <a:pt x="10456" y="8156"/>
                  <a:pt x="10463" y="8163"/>
                  <a:pt x="10499" y="8149"/>
                </a:cubicBezTo>
                <a:cubicBezTo>
                  <a:pt x="10536" y="8180"/>
                  <a:pt x="10501" y="8164"/>
                  <a:pt x="10541" y="8191"/>
                </a:cubicBezTo>
                <a:cubicBezTo>
                  <a:pt x="10582" y="8219"/>
                  <a:pt x="10605" y="8234"/>
                  <a:pt x="10647" y="8255"/>
                </a:cubicBezTo>
                <a:cubicBezTo>
                  <a:pt x="10671" y="8279"/>
                  <a:pt x="10682" y="8286"/>
                  <a:pt x="10710" y="8276"/>
                </a:cubicBezTo>
                <a:cubicBezTo>
                  <a:pt x="10731" y="8323"/>
                  <a:pt x="10768" y="8314"/>
                  <a:pt x="10774" y="8382"/>
                </a:cubicBezTo>
                <a:cubicBezTo>
                  <a:pt x="10778" y="8433"/>
                  <a:pt x="10767" y="8450"/>
                  <a:pt x="10753" y="8488"/>
                </a:cubicBezTo>
                <a:cubicBezTo>
                  <a:pt x="10736" y="8534"/>
                  <a:pt x="10699" y="8556"/>
                  <a:pt x="10689" y="8594"/>
                </a:cubicBezTo>
                <a:cubicBezTo>
                  <a:pt x="10679" y="8630"/>
                  <a:pt x="10672" y="8661"/>
                  <a:pt x="10668" y="8699"/>
                </a:cubicBezTo>
                <a:cubicBezTo>
                  <a:pt x="10660" y="8777"/>
                  <a:pt x="10634" y="9030"/>
                  <a:pt x="10689" y="9080"/>
                </a:cubicBezTo>
                <a:cubicBezTo>
                  <a:pt x="10710" y="9099"/>
                  <a:pt x="10764" y="9098"/>
                  <a:pt x="10795" y="9102"/>
                </a:cubicBezTo>
                <a:cubicBezTo>
                  <a:pt x="10859" y="9110"/>
                  <a:pt x="10906" y="9093"/>
                  <a:pt x="10964" y="9080"/>
                </a:cubicBezTo>
                <a:cubicBezTo>
                  <a:pt x="11038" y="9063"/>
                  <a:pt x="11086" y="9024"/>
                  <a:pt x="11176" y="9038"/>
                </a:cubicBezTo>
                <a:cubicBezTo>
                  <a:pt x="11207" y="9043"/>
                  <a:pt x="11233" y="9043"/>
                  <a:pt x="11261" y="9059"/>
                </a:cubicBezTo>
                <a:cubicBezTo>
                  <a:pt x="11289" y="9075"/>
                  <a:pt x="11329" y="9110"/>
                  <a:pt x="11345" y="9144"/>
                </a:cubicBezTo>
                <a:cubicBezTo>
                  <a:pt x="11360" y="9176"/>
                  <a:pt x="11359" y="9214"/>
                  <a:pt x="11366" y="9250"/>
                </a:cubicBezTo>
                <a:cubicBezTo>
                  <a:pt x="11387" y="9355"/>
                  <a:pt x="11313" y="9574"/>
                  <a:pt x="11388" y="9652"/>
                </a:cubicBezTo>
                <a:cubicBezTo>
                  <a:pt x="11413" y="9678"/>
                  <a:pt x="11407" y="9659"/>
                  <a:pt x="11451" y="9673"/>
                </a:cubicBezTo>
                <a:cubicBezTo>
                  <a:pt x="11527" y="9697"/>
                  <a:pt x="11556" y="9681"/>
                  <a:pt x="11620" y="9715"/>
                </a:cubicBezTo>
                <a:cubicBezTo>
                  <a:pt x="11620" y="9722"/>
                  <a:pt x="11620" y="9730"/>
                  <a:pt x="11620" y="9737"/>
                </a:cubicBezTo>
                <a:cubicBezTo>
                  <a:pt x="11660" y="9723"/>
                  <a:pt x="11699" y="9672"/>
                  <a:pt x="11726" y="9673"/>
                </a:cubicBezTo>
                <a:cubicBezTo>
                  <a:pt x="11778" y="9674"/>
                  <a:pt x="11771" y="9698"/>
                  <a:pt x="11811" y="9715"/>
                </a:cubicBezTo>
                <a:cubicBezTo>
                  <a:pt x="11862" y="9736"/>
                  <a:pt x="11843" y="9739"/>
                  <a:pt x="11874" y="9758"/>
                </a:cubicBezTo>
                <a:cubicBezTo>
                  <a:pt x="11930" y="9793"/>
                  <a:pt x="11938" y="9786"/>
                  <a:pt x="11980" y="9842"/>
                </a:cubicBezTo>
                <a:cubicBezTo>
                  <a:pt x="12008" y="9879"/>
                  <a:pt x="12000" y="9909"/>
                  <a:pt x="12023" y="9948"/>
                </a:cubicBezTo>
                <a:cubicBezTo>
                  <a:pt x="12040" y="9968"/>
                  <a:pt x="12082" y="9986"/>
                  <a:pt x="12107" y="10033"/>
                </a:cubicBezTo>
                <a:cubicBezTo>
                  <a:pt x="12107" y="10047"/>
                  <a:pt x="12107" y="10061"/>
                  <a:pt x="12107" y="10075"/>
                </a:cubicBezTo>
                <a:cubicBezTo>
                  <a:pt x="12126" y="10105"/>
                  <a:pt x="12125" y="10114"/>
                  <a:pt x="12150" y="10139"/>
                </a:cubicBezTo>
                <a:cubicBezTo>
                  <a:pt x="12182" y="10171"/>
                  <a:pt x="12209" y="10164"/>
                  <a:pt x="12234" y="10202"/>
                </a:cubicBezTo>
                <a:cubicBezTo>
                  <a:pt x="12262" y="10245"/>
                  <a:pt x="12258" y="10266"/>
                  <a:pt x="12277" y="10308"/>
                </a:cubicBezTo>
                <a:cubicBezTo>
                  <a:pt x="12289" y="10333"/>
                  <a:pt x="12314" y="10383"/>
                  <a:pt x="12319" y="10393"/>
                </a:cubicBezTo>
                <a:cubicBezTo>
                  <a:pt x="12328" y="10413"/>
                  <a:pt x="12356" y="10444"/>
                  <a:pt x="12361" y="10456"/>
                </a:cubicBezTo>
                <a:cubicBezTo>
                  <a:pt x="12378" y="10494"/>
                  <a:pt x="12386" y="10540"/>
                  <a:pt x="12404" y="10583"/>
                </a:cubicBezTo>
                <a:cubicBezTo>
                  <a:pt x="12412" y="10603"/>
                  <a:pt x="12452" y="10669"/>
                  <a:pt x="12446" y="10689"/>
                </a:cubicBezTo>
                <a:cubicBezTo>
                  <a:pt x="12425" y="10759"/>
                  <a:pt x="12444" y="10730"/>
                  <a:pt x="12404" y="10774"/>
                </a:cubicBezTo>
                <a:cubicBezTo>
                  <a:pt x="12387" y="10793"/>
                  <a:pt x="12323" y="10800"/>
                  <a:pt x="12298" y="10816"/>
                </a:cubicBezTo>
                <a:cubicBezTo>
                  <a:pt x="12259" y="10840"/>
                  <a:pt x="12224" y="10852"/>
                  <a:pt x="12192" y="10880"/>
                </a:cubicBezTo>
                <a:cubicBezTo>
                  <a:pt x="12177" y="10893"/>
                  <a:pt x="12152" y="10942"/>
                  <a:pt x="12150" y="10943"/>
                </a:cubicBezTo>
                <a:cubicBezTo>
                  <a:pt x="12110" y="10967"/>
                  <a:pt x="12049" y="10992"/>
                  <a:pt x="12001" y="11007"/>
                </a:cubicBezTo>
                <a:cubicBezTo>
                  <a:pt x="11945" y="11024"/>
                  <a:pt x="11884" y="11004"/>
                  <a:pt x="11832" y="11028"/>
                </a:cubicBezTo>
                <a:cubicBezTo>
                  <a:pt x="11805" y="11041"/>
                  <a:pt x="11780" y="11061"/>
                  <a:pt x="11747" y="11091"/>
                </a:cubicBezTo>
                <a:cubicBezTo>
                  <a:pt x="11735" y="11102"/>
                  <a:pt x="11696" y="11168"/>
                  <a:pt x="11684" y="11176"/>
                </a:cubicBezTo>
                <a:cubicBezTo>
                  <a:pt x="11670" y="11176"/>
                  <a:pt x="11656" y="11176"/>
                  <a:pt x="11642" y="11176"/>
                </a:cubicBezTo>
                <a:cubicBezTo>
                  <a:pt x="11618" y="11200"/>
                  <a:pt x="11613" y="11212"/>
                  <a:pt x="11578" y="11239"/>
                </a:cubicBezTo>
                <a:cubicBezTo>
                  <a:pt x="11536" y="11272"/>
                  <a:pt x="11508" y="11292"/>
                  <a:pt x="11472" y="11324"/>
                </a:cubicBezTo>
                <a:cubicBezTo>
                  <a:pt x="11472" y="11354"/>
                  <a:pt x="11464" y="11365"/>
                  <a:pt x="11430" y="11366"/>
                </a:cubicBezTo>
              </a:path>
              <a:path w="7663" h="11939">
                <a:moveTo>
                  <a:pt x="11472" y="11366"/>
                </a:moveTo>
                <a:cubicBezTo>
                  <a:pt x="11453" y="11386"/>
                  <a:pt x="11446" y="11390"/>
                  <a:pt x="11451" y="11409"/>
                </a:cubicBezTo>
                <a:cubicBezTo>
                  <a:pt x="11537" y="11437"/>
                  <a:pt x="11487" y="11389"/>
                  <a:pt x="11515" y="11472"/>
                </a:cubicBezTo>
                <a:cubicBezTo>
                  <a:pt x="11524" y="11500"/>
                  <a:pt x="11529" y="11529"/>
                  <a:pt x="11536" y="11557"/>
                </a:cubicBezTo>
                <a:cubicBezTo>
                  <a:pt x="11554" y="11573"/>
                  <a:pt x="11590" y="11595"/>
                  <a:pt x="11620" y="11620"/>
                </a:cubicBezTo>
                <a:cubicBezTo>
                  <a:pt x="11669" y="11661"/>
                  <a:pt x="11717" y="11726"/>
                  <a:pt x="11747" y="11769"/>
                </a:cubicBezTo>
                <a:cubicBezTo>
                  <a:pt x="11747" y="11793"/>
                  <a:pt x="11749" y="11802"/>
                  <a:pt x="11769" y="11811"/>
                </a:cubicBezTo>
                <a:cubicBezTo>
                  <a:pt x="11699" y="11748"/>
                  <a:pt x="11749" y="11810"/>
                  <a:pt x="11769" y="11832"/>
                </a:cubicBezTo>
                <a:cubicBezTo>
                  <a:pt x="11790" y="11832"/>
                  <a:pt x="11797" y="11832"/>
                  <a:pt x="11790" y="11853"/>
                </a:cubicBezTo>
                <a:cubicBezTo>
                  <a:pt x="11733" y="11871"/>
                  <a:pt x="11734" y="11828"/>
                  <a:pt x="11811" y="11874"/>
                </a:cubicBezTo>
                <a:cubicBezTo>
                  <a:pt x="11838" y="11890"/>
                  <a:pt x="11875" y="11905"/>
                  <a:pt x="11896" y="11938"/>
                </a:cubicBezTo>
                <a:cubicBezTo>
                  <a:pt x="11919" y="11974"/>
                  <a:pt x="11916" y="12017"/>
                  <a:pt x="11959" y="12044"/>
                </a:cubicBezTo>
                <a:cubicBezTo>
                  <a:pt x="11991" y="12064"/>
                  <a:pt x="12046" y="12082"/>
                  <a:pt x="12086" y="12107"/>
                </a:cubicBezTo>
                <a:cubicBezTo>
                  <a:pt x="12112" y="12124"/>
                  <a:pt x="12137" y="12160"/>
                  <a:pt x="12150" y="12171"/>
                </a:cubicBezTo>
                <a:cubicBezTo>
                  <a:pt x="12191" y="12197"/>
                  <a:pt x="12199" y="12188"/>
                  <a:pt x="12234" y="12234"/>
                </a:cubicBezTo>
                <a:cubicBezTo>
                  <a:pt x="12253" y="12253"/>
                  <a:pt x="12260" y="12258"/>
                  <a:pt x="12255" y="12277"/>
                </a:cubicBezTo>
                <a:cubicBezTo>
                  <a:pt x="12271" y="12293"/>
                  <a:pt x="12322" y="12323"/>
                  <a:pt x="12340" y="12340"/>
                </a:cubicBezTo>
                <a:cubicBezTo>
                  <a:pt x="12355" y="12354"/>
                  <a:pt x="12414" y="12402"/>
                  <a:pt x="12425" y="12425"/>
                </a:cubicBezTo>
                <a:cubicBezTo>
                  <a:pt x="12443" y="12464"/>
                  <a:pt x="12474" y="12501"/>
                  <a:pt x="12488" y="12531"/>
                </a:cubicBezTo>
                <a:cubicBezTo>
                  <a:pt x="12488" y="12538"/>
                  <a:pt x="12488" y="12545"/>
                  <a:pt x="12488" y="12552"/>
                </a:cubicBezTo>
                <a:cubicBezTo>
                  <a:pt x="12498" y="12561"/>
                  <a:pt x="12535" y="12626"/>
                  <a:pt x="12552" y="12636"/>
                </a:cubicBezTo>
                <a:cubicBezTo>
                  <a:pt x="12566" y="12636"/>
                  <a:pt x="12580" y="12636"/>
                  <a:pt x="12594" y="12636"/>
                </a:cubicBezTo>
                <a:cubicBezTo>
                  <a:pt x="12616" y="12696"/>
                  <a:pt x="12593" y="12662"/>
                  <a:pt x="12615" y="12721"/>
                </a:cubicBezTo>
                <a:cubicBezTo>
                  <a:pt x="12620" y="12729"/>
                  <a:pt x="12656" y="12791"/>
                  <a:pt x="12679" y="12806"/>
                </a:cubicBezTo>
                <a:cubicBezTo>
                  <a:pt x="12686" y="12806"/>
                  <a:pt x="12693" y="12806"/>
                  <a:pt x="12700" y="12806"/>
                </a:cubicBezTo>
                <a:cubicBezTo>
                  <a:pt x="12716" y="12841"/>
                  <a:pt x="12720" y="12871"/>
                  <a:pt x="12742" y="12912"/>
                </a:cubicBezTo>
                <a:cubicBezTo>
                  <a:pt x="12765" y="12955"/>
                  <a:pt x="12810" y="13026"/>
                  <a:pt x="12848" y="13060"/>
                </a:cubicBezTo>
                <a:cubicBezTo>
                  <a:pt x="12867" y="13079"/>
                  <a:pt x="12871" y="13086"/>
                  <a:pt x="12890" y="13081"/>
                </a:cubicBezTo>
                <a:cubicBezTo>
                  <a:pt x="12906" y="13101"/>
                  <a:pt x="12927" y="13134"/>
                  <a:pt x="12954" y="13166"/>
                </a:cubicBezTo>
                <a:cubicBezTo>
                  <a:pt x="12983" y="13201"/>
                  <a:pt x="13001" y="13189"/>
                  <a:pt x="13039" y="13208"/>
                </a:cubicBezTo>
                <a:cubicBezTo>
                  <a:pt x="13039" y="13236"/>
                  <a:pt x="13039" y="13250"/>
                  <a:pt x="13039" y="13271"/>
                </a:cubicBezTo>
              </a:path>
              <a:path w="7663" h="11939">
                <a:moveTo>
                  <a:pt x="12890" y="13166"/>
                </a:moveTo>
                <a:cubicBezTo>
                  <a:pt x="12918" y="13166"/>
                  <a:pt x="12947" y="13166"/>
                  <a:pt x="12975" y="13166"/>
                </a:cubicBezTo>
              </a:path>
              <a:path w="7663" h="11939">
                <a:moveTo>
                  <a:pt x="13102" y="13335"/>
                </a:moveTo>
                <a:cubicBezTo>
                  <a:pt x="13088" y="13335"/>
                  <a:pt x="13074" y="13335"/>
                  <a:pt x="13060" y="13335"/>
                </a:cubicBezTo>
                <a:cubicBezTo>
                  <a:pt x="13187" y="13335"/>
                  <a:pt x="13068" y="13309"/>
                  <a:pt x="13081" y="13377"/>
                </a:cubicBezTo>
                <a:cubicBezTo>
                  <a:pt x="13091" y="13429"/>
                  <a:pt x="13112" y="13483"/>
                  <a:pt x="13144" y="13525"/>
                </a:cubicBezTo>
                <a:cubicBezTo>
                  <a:pt x="13159" y="13545"/>
                  <a:pt x="13225" y="13598"/>
                  <a:pt x="13229" y="13610"/>
                </a:cubicBezTo>
                <a:cubicBezTo>
                  <a:pt x="13242" y="13646"/>
                  <a:pt x="13260" y="13683"/>
                  <a:pt x="13271" y="13716"/>
                </a:cubicBezTo>
                <a:cubicBezTo>
                  <a:pt x="13271" y="13730"/>
                  <a:pt x="13271" y="13744"/>
                  <a:pt x="13271" y="13758"/>
                </a:cubicBezTo>
                <a:cubicBezTo>
                  <a:pt x="13323" y="13775"/>
                  <a:pt x="13309" y="13769"/>
                  <a:pt x="13335" y="13801"/>
                </a:cubicBezTo>
                <a:cubicBezTo>
                  <a:pt x="13341" y="13852"/>
                  <a:pt x="13354" y="13846"/>
                  <a:pt x="13356" y="13906"/>
                </a:cubicBezTo>
                <a:cubicBezTo>
                  <a:pt x="13359" y="13982"/>
                  <a:pt x="13348" y="14053"/>
                  <a:pt x="13377" y="14118"/>
                </a:cubicBezTo>
                <a:cubicBezTo>
                  <a:pt x="13396" y="14162"/>
                  <a:pt x="13422" y="14203"/>
                  <a:pt x="13441" y="14245"/>
                </a:cubicBezTo>
                <a:cubicBezTo>
                  <a:pt x="13455" y="14277"/>
                  <a:pt x="13451" y="14319"/>
                  <a:pt x="13462" y="14351"/>
                </a:cubicBezTo>
                <a:cubicBezTo>
                  <a:pt x="13478" y="14398"/>
                  <a:pt x="13489" y="14433"/>
                  <a:pt x="13504" y="14478"/>
                </a:cubicBezTo>
                <a:cubicBezTo>
                  <a:pt x="13517" y="14518"/>
                  <a:pt x="13548" y="14547"/>
                  <a:pt x="13568" y="14584"/>
                </a:cubicBezTo>
                <a:cubicBezTo>
                  <a:pt x="13583" y="14611"/>
                  <a:pt x="13593" y="14640"/>
                  <a:pt x="13610" y="14668"/>
                </a:cubicBezTo>
                <a:cubicBezTo>
                  <a:pt x="13634" y="14707"/>
                  <a:pt x="13663" y="14740"/>
                  <a:pt x="13695" y="14774"/>
                </a:cubicBezTo>
                <a:cubicBezTo>
                  <a:pt x="13716" y="14795"/>
                  <a:pt x="13723" y="14802"/>
                  <a:pt x="13737" y="14817"/>
                </a:cubicBezTo>
              </a:path>
              <a:path w="7663" h="11939">
                <a:moveTo>
                  <a:pt x="13039" y="13250"/>
                </a:moveTo>
                <a:cubicBezTo>
                  <a:pt x="13072" y="13308"/>
                  <a:pt x="13077" y="13318"/>
                  <a:pt x="13123" y="13356"/>
                </a:cubicBezTo>
                <a:cubicBezTo>
                  <a:pt x="13130" y="13363"/>
                  <a:pt x="13137" y="13370"/>
                  <a:pt x="13144" y="13377"/>
                </a:cubicBezTo>
              </a:path>
            </a:pathLst>
          </a:custGeom>
          <a:noFill/>
          <a:ln cap="rnd"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Ink 28"/>
          <p:cNvSpPr/>
          <p:nvPr/>
        </p:nvSpPr>
        <p:spPr>
          <a:xfrm>
            <a:off x="1714680" y="2065320"/>
            <a:ext cx="2773080" cy="4084560"/>
          </a:xfrm>
          <a:custGeom>
            <a:avLst/>
            <a:gdLst/>
            <a:ahLst/>
            <a:rect l="l" t="t" r="r" b="b"/>
            <a:pathLst>
              <a:path w="7706" h="11346">
                <a:moveTo>
                  <a:pt x="5567" y="7959"/>
                </a:moveTo>
                <a:cubicBezTo>
                  <a:pt x="5574" y="7959"/>
                  <a:pt x="5581" y="7959"/>
                  <a:pt x="5588" y="7959"/>
                </a:cubicBezTo>
                <a:cubicBezTo>
                  <a:pt x="5588" y="7987"/>
                  <a:pt x="5588" y="8015"/>
                  <a:pt x="5588" y="8043"/>
                </a:cubicBezTo>
                <a:cubicBezTo>
                  <a:pt x="5547" y="8050"/>
                  <a:pt x="5527" y="8048"/>
                  <a:pt x="5482" y="8064"/>
                </a:cubicBezTo>
                <a:cubicBezTo>
                  <a:pt x="5422" y="8085"/>
                  <a:pt x="5417" y="8122"/>
                  <a:pt x="5376" y="8149"/>
                </a:cubicBezTo>
                <a:cubicBezTo>
                  <a:pt x="5355" y="8163"/>
                  <a:pt x="5319" y="8154"/>
                  <a:pt x="5292" y="8170"/>
                </a:cubicBezTo>
              </a:path>
              <a:path w="7706" h="11346">
                <a:moveTo>
                  <a:pt x="7556" y="12086"/>
                </a:moveTo>
                <a:cubicBezTo>
                  <a:pt x="7584" y="12086"/>
                  <a:pt x="7613" y="12086"/>
                  <a:pt x="7641" y="12086"/>
                </a:cubicBezTo>
                <a:cubicBezTo>
                  <a:pt x="7641" y="12107"/>
                  <a:pt x="7641" y="12129"/>
                  <a:pt x="7641" y="12150"/>
                </a:cubicBezTo>
                <a:cubicBezTo>
                  <a:pt x="7662" y="12150"/>
                  <a:pt x="7684" y="12150"/>
                  <a:pt x="7705" y="12150"/>
                </a:cubicBezTo>
                <a:cubicBezTo>
                  <a:pt x="7705" y="12178"/>
                  <a:pt x="7705" y="12206"/>
                  <a:pt x="7705" y="12234"/>
                </a:cubicBezTo>
                <a:cubicBezTo>
                  <a:pt x="7737" y="12245"/>
                  <a:pt x="7726" y="12260"/>
                  <a:pt x="7726" y="12298"/>
                </a:cubicBezTo>
                <a:cubicBezTo>
                  <a:pt x="7726" y="12460"/>
                  <a:pt x="7726" y="12623"/>
                  <a:pt x="7726" y="12785"/>
                </a:cubicBezTo>
                <a:cubicBezTo>
                  <a:pt x="7726" y="12763"/>
                  <a:pt x="7726" y="12756"/>
                  <a:pt x="7726" y="12742"/>
                </a:cubicBezTo>
              </a:path>
              <a:path w="7706" h="11346">
                <a:moveTo>
                  <a:pt x="7641" y="12636"/>
                </a:moveTo>
                <a:cubicBezTo>
                  <a:pt x="7641" y="12736"/>
                  <a:pt x="7607" y="12926"/>
                  <a:pt x="7683" y="12975"/>
                </a:cubicBezTo>
                <a:cubicBezTo>
                  <a:pt x="7710" y="12993"/>
                  <a:pt x="7752" y="12942"/>
                  <a:pt x="7789" y="12954"/>
                </a:cubicBezTo>
                <a:cubicBezTo>
                  <a:pt x="7811" y="12974"/>
                  <a:pt x="7816" y="12986"/>
                  <a:pt x="7853" y="13017"/>
                </a:cubicBezTo>
                <a:cubicBezTo>
                  <a:pt x="7879" y="13039"/>
                  <a:pt x="7940" y="13046"/>
                  <a:pt x="7959" y="13081"/>
                </a:cubicBezTo>
                <a:cubicBezTo>
                  <a:pt x="7990" y="13137"/>
                  <a:pt x="7962" y="13179"/>
                  <a:pt x="8001" y="13229"/>
                </a:cubicBezTo>
                <a:cubicBezTo>
                  <a:pt x="8020" y="13248"/>
                  <a:pt x="8024" y="13255"/>
                  <a:pt x="8043" y="13250"/>
                </a:cubicBezTo>
                <a:cubicBezTo>
                  <a:pt x="8067" y="13276"/>
                  <a:pt x="8065" y="13279"/>
                  <a:pt x="8107" y="13314"/>
                </a:cubicBezTo>
                <a:cubicBezTo>
                  <a:pt x="8141" y="13343"/>
                  <a:pt x="8156" y="13374"/>
                  <a:pt x="8191" y="13398"/>
                </a:cubicBezTo>
                <a:cubicBezTo>
                  <a:pt x="8198" y="13398"/>
                  <a:pt x="8206" y="13398"/>
                  <a:pt x="8213" y="13398"/>
                </a:cubicBezTo>
                <a:cubicBezTo>
                  <a:pt x="8231" y="13435"/>
                  <a:pt x="8201" y="13493"/>
                  <a:pt x="8234" y="13525"/>
                </a:cubicBezTo>
                <a:cubicBezTo>
                  <a:pt x="8264" y="13554"/>
                  <a:pt x="8285" y="13570"/>
                  <a:pt x="8318" y="13589"/>
                </a:cubicBezTo>
                <a:cubicBezTo>
                  <a:pt x="8380" y="13625"/>
                  <a:pt x="8467" y="13631"/>
                  <a:pt x="8530" y="13652"/>
                </a:cubicBezTo>
                <a:cubicBezTo>
                  <a:pt x="8558" y="13661"/>
                  <a:pt x="8608" y="13683"/>
                  <a:pt x="8636" y="13695"/>
                </a:cubicBezTo>
                <a:cubicBezTo>
                  <a:pt x="8656" y="13703"/>
                  <a:pt x="8698" y="13737"/>
                  <a:pt x="8699" y="13737"/>
                </a:cubicBezTo>
                <a:cubicBezTo>
                  <a:pt x="8735" y="13759"/>
                  <a:pt x="8750" y="13771"/>
                  <a:pt x="8784" y="13801"/>
                </a:cubicBezTo>
                <a:cubicBezTo>
                  <a:pt x="8801" y="13822"/>
                  <a:pt x="8822" y="13848"/>
                  <a:pt x="8848" y="13885"/>
                </a:cubicBezTo>
                <a:cubicBezTo>
                  <a:pt x="8871" y="13917"/>
                  <a:pt x="8879" y="13941"/>
                  <a:pt x="8911" y="13970"/>
                </a:cubicBezTo>
                <a:cubicBezTo>
                  <a:pt x="8966" y="14020"/>
                  <a:pt x="9002" y="14043"/>
                  <a:pt x="9059" y="14076"/>
                </a:cubicBezTo>
                <a:cubicBezTo>
                  <a:pt x="9092" y="14095"/>
                  <a:pt x="9133" y="14101"/>
                  <a:pt x="9165" y="14118"/>
                </a:cubicBezTo>
                <a:cubicBezTo>
                  <a:pt x="9171" y="14141"/>
                  <a:pt x="9173" y="14143"/>
                  <a:pt x="9186" y="14160"/>
                </a:cubicBezTo>
                <a:cubicBezTo>
                  <a:pt x="9236" y="14182"/>
                  <a:pt x="9259" y="14170"/>
                  <a:pt x="9313" y="14203"/>
                </a:cubicBezTo>
                <a:cubicBezTo>
                  <a:pt x="9370" y="14237"/>
                  <a:pt x="9352" y="14247"/>
                  <a:pt x="9398" y="14287"/>
                </a:cubicBezTo>
                <a:cubicBezTo>
                  <a:pt x="9429" y="14314"/>
                  <a:pt x="9457" y="14330"/>
                  <a:pt x="9483" y="14372"/>
                </a:cubicBezTo>
                <a:cubicBezTo>
                  <a:pt x="9509" y="14414"/>
                  <a:pt x="9484" y="14411"/>
                  <a:pt x="9504" y="14457"/>
                </a:cubicBezTo>
                <a:cubicBezTo>
                  <a:pt x="9508" y="14492"/>
                  <a:pt x="9524" y="14506"/>
                  <a:pt x="9525" y="14541"/>
                </a:cubicBezTo>
                <a:cubicBezTo>
                  <a:pt x="9526" y="14591"/>
                  <a:pt x="9523" y="14640"/>
                  <a:pt x="9525" y="14690"/>
                </a:cubicBezTo>
                <a:cubicBezTo>
                  <a:pt x="9555" y="14696"/>
                  <a:pt x="9581" y="14708"/>
                  <a:pt x="9588" y="14711"/>
                </a:cubicBezTo>
                <a:cubicBezTo>
                  <a:pt x="9593" y="14726"/>
                  <a:pt x="9620" y="14801"/>
                  <a:pt x="9631" y="14838"/>
                </a:cubicBezTo>
                <a:cubicBezTo>
                  <a:pt x="9646" y="14887"/>
                  <a:pt x="9655" y="14941"/>
                  <a:pt x="9673" y="14986"/>
                </a:cubicBezTo>
                <a:cubicBezTo>
                  <a:pt x="9688" y="15023"/>
                  <a:pt x="9730" y="15052"/>
                  <a:pt x="9737" y="15092"/>
                </a:cubicBezTo>
                <a:cubicBezTo>
                  <a:pt x="9748" y="15156"/>
                  <a:pt x="9737" y="15204"/>
                  <a:pt x="9758" y="15261"/>
                </a:cubicBezTo>
                <a:cubicBezTo>
                  <a:pt x="9777" y="15312"/>
                  <a:pt x="9803" y="15354"/>
                  <a:pt x="9821" y="15409"/>
                </a:cubicBezTo>
                <a:cubicBezTo>
                  <a:pt x="9836" y="15453"/>
                  <a:pt x="9852" y="15509"/>
                  <a:pt x="9864" y="15536"/>
                </a:cubicBezTo>
                <a:cubicBezTo>
                  <a:pt x="9882" y="15579"/>
                  <a:pt x="9913" y="15603"/>
                  <a:pt x="9927" y="15642"/>
                </a:cubicBezTo>
                <a:cubicBezTo>
                  <a:pt x="9927" y="15670"/>
                  <a:pt x="9927" y="15685"/>
                  <a:pt x="9927" y="15706"/>
                </a:cubicBezTo>
                <a:cubicBezTo>
                  <a:pt x="9934" y="15717"/>
                  <a:pt x="9934" y="15769"/>
                  <a:pt x="9948" y="15790"/>
                </a:cubicBezTo>
                <a:cubicBezTo>
                  <a:pt x="9961" y="15810"/>
                  <a:pt x="10010" y="15875"/>
                  <a:pt x="10033" y="15896"/>
                </a:cubicBezTo>
                <a:cubicBezTo>
                  <a:pt x="10058" y="15919"/>
                  <a:pt x="10102" y="15908"/>
                  <a:pt x="10118" y="15938"/>
                </a:cubicBezTo>
                <a:cubicBezTo>
                  <a:pt x="10133" y="15967"/>
                  <a:pt x="10146" y="15998"/>
                  <a:pt x="10160" y="16023"/>
                </a:cubicBezTo>
                <a:cubicBezTo>
                  <a:pt x="10178" y="16056"/>
                  <a:pt x="10182" y="16109"/>
                  <a:pt x="10202" y="16150"/>
                </a:cubicBezTo>
                <a:cubicBezTo>
                  <a:pt x="10213" y="16173"/>
                  <a:pt x="10204" y="16215"/>
                  <a:pt x="10223" y="16235"/>
                </a:cubicBezTo>
                <a:cubicBezTo>
                  <a:pt x="10255" y="16269"/>
                  <a:pt x="10290" y="16286"/>
                  <a:pt x="10329" y="16298"/>
                </a:cubicBezTo>
                <a:cubicBezTo>
                  <a:pt x="10518" y="16356"/>
                  <a:pt x="10754" y="16271"/>
                  <a:pt x="10943" y="16319"/>
                </a:cubicBezTo>
                <a:cubicBezTo>
                  <a:pt x="10992" y="16331"/>
                  <a:pt x="11039" y="16363"/>
                  <a:pt x="11091" y="16383"/>
                </a:cubicBezTo>
                <a:cubicBezTo>
                  <a:pt x="11133" y="16399"/>
                  <a:pt x="11178" y="16427"/>
                  <a:pt x="11218" y="16446"/>
                </a:cubicBezTo>
                <a:cubicBezTo>
                  <a:pt x="11265" y="16469"/>
                  <a:pt x="11286" y="16494"/>
                  <a:pt x="11324" y="16510"/>
                </a:cubicBezTo>
                <a:cubicBezTo>
                  <a:pt x="11353" y="16522"/>
                  <a:pt x="11440" y="16544"/>
                  <a:pt x="11472" y="16552"/>
                </a:cubicBezTo>
                <a:cubicBezTo>
                  <a:pt x="11505" y="16560"/>
                  <a:pt x="11526" y="16563"/>
                  <a:pt x="11557" y="16573"/>
                </a:cubicBezTo>
                <a:cubicBezTo>
                  <a:pt x="11590" y="16583"/>
                  <a:pt x="11635" y="16609"/>
                  <a:pt x="11663" y="16616"/>
                </a:cubicBezTo>
                <a:cubicBezTo>
                  <a:pt x="11677" y="16616"/>
                  <a:pt x="11691" y="16616"/>
                  <a:pt x="11705" y="16616"/>
                </a:cubicBezTo>
                <a:cubicBezTo>
                  <a:pt x="11717" y="16662"/>
                  <a:pt x="11721" y="16665"/>
                  <a:pt x="11747" y="16700"/>
                </a:cubicBezTo>
                <a:cubicBezTo>
                  <a:pt x="11782" y="16717"/>
                  <a:pt x="11793" y="16730"/>
                  <a:pt x="11832" y="16743"/>
                </a:cubicBezTo>
                <a:cubicBezTo>
                  <a:pt x="11862" y="16753"/>
                  <a:pt x="11885" y="16776"/>
                  <a:pt x="11917" y="16785"/>
                </a:cubicBezTo>
                <a:cubicBezTo>
                  <a:pt x="11945" y="16785"/>
                  <a:pt x="11959" y="16785"/>
                  <a:pt x="11980" y="16785"/>
                </a:cubicBezTo>
                <a:cubicBezTo>
                  <a:pt x="11998" y="16807"/>
                  <a:pt x="12049" y="16844"/>
                  <a:pt x="12065" y="16870"/>
                </a:cubicBezTo>
                <a:cubicBezTo>
                  <a:pt x="12065" y="16877"/>
                  <a:pt x="12065" y="16884"/>
                  <a:pt x="12065" y="16891"/>
                </a:cubicBezTo>
                <a:cubicBezTo>
                  <a:pt x="12122" y="16907"/>
                  <a:pt x="12179" y="16915"/>
                  <a:pt x="12234" y="16933"/>
                </a:cubicBezTo>
                <a:cubicBezTo>
                  <a:pt x="12246" y="16937"/>
                  <a:pt x="12354" y="16972"/>
                  <a:pt x="12361" y="16976"/>
                </a:cubicBezTo>
                <a:cubicBezTo>
                  <a:pt x="12401" y="17003"/>
                  <a:pt x="12429" y="17051"/>
                  <a:pt x="12467" y="17081"/>
                </a:cubicBezTo>
              </a:path>
              <a:path w="7706" h="11346">
                <a:moveTo>
                  <a:pt x="6181" y="5736"/>
                </a:moveTo>
                <a:cubicBezTo>
                  <a:pt x="6188" y="5736"/>
                  <a:pt x="6195" y="5736"/>
                  <a:pt x="6202" y="5736"/>
                </a:cubicBezTo>
                <a:cubicBezTo>
                  <a:pt x="6189" y="5771"/>
                  <a:pt x="6165" y="5808"/>
                  <a:pt x="6159" y="5842"/>
                </a:cubicBezTo>
                <a:cubicBezTo>
                  <a:pt x="6149" y="5898"/>
                  <a:pt x="6165" y="5946"/>
                  <a:pt x="6181" y="5990"/>
                </a:cubicBezTo>
                <a:cubicBezTo>
                  <a:pt x="6198" y="6039"/>
                  <a:pt x="6216" y="6048"/>
                  <a:pt x="6223" y="6096"/>
                </a:cubicBezTo>
                <a:cubicBezTo>
                  <a:pt x="6231" y="6150"/>
                  <a:pt x="6222" y="6201"/>
                  <a:pt x="6202" y="6244"/>
                </a:cubicBezTo>
                <a:cubicBezTo>
                  <a:pt x="6183" y="6285"/>
                  <a:pt x="6158" y="6328"/>
                  <a:pt x="6138" y="6371"/>
                </a:cubicBezTo>
                <a:cubicBezTo>
                  <a:pt x="6122" y="6405"/>
                  <a:pt x="6091" y="6441"/>
                  <a:pt x="6075" y="6477"/>
                </a:cubicBezTo>
                <a:cubicBezTo>
                  <a:pt x="6061" y="6508"/>
                  <a:pt x="6020" y="6551"/>
                  <a:pt x="6011" y="6583"/>
                </a:cubicBezTo>
                <a:cubicBezTo>
                  <a:pt x="5987" y="6665"/>
                  <a:pt x="6018" y="6627"/>
                  <a:pt x="5948" y="6689"/>
                </a:cubicBezTo>
                <a:cubicBezTo>
                  <a:pt x="5938" y="6698"/>
                  <a:pt x="5899" y="6786"/>
                  <a:pt x="5884" y="6794"/>
                </a:cubicBezTo>
                <a:cubicBezTo>
                  <a:pt x="5870" y="6794"/>
                  <a:pt x="5856" y="6794"/>
                  <a:pt x="5842" y="6794"/>
                </a:cubicBezTo>
                <a:cubicBezTo>
                  <a:pt x="5814" y="6831"/>
                  <a:pt x="5808" y="6848"/>
                  <a:pt x="5778" y="6900"/>
                </a:cubicBezTo>
                <a:cubicBezTo>
                  <a:pt x="5757" y="6936"/>
                  <a:pt x="5732" y="6971"/>
                  <a:pt x="5715" y="7006"/>
                </a:cubicBezTo>
                <a:cubicBezTo>
                  <a:pt x="5701" y="7035"/>
                  <a:pt x="5655" y="7104"/>
                  <a:pt x="5651" y="7133"/>
                </a:cubicBezTo>
                <a:cubicBezTo>
                  <a:pt x="5631" y="7267"/>
                  <a:pt x="5671" y="7412"/>
                  <a:pt x="5630" y="7535"/>
                </a:cubicBezTo>
                <a:cubicBezTo>
                  <a:pt x="5619" y="7568"/>
                  <a:pt x="5619" y="7608"/>
                  <a:pt x="5609" y="7641"/>
                </a:cubicBezTo>
                <a:cubicBezTo>
                  <a:pt x="5598" y="7676"/>
                  <a:pt x="5572" y="7730"/>
                  <a:pt x="5567" y="7768"/>
                </a:cubicBezTo>
                <a:cubicBezTo>
                  <a:pt x="5558" y="7835"/>
                  <a:pt x="5567" y="7912"/>
                  <a:pt x="5567" y="7980"/>
                </a:cubicBezTo>
              </a:path>
              <a:path w="7706" h="11346">
                <a:moveTo>
                  <a:pt x="5292" y="8170"/>
                </a:moveTo>
                <a:cubicBezTo>
                  <a:pt x="5271" y="8202"/>
                  <a:pt x="5244" y="8224"/>
                  <a:pt x="5228" y="8255"/>
                </a:cubicBezTo>
                <a:cubicBezTo>
                  <a:pt x="5211" y="8289"/>
                  <a:pt x="5192" y="8327"/>
                  <a:pt x="5186" y="8361"/>
                </a:cubicBezTo>
                <a:cubicBezTo>
                  <a:pt x="5164" y="8482"/>
                  <a:pt x="5241" y="8710"/>
                  <a:pt x="5165" y="8805"/>
                </a:cubicBezTo>
                <a:cubicBezTo>
                  <a:pt x="5142" y="8834"/>
                  <a:pt x="5089" y="8836"/>
                  <a:pt x="5059" y="8869"/>
                </a:cubicBezTo>
                <a:cubicBezTo>
                  <a:pt x="5028" y="8903"/>
                  <a:pt x="5006" y="8941"/>
                  <a:pt x="4974" y="8975"/>
                </a:cubicBezTo>
                <a:cubicBezTo>
                  <a:pt x="4947" y="9003"/>
                  <a:pt x="4912" y="9026"/>
                  <a:pt x="4889" y="9059"/>
                </a:cubicBezTo>
                <a:cubicBezTo>
                  <a:pt x="4870" y="9087"/>
                  <a:pt x="4833" y="9125"/>
                  <a:pt x="4826" y="9165"/>
                </a:cubicBezTo>
                <a:cubicBezTo>
                  <a:pt x="4817" y="9215"/>
                  <a:pt x="4836" y="9234"/>
                  <a:pt x="4847" y="9271"/>
                </a:cubicBezTo>
                <a:cubicBezTo>
                  <a:pt x="4861" y="9317"/>
                  <a:pt x="4902" y="9353"/>
                  <a:pt x="4911" y="9398"/>
                </a:cubicBezTo>
                <a:cubicBezTo>
                  <a:pt x="4924" y="9459"/>
                  <a:pt x="4937" y="9484"/>
                  <a:pt x="4953" y="9525"/>
                </a:cubicBezTo>
                <a:cubicBezTo>
                  <a:pt x="4962" y="9550"/>
                  <a:pt x="4963" y="9587"/>
                  <a:pt x="4974" y="9610"/>
                </a:cubicBezTo>
                <a:cubicBezTo>
                  <a:pt x="4988" y="9639"/>
                  <a:pt x="5017" y="9715"/>
                  <a:pt x="5038" y="9737"/>
                </a:cubicBezTo>
                <a:cubicBezTo>
                  <a:pt x="5062" y="9761"/>
                  <a:pt x="5073" y="9768"/>
                  <a:pt x="5101" y="9758"/>
                </a:cubicBezTo>
                <a:cubicBezTo>
                  <a:pt x="5117" y="9795"/>
                  <a:pt x="5158" y="9816"/>
                  <a:pt x="5165" y="9842"/>
                </a:cubicBezTo>
                <a:cubicBezTo>
                  <a:pt x="5191" y="9935"/>
                  <a:pt x="5142" y="9998"/>
                  <a:pt x="5122" y="10054"/>
                </a:cubicBezTo>
                <a:cubicBezTo>
                  <a:pt x="5112" y="10083"/>
                  <a:pt x="5097" y="10130"/>
                  <a:pt x="5080" y="10160"/>
                </a:cubicBezTo>
                <a:cubicBezTo>
                  <a:pt x="5048" y="10216"/>
                  <a:pt x="5010" y="10216"/>
                  <a:pt x="4974" y="10245"/>
                </a:cubicBezTo>
                <a:cubicBezTo>
                  <a:pt x="4968" y="10287"/>
                  <a:pt x="4956" y="10306"/>
                  <a:pt x="4953" y="10350"/>
                </a:cubicBezTo>
                <a:cubicBezTo>
                  <a:pt x="4947" y="10428"/>
                  <a:pt x="4947" y="10450"/>
                  <a:pt x="4911" y="10520"/>
                </a:cubicBezTo>
                <a:cubicBezTo>
                  <a:pt x="4903" y="10536"/>
                  <a:pt x="4856" y="10595"/>
                  <a:pt x="4847" y="10604"/>
                </a:cubicBezTo>
                <a:cubicBezTo>
                  <a:pt x="4813" y="10641"/>
                  <a:pt x="4800" y="10635"/>
                  <a:pt x="4762" y="10668"/>
                </a:cubicBezTo>
                <a:cubicBezTo>
                  <a:pt x="4769" y="10676"/>
                  <a:pt x="4822" y="10703"/>
                  <a:pt x="4826" y="10710"/>
                </a:cubicBezTo>
                <a:cubicBezTo>
                  <a:pt x="4841" y="10735"/>
                  <a:pt x="4862" y="10808"/>
                  <a:pt x="4868" y="10837"/>
                </a:cubicBezTo>
                <a:cubicBezTo>
                  <a:pt x="4883" y="10908"/>
                  <a:pt x="4861" y="10983"/>
                  <a:pt x="4889" y="11028"/>
                </a:cubicBezTo>
                <a:cubicBezTo>
                  <a:pt x="4907" y="11058"/>
                  <a:pt x="4949" y="11089"/>
                  <a:pt x="4974" y="11112"/>
                </a:cubicBezTo>
                <a:cubicBezTo>
                  <a:pt x="5014" y="11150"/>
                  <a:pt x="5041" y="11166"/>
                  <a:pt x="5080" y="11197"/>
                </a:cubicBezTo>
                <a:cubicBezTo>
                  <a:pt x="5098" y="11211"/>
                  <a:pt x="5135" y="11243"/>
                  <a:pt x="5165" y="11261"/>
                </a:cubicBezTo>
                <a:cubicBezTo>
                  <a:pt x="5222" y="11296"/>
                  <a:pt x="5211" y="11242"/>
                  <a:pt x="5249" y="11303"/>
                </a:cubicBezTo>
                <a:cubicBezTo>
                  <a:pt x="5252" y="11308"/>
                  <a:pt x="5269" y="11402"/>
                  <a:pt x="5270" y="11409"/>
                </a:cubicBezTo>
                <a:cubicBezTo>
                  <a:pt x="5284" y="11504"/>
                  <a:pt x="5273" y="11538"/>
                  <a:pt x="5313" y="11620"/>
                </a:cubicBezTo>
                <a:cubicBezTo>
                  <a:pt x="5326" y="11646"/>
                  <a:pt x="5312" y="11671"/>
                  <a:pt x="5334" y="11684"/>
                </a:cubicBezTo>
                <a:cubicBezTo>
                  <a:pt x="5384" y="11713"/>
                  <a:pt x="5657" y="11719"/>
                  <a:pt x="5715" y="11726"/>
                </a:cubicBezTo>
                <a:cubicBezTo>
                  <a:pt x="5835" y="11741"/>
                  <a:pt x="5953" y="11736"/>
                  <a:pt x="6032" y="11663"/>
                </a:cubicBezTo>
                <a:cubicBezTo>
                  <a:pt x="6057" y="11640"/>
                  <a:pt x="6089" y="11590"/>
                  <a:pt x="6117" y="11557"/>
                </a:cubicBezTo>
                <a:cubicBezTo>
                  <a:pt x="6138" y="11533"/>
                  <a:pt x="6149" y="11509"/>
                  <a:pt x="6181" y="11472"/>
                </a:cubicBezTo>
                <a:cubicBezTo>
                  <a:pt x="6207" y="11442"/>
                  <a:pt x="6229" y="11419"/>
                  <a:pt x="6265" y="11388"/>
                </a:cubicBezTo>
                <a:cubicBezTo>
                  <a:pt x="6290" y="11367"/>
                  <a:pt x="6330" y="11349"/>
                  <a:pt x="6350" y="11324"/>
                </a:cubicBezTo>
                <a:cubicBezTo>
                  <a:pt x="6375" y="11293"/>
                  <a:pt x="6372" y="11282"/>
                  <a:pt x="6392" y="11239"/>
                </a:cubicBezTo>
                <a:cubicBezTo>
                  <a:pt x="6426" y="11225"/>
                  <a:pt x="6442" y="11207"/>
                  <a:pt x="6477" y="11197"/>
                </a:cubicBezTo>
                <a:cubicBezTo>
                  <a:pt x="6502" y="11190"/>
                  <a:pt x="6563" y="11179"/>
                  <a:pt x="6583" y="11176"/>
                </a:cubicBezTo>
                <a:cubicBezTo>
                  <a:pt x="6618" y="11176"/>
                  <a:pt x="6625" y="11176"/>
                  <a:pt x="6646" y="11176"/>
                </a:cubicBezTo>
                <a:cubicBezTo>
                  <a:pt x="6670" y="11134"/>
                  <a:pt x="6650" y="11119"/>
                  <a:pt x="6689" y="11091"/>
                </a:cubicBezTo>
                <a:cubicBezTo>
                  <a:pt x="6715" y="11072"/>
                  <a:pt x="6761" y="11049"/>
                  <a:pt x="6794" y="11049"/>
                </a:cubicBezTo>
                <a:cubicBezTo>
                  <a:pt x="6850" y="11049"/>
                  <a:pt x="6875" y="11058"/>
                  <a:pt x="6921" y="11091"/>
                </a:cubicBezTo>
                <a:cubicBezTo>
                  <a:pt x="6949" y="11111"/>
                  <a:pt x="6954" y="11157"/>
                  <a:pt x="6985" y="11176"/>
                </a:cubicBezTo>
                <a:cubicBezTo>
                  <a:pt x="7007" y="11189"/>
                  <a:pt x="7081" y="11210"/>
                  <a:pt x="7091" y="11218"/>
                </a:cubicBezTo>
                <a:cubicBezTo>
                  <a:pt x="7138" y="11255"/>
                  <a:pt x="7148" y="11315"/>
                  <a:pt x="7175" y="11345"/>
                </a:cubicBezTo>
                <a:cubicBezTo>
                  <a:pt x="7263" y="11441"/>
                  <a:pt x="7307" y="11457"/>
                  <a:pt x="7429" y="11472"/>
                </a:cubicBezTo>
                <a:cubicBezTo>
                  <a:pt x="7436" y="11472"/>
                  <a:pt x="7444" y="11472"/>
                  <a:pt x="7451" y="11472"/>
                </a:cubicBezTo>
                <a:cubicBezTo>
                  <a:pt x="7456" y="11503"/>
                  <a:pt x="7470" y="11557"/>
                  <a:pt x="7472" y="11578"/>
                </a:cubicBezTo>
                <a:cubicBezTo>
                  <a:pt x="7477" y="11641"/>
                  <a:pt x="7488" y="11716"/>
                  <a:pt x="7493" y="11769"/>
                </a:cubicBezTo>
                <a:cubicBezTo>
                  <a:pt x="7499" y="11839"/>
                  <a:pt x="7482" y="11900"/>
                  <a:pt x="7514" y="11959"/>
                </a:cubicBezTo>
                <a:cubicBezTo>
                  <a:pt x="7547" y="12020"/>
                  <a:pt x="7551" y="12007"/>
                  <a:pt x="7578" y="12044"/>
                </a:cubicBezTo>
                <a:cubicBezTo>
                  <a:pt x="7599" y="12065"/>
                  <a:pt x="7606" y="12072"/>
                  <a:pt x="7620" y="12086"/>
                </a:cubicBezTo>
              </a:path>
            </a:pathLst>
          </a:custGeom>
          <a:noFill/>
          <a:ln cap="rnd"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3" dur="1" fill="hold"/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4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Роман"/>
          <p:cNvPicPr/>
          <p:nvPr/>
        </p:nvPicPr>
        <p:blipFill>
          <a:blip r:embed="rId1"/>
          <a:stretch/>
        </p:blipFill>
        <p:spPr>
          <a:xfrm>
            <a:off x="5364000" y="1413000"/>
            <a:ext cx="308628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3"/>
          <p:cNvSpPr/>
          <p:nvPr/>
        </p:nvSpPr>
        <p:spPr>
          <a:xfrm>
            <a:off x="5364000" y="234936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Хто об’єднав галицькі і волинські землі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В якому році сталась ця подія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187280" y="944640"/>
            <a:ext cx="34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„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ей же король Данило, – писав літописець, – був князем добрим, хоробрим і мудрим, який спорудив городи многі, і церкви поставив, і оздобив їх різноманітними прикрасами…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6" descr="Данило"/>
          <p:cNvPicPr/>
          <p:nvPr/>
        </p:nvPicPr>
        <p:blipFill>
          <a:blip r:embed="rId1"/>
          <a:stretch/>
        </p:blipFill>
        <p:spPr>
          <a:xfrm>
            <a:off x="5048280" y="1052640"/>
            <a:ext cx="3700440" cy="43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5221440" y="5589720"/>
            <a:ext cx="28796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Данило Романо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1201-1264 р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Данило"/>
          <p:cNvPicPr/>
          <p:nvPr/>
        </p:nvPicPr>
        <p:blipFill>
          <a:blip r:embed="rId1"/>
          <a:stretch/>
        </p:blipFill>
        <p:spPr>
          <a:xfrm>
            <a:off x="5048280" y="1052640"/>
            <a:ext cx="3700440" cy="43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4"/>
          <p:cNvSpPr/>
          <p:nvPr/>
        </p:nvSpPr>
        <p:spPr>
          <a:xfrm>
            <a:off x="5221440" y="5589720"/>
            <a:ext cx="28796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Данило Романо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1201-1264 р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05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Данило разом з братом Васильком і матір’ю покинув рідну землю через заколоти бояр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15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повернувся на Волинь і почав боротьбу за повернення Галичини, яку здобув у </a:t>
            </a: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38 р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23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брав участь у битві на ріці Калці проти монголів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38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воював з німецькими рицарями-хрестоносцями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rebuchet MS"/>
              </a:rPr>
              <a:t>1240 р.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 веде боротьбу з монголами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2:01:14Z</dcterms:created>
  <dc:creator>User</dc:creator>
  <dc:description/>
  <cp:keywords/>
  <dc:language>en-US</dc:language>
  <cp:lastModifiedBy>User</cp:lastModifiedBy>
  <dcterms:modified xsi:type="dcterms:W3CDTF">2017-02-10T15:58:36Z</dcterms:modified>
  <cp:revision>16</cp:revision>
  <dc:subject/>
  <dc:title>Обзор проек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49</vt:lpwstr>
  </property>
</Properties>
</file>