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4.png" ContentType="image/png"/>
  <Override PartName="/ppt/media/image27.png" ContentType="image/png"/>
  <Override PartName="/ppt/media/image5.png" ContentType="image/png"/>
  <Override PartName="/ppt/media/image29.jpeg" ContentType="image/jpeg"/>
  <Override PartName="/ppt/media/image10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7.jpeg" ContentType="image/jpeg"/>
  <Override PartName="/ppt/media/image6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30.jpeg" ContentType="image/jpeg"/>
  <Override PartName="/ppt/media/image15.png" ContentType="image/png"/>
  <Override PartName="/ppt/media/image24.jpeg" ContentType="image/jpe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1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9.png" ContentType="image/png"/>
  <Override PartName="/ppt/media/image22.jpeg" ContentType="image/jpeg"/>
  <Override PartName="/ppt/media/image23.jpeg" ContentType="image/jpeg"/>
  <Override PartName="/ppt/media/image1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1314-9E18-4C62-8799-AEB2B6121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5D00-7F6F-4BA1-A4EC-769D68C63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A6F1-71DB-4FDA-827D-244C6AD77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5957-5BFF-4525-8B42-4C75A08B0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EA2EA-97A6-47BC-A70F-6042283B4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65802-BA1E-46B4-BCE4-DC5D778BB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EF08C-93D2-430D-89B4-03F34357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02526-F6A7-46EC-9957-44552CBF7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E0112-F9BC-42AE-BAB3-0476A50EA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93DAB-FA67-4D15-B57E-0AD4782AC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50F53-539E-4D7D-9F97-4D12F5C3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D529-BEC0-4043-BDE9-ECB56FF5E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0C741-70D9-4B53-A25B-DCF22ADE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80A77-6F13-44C3-904B-DCBB44E8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0F93D-49C3-4C08-B8C8-F2C72C6C0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EB0ED-5552-49D4-92E0-DB2EF050A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7A279-0832-422C-8FE8-08CA6AB6B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5674-9C06-4F70-8E07-AA23ADF73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705E-4879-40D1-887A-8199F0F69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5888-5E9D-4B3E-B8A8-17B553D31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BAAA-52F8-4FD1-BA22-069CA0A3E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1920-1FA9-449B-B8DC-01B8681A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B5EC-0742-445C-9A1D-B34DB6FE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FEF4-1DF6-4B74-8CBB-7D542C76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16B89-CDE2-488B-929D-C6D20FC438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B8927-FA24-4D53-9BAB-BF15802E71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stream.get-tune.net/file/62861270/-10203115/3105535520/a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uk-UA" sz="4800" spc="-1" strike="noStrike">
                <a:solidFill>
                  <a:srgbClr val="ffffb7"/>
                </a:solidFill>
                <a:latin typeface="Comic Sans MS"/>
              </a:rPr>
              <a:t>Знайомство з Польщею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7920" y="3504960"/>
            <a:ext cx="67816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ffff66"/>
                </a:solidFill>
                <a:uFillTx/>
                <a:latin typeface="Arial"/>
              </a:rPr>
              <a:t>Підготувал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ffffff"/>
                </a:solidFill>
                <a:uFillTx/>
                <a:latin typeface="Arial"/>
              </a:rPr>
              <a:t>Бойко Світлана Володимирівна, вчитель початкових класів, Малобурімської ЗОШ І – ІІІ с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ffffff"/>
                </a:solidFill>
                <a:uFillTx/>
                <a:latin typeface="Arial"/>
              </a:rPr>
              <a:t>Чорнобаївської районної рад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ffffff"/>
                </a:solidFill>
                <a:uFillTx/>
                <a:latin typeface="Arial"/>
              </a:rPr>
              <a:t>Черкаської області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3657600" cy="25905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952880" y="1905120"/>
            <a:ext cx="381024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000680" cy="26798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572000" y="3733920"/>
            <a:ext cx="4076640" cy="27064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206800" y="304920"/>
            <a:ext cx="5656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b7"/>
                </a:solidFill>
                <a:latin typeface="Arial"/>
              </a:rPr>
              <a:t>Кожний замок в Польщі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b7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ffffb7"/>
                </a:solidFill>
                <a:latin typeface="Arial"/>
              </a:rPr>
              <a:t>славиться своєю історіє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Чудеса Польщі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2895480" cy="21682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609480" y="3200400"/>
            <a:ext cx="31244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азурські озер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029200" y="1066680"/>
            <a:ext cx="3200400" cy="20383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5943600" y="3124080"/>
            <a:ext cx="2971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ори Татр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2362320" y="3657600"/>
            <a:ext cx="4429080" cy="29527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3429000" y="5943600"/>
            <a:ext cx="2647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ухомі дюн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905120" y="22860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b7"/>
                </a:solidFill>
                <a:latin typeface="Arial"/>
              </a:rPr>
              <a:t>Чудеса Польщі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4647960" cy="34876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990720" y="4876920"/>
            <a:ext cx="28191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ривий лі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с. Грифіно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343400" y="3657600"/>
            <a:ext cx="4419720" cy="29527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5486400" y="2666880"/>
            <a:ext cx="3429000" cy="7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ривий будинок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м. Сопоті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Інтернет – ресурси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"/>
          <p:cNvSpPr/>
          <p:nvPr/>
        </p:nvSpPr>
        <p:spPr>
          <a:xfrm>
            <a:off x="1146600" y="1600200"/>
            <a:ext cx="495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http://uk.wikipedia.org/wiki/Польщ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97080" y="2286000"/>
            <a:ext cx="37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http://vk.com/typicalpo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2819520"/>
            <a:ext cx="860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stream.get-tune.net/file/62861270/-10203115/3105535520/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01416858eb32043/G_mn_Polcsh_-_Bez_nazvi_(get-tune.net).mp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43000" y="3733920"/>
            <a:ext cx="75438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b7"/>
                </a:solidFill>
                <a:latin typeface="Arial"/>
              </a:rPr>
              <a:t>Література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b7"/>
                </a:solidFill>
                <a:latin typeface="Arial"/>
              </a:rPr>
              <a:t>Програми курсів за вибором для початкових класів. Варіативна складова Базового навчального плану. Книга 3/Упор.: Г. Ф. Древаль, Л. Ф Щербакова, А. В. Лотоцька. – Тернопіль: Мандрівець, 2012.-200 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Символіка Польщі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2585880" cy="30481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1523880" y="5257800"/>
            <a:ext cx="1828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ерб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343400" y="2057400"/>
            <a:ext cx="4343400" cy="28195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5562720" y="5105520"/>
            <a:ext cx="22860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апо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267080" y="5638680"/>
            <a:ext cx="838440" cy="8384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5257800" y="6019920"/>
            <a:ext cx="121932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імн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2662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Мапа Польщі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943600" cy="47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Столиця Польщі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00400" y="5715000"/>
            <a:ext cx="34290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. Варша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731520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Грошова одиниця Польщі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4114800" cy="2057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733920" y="3276720"/>
            <a:ext cx="3028680" cy="15048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943600" y="4724280"/>
            <a:ext cx="2790720" cy="1638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1600200" y="5181480"/>
            <a:ext cx="26668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лотий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Національний костюм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952880" y="1600200"/>
            <a:ext cx="3353040" cy="26607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371600" y="243828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638680" y="4419720"/>
            <a:ext cx="214632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Національні став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2819520" cy="1882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1828800" y="3733920"/>
            <a:ext cx="15238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іго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029200" y="1676520"/>
            <a:ext cx="2743200" cy="19047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5410080" y="3657600"/>
            <a:ext cx="1857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ампух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1676520" y="4495680"/>
            <a:ext cx="2209680" cy="16574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1828800" y="6172200"/>
            <a:ext cx="16765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Жур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5029200" y="4191120"/>
            <a:ext cx="2552760" cy="19238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5334120" y="6095880"/>
            <a:ext cx="19810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нидлі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0492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Народні свята, звичаї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3276360" cy="21798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638680" y="2895480"/>
            <a:ext cx="2232000" cy="30243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533520" y="3048120"/>
            <a:ext cx="28954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аск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800600" y="6019920"/>
            <a:ext cx="3581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вято Трьох Королів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533520" y="3733920"/>
            <a:ext cx="3124080" cy="20271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990720" y="6019920"/>
            <a:ext cx="2057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іздво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5029200" y="838080"/>
            <a:ext cx="3733920" cy="14097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4267080" y="2286000"/>
            <a:ext cx="4191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ень незалежності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4071960" cy="2583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572000" y="3200400"/>
            <a:ext cx="422424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980640" y="338040"/>
            <a:ext cx="663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b7"/>
                </a:solidFill>
                <a:latin typeface="Arial"/>
              </a:rPr>
              <a:t>Польща – країна костелі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4876920"/>
            <a:ext cx="33526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мки в м. Краків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4-02-11T16:26:00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