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6.png" ContentType="image/png"/>
  <Override PartName="/ppt/media/image7.gif" ContentType="image/gif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4FC2-654A-4ADC-90AA-F1E9CEDD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3010-A689-4B6A-8045-9A049AB9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3611-E2F0-4B95-B21E-E471A66C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7E68-2C44-4CED-A225-4DD3476E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050E-1056-48E3-96C0-48A48BD6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F3DB-D91E-40A5-8352-49452D34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D34C-6008-40DA-8C27-C5DB1CF2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887D-8C6D-4490-8449-805648B9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C7EA-2EAB-47A1-9741-4615C15A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F954-FDB7-407B-A1BE-64208F06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55D5-4E8B-475D-8645-ECE1AFD9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7B27-BDD1-4356-9839-90C094FE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07C3-5D95-49C7-A530-DED4CB19A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600840" y="1844640"/>
            <a:ext cx="71773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ff"/>
                </a:solidFill>
                <a:latin typeface="Monotype Corsiva"/>
              </a:rPr>
              <a:t>Жіноча доля  в творчості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ff"/>
                </a:solidFill>
                <a:latin typeface="Monotype Corsiva"/>
              </a:rPr>
              <a:t>Тараса Григоровича Шевч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423360" cy="7162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619280" y="550800"/>
            <a:ext cx="727236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17520"/>
                <a:tab algn="l" pos="81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ff"/>
                </a:solidFill>
                <a:latin typeface="Arial"/>
              </a:rPr>
              <a:t>Для Шевченка нещаслива доля жінки була не лище суспільною, а й особистою трагедіє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7520"/>
                <a:tab algn="l" pos="81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7520"/>
                <a:tab algn="l" pos="81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Arial"/>
              </a:rPr>
              <a:t>Не називаю її рає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7520"/>
                <a:tab algn="l" pos="81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Arial"/>
              </a:rPr>
              <a:t>Тієї хатиночки у га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7520"/>
                <a:tab algn="l" pos="81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Arial"/>
              </a:rPr>
              <a:t>Над чистим ставом край с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7520"/>
                <a:tab algn="l" pos="81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Arial"/>
              </a:rPr>
              <a:t>Мене там мати п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7520"/>
                <a:tab algn="l" pos="81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Arial"/>
              </a:rPr>
              <a:t>І,повиваючи, спів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7520"/>
                <a:tab algn="l" pos="81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Arial"/>
              </a:rPr>
              <a:t>Свою нудьгу перелив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7520"/>
                <a:tab algn="l" pos="81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Arial"/>
              </a:rPr>
              <a:t>Свою дитин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7520"/>
                <a:tab algn="l" pos="81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Arial"/>
              </a:rPr>
              <a:t>Там матір добрую м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7520"/>
                <a:tab algn="l" pos="81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Arial"/>
              </a:rPr>
              <a:t>Ще молодою у моги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7520"/>
                <a:tab algn="l" pos="81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Arial"/>
              </a:rPr>
              <a:t>Нужда та праця положил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7520"/>
                <a:tab algn="l" pos="81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Arial"/>
              </a:rPr>
              <a:t>…</a:t>
            </a:r>
            <a:r>
              <a:rPr b="0" lang="uk-UA" sz="1800" spc="-1" strike="noStrike">
                <a:solidFill>
                  <a:srgbClr val="008000"/>
                </a:solidFill>
                <a:latin typeface="Arial"/>
              </a:rPr>
              <a:t>А сестри! Се6стри! Горе в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7520"/>
                <a:tab algn="l" pos="81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Arial"/>
              </a:rPr>
              <a:t>Мої голубки молодії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7520"/>
                <a:tab algn="l" pos="81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Arial"/>
              </a:rPr>
              <a:t>Для кого в світі живе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7520"/>
                <a:tab algn="l" pos="81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Arial"/>
              </a:rPr>
              <a:t>Ви в наймах виросли чужії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7520"/>
                <a:tab algn="l" pos="81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Arial"/>
              </a:rPr>
              <a:t>У наймах коси побілію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7520"/>
                <a:tab algn="l" pos="81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Arial"/>
              </a:rPr>
              <a:t>У наймах, сестри, й умрет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7520"/>
                <a:tab algn="l" pos="81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843280" y="6021360"/>
            <a:ext cx="5545080" cy="64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277920" y="-152280"/>
            <a:ext cx="9701280" cy="7162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47640" y="871560"/>
            <a:ext cx="727236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9900ff"/>
                </a:solidFill>
                <a:latin typeface="Arial"/>
              </a:rPr>
              <a:t>Група №1, №2 Дати характеристику Шевченковим героїням з поем «Катерина» та « Наймичка» за алгоритмом та посилаючись на текст. Виразне читання напам</a:t>
            </a:r>
            <a:r>
              <a:rPr b="1" lang="ru-RU" sz="2000" spc="-1" strike="noStrike">
                <a:solidFill>
                  <a:srgbClr val="9900ff"/>
                </a:solidFill>
                <a:latin typeface="Arial"/>
              </a:rPr>
              <a:t>`</a:t>
            </a:r>
            <a:r>
              <a:rPr b="1" lang="uk-UA" sz="2000" spc="-1" strike="noStrike">
                <a:solidFill>
                  <a:srgbClr val="9900ff"/>
                </a:solidFill>
                <a:latin typeface="Arial"/>
              </a:rPr>
              <a:t>ять уривка з «Катерин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Алгоритм відпові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Arial"/>
              </a:rPr>
              <a:t>1. Ім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`</a:t>
            </a:r>
            <a:r>
              <a:rPr b="0" lang="uk-UA" sz="1800" spc="-1" strike="noStrike">
                <a:solidFill>
                  <a:srgbClr val="008000"/>
                </a:solidFill>
                <a:latin typeface="Arial"/>
              </a:rPr>
              <a:t>я ( що означає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Arial"/>
              </a:rPr>
              <a:t>2.Портр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Arial"/>
              </a:rPr>
              <a:t>3. Життєві ідеали, вчи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Arial"/>
              </a:rPr>
              <a:t>4. Випробовування коханн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Arial"/>
              </a:rPr>
              <a:t>5. Позиція ав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Arial"/>
              </a:rPr>
              <a:t>6. Ваша пози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124000" y="5950080"/>
            <a:ext cx="6048360" cy="647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898280" y="4752000"/>
            <a:ext cx="656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Група №3, № 4 Аналіз ліричного твору за схем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иразне читання напа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ять уривків з  поезі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277920" y="-152280"/>
            <a:ext cx="9701280" cy="7162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Тарас Шевченко - Катерина / 2001 / МР3"/>
          <p:cNvPicPr/>
          <p:nvPr/>
        </p:nvPicPr>
        <p:blipFill>
          <a:blip r:embed="rId2"/>
          <a:stretch/>
        </p:blipFill>
        <p:spPr>
          <a:xfrm>
            <a:off x="3635280" y="1700280"/>
            <a:ext cx="3888000" cy="4681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427640" y="5493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ff"/>
                </a:solidFill>
                <a:latin typeface="Arial"/>
              </a:rPr>
              <a:t>Кате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277920" y="-152280"/>
            <a:ext cx="9701280" cy="7162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195640" y="1630440"/>
            <a:ext cx="5327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ший рядок має містити слово, яке позначає тему (звичайно, це іменн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Другий рядок – це опис теми, який складається з двох слів (два прикметн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ретій рядок називає дію, пов’язану з темою, і складається з трьох слів (звичайно це дієслова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Четвертий рядок є фразою, яка складається з чотирьох слів і висловлює ставлення до теми, почуття з приводу обговорюван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Останній рядок складається з одного слова — синоніма до першого слова, в ньому висловлюється сутність теми, ніби робиться підсум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84360" y="47628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ff"/>
                </a:solidFill>
                <a:latin typeface="Arial"/>
              </a:rPr>
              <a:t>Як скласти сенк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277920" y="-152280"/>
            <a:ext cx="9701280" cy="7162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340000" y="408240"/>
            <a:ext cx="511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ff"/>
                </a:solidFill>
                <a:latin typeface="Arial"/>
              </a:rPr>
              <a:t>Домашнє завд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лекти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ідготувати 5 тестових завдань за одним із вичених на уроці твор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рупове.( групи за випереджаючим завданням).Цитатна характеристика до вивчених жіночих образ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дивідуальне. Підготувати коротке повідомлення на тему «Мотив материнства у творчості геніальних митців Рафаеля і Шевч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124000" y="5950080"/>
            <a:ext cx="6048360" cy="64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277920" y="-152280"/>
            <a:ext cx="9701280" cy="7162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403280" y="1341360"/>
            <a:ext cx="7740720" cy="23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якую за увагу!!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124000" y="5950080"/>
            <a:ext cx="6048360" cy="64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01280" cy="7162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59280" y="333360"/>
            <a:ext cx="640872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Шануйтеся ж, любі, в недобру годин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Щоб не довелося москаля шукать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                                                  </a:t>
            </a: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Т. Ше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80000" y="3284640"/>
            <a:ext cx="3889440" cy="3740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277920" y="-152280"/>
            <a:ext cx="9701280" cy="7162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Урок: &quot;Гендерна рівність: чоловік = жінка&quot;"/>
          <p:cNvPicPr/>
          <p:nvPr/>
        </p:nvPicPr>
        <p:blipFill>
          <a:blip r:embed="rId2"/>
          <a:stretch/>
        </p:blipFill>
        <p:spPr>
          <a:xfrm>
            <a:off x="1692360" y="1773360"/>
            <a:ext cx="6792840" cy="4878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56000" y="404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ff"/>
                </a:solidFill>
                <a:latin typeface="Arial"/>
              </a:rPr>
              <a:t>Емоційний настрій кла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277920" y="-152280"/>
            <a:ext cx="9701280" cy="7162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835280" y="25848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Arial"/>
              </a:rPr>
              <a:t>Жіноча доля  в творчост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Arial"/>
              </a:rPr>
              <a:t>Тараса Григоровича Шевч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1844640"/>
            <a:ext cx="646272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-формувати шанобливе ставлення до жінки (жінка-мати, жінка-кохана та інші); усвідомлювати, що жінка – уособлення краси на землі, що Свята Мати – джерело добра, яке змінює сві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-розвивати вміння виважено висловлювати свої думки, спостереження, творчу уяв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-виховувати в учнів добрі почуття, жалість, любов, готовність допомогти кожному нужденному, вчити їх бачити в людях милосердя, добротворе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426440" y="4149720"/>
            <a:ext cx="1717560" cy="2708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277920" y="-152280"/>
            <a:ext cx="9701280" cy="7162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908000" y="1125360"/>
            <a:ext cx="6409080" cy="282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тча...</a:t>
            </a:r>
            <a:endParaRPr b="0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335640" y="3905280"/>
            <a:ext cx="2808360" cy="295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277920" y="-152280"/>
            <a:ext cx="9701280" cy="7162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32000" y="190440"/>
            <a:ext cx="75960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9900ff"/>
                </a:solidFill>
                <a:latin typeface="Arial"/>
              </a:rPr>
              <a:t>Бліц – опит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. Село, яке Шевченко вважав своєю батьківщино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.Соціальний стан Тараса у дитинств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.І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 художника і написаний ним портрет, який розіграли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лоторею, щоб визволити Шевченка з кріпац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.Рік і місто видання Кобза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. Заклад, у якому навчався Шевченко, отримавши «вільну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6. Хто із родини Шевченків мав і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 Кате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7.Відома поезія митця про безрадісне сирітське дитин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8. Жанр «Гайдамакі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9.Символом нескореності народу у поемі «Кавказ» ста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бра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0. з якого твору рядки «Он глянь, - у тім раї, що ти покидаєш,латану свитину з каліки знімають. З шкурою знімають. Бо нічим обуть княжат недорослих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1. Гонта, Залізняк, Ярема,Оксана – герої  по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2.Місто, де перепоховано тіло Т.Шевч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908000" y="5734080"/>
            <a:ext cx="6624720" cy="790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277920" y="-152280"/>
            <a:ext cx="9701280" cy="7162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79640" y="476280"/>
            <a:ext cx="59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сі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о з біографії Шевченка та автобіографічних творів письменника ви знаєте про його род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к склалася доля його матері та сесте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 випадковим є те, що стільки поезій та поем Шевченка присвячено саме жінц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835280" y="2543040"/>
            <a:ext cx="6324480" cy="4314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277920" y="-152280"/>
            <a:ext cx="9701280" cy="7162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03280" y="49032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Arial"/>
              </a:rPr>
              <a:t>Намалюйте асоціативний малюнок або слова – синоніми до с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Arial"/>
              </a:rPr>
              <a:t>жі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хема 4" descr=""/>
          <p:cNvPicPr/>
          <p:nvPr/>
        </p:nvPicPr>
        <p:blipFill>
          <a:blip r:embed="rId2"/>
          <a:srcRect l="-900" t="0" r="-920" b="0"/>
          <a:stretch/>
        </p:blipFill>
        <p:spPr>
          <a:xfrm>
            <a:off x="1619280" y="2997360"/>
            <a:ext cx="7524720" cy="187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277920" y="-152280"/>
            <a:ext cx="9701280" cy="7162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85760" y="-15120"/>
            <a:ext cx="58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ff"/>
                </a:solidFill>
                <a:latin typeface="Arial"/>
              </a:rPr>
              <a:t>Уривок з вірша «На панщині пшеницю жа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55480" y="870120"/>
            <a:ext cx="345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8000"/>
                </a:solidFill>
                <a:latin typeface="Arial"/>
              </a:rPr>
              <a:t>А он бачиш? Очі! Очі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8000"/>
                </a:solidFill>
                <a:latin typeface="Arial"/>
              </a:rPr>
              <a:t>Нащо ви здали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8000"/>
                </a:solidFill>
                <a:latin typeface="Arial"/>
              </a:rPr>
              <a:t>Чом ви змалку не висох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8000"/>
                </a:solidFill>
                <a:latin typeface="Arial"/>
              </a:rPr>
              <a:t>Слізьми не злили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8000"/>
                </a:solidFill>
                <a:latin typeface="Arial"/>
              </a:rPr>
              <a:t>То покритка попідтин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8000"/>
                </a:solidFill>
                <a:latin typeface="Arial"/>
              </a:rPr>
              <a:t>З байстрям шкандибає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8000"/>
                </a:solidFill>
                <a:latin typeface="Arial"/>
              </a:rPr>
              <a:t>Батько й мати одцуралис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8000"/>
                </a:solidFill>
                <a:latin typeface="Arial"/>
              </a:rPr>
              <a:t>Й чужі не приймаю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8000"/>
                </a:solidFill>
                <a:latin typeface="Arial"/>
              </a:rPr>
              <a:t>Старці навіть цураються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8000"/>
                </a:solidFill>
                <a:latin typeface="Arial"/>
              </a:rPr>
              <a:t>А панич не знає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8000"/>
                </a:solidFill>
                <a:latin typeface="Arial"/>
              </a:rPr>
              <a:t>З двадцятою, недоліт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8000"/>
                </a:solidFill>
                <a:latin typeface="Arial"/>
              </a:rPr>
              <a:t>Душі пропиває.</a:t>
            </a: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149800" y="4365720"/>
            <a:ext cx="3994200" cy="2676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5T19:46:58Z</dcterms:created>
  <dc:creator>www.PHILka.RU</dc:creator>
  <dc:description/>
  <dc:language>en-US</dc:language>
  <cp:lastModifiedBy>www.PHILka.RU</cp:lastModifiedBy>
  <dcterms:modified xsi:type="dcterms:W3CDTF">2014-11-06T13:26:10Z</dcterms:modified>
  <cp:revision>4</cp:revision>
  <dc:subject/>
  <dc:title>Слайд 1</dc:title>
</cp:coreProperties>
</file>