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C78B-BF73-4CB6-ACB4-E34CE3D21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5E4C-1549-402B-AD11-004BBB1D0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9A95-C581-482E-A902-5CFABCE34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1C89-05C5-4F0A-A08B-ADDDCEA72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BAD5C-CA2F-4B15-93DE-449074ABE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0CA21-CF9F-4960-B092-7CC214E8C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2A4BA-E5E9-4195-9311-1CB5A37A4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13002-0225-4776-BB4A-B18FE1172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5EC0B-3F91-4248-AE97-4C1B44D6D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E7C07-8D12-461A-8C9D-00DF06D41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9D7A5-46B5-48C1-B7E9-79C49E90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5A51-5D63-4A2A-87B9-F82A59A89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5DE79-4929-4269-99D3-3C2E020C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48500-8FF1-4695-9863-D9B2ECFD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11F5A-1049-4560-94AF-99C69F532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63074-48F4-4096-8722-9988B64CE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18755-909A-47A1-B7A5-EFFF579AF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AC76A5-B398-471D-B607-15F35A5C5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90987C-10E3-4D4D-8908-C4BA24600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2B62B4-8BA1-42A0-8B57-2C966D9BA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A64565-E0A4-4BEA-ADBF-73E22A9B8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896B32-911F-4B0F-A94F-202B10FFE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23D0-E7D8-46EA-B40D-47BABBE59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7FDB3E-E298-4E29-B9AB-7E84A7147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27E98E-4604-41C5-87D0-6DF9DD82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92001B-175B-45E0-900A-9650D17A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EC530A-ED71-47B9-A97B-4B31A8D2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BF3D5F-CA83-470F-8CE3-B0A56713E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EFA1E2-745A-4CCA-8226-9A900C82F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077EB9-27D2-4120-9A7E-E9D7B8964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12F62-8B74-4905-9E03-B91F9A210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1F1A2-C52B-4F1A-9390-0EA9BC159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A1D29-8A3D-4215-A50F-DF4F58C3E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BBDB-8F10-4FB7-AF76-A417F71CB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BF6B9-189E-4FAE-8E10-F14B617F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FDFBA-B0B1-4BCC-8339-8D11AC097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DE462-F491-4414-83A3-F43345193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3002E-7BA4-497E-8F71-FBBA33B8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849DB-5769-4DE5-A2EA-7B62B997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0AFF6-49E6-40C2-91A3-64EF3233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2BE2B-6779-4947-87A4-F67C0B412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6647C-5F07-42B5-8C48-0CA084F4A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67395-EB07-4486-914A-01125FBD7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11F6F5-F2E5-4989-8296-195A4DBDD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6AE7-372E-4D13-BEB6-0DEEED98B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FA0FD1-9D6A-4BC6-999E-13BC49D00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627642-DEA0-4972-98B8-6470E6405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0D2364-8B37-4C20-B74A-AB53383F7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86AA8E-942E-4C7D-A3AF-BAC43991B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CC9C5E-45EC-41EF-9BB8-D06BAC9D0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089607-A235-4CEB-928E-D6C2156F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C5C611-1783-4D8F-860E-78AEEA1C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771FDF-D5CA-48BB-9252-E4A6CD36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9323A8-9C16-4C18-BC63-9B304C025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E84F18-50A3-4C5E-AC24-AC6610752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AAC8-C9AF-4881-9555-0EC095F0F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8E0E67-75B9-4D00-B4E9-6CC443415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A0C6F9-CB09-4FC5-990B-269ABB92D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C65045-B672-483D-B369-FB6DB6DD4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10E8AC-B1AF-4670-87CB-434081A4E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8433AA-7C2B-41EE-9499-D902BCD52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0C4F88-FC5E-4074-BF59-B72C2B278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BD38C5-99EA-46F1-A11A-FEB672811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2AE5DC-A357-4E43-9B23-DC586A1F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03E873-CC86-4034-A8CD-3246C45B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12EDC8-AA39-4537-8BAB-A71F9C9B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D66E-F0B1-4A8C-904F-408F8917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9B7A4E-C5D5-4399-BD50-0F7442D86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D74707-22D6-4178-B9E9-CA8418601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B314AA-1D4B-4F6F-B6C2-C24CA7BEB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A3D1FA-5082-46ED-94A1-BECA73060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EA8479-0C82-41CE-B10F-3ECA80BE9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7F9289-D264-4EC3-B291-9196861B8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BAEE8E-43B7-4AFD-B23A-7D214F19E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5E3D6D-F4BF-43C8-80A6-028012321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EAA9DB-901D-44E2-BBC1-E69AE2FEB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ADAC5A-C3E8-45D6-B220-48703377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DDBA-74B1-4526-AAD4-8EAE3A1D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BE5F3D-1FB0-4482-AD24-B6F5F891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351A28-7CF0-4C74-9F2D-AFC6AEF9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D25515-B42B-447B-AB98-B33DB89EB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B8174E-5DDE-4FE7-B398-AF79C3763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C0A7ED-C529-4DBB-93AB-884629A86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2920-BA00-402F-BC6E-B816C79E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85A4D-5B86-4AFA-9E4F-0A7D30D3B69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96932-A6DB-439F-A53B-C2949A99067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F611C-B93C-4783-BE1E-10A0A3F0E94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0E1A3-5AE3-4770-9005-C80352BA640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8C56B-B4EE-488C-86C1-A4602822354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0C055-886B-45B5-8195-26B312F6526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1FE80-3639-4EC9-934C-2E24FB4E4F9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Рисунок 3" descr="success.jpg"/>
          <p:cNvPicPr/>
          <p:nvPr/>
        </p:nvPicPr>
        <p:blipFill>
          <a:blip r:embed="rId1"/>
          <a:stretch/>
        </p:blipFill>
        <p:spPr>
          <a:xfrm>
            <a:off x="6429240" y="4000680"/>
            <a:ext cx="2857680" cy="285732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142720" y="242856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575f6d"/>
                </a:solidFill>
                <a:latin typeface="Bookman Old Style"/>
              </a:rPr>
              <a:t>КАК СТАТЬ </a:t>
            </a:r>
            <a:r>
              <a:rPr b="1" lang="ru-RU" sz="6600" spc="-1" strike="noStrike">
                <a:solidFill>
                  <a:srgbClr val="575f6d"/>
                </a:solidFill>
                <a:latin typeface="Bookman Old Style"/>
                <a:ea typeface="Arial"/>
              </a:rPr>
              <a:t>УСПЕШНЫМ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3" name="Рисунок 4" descr="успех.jpg"/>
          <p:cNvPicPr/>
          <p:nvPr/>
        </p:nvPicPr>
        <p:blipFill>
          <a:blip r:embed="rId2">
            <a:grayscl/>
          </a:blip>
          <a:stretch/>
        </p:blipFill>
        <p:spPr>
          <a:xfrm>
            <a:off x="1785960" y="0"/>
            <a:ext cx="2928960" cy="22017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1548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6e5a"/>
                </a:solidFill>
                <a:latin typeface="Arial Black"/>
              </a:rPr>
              <a:t>БУДЬТЕ УСПЕШНЫ И СЧАСТЛИВЫ! 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2" name="Picture 2" descr="F:\Света\уч\Картинки\подарить.jpg"/>
          <p:cNvPicPr/>
          <p:nvPr/>
        </p:nvPicPr>
        <p:blipFill>
          <a:blip r:embed="rId1"/>
          <a:stretch/>
        </p:blipFill>
        <p:spPr>
          <a:xfrm>
            <a:off x="210960" y="2000160"/>
            <a:ext cx="8337600" cy="46134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1476360" y="1125360"/>
            <a:ext cx="6299280" cy="50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32968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5f6d"/>
                </a:solidFill>
                <a:latin typeface="Arial Black"/>
              </a:rPr>
              <a:t>ЧТО ТАКОЕ УСПЕХ</a:t>
            </a:r>
            <a:br>
              <a:rPr sz="4000"/>
            </a:br>
            <a:r>
              <a:rPr b="0" lang="ru-RU" sz="4000" spc="-1" strike="noStrike">
                <a:solidFill>
                  <a:srgbClr val="575f6d"/>
                </a:solidFill>
                <a:latin typeface="Arial Black"/>
              </a:rPr>
              <a:t>КАЧЕСТВА УСПЕШНОГО ЧЕЛОВЕКА</a:t>
            </a:r>
            <a:br>
              <a:rPr sz="4000"/>
            </a:br>
            <a:r>
              <a:rPr b="0" lang="ru-RU" sz="4000" spc="-1" strike="noStrike">
                <a:solidFill>
                  <a:srgbClr val="575f6d"/>
                </a:solidFill>
                <a:latin typeface="Arial Black"/>
              </a:rPr>
              <a:t>ПОЗНАЙ САМОГО СЕБЯ</a:t>
            </a:r>
            <a:br>
              <a:rPr sz="4000"/>
            </a:br>
            <a:r>
              <a:rPr b="0" lang="ru-RU" sz="4000" spc="-1" strike="noStrike">
                <a:solidFill>
                  <a:srgbClr val="575f6d"/>
                </a:solidFill>
                <a:latin typeface="Arial Black"/>
              </a:rPr>
              <a:t>ВЫБОР ЖИЗНЕННОГО ПУТИ</a:t>
            </a:r>
            <a:br>
              <a:rPr sz="4000"/>
            </a:br>
            <a:r>
              <a:rPr b="0" lang="ru-RU" sz="4000" spc="-1" strike="noStrike">
                <a:solidFill>
                  <a:srgbClr val="575f6d"/>
                </a:solidFill>
                <a:latin typeface="Arial Black"/>
              </a:rPr>
              <a:t>ФОРМУЛА УСПЕХА</a:t>
            </a:r>
            <a:br>
              <a:rPr sz="4000"/>
            </a:b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6" name="Picture 4" descr="F:\Света\уч\Картинки\КИК.jpg"/>
          <p:cNvPicPr/>
          <p:nvPr/>
        </p:nvPicPr>
        <p:blipFill>
          <a:blip r:embed="rId1"/>
          <a:stretch/>
        </p:blipFill>
        <p:spPr>
          <a:xfrm>
            <a:off x="571680" y="4929120"/>
            <a:ext cx="1726920" cy="17272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642600"/>
            <a:ext cx="746748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75c01"/>
                </a:solidFill>
                <a:latin typeface="Arial Black"/>
              </a:rPr>
              <a:t>УСПЕХ – </a:t>
            </a:r>
            <a:r>
              <a:rPr b="1" lang="ru-RU" sz="3000" spc="-1" strike="noStrike">
                <a:solidFill>
                  <a:srgbClr val="595d63"/>
                </a:solidFill>
                <a:latin typeface="Arial Black"/>
              </a:rPr>
              <a:t>ЭТО</a:t>
            </a:r>
            <a:br>
              <a:rPr sz="3000"/>
            </a:br>
            <a:r>
              <a:rPr b="1" lang="ru-RU" sz="3000" spc="-1" strike="noStrike">
                <a:solidFill>
                  <a:srgbClr val="575f6d"/>
                </a:solidFill>
                <a:latin typeface="Arial Black"/>
              </a:rPr>
              <a:t>1. УДАЧА В ДОСТИЖЕНИИ ЧЕГО-НИБУДЬ</a:t>
            </a:r>
            <a:br>
              <a:rPr sz="3000"/>
            </a:br>
            <a:r>
              <a:rPr b="1" lang="ru-RU" sz="3000" spc="-1" strike="noStrike">
                <a:solidFill>
                  <a:srgbClr val="575f6d"/>
                </a:solidFill>
                <a:latin typeface="Arial Black"/>
              </a:rPr>
              <a:t>2. ОБЩЕСТВЕННОЕ ПРИЗНАНИЕ</a:t>
            </a:r>
            <a:br>
              <a:rPr sz="3000"/>
            </a:br>
            <a:r>
              <a:rPr b="1" lang="ru-RU" sz="3000" spc="-1" strike="noStrike">
                <a:solidFill>
                  <a:srgbClr val="575f6d"/>
                </a:solidFill>
                <a:latin typeface="Arial Black"/>
              </a:rPr>
              <a:t>3. ХОРОШИЕ РЕЗУЛЬТАТЫ В РАБОТЕ, УЧЕБЕ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8" name="Picture 2" descr="F:\Света\уч\Картинки\ус.jpg"/>
          <p:cNvPicPr/>
          <p:nvPr/>
        </p:nvPicPr>
        <p:blipFill>
          <a:blip r:embed="rId1"/>
          <a:stretch/>
        </p:blipFill>
        <p:spPr>
          <a:xfrm>
            <a:off x="857160" y="4071960"/>
            <a:ext cx="3443400" cy="23637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3" descr="F:\Света\уч\Картинки\дейл карнеги.jpg"/>
          <p:cNvPicPr/>
          <p:nvPr/>
        </p:nvPicPr>
        <p:blipFill>
          <a:blip r:embed="rId2"/>
          <a:stretch/>
        </p:blipFill>
        <p:spPr>
          <a:xfrm>
            <a:off x="5286240" y="4071960"/>
            <a:ext cx="2530440" cy="24699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500040"/>
            <a:ext cx="74674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75c01"/>
                </a:solidFill>
                <a:latin typeface="Arial Black"/>
              </a:rPr>
              <a:t>МНЕНИЕ ПСИХОЛОГОВ</a:t>
            </a:r>
            <a:br>
              <a:rPr sz="2900"/>
            </a:br>
            <a:br>
              <a:rPr sz="2900"/>
            </a:br>
            <a:r>
              <a:rPr b="0" lang="ru-RU" sz="3200" spc="-1" strike="noStrike">
                <a:solidFill>
                  <a:srgbClr val="595d63"/>
                </a:solidFill>
                <a:latin typeface="Arial Black"/>
              </a:rPr>
              <a:t>УСПЕШНЫЕ ЛЮДИ ЧЕСТОЛЮБИВЫ</a:t>
            </a:r>
            <a:br>
              <a:rPr sz="3200"/>
            </a:br>
            <a:r>
              <a:rPr b="0" lang="ru-RU" sz="3200" spc="-1" strike="noStrike">
                <a:solidFill>
                  <a:srgbClr val="595d63"/>
                </a:solidFill>
                <a:latin typeface="Arial Black"/>
              </a:rPr>
              <a:t>ОНИ ХРАБРЫ</a:t>
            </a:r>
            <a:br>
              <a:rPr sz="3200"/>
            </a:br>
            <a:r>
              <a:rPr b="0" lang="ru-RU" sz="3200" spc="-1" strike="noStrike">
                <a:solidFill>
                  <a:srgbClr val="595d63"/>
                </a:solidFill>
                <a:latin typeface="Arial Black"/>
              </a:rPr>
              <a:t>ОНИ ВЕРЯТ В СЕБЯ И СВОЕ ДЕЛО</a:t>
            </a:r>
            <a:br>
              <a:rPr sz="3200"/>
            </a:br>
            <a:r>
              <a:rPr b="0" lang="ru-RU" sz="3200" spc="-1" strike="noStrike">
                <a:solidFill>
                  <a:srgbClr val="595d63"/>
                </a:solidFill>
                <a:latin typeface="Arial Black"/>
              </a:rPr>
              <a:t>ОНИ ПРОФЕССИОНАЛЬНЫ</a:t>
            </a:r>
            <a:br>
              <a:rPr sz="3200"/>
            </a:br>
            <a:r>
              <a:rPr b="0" lang="ru-RU" sz="3200" spc="-1" strike="noStrike">
                <a:solidFill>
                  <a:srgbClr val="595d63"/>
                </a:solidFill>
                <a:latin typeface="Arial Black"/>
              </a:rPr>
              <a:t>ОНИ ОТВЕТСТВЕННЫ  </a:t>
            </a:r>
            <a:br>
              <a:rPr sz="2900"/>
            </a:br>
            <a:br>
              <a:rPr sz="2900"/>
            </a:br>
            <a:br>
              <a:rPr sz="2900"/>
            </a:br>
            <a:r>
              <a:rPr b="0" lang="ru-RU" sz="2900" spc="-1" strike="noStrike">
                <a:solidFill>
                  <a:srgbClr val="e75c01"/>
                </a:solidFill>
                <a:latin typeface="Arial Black"/>
              </a:rPr>
              <a:t> </a:t>
            </a: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1" name="Picture 2" descr="F:\Света\уч\Картинки\девки.gif"/>
          <p:cNvPicPr/>
          <p:nvPr/>
        </p:nvPicPr>
        <p:blipFill>
          <a:blip r:embed="rId1"/>
          <a:stretch/>
        </p:blipFill>
        <p:spPr>
          <a:xfrm>
            <a:off x="5000760" y="3571920"/>
            <a:ext cx="2952720" cy="2952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6760" cy="636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75c01"/>
                </a:solidFill>
                <a:latin typeface="Arial Black"/>
              </a:rPr>
              <a:t>МНЕНИЕ ПСИХОЛОГОВ</a:t>
            </a:r>
            <a:br>
              <a:rPr sz="3200"/>
            </a:br>
            <a:r>
              <a:rPr b="0" lang="ru-RU" sz="3200" spc="-1" strike="noStrike">
                <a:solidFill>
                  <a:srgbClr val="595d63"/>
                </a:solidFill>
                <a:latin typeface="Arial Black"/>
              </a:rPr>
              <a:t>СТАТЬ УСПЕШНЫМ МЕШАЮТ:</a:t>
            </a:r>
            <a:br>
              <a:rPr sz="3200"/>
            </a:br>
            <a:r>
              <a:rPr b="0" lang="ru-RU" sz="3200" spc="-1" strike="noStrike">
                <a:solidFill>
                  <a:srgbClr val="595d63"/>
                </a:solidFill>
                <a:latin typeface="Arial Black"/>
              </a:rPr>
              <a:t>- СОМНЕНИЕ В СВОИХ СИЛАХ, НЕУВЕРЕННОСТЬ В СЕБЕ</a:t>
            </a:r>
            <a:br>
              <a:rPr sz="3200"/>
            </a:br>
            <a:r>
              <a:rPr b="0" lang="ru-RU" sz="3200" spc="-1" strike="noStrike">
                <a:solidFill>
                  <a:srgbClr val="595d63"/>
                </a:solidFill>
                <a:latin typeface="Arial Black"/>
              </a:rPr>
              <a:t>- ПРЕЖДЕВРЕМЕННОЕ РАЗОЧАРОВАНИЕ</a:t>
            </a:r>
            <a:br>
              <a:rPr sz="3200"/>
            </a:br>
            <a:r>
              <a:rPr b="0" lang="ru-RU" sz="3200" spc="-1" strike="noStrike">
                <a:solidFill>
                  <a:srgbClr val="595d63"/>
                </a:solidFill>
                <a:latin typeface="Arial Black"/>
              </a:rPr>
              <a:t>- НЕДОСТАТОК ПОДДЕРЖКИ</a:t>
            </a:r>
            <a:br>
              <a:rPr sz="3200"/>
            </a:br>
            <a:r>
              <a:rPr b="0" lang="ru-RU" sz="3200" spc="-1" strike="noStrike">
                <a:solidFill>
                  <a:srgbClr val="595d63"/>
                </a:solidFill>
                <a:latin typeface="Arial Black"/>
              </a:rPr>
              <a:t>- НЕЖЕЛАНИЕ </a:t>
            </a:r>
            <a:br>
              <a:rPr sz="3200"/>
            </a:br>
            <a:r>
              <a:rPr b="0" lang="ru-RU" sz="3200" spc="-1" strike="noStrike">
                <a:solidFill>
                  <a:srgbClr val="595d63"/>
                </a:solidFill>
                <a:latin typeface="Arial Black"/>
              </a:rPr>
              <a:t>ПЕРЕМЕН ОКРУЖАЮЩИМИ</a:t>
            </a:r>
            <a:br>
              <a:rPr sz="3200"/>
            </a:br>
            <a:r>
              <a:rPr b="0" lang="ru-RU" sz="3200" spc="-1" strike="noStrike">
                <a:solidFill>
                  <a:srgbClr val="595d63"/>
                </a:solidFill>
                <a:latin typeface="Arial Black"/>
              </a:rPr>
              <a:t>- РЕАЛЬНЫЕ </a:t>
            </a:r>
            <a:br>
              <a:rPr sz="3200"/>
            </a:br>
            <a:r>
              <a:rPr b="0" lang="ru-RU" sz="3200" spc="-1" strike="noStrike">
                <a:solidFill>
                  <a:srgbClr val="595d63"/>
                </a:solidFill>
                <a:latin typeface="Arial Black"/>
              </a:rPr>
              <a:t>ВОЗМОЖНОСТИ </a:t>
            </a:r>
            <a:br>
              <a:rPr sz="3200"/>
            </a:br>
            <a:r>
              <a:rPr b="0" lang="ru-RU" sz="3200" spc="-1" strike="noStrike">
                <a:solidFill>
                  <a:srgbClr val="595d63"/>
                </a:solidFill>
                <a:latin typeface="Arial Black"/>
              </a:rPr>
              <a:t>(ЗДОРОВЬЕ, ВОЗРАСТ)</a:t>
            </a:r>
            <a:br>
              <a:rPr sz="29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3" name="Picture 2" descr="F:\Света\уч\Картинки\обида.jpg"/>
          <p:cNvPicPr/>
          <p:nvPr/>
        </p:nvPicPr>
        <p:blipFill>
          <a:blip r:embed="rId1"/>
          <a:stretch/>
        </p:blipFill>
        <p:spPr>
          <a:xfrm>
            <a:off x="5715000" y="4286160"/>
            <a:ext cx="32385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818676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b6e5a"/>
                </a:solidFill>
                <a:latin typeface="Arial Black"/>
              </a:rPr>
              <a:t>ЦЕЛЬ-</a:t>
            </a:r>
            <a:r>
              <a:rPr b="1" lang="ru-RU" sz="3000" spc="-1" strike="noStrike">
                <a:solidFill>
                  <a:srgbClr val="575f6d"/>
                </a:solidFill>
                <a:latin typeface="Arial Black"/>
              </a:rPr>
              <a:t> ОСОЗНАННЫЙ ОБРАЗ ПРЕДВОСХИЩАЕМОГО РЕЗУЛЬТАТА</a:t>
            </a:r>
            <a:br>
              <a:rPr sz="3000"/>
            </a:br>
            <a:r>
              <a:rPr b="1" lang="ru-RU" sz="3000" spc="-1" strike="noStrike">
                <a:solidFill>
                  <a:srgbClr val="575f6d"/>
                </a:solidFill>
                <a:latin typeface="Arial Black"/>
              </a:rPr>
              <a:t> </a:t>
            </a:r>
            <a:br>
              <a:rPr sz="3000"/>
            </a:br>
            <a:r>
              <a:rPr b="1" lang="ru-RU" sz="3000" spc="-1" strike="noStrike">
                <a:solidFill>
                  <a:srgbClr val="575f6d"/>
                </a:solidFill>
                <a:latin typeface="Arial Black"/>
              </a:rPr>
              <a:t>ИМЕЙ ЦЕЛЬ ВСЕЙ ЖИЗНИ, ЦЕЛЬ ДЛЯ ИЗВЕСТНОЙ ЭПОХИ ТВОЕЙ ЖИЗНИ,</a:t>
            </a:r>
            <a:br>
              <a:rPr sz="3000"/>
            </a:br>
            <a:r>
              <a:rPr b="1" lang="ru-RU" sz="3000" spc="-1" strike="noStrike">
                <a:solidFill>
                  <a:srgbClr val="575f6d"/>
                </a:solidFill>
                <a:latin typeface="Arial Black"/>
              </a:rPr>
              <a:t>ЦЕЛЬ ДЛЯ ИЗВЕСТНОГО ВРЕМЕНИ, ЦЕЛЬ ДЛЯ ГОДА, ЦЕЛЬ ДЛЯ МЕСЯЦА,</a:t>
            </a:r>
            <a:br>
              <a:rPr sz="3000"/>
            </a:br>
            <a:r>
              <a:rPr b="1" lang="ru-RU" sz="3000" spc="-1" strike="noStrike">
                <a:solidFill>
                  <a:srgbClr val="575f6d"/>
                </a:solidFill>
                <a:latin typeface="Arial Black"/>
              </a:rPr>
              <a:t>ДЛЯ НЕДЕЛИ, ДЛЯ ДНЯ И ДЛЯ ЧАСА, ДЛЯ МИНУТЫ, </a:t>
            </a:r>
            <a:br>
              <a:rPr sz="3000"/>
            </a:br>
            <a:r>
              <a:rPr b="1" lang="ru-RU" sz="3000" spc="-1" strike="noStrike">
                <a:solidFill>
                  <a:srgbClr val="575f6d"/>
                </a:solidFill>
                <a:latin typeface="Arial Black"/>
              </a:rPr>
              <a:t>ЖЕРТВУЯ НИЗШИЕ ЦЕЛИ ВЫСШИМ</a:t>
            </a:r>
            <a:r>
              <a:rPr b="0" lang="ru-RU" sz="3000" spc="-1" strike="noStrike">
                <a:solidFill>
                  <a:srgbClr val="575f6d"/>
                </a:solidFill>
                <a:latin typeface="Arial Black"/>
              </a:rPr>
              <a:t>.</a:t>
            </a:r>
            <a:br>
              <a:rPr sz="3000"/>
            </a:br>
            <a:r>
              <a:rPr b="0" lang="ru-RU" sz="3000" spc="-1" strike="noStrike">
                <a:solidFill>
                  <a:srgbClr val="575f6d"/>
                </a:solidFill>
                <a:latin typeface="Arial Black"/>
              </a:rPr>
              <a:t>                                   Л.Н.ТОЛСТОЙ 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72600" cy="60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575f6d"/>
                </a:solidFill>
                <a:latin typeface="Arial Black"/>
              </a:rPr>
              <a:t>Н И ОДНА БЛАГАЯ ЦЕЛЬ НЕ МОЖЕТ БЫТЬ ДОСТИГНУТА НЕДОСТОЙНЫМИ СРЕДСТВАМИ, ИНАЧЕ ИСКАЖАЕТСЯ ОЖИДАЕМЫЙ </a:t>
            </a:r>
            <a:br>
              <a:rPr sz="4000"/>
            </a:br>
            <a:r>
              <a:rPr b="0" lang="ru-RU" sz="4000" spc="-1" strike="noStrike">
                <a:solidFill>
                  <a:srgbClr val="575f6d"/>
                </a:solidFill>
                <a:latin typeface="Arial Black"/>
              </a:rPr>
              <a:t>РЕЗУЛЬТАТ </a:t>
            </a: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6" name="Picture 4" descr="F:\Света\уч\Картинки\кот.jpg"/>
          <p:cNvPicPr/>
          <p:nvPr/>
        </p:nvPicPr>
        <p:blipFill>
          <a:blip r:embed="rId1"/>
          <a:stretch/>
        </p:blipFill>
        <p:spPr>
          <a:xfrm>
            <a:off x="4214880" y="3429000"/>
            <a:ext cx="38019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2" descr="F:\Света\уч\Картинки\Леонид_Рошаль_.jpg"/>
          <p:cNvPicPr/>
          <p:nvPr/>
        </p:nvPicPr>
        <p:blipFill>
          <a:blip r:embed="rId1"/>
          <a:stretch/>
        </p:blipFill>
        <p:spPr>
          <a:xfrm>
            <a:off x="3143160" y="3143160"/>
            <a:ext cx="2905200" cy="325440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58040" cy="60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b6e5a"/>
                </a:solidFill>
                <a:latin typeface="Arial Black"/>
              </a:rPr>
              <a:t>ФОРМУЛА УСПЕХА</a:t>
            </a:r>
            <a:br>
              <a:rPr sz="4400"/>
            </a:br>
            <a:r>
              <a:rPr b="1" lang="ru-RU" sz="5400" spc="-1" strike="noStrike">
                <a:solidFill>
                  <a:srgbClr val="595d63"/>
                </a:solidFill>
                <a:latin typeface="Arial Black"/>
              </a:rPr>
              <a:t>ХОЧУ – МОГУ – НАДО</a:t>
            </a: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595d63"/>
                </a:solidFill>
                <a:latin typeface="Arial Black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9" name="Picture 4" descr="F:\Света\уч\Картинки\буре.jpg"/>
          <p:cNvPicPr/>
          <p:nvPr/>
        </p:nvPicPr>
        <p:blipFill>
          <a:blip r:embed="rId2"/>
          <a:stretch/>
        </p:blipFill>
        <p:spPr>
          <a:xfrm>
            <a:off x="6143760" y="3143160"/>
            <a:ext cx="2428920" cy="32562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5" descr="F:\Света\уч\Картинки\Юра.jpg"/>
          <p:cNvPicPr/>
          <p:nvPr/>
        </p:nvPicPr>
        <p:blipFill>
          <a:blip r:embed="rId3"/>
          <a:stretch/>
        </p:blipFill>
        <p:spPr>
          <a:xfrm>
            <a:off x="357120" y="3143160"/>
            <a:ext cx="2571840" cy="32464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6T20:36:09Z</dcterms:created>
  <dc:creator>Света</dc:creator>
  <dc:description/>
  <dc:language>en-US</dc:language>
  <cp:lastModifiedBy>Admin</cp:lastModifiedBy>
  <dcterms:modified xsi:type="dcterms:W3CDTF">2013-11-27T15:22:42Z</dcterms:modified>
  <cp:revision>21</cp:revision>
  <dc:subject/>
  <dc:title>Слайд 1</dc:title>
</cp:coreProperties>
</file>