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2.jpeg" ContentType="image/jpeg"/>
  <Override PartName="/ppt/media/image20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92DC-6047-4E94-A538-35BCC8ADC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8511-7FF2-4EB3-98C0-79B59CBE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9680-1089-486C-876E-C90CFE2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7F81-1DE7-4D86-BAF8-1683286D8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19D6-35CC-4482-B456-70FC6C93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3477-292E-4E2D-979C-EC2DA9B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457B-A02B-4FC2-BCEF-C107DF5B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5821-7325-4DFA-8D98-F01C8F15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0B5A-9AB7-488E-9A5E-8730B1E6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910A-8BC7-469C-8360-44A91D99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ED70-53D8-4CDB-95E4-35B4FCED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E87C-5A3B-4CB1-AD32-9CEA98A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520E5-ECE2-42AB-B362-F1A119BD943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0520" y="2205000"/>
            <a:ext cx="8562960" cy="465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20640"/>
            <a:ext cx="777240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-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мандрівка 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«Державні та народні символи Украї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0040" y="214200"/>
            <a:ext cx="79581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85840" y="142920"/>
            <a:ext cx="81025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Жила собі жінка. І мала вона трьох синів. Сини зростали чесними, сміливими, дуже любили свою неньку і готові були віддати за неї своє життя. Виросли сини і розійшлися по світах, прославляючи свою матір. Найстаршому матір подарувала на згадку про себе золоту корону з трьома промінцями. Корона зігрівала людей, вела вперед, показувала шлях до кращого життя. Люди дали першому синові ім’я Тризуб. Середньому сину мати дала в дорогу блакитно жовтий одяг. Сміливий та сильний був середній син, і прославив він свою матір добрими вчинками. Люди запам’ятали його і прозвали Прапором. А найменший син отримав у дарунок від матері соловейків голос. І де б він не був, усюди лунала його дзвінка урочиста пісня. За цей голос і величний спів люди дали йому ім’я Гімн. Так і донині по всьому світу золотий тризуб, синьо-жовтий прапор і урочистий гімн прославляють рідну неньку – Україну. Вони стали державними символами Украї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7120" y="3857760"/>
            <a:ext cx="2720880" cy="2714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43200" y="3929040"/>
            <a:ext cx="1927440" cy="2571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00840" y="3929040"/>
            <a:ext cx="238608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476280"/>
            <a:ext cx="78598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й прапор України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5616360" cy="402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274680"/>
            <a:ext cx="359892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й герб України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15764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549360"/>
            <a:ext cx="3598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й Гімн України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03236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5687" t="10696" r="20267" b="34064"/>
          <a:stretch/>
        </p:blipFill>
        <p:spPr>
          <a:xfrm>
            <a:off x="933480" y="0"/>
            <a:ext cx="82105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33480" y="5013360"/>
            <a:ext cx="410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Павло Чубинсь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5013360"/>
            <a:ext cx="33130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Михайло Вербиць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70000" y="195120"/>
            <a:ext cx="3560760" cy="483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638680" y="195120"/>
            <a:ext cx="3486240" cy="483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0" t="0" r="78182" b="0"/>
          <a:stretch/>
        </p:blipFill>
        <p:spPr>
          <a:xfrm>
            <a:off x="0" y="0"/>
            <a:ext cx="9334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001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75" dur="indefinite" restart="never" fill="hold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Зупинка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4653000"/>
            <a:ext cx="3924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 Black"/>
              </a:rPr>
              <a:t>«Народні символи Україн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0"/>
              <a:ext cx="914076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0"/>
              <a:ext cx="914076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076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08360" y="274680"/>
            <a:ext cx="3672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і симв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4653000"/>
            <a:ext cx="2659320" cy="1936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75640" y="620640"/>
            <a:ext cx="194616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692360" y="2924280"/>
            <a:ext cx="196848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79280" y="4653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372360" y="2492280"/>
            <a:ext cx="2469960" cy="195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3203640" y="4653000"/>
            <a:ext cx="2592360" cy="200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924360" y="2492280"/>
            <a:ext cx="2232000" cy="194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433080" cy="5305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Зупинка 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 Black"/>
              </a:rPr>
              <a:t>«Юні патріо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0"/>
            <a:ext cx="9140760" cy="6981840"/>
            <a:chOff x="0" y="0"/>
            <a:chExt cx="9140760" cy="69818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9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0"/>
              <a:ext cx="9140760" cy="69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076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5687" t="10696" r="20267" b="34064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15960" y="1646280"/>
            <a:ext cx="8335800" cy="2720880"/>
            <a:chOff x="615960" y="1646280"/>
            <a:chExt cx="8335800" cy="272088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615960" y="1646280"/>
              <a:ext cx="8335800" cy="27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15960" y="1646280"/>
              <a:ext cx="8335800" cy="27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812000" y="1600200"/>
            <a:ext cx="87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3244680"/>
            <a:ext cx="43052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413532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274680"/>
            <a:ext cx="4762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000" spc="-1" strike="noStrike">
                <a:solidFill>
                  <a:srgbClr val="ff0000"/>
                </a:solidFill>
                <a:latin typeface="Arial Black"/>
              </a:rPr>
              <a:t>«Земля де я народився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76280"/>
            <a:ext cx="436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Arial Black"/>
              </a:rPr>
              <a:t>«Державні символи моєї Батьківщин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6215040" y="335772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Arial Black"/>
              </a:rPr>
              <a:t>«Народні символи Україн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521520" y="3244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Arial Black"/>
              </a:rPr>
              <a:t>«Юні патріо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Зупинка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932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000" spc="-1" strike="noStrike">
                <a:solidFill>
                  <a:srgbClr val="ff0000"/>
                </a:solidFill>
                <a:latin typeface="Arial Black"/>
              </a:rPr>
              <a:t>«Земля де я народився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333360"/>
            <a:ext cx="9140760" cy="6521400"/>
            <a:chOff x="0" y="333360"/>
            <a:chExt cx="9140760" cy="65214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333360"/>
              <a:ext cx="9140760" cy="65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333360"/>
              <a:ext cx="9140760" cy="65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Бать</a:t>
            </a:r>
            <a:r>
              <a:rPr b="0" lang="uk-UA" sz="4400" spc="-1" strike="noStrike">
                <a:solidFill>
                  <a:srgbClr val="ff0000"/>
                </a:solidFill>
                <a:latin typeface="Arial Black"/>
              </a:rPr>
              <a:t>ківщи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57120" y="1428840"/>
            <a:ext cx="4283280" cy="2676600"/>
            <a:chOff x="357120" y="1428840"/>
            <a:chExt cx="4283280" cy="26766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57120" y="1428840"/>
              <a:ext cx="42832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57120" y="1428840"/>
              <a:ext cx="4283280" cy="26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396576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4071960"/>
            <a:ext cx="3929400" cy="254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435744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0" y="0"/>
              <a:ext cx="914076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Зупинка 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60280"/>
            <a:ext cx="3203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000" spc="-1" strike="noStrike">
                <a:solidFill>
                  <a:srgbClr val="ff0000"/>
                </a:solidFill>
                <a:latin typeface="Arial Black"/>
              </a:rPr>
              <a:t>«Державні символи моєї Батьківщин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0" y="0"/>
              <a:ext cx="914076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2:26:25Z</dcterms:created>
  <dc:creator>Atom</dc:creator>
  <dc:description/>
  <dc:language>en-US</dc:language>
  <cp:lastModifiedBy>User</cp:lastModifiedBy>
  <dcterms:modified xsi:type="dcterms:W3CDTF">2016-01-04T07:16:11Z</dcterms:modified>
  <cp:revision>55</cp:revision>
  <dc:subject/>
  <dc:title>Гра-мандрівка  «Державні та народні символи України»</dc:title>
</cp:coreProperties>
</file>