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6.png" ContentType="image/png"/>
  <Override PartName="/ppt/media/image21.jpeg" ContentType="image/jpeg"/>
  <Override PartName="/ppt/media/image29.png" ContentType="image/png"/>
  <Override PartName="/ppt/media/image11.png" ContentType="image/png"/>
  <Override PartName="/ppt/media/image19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8.png" ContentType="image/png"/>
  <Override PartName="/ppt/media/image5.png" ContentType="image/png"/>
  <Override PartName="/ppt/media/image30.jpeg" ContentType="image/jpeg"/>
  <Override PartName="/ppt/media/image3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20073-7EEF-4E0C-B647-C907D2F19B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9D78-3877-490B-8F4D-8AC01EC8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DB82C-B83F-4CF9-8115-0A29D6E7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667E0-B152-4CEA-9C1A-D3C73BCDF6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73E01-C9C0-4AD1-89D3-9A440FB4A3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BC896-4A2C-4FBC-BF6E-3188AFE7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B64DD-5030-4DD2-A005-EF585167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8F54C-B87A-4E04-8681-AE7C8AE1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596BD-4F93-4445-8EDE-24B84B06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89850-1955-4EF1-9DC8-C360CF99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D8935-46BF-4457-8B08-A54D8FBA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8AD22-2568-4E29-9EA4-20BC6C32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4DDE1-C80C-416B-99CC-6970A8BE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A7730-63C0-4836-B48C-08A39476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CD257-7AFE-4FC8-A14A-21878416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35663-5D24-4AF9-A677-1C0B98A7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CFD3F-96FD-4051-BD5A-20AAD44B19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1FF7-68E3-409E-AA16-F0F340F3F9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8BC6-98A9-4430-A3DE-4901F20B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29E9-5EF0-44BE-BA34-6DB59AE2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DC34-1BCE-4423-99BF-E6DD4F68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69A9-A8DC-421C-9E2C-DECE2D20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0E9B-D5A6-4589-B193-10A4DD0B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9E82-E5FC-4734-8E11-645D0311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34F2-186B-43A5-9ADC-A5254C39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712A-3E4C-4A13-9EF4-99664762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604B-B7E1-42E9-A018-D0B3E49F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E9EC-769E-49E2-8217-AE2A0CC3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D6DC-BC4C-4426-B0C0-023C49D7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D6B3-AE08-4F0D-BF90-999F3B00CD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7A016-9D33-4051-B041-DDB4C73B9B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05B7A-7612-49ED-B170-0710E516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796AD-ABD2-49FC-88DE-9E19633D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FE8E3-D80C-4B4D-9B19-439877B7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692A7-900E-4A58-8716-567267DC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3D489-9656-4754-AB32-34399F44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89ACF-C7C9-4356-84CC-2FAC2BC1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E1687-AD78-494B-A51D-4702B84C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E2BBE-5708-4D33-A25C-EDE9D5DC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7040A-99C1-476F-9DB9-1E5F1B43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B010F-1A1F-4155-8267-B2BDCC12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D8C3A-0B4E-4D13-9E9F-2E8AA013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FE219-36F0-439A-9BE6-B8171E803A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89685C-3CD8-4AA1-B787-EF4A9F7412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26A20-9998-42B7-8578-F6F43541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45C94C-1D23-441F-835E-EB206756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3B00B2-CD31-4C3E-816C-97BE11B8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70647-B25C-4355-9B4F-E785CC5D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0A0E1-A285-4776-943E-26711E03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FA253A-E439-4CCE-BDC6-0A9CE7A1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9EA2F3-C8A4-4E8D-8016-779C5DFA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D61D81-FCC5-49BC-8B3D-47A7DF72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FE89F2-2DD9-49F1-8CCD-29F5DE44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818BE-5BE2-46BB-9094-9E191D2D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2D13E5-8531-40CC-A65E-6B312B79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880" y="4371480"/>
            <a:ext cx="650880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9871-813A-4149-8345-506EF0B1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0588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469120" y="73188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14264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0588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469120" y="2545560"/>
            <a:ext cx="2059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EB053A-23A7-404C-A04F-E954D89DA7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C2BBE-8978-4FD5-B083-3355D287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1160" y="254556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2FCAB-A1D3-46ED-9AF7-578AB99D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1160" y="731880"/>
            <a:ext cx="31219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2640" y="2545560"/>
            <a:ext cx="63975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16D1-E4AC-4C2F-B1B4-1100CDEB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2200" y="6170760"/>
            <a:ext cx="25113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61707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3809880" y="6170760"/>
            <a:ext cx="1825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8199B-5460-4A2A-8CD4-3C8582262F9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3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4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7DF5E94-5D10-436A-B573-F6EEF4F310A5}" type="slidenum">
              <a:rPr b="1" lang="ru-RU" sz="1200" spc="-1" strike="noStrike">
                <a:solidFill>
                  <a:srgbClr val="7f7f7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5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04A0E8F-F284-470A-A2FF-C3369EE45AE8}" type="slidenum">
              <a:rPr b="1" lang="ru-RU" sz="1200" spc="-1" strike="noStrike">
                <a:solidFill>
                  <a:srgbClr val="7f7f7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880" y="4371480"/>
            <a:ext cx="65088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2640" y="731880"/>
            <a:ext cx="63975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7"/>
          </p:nvPr>
        </p:nvSpPr>
        <p:spPr>
          <a:xfrm>
            <a:off x="6172200" y="6171840"/>
            <a:ext cx="2511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3809880" y="6171840"/>
            <a:ext cx="18259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844BEE-D159-4FC2-8C96-7B1FC9D60C4F}" type="slidenum">
              <a:rPr b="1" lang="ru-RU" sz="1200" spc="-1" strike="noStrike">
                <a:solidFill>
                  <a:srgbClr val="7f7f7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  <a:ea typeface="Lucida Sans Unicode"/>
              </a:rPr>
              <a:t>5.4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6439B98-A2AF-49A3-BCD9-BE660DF8E838}" type="slidenum">
              <a:rPr b="0" lang="ru-RU" sz="1400" spc="-1" strike="noStrike">
                <a:solidFill>
                  <a:srgbClr val="000000"/>
                </a:solidFill>
                <a:latin typeface="Constanti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265800" cy="393696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944640" y="55440"/>
            <a:ext cx="7858080" cy="1528920"/>
            <a:chOff x="944640" y="55440"/>
            <a:chExt cx="7858080" cy="1528920"/>
          </a:xfrm>
        </p:grpSpPr>
        <p:pic>
          <p:nvPicPr>
            <p:cNvPr id="258" name="" descr=""/>
            <p:cNvPicPr/>
            <p:nvPr/>
          </p:nvPicPr>
          <p:blipFill>
            <a:blip r:embed="rId3"/>
            <a:stretch/>
          </p:blipFill>
          <p:spPr>
            <a:xfrm>
              <a:off x="944640" y="55440"/>
              <a:ext cx="785808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944640" y="55440"/>
              <a:ext cx="785808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2133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822400" y="36360"/>
            <a:ext cx="3108600" cy="1573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47640" y="2585880"/>
            <a:ext cx="5185080" cy="3507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48080" y="55440"/>
            <a:ext cx="3792240" cy="1676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857240" y="2428920"/>
            <a:ext cx="5240520" cy="3486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968560" y="60480"/>
            <a:ext cx="3389400" cy="17492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1785960" y="2357280"/>
            <a:ext cx="5929200" cy="3821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475000" y="-19080"/>
            <a:ext cx="3828960" cy="1682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340000" y="2505240"/>
            <a:ext cx="4753080" cy="3803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041560" y="171360"/>
            <a:ext cx="5029200" cy="1833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2771640" y="1998720"/>
            <a:ext cx="1933560" cy="4687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273400" y="-49320"/>
            <a:ext cx="4316400" cy="1749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403280" y="1700280"/>
            <a:ext cx="5616720" cy="4249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309760" y="133200"/>
            <a:ext cx="4707000" cy="1671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403280" y="1916280"/>
            <a:ext cx="5977080" cy="3889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2127240" y="182520"/>
            <a:ext cx="3468600" cy="1567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1692360" y="2395440"/>
            <a:ext cx="4608360" cy="3265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494080" y="133200"/>
            <a:ext cx="3717720" cy="1665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2286000" y="2286000"/>
            <a:ext cx="421488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3962520" cy="30906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5715000" cy="46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48316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3178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5:25:15Z</dcterms:created>
  <dc:creator>Dmitriy</dc:creator>
  <dc:description/>
  <dc:language>en-US</dc:language>
  <cp:lastModifiedBy>фф</cp:lastModifiedBy>
  <dcterms:modified xsi:type="dcterms:W3CDTF">2012-04-22T06:05:02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21000000000001024140</vt:lpwstr>
  </property>
</Properties>
</file>