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EA92-D667-4F76-9336-7B253DA67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44D8-2998-4DED-8EA7-F66116E1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51822-E7E7-4773-819E-AE792E76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7E277-B0BD-473F-A07B-5EA691C9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81B00-B074-413E-A2EA-3359DF7B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3D072-382D-4D55-8AA1-D2B37F97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45851-5B90-4E1F-9009-A23D8549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9FE6C-81D6-43E8-86C2-AAC04F4E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5B35E-55A4-4782-B9A5-5E0836E5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FBC0C-7AEC-41B9-B113-5EBAB057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0B6F7-C4D5-40C3-BDFB-FA7C2285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B2945-B834-4D2C-9848-B58AA19EF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B437-096B-46AF-9996-7019D29B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ABE22-801D-44A0-BA3A-52404103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24035-0654-42FD-817F-47040098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8CF2E-5976-4542-BDDB-72EDD348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2D43BE-BA0F-4CC0-96C5-04B0118C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696460-D2DA-4E83-8B36-CB71EF93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E0ED0-02DC-42F2-805B-E06418DD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0730E5-60A5-4FB3-9C95-2260F4D2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E5A64-3DAA-49A5-8A9D-3DD67F54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D0678-73D3-44AF-8269-F78C9892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416CB-7BD4-4589-A5F6-C5DBDD68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C18F-B289-440C-BA6D-59267A328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8232EA-40BE-4D19-B835-AB19F728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18CE-7C9A-4C52-AFE9-E023BFDE0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1D5B-BF47-4484-A56A-F3F44DD9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30E7-E6BB-4BF8-A128-8A3B61E3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3899-3816-49AC-87F6-E025A893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3A71-62D8-486C-B9DE-E8D47A3B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339B-DC2F-4184-838E-BD7F5BBE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5CDE-D13C-4690-90F1-9FFB0603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3E7B-3D5C-4907-A0DD-634A37EC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3AB0-77BE-439A-A5E8-C9237534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55CD-46A9-4198-BE3F-76B3425F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FC7C-C8F1-4ED1-8063-C0B63808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EA93-BB55-4F1D-B265-DC6300A7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9E23-CB87-4B6F-BB56-9FB69034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273F0-F995-4477-B440-E8C2882D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57CB1-40A6-4B11-867F-26F02790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2F166-30F1-416B-8D91-66D920E8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F85E5-6FC7-47E2-A996-90EE7CAD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2FA35-B158-420D-A161-26A2D673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D237-ADEF-4A83-B3E4-2A910F3D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FD061-727F-42CB-B276-26598245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B3613-739F-4C9B-A594-469EE825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A44B4-BC85-4526-B1A5-7D05FE57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C7928-3C33-462D-AE56-5E5824DA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9C9A2-385D-4055-B195-9F051970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2613C-9238-4504-9E54-112CA5C5D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4F04C-37F6-47B0-B7BE-B95E83E86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6A2C9-2900-4E4A-BB45-86A34E45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4439B-D222-4A7C-A4D9-FB41B702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482F5-8407-46FC-81C5-F2BD69E5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A805-3D99-4789-BFF8-37941517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B294C-946A-499F-A207-859C48D9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617C8-3235-42A9-914B-971FB391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1EF9F-C6D5-450D-826E-6DED81BC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C0CCD-18BE-4BF4-AA40-BC8B8422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02A78-417D-4AFA-8A65-35D67020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0326A-0580-4413-A20F-6993CAD5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E3064-8868-48A3-B8E9-C6ADD4EE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116DA-7D48-413E-9DF9-B078E6CB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76BCA-1643-4D37-A9E0-74AFD13E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3628C-E1AC-46B7-93D9-C4A151917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1855-3A68-4006-BFED-04E0A900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AEE56-2CAD-4BC5-987A-1702C272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AEE1C-C7A2-4728-9B03-3E54AA8E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E0F4A-C837-423F-8D13-E816678F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2790E-C45B-4DE0-9FDE-EECD35CE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BE4C1-E01A-452B-BD8C-23E037D1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1FEF7-9385-4251-B3D6-993B621D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9924A-B51B-4559-BD07-5EEF7912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2476F-01EA-43D9-8E51-17F79E8B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AFA39-D56E-4358-A57A-DF44A1F1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B5DA7-B57E-4FD7-AC46-DA99203C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DAF1-8F99-45DE-9C78-3406F5B5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B7980-6347-4ECF-963A-C00F8DD8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9742B-907F-4230-BF89-B324E3024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37508-C15B-42C8-8178-770501F1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8FB17-24D8-405F-9777-3A0EC9FA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C31C7-CDDF-4A49-870C-07DDDA72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BE598-3151-4DE0-9A3C-DD12AB65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C5171-2791-4235-A3DD-EB76AA05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9B128-BB91-4FF6-A574-A2CF5DC6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6B7D4-BC5A-49B0-8C1C-CFB4EC2F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773A8-36DB-4269-B3DB-EB5C19BE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1DFE-D87E-49ED-9932-4B3432F6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80F48-4FCD-4C2D-853A-9509C975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951E1-C4C8-4115-839D-BD2397F1B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18BC7-5B81-422C-850F-119FD728A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204D3-03CC-42C2-A7FD-C39C42988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E9AEB-ACEB-423F-83CF-411A0F05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D7DA2-CF52-4809-A909-F50B583D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688A0-1D02-4EAF-8320-4FC89418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9CAB9-45C5-4781-9E28-A7ECE4D1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5A7AB-2CAC-4079-A2FA-12611E8F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4BED0-4ECE-4D03-81F3-B49D7F11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46B6-5FBD-4D99-AACC-72F92F71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24D9E-265F-4195-88A2-B694B2C0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05D0C-DE8A-4C22-9EEC-23A262F6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6A5F7-1AD0-402A-98CA-907392AE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28A29-1486-4DD2-985A-8DCE0AE3E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F533A-6EF1-4E16-BBF8-01A20C1D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AAFDF-93FB-4203-980E-0E3A5C4F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4FFDA-5F14-4D2B-A3C4-4EE618CC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824CB-0E18-4EBC-9D42-F23065BA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81D78-CF11-40A2-AEAE-1CBB5DAF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7D7F0-9524-4CD4-8F9F-5C40AB76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A79D-8118-4CCA-B4F6-24BB94E9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FE848-0B01-4827-A2A8-3E67B817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80D6A-A1CA-4E67-B820-75BFAF37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31D2E-E100-4218-8C41-9373C98B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8BC3A-CAC7-44B6-9391-B4253BBF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55E9E-FCE7-4514-866B-E98AF71B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CB0F2-BCDD-4044-979D-148CDE53E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2EB7C-ACD8-4AF4-A0AE-22786E11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850A5-151B-48A6-8E5E-F850E893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5C627-BDBC-4DAC-B821-3ADE5328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62500-7E13-4D36-9E8F-F3B41900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5C22-E0D5-44F3-AAE6-A21CB148307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1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4EB1-6464-459F-9AA1-895A7869CF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7F62-C24C-4514-A507-EC972317DA9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15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28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4B7F-D7DE-44D5-91D2-337016F3710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95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08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8ABC-4652-4F68-A99A-BA8C76FA408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74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76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4067-B406-4FC2-8E5E-C0EF43966B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21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23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27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1FC2-041D-46A6-BCE8-2BA56B3ECC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70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6F10-40C0-47A2-A01F-531A1D866C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15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E0C1-551E-4D7E-9288-B7D2E64E84B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2FB9-3259-4DE9-9EB2-292341F070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9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914400" y="1905120"/>
            <a:ext cx="76960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ема: Зима-білосніж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cc"/>
                </a:solidFill>
                <a:latin typeface="Arial"/>
              </a:rPr>
              <a:t>Загальноосвітня школа І-ІІІ ст. № 7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5257800" y="4419360"/>
            <a:ext cx="3657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ec85e"/>
                </a:solidFill>
                <a:latin typeface="Verdana"/>
              </a:rPr>
              <a:t>Викладач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ec85e"/>
                </a:solidFill>
                <a:latin typeface="Verdana"/>
              </a:rPr>
              <a:t>Софілканич В.О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ec85e"/>
                </a:solidFill>
                <a:latin typeface="Verdana"/>
              </a:rPr>
              <a:t>3-А клас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9" name=""/>
          <p:cNvSpPr/>
          <p:nvPr/>
        </p:nvSpPr>
        <p:spPr>
          <a:xfrm>
            <a:off x="1600200" y="6248520"/>
            <a:ext cx="5181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Verdana"/>
              </a:rPr>
              <a:t>Мукачево - 2011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Tahoma"/>
              </a:rPr>
              <a:t>Гра “Додай прикметник”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5181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ahoma"/>
              </a:rPr>
              <a:t>От випав сніг. Яка обнова!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ahoma"/>
              </a:rPr>
              <a:t>Зима тоді така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ru-RU" sz="26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"/>
          <p:cNvSpPr/>
          <p:nvPr/>
        </p:nvSpPr>
        <p:spPr>
          <a:xfrm>
            <a:off x="5562720" y="1295280"/>
            <a:ext cx="2666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Verdana"/>
              </a:rPr>
              <a:t>чудова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04920" y="1905120"/>
            <a:ext cx="5181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ста чистенькі, білі сел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а і радісна 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2895480"/>
            <a:ext cx="5715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жляють вальс сніжинки ніжні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а пухка 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04920" y="4038480"/>
            <a:ext cx="5715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на буває і серйозн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ха і вітряна, 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04920" y="5257800"/>
            <a:ext cx="5715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як насуне хмара сива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а по-своєм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668920" y="2286000"/>
            <a:ext cx="12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Verdana"/>
              </a:rPr>
              <a:t>весел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747760" y="322596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Verdana"/>
              </a:rPr>
              <a:t>білосніжн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703480" y="421632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Verdana"/>
              </a:rPr>
              <a:t>морозн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85920" y="5587920"/>
            <a:ext cx="15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Verdana"/>
              </a:rPr>
              <a:t>красив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228600" y="68580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А вранці іні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то обнова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Яка зима у нас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52280" y="17524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Гілок од інею не видно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Тоді вона, звичайн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28600" y="28954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Зима буває вередлива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То часом добра, то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04920" y="40384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ка ж зима? Яка вона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Вона весела і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80880" y="457200"/>
            <a:ext cx="45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558040" y="838080"/>
            <a:ext cx="14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Verdana"/>
              </a:rPr>
              <a:t>казков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479560" y="20574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Verdana"/>
              </a:rPr>
              <a:t>срібн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406840" y="3200400"/>
            <a:ext cx="17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Verdana"/>
              </a:rPr>
              <a:t>сварлив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565960" y="434340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Verdana"/>
              </a:rPr>
              <a:t>сумн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ahoma"/>
              </a:rPr>
              <a:t>сніг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ahoma"/>
              </a:rPr>
              <a:t>зима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ahoma"/>
              </a:rPr>
              <a:t>хмара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ahoma"/>
              </a:rPr>
              <a:t>холодна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ahoma"/>
              </a:rPr>
              <a:t>сніжинка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ahoma"/>
              </a:rPr>
              <a:t>метелиц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ahoma"/>
              </a:rPr>
              <a:t>На дуби і на ялинк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ahoma"/>
              </a:rPr>
              <a:t>Тихо падають сніжинки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ahoma"/>
              </a:rPr>
              <a:t>Одна сніжинка, дві сніжинки..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ahoma"/>
              </a:rPr>
              <a:t>Три сніжинки, чотири сніжинки, п'ять сніжинок..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700" spc="-1" strike="noStrike">
                <a:solidFill>
                  <a:srgbClr val="000000"/>
                </a:solidFill>
                <a:latin typeface="Verdana"/>
              </a:rPr>
              <a:t>лід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700" spc="-1" strike="noStrike">
                <a:solidFill>
                  <a:srgbClr val="000000"/>
                </a:solidFill>
                <a:latin typeface="Verdana"/>
              </a:rPr>
              <a:t>сніг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700" spc="-1" strike="noStrike">
                <a:solidFill>
                  <a:srgbClr val="000000"/>
                </a:solidFill>
                <a:latin typeface="Verdana"/>
              </a:rPr>
              <a:t>зима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700" spc="-1" strike="noStrike">
                <a:solidFill>
                  <a:srgbClr val="000000"/>
                </a:solidFill>
                <a:latin typeface="Verdana"/>
              </a:rPr>
              <a:t>мороз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700" spc="-1" strike="noStrike">
                <a:solidFill>
                  <a:srgbClr val="000000"/>
                </a:solidFill>
                <a:latin typeface="Verdana"/>
              </a:rPr>
              <a:t>холодок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700" spc="-1" strike="noStrike">
                <a:solidFill>
                  <a:srgbClr val="000000"/>
                </a:solidFill>
                <a:latin typeface="Verdana"/>
              </a:rPr>
              <a:t>сніжок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700" spc="-1" strike="noStrike">
                <a:solidFill>
                  <a:srgbClr val="000000"/>
                </a:solidFill>
                <a:latin typeface="Verdana"/>
              </a:rPr>
              <a:t>снігопад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Прикмет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Дим вгору в'ється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на мороз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адає великий лапатий сніг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на негоду і сиріс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Собака качається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на сніг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Гуска ховає ніс під крило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на мороз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2786040" cy="320040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2"/>
          <a:stretch/>
        </p:blipFill>
        <p:spPr>
          <a:xfrm>
            <a:off x="3429000" y="0"/>
            <a:ext cx="2122560" cy="198108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3"/>
          <a:stretch/>
        </p:blipFill>
        <p:spPr>
          <a:xfrm rot="21059400">
            <a:off x="5943240" y="457200"/>
            <a:ext cx="2281320" cy="266688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4"/>
          <a:stretch/>
        </p:blipFill>
        <p:spPr>
          <a:xfrm rot="21001200">
            <a:off x="6095880" y="3276360"/>
            <a:ext cx="2497320" cy="291924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"/>
          <a:stretch/>
        </p:blipFill>
        <p:spPr>
          <a:xfrm>
            <a:off x="3657600" y="4572000"/>
            <a:ext cx="1955880" cy="228600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"/>
          <a:stretch/>
        </p:blipFill>
        <p:spPr>
          <a:xfrm rot="21331800">
            <a:off x="685440" y="3504960"/>
            <a:ext cx="2476440" cy="289548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7"/>
          <a:stretch/>
        </p:blipFill>
        <p:spPr>
          <a:xfrm>
            <a:off x="609480" y="304920"/>
            <a:ext cx="2568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852640" cy="327672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 rot="21291000">
            <a:off x="5943600" y="304920"/>
            <a:ext cx="2736720" cy="297180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3"/>
          <a:stretch/>
        </p:blipFill>
        <p:spPr>
          <a:xfrm rot="20973000">
            <a:off x="6171840" y="3352320"/>
            <a:ext cx="2608200" cy="304812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4"/>
          <a:stretch/>
        </p:blipFill>
        <p:spPr>
          <a:xfrm>
            <a:off x="3429000" y="4800600"/>
            <a:ext cx="2192400" cy="205740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5"/>
          <a:stretch/>
        </p:blipFill>
        <p:spPr>
          <a:xfrm>
            <a:off x="228600" y="3276720"/>
            <a:ext cx="2887560" cy="337644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6"/>
          <a:stretch/>
        </p:blipFill>
        <p:spPr>
          <a:xfrm rot="21318600">
            <a:off x="228240" y="228240"/>
            <a:ext cx="2824200" cy="330048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7"/>
          <a:stretch/>
        </p:blipFill>
        <p:spPr>
          <a:xfrm>
            <a:off x="3505320" y="0"/>
            <a:ext cx="2028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Поставте літери на свої місця і прочитайте реченн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ahoma"/>
              </a:rPr>
              <a:t>З неба летіла ніжна, гарна, мов зірка, сніжин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610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равила користування ножицями і ножем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ожиці для ручної праці повинні мати заокруглені кінці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лади ножиці чи ніж так, щоб вони не виступали за край робочого місц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 працюй тупими ножицями і ножем, а також ножицями зі слабким кріплення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 процесі різання уважно слідкуй за розмітко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 процесі роботи тримай матеріал пасивною рукою так, щоб пальці були осторонь від гострого лез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 розмахуй ножицями, ножем, під час різання не ходи, а також не підходь занадто близько до того, хто ними працює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ісля роботи ножиці тримай складеними, бажано в чохлі, так само як ніж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0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ahoma"/>
              </a:rPr>
              <a:t>Мета: 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поглибити знання учнів про зимові явища, про зв'язок кожного зимового місяця з іншими; вчити третьокласників виразно читати вірші; збагачувати словниковий запас учнів; розвивати їхнє мовлення, логічне мислення, вміння правильно аналізувати прочитане, вчити помічати красу довкола; удосконалювати навички роботи з ножицями, пензлем; виховувати любов до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роди 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рідного краю, бережне ставлення до неї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Мільйон мільйонів сестричок”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Сніжинка народилася високо в небі у великій волохатій хмарі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Бабуню Хмаро,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мовила вона.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Чому ми так далеко від землі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Щоб першими побачити, як з холодних висот надходить Зима,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лагідно пояснила Хмар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Бабуню Хмаро, а навіщо нам стрічати Зиму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Щоб землю вкрити білою ковдрою, заховати од вітрів-морозів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Ой бабуню!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дивується Сніжинка.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Таж я мала, а земля величезна! Як її вкрию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Земля велика, але одна, а в тебе мільйон мільйонів сестричок. Разом вам усе до снаги!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сказала Хмара і труснула рясним фартухом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"/>
          <p:cNvSpPr/>
          <p:nvPr/>
        </p:nvSpPr>
        <p:spPr>
          <a:xfrm>
            <a:off x="603360" y="914400"/>
            <a:ext cx="854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ірка Мензатюк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301680" y="762120"/>
            <a:ext cx="85406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Що тут учинилося! В повітрі замигтіло, зарябіло, сніжинки полетіли на город і стежку, на хату й подвір'я, на сухе соняшничиння, навіть на Рябковий хвіст!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Гетьте!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розсердився Рябко і сховався в буду.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У мене й без вас кожух теплий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А сніжинки падали, падали, поки не вкрили цілий світ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Вранці вийшла Олеся на ґанок і рукавичкою заслонила очі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Ой, біло! Аж сліпить!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А Вітрові сніг не сподобався. То раніше було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шарпай траву за коси, скіль­ки здумаєш, листя осіннє роздмухуй, а тепер усе під снігом, в захистку та в затишку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301680" y="685440"/>
            <a:ext cx="85406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У-ух я вам покажу-у!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засвистів Вітер та й ну сніжинки розмітати!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Дмухнув раз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цілий рій з калини знявся й сів на бабину грядку з часником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Дмухнув удруге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злетів сніг з барвінка, а калину знов накрив. Дихнув ще раз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аж сніг зі стежки на барвінок перелетів! Нічого Вітер вдіяти не може. Дме - та тільки сніг з місця на місце переносить. То він і втих з досад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Тут Мороз узявся до діла, а сестрички-Сніжинки одна до одної тісніше при­тулилися,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не може холод під білу ковдру забратися!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Такі весни діждалис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301680" y="761760"/>
            <a:ext cx="8540640" cy="53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к настала весна, як пригріло сонечко, виросло на землі мільйон травино­чок, зелених та ніжних, мов найтонший шовк, зацвіло мільйон мільйонів квіто­чок. Кожній Сніжинці по квітці й травинці! Це зате, що захистили матінку-зем-лю від лютих холодів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А куди сніжинки поділися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Та нікуди. Встаньте рано-ранесенько і вийдіть у садок. Там на кожній тра­винці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росинка-крапелька. Ото й є наші сніжинки. Сяють вони, веселково пере­ливаються, і кожна відзеркалює сонце. Мільйон мільйонів маленьких сонечок! Аж у світі ясніш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8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Tahoma"/>
              </a:rPr>
              <a:t>Доберіть до питань слова і складіть вірш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(Що зробила? що?) сизокрила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(Яким? чим? що?) покрила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(Звідки? Що роблять? які?) сніжинк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(Хто? що зробили? у чиї?) хатинки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Орієнтовний варіант вірш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Tahoma"/>
              </a:rPr>
              <a:t>Прилетіла зима сизокрила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Tahoma"/>
              </a:rPr>
              <a:t>Білим пухом землю покрила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Tahoma"/>
              </a:rPr>
              <a:t>Згори летять білі сніжинк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Tahoma"/>
              </a:rPr>
              <a:t>І звірі сховались у свої хатинки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0" y="153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19880" y="411840"/>
            <a:ext cx="8912160" cy="6235920"/>
            <a:chOff x="119880" y="411840"/>
            <a:chExt cx="8912160" cy="6235920"/>
          </a:xfrm>
        </p:grpSpPr>
        <p:sp>
          <p:nvSpPr>
            <p:cNvPr id="631" name=""/>
            <p:cNvSpPr/>
            <p:nvPr/>
          </p:nvSpPr>
          <p:spPr>
            <a:xfrm>
              <a:off x="3364560" y="434160"/>
              <a:ext cx="809280" cy="77868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174200" y="411840"/>
              <a:ext cx="810000" cy="77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984560" y="411840"/>
              <a:ext cx="809280" cy="77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793840" y="411840"/>
              <a:ext cx="809280" cy="77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03480" y="411840"/>
              <a:ext cx="810000" cy="77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54560" y="1212840"/>
              <a:ext cx="810000" cy="77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364560" y="1211400"/>
              <a:ext cx="809280" cy="77868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170960" y="1212840"/>
              <a:ext cx="810360" cy="77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981320" y="1214280"/>
              <a:ext cx="809280" cy="77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796000" y="1211400"/>
              <a:ext cx="807120" cy="77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603480" y="1211400"/>
              <a:ext cx="809280" cy="77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796000" y="1991520"/>
              <a:ext cx="810360" cy="77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978080" y="1991520"/>
              <a:ext cx="809280" cy="77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168800" y="1990080"/>
              <a:ext cx="809280" cy="77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359520" y="1987200"/>
              <a:ext cx="809280" cy="77580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49160" y="2763000"/>
              <a:ext cx="810000" cy="77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359520" y="2769840"/>
              <a:ext cx="809280" cy="77868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167720" y="2772720"/>
              <a:ext cx="810360" cy="77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739520" y="2772720"/>
              <a:ext cx="809280" cy="7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739520" y="3548520"/>
              <a:ext cx="809280" cy="7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364560" y="3540600"/>
              <a:ext cx="809280" cy="77868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49160" y="3551400"/>
              <a:ext cx="807120" cy="77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929160" y="2774520"/>
              <a:ext cx="810000" cy="77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175280" y="3548520"/>
              <a:ext cx="809280" cy="7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413480" y="4328640"/>
              <a:ext cx="809280" cy="77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606360" y="4328640"/>
              <a:ext cx="807120" cy="77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790600" y="4328640"/>
              <a:ext cx="809280" cy="77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87440" y="4328640"/>
              <a:ext cx="808200" cy="77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175280" y="4328640"/>
              <a:ext cx="809280" cy="77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366000" y="4319280"/>
              <a:ext cx="809280" cy="77688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222760" y="4328640"/>
              <a:ext cx="809280" cy="77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929160" y="5095080"/>
              <a:ext cx="810000" cy="77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739520" y="5095080"/>
              <a:ext cx="809280" cy="77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549160" y="5096160"/>
              <a:ext cx="807120" cy="77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356280" y="5106240"/>
              <a:ext cx="809280" cy="77580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19880" y="5093280"/>
              <a:ext cx="809280" cy="7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413480" y="5869080"/>
              <a:ext cx="810360" cy="77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599880" y="5870880"/>
              <a:ext cx="809280" cy="77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798160" y="5870880"/>
              <a:ext cx="808200" cy="77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981320" y="5871960"/>
              <a:ext cx="809280" cy="77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174200" y="5869080"/>
              <a:ext cx="807120" cy="77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366720" y="5871960"/>
              <a:ext cx="808200" cy="77580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0" y="153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2996640" y="145800"/>
            <a:ext cx="4295160" cy="629640"/>
            <a:chOff x="2996640" y="145800"/>
            <a:chExt cx="4295160" cy="629640"/>
          </a:xfrm>
        </p:grpSpPr>
        <p:sp>
          <p:nvSpPr>
            <p:cNvPr id="676" name=""/>
            <p:cNvSpPr/>
            <p:nvPr/>
          </p:nvSpPr>
          <p:spPr>
            <a:xfrm>
              <a:off x="2996640" y="145800"/>
              <a:ext cx="858600" cy="62964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d4d4d"/>
                  </a:solidFill>
                  <a:latin typeface="Times New Roman"/>
                  <a:ea typeface="Calibri"/>
                </a:rPr>
                <a:t>к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55240" y="147600"/>
              <a:ext cx="859320" cy="62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d4d4d"/>
                  </a:solidFill>
                  <a:latin typeface="Times New Roman"/>
                  <a:ea typeface="Calibri"/>
                </a:rPr>
                <a:t>о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714920" y="147600"/>
              <a:ext cx="858600" cy="62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d4d4d"/>
                  </a:solidFill>
                  <a:latin typeface="Times New Roman"/>
                  <a:ea typeface="Calibri"/>
                </a:rPr>
                <a:t>т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573880" y="147600"/>
              <a:ext cx="858600" cy="62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d4d4d"/>
                  </a:solidFill>
                  <a:latin typeface="Times New Roman"/>
                  <a:ea typeface="Calibri"/>
                </a:rPr>
                <a:t>и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32480" y="147600"/>
              <a:ext cx="859320" cy="62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d4d4d"/>
                  </a:solidFill>
                  <a:latin typeface="Times New Roman"/>
                  <a:ea typeface="Calibri"/>
                </a:rPr>
                <a:t>к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0" y="303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2157480" y="766080"/>
            <a:ext cx="5046480" cy="613440"/>
            <a:chOff x="2157480" y="766080"/>
            <a:chExt cx="5046480" cy="613440"/>
          </a:xfrm>
        </p:grpSpPr>
        <p:sp>
          <p:nvSpPr>
            <p:cNvPr id="683" name=""/>
            <p:cNvSpPr/>
            <p:nvPr/>
          </p:nvSpPr>
          <p:spPr>
            <a:xfrm>
              <a:off x="2157480" y="767160"/>
              <a:ext cx="841680" cy="61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d4d4d"/>
                  </a:solidFill>
                  <a:latin typeface="Times New Roman"/>
                  <a:ea typeface="Calibri"/>
                </a:rPr>
                <a:t>з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999160" y="766080"/>
              <a:ext cx="840600" cy="61344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d4d4d"/>
                  </a:solidFill>
                  <a:latin typeface="Times New Roman"/>
                  <a:ea typeface="Calibri"/>
                </a:rPr>
                <a:t>а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836520" y="767160"/>
              <a:ext cx="841680" cy="61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d4d4d"/>
                  </a:solidFill>
                  <a:latin typeface="Times New Roman"/>
                  <a:ea typeface="Calibri"/>
                </a:rPr>
                <a:t>й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678560" y="768240"/>
              <a:ext cx="840600" cy="61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d4d4d"/>
                  </a:solidFill>
                  <a:latin typeface="Times New Roman"/>
                  <a:ea typeface="Calibri"/>
                </a:rPr>
                <a:t>ч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524560" y="766080"/>
              <a:ext cx="838440" cy="61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d4d4d"/>
                  </a:solidFill>
                  <a:latin typeface="Times New Roman"/>
                  <a:ea typeface="Calibri"/>
                </a:rPr>
                <a:t>и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363360" y="766080"/>
              <a:ext cx="840600" cy="61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d4d4d"/>
                  </a:solidFill>
                  <a:latin typeface="Times New Roman"/>
                  <a:ea typeface="Calibri"/>
                </a:rPr>
                <a:t>к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0" y="305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0" y="305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2160360" y="1392480"/>
            <a:ext cx="3390120" cy="620280"/>
            <a:chOff x="2160360" y="1392480"/>
            <a:chExt cx="3390120" cy="620280"/>
          </a:xfrm>
        </p:grpSpPr>
        <p:sp>
          <p:nvSpPr>
            <p:cNvPr id="692" name=""/>
            <p:cNvSpPr/>
            <p:nvPr/>
          </p:nvSpPr>
          <p:spPr>
            <a:xfrm>
              <a:off x="4704480" y="1396080"/>
              <a:ext cx="846000" cy="61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4d4d4d"/>
                  </a:solidFill>
                  <a:latin typeface="Times New Roman"/>
                  <a:ea typeface="Calibri"/>
                </a:rPr>
                <a:t>т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850920" y="1396080"/>
              <a:ext cx="844920" cy="61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d4d4d"/>
                  </a:solidFill>
                  <a:latin typeface="Times New Roman"/>
                  <a:ea typeface="Calibri"/>
                </a:rPr>
                <a:t>і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005640" y="1394640"/>
              <a:ext cx="845280" cy="61776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d4d4d"/>
                  </a:solidFill>
                  <a:latin typeface="Times New Roman"/>
                  <a:ea typeface="Calibri"/>
                </a:rPr>
                <a:t>р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160360" y="1392480"/>
              <a:ext cx="844920" cy="61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d4d4d"/>
                  </a:solidFill>
                  <a:latin typeface="Times New Roman"/>
                  <a:ea typeface="Calibri"/>
                </a:rPr>
                <a:t>к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0" y="2865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412560" y="1976040"/>
            <a:ext cx="4272480" cy="715680"/>
            <a:chOff x="412560" y="1976040"/>
            <a:chExt cx="4272480" cy="715680"/>
          </a:xfrm>
        </p:grpSpPr>
        <p:sp>
          <p:nvSpPr>
            <p:cNvPr id="698" name=""/>
            <p:cNvSpPr/>
            <p:nvPr/>
          </p:nvSpPr>
          <p:spPr>
            <a:xfrm>
              <a:off x="2121840" y="1976040"/>
              <a:ext cx="855000" cy="70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4d4d4d"/>
                  </a:solidFill>
                  <a:latin typeface="Times New Roman"/>
                  <a:ea typeface="Calibri"/>
                </a:rPr>
                <a:t>е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976840" y="1982160"/>
              <a:ext cx="853920" cy="70668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4d4d4d"/>
                  </a:solidFill>
                  <a:latin typeface="Times New Roman"/>
                  <a:ea typeface="Calibri"/>
                </a:rPr>
                <a:t>н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830040" y="1985040"/>
              <a:ext cx="8550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4d4d4d"/>
                  </a:solidFill>
                  <a:latin typeface="Times New Roman"/>
                  <a:ea typeface="Calibri"/>
                </a:rPr>
                <a:t>ь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267560" y="1985040"/>
              <a:ext cx="854280" cy="70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4d4d4d"/>
                  </a:solidFill>
                  <a:latin typeface="Times New Roman"/>
                  <a:ea typeface="Calibri"/>
                </a:rPr>
                <a:t>л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12560" y="1986480"/>
              <a:ext cx="855000" cy="70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4d4d4d"/>
                  </a:solidFill>
                  <a:latin typeface="Times New Roman"/>
                  <a:ea typeface="Calibri"/>
                </a:rPr>
                <a:t>о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0" y="2941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1198080" y="2644200"/>
            <a:ext cx="3559680" cy="655920"/>
            <a:chOff x="1198080" y="2644200"/>
            <a:chExt cx="3559680" cy="655920"/>
          </a:xfrm>
        </p:grpSpPr>
        <p:sp>
          <p:nvSpPr>
            <p:cNvPr id="705" name=""/>
            <p:cNvSpPr/>
            <p:nvPr/>
          </p:nvSpPr>
          <p:spPr>
            <a:xfrm>
              <a:off x="1198080" y="2651040"/>
              <a:ext cx="887760" cy="64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4d4d4d"/>
                  </a:solidFill>
                  <a:latin typeface="Times New Roman"/>
                  <a:ea typeface="Calibri"/>
                </a:rPr>
                <a:t>ї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980800" y="2644200"/>
              <a:ext cx="887760" cy="64836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4d4d4d"/>
                  </a:solidFill>
                  <a:latin typeface="Times New Roman"/>
                  <a:ea typeface="Calibri"/>
                </a:rPr>
                <a:t>а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086200" y="2653200"/>
              <a:ext cx="885240" cy="64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4d4d4d"/>
                  </a:solidFill>
                  <a:latin typeface="Times New Roman"/>
                  <a:ea typeface="Calibri"/>
                </a:rPr>
                <a:t>ж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870000" y="2651040"/>
              <a:ext cx="887760" cy="64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4d4d4d"/>
                  </a:solidFill>
                  <a:latin typeface="Times New Roman"/>
                  <a:ea typeface="Calibri"/>
                </a:rPr>
                <a:t>к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0" y="2865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3010680" y="3317760"/>
            <a:ext cx="5905800" cy="622440"/>
            <a:chOff x="3010680" y="3317760"/>
            <a:chExt cx="5905800" cy="622440"/>
          </a:xfrm>
        </p:grpSpPr>
        <p:sp>
          <p:nvSpPr>
            <p:cNvPr id="711" name=""/>
            <p:cNvSpPr/>
            <p:nvPr/>
          </p:nvSpPr>
          <p:spPr>
            <a:xfrm>
              <a:off x="7229520" y="3325320"/>
              <a:ext cx="843480" cy="614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4d4d4d"/>
                  </a:solidFill>
                  <a:latin typeface="Times New Roman"/>
                  <a:ea typeface="Calibri"/>
                </a:rPr>
                <a:t>д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388200" y="3325320"/>
              <a:ext cx="840960" cy="614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4d4d4d"/>
                  </a:solidFill>
                  <a:latin typeface="Times New Roman"/>
                  <a:ea typeface="Calibri"/>
                </a:rPr>
                <a:t>і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537880" y="3325320"/>
              <a:ext cx="843480" cy="614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4d4d4d"/>
                  </a:solidFill>
                  <a:latin typeface="Times New Roman"/>
                  <a:ea typeface="Calibri"/>
                </a:rPr>
                <a:t>м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700880" y="3325320"/>
              <a:ext cx="842400" cy="61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4d4d4d"/>
                  </a:solidFill>
                  <a:latin typeface="Times New Roman"/>
                  <a:ea typeface="Calibri"/>
                </a:rPr>
                <a:t>д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54160" y="3325320"/>
              <a:ext cx="843480" cy="61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4d4d4d"/>
                  </a:solidFill>
                  <a:latin typeface="Times New Roman"/>
                  <a:ea typeface="Calibri"/>
                </a:rPr>
                <a:t>е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010680" y="3317760"/>
              <a:ext cx="843480" cy="61452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4d4d4d"/>
                  </a:solidFill>
                  <a:latin typeface="Times New Roman"/>
                  <a:ea typeface="Calibri"/>
                </a:rPr>
                <a:t>в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073000" y="3325320"/>
              <a:ext cx="843480" cy="614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4d4d4d"/>
                  </a:solidFill>
                  <a:latin typeface="Times New Roman"/>
                  <a:ea typeface="Calibri"/>
                </a:rPr>
                <a:t>ь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0" y="2712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-37800" y="3896280"/>
            <a:ext cx="3844080" cy="655920"/>
            <a:chOff x="-37800" y="3896280"/>
            <a:chExt cx="3844080" cy="655920"/>
          </a:xfrm>
        </p:grpSpPr>
        <p:sp>
          <p:nvSpPr>
            <p:cNvPr id="720" name=""/>
            <p:cNvSpPr/>
            <p:nvPr/>
          </p:nvSpPr>
          <p:spPr>
            <a:xfrm>
              <a:off x="730800" y="3897720"/>
              <a:ext cx="769680" cy="64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4d4d4d"/>
                  </a:solidFill>
                  <a:latin typeface="Times New Roman"/>
                  <a:ea typeface="Calibri"/>
                </a:rPr>
                <a:t>і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500840" y="3897720"/>
              <a:ext cx="76896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4d4d4d"/>
                  </a:solidFill>
                  <a:latin typeface="Times New Roman"/>
                  <a:ea typeface="Calibri"/>
                </a:rPr>
                <a:t>л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270160" y="3898800"/>
              <a:ext cx="766800" cy="64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4d4d4d"/>
                  </a:solidFill>
                  <a:latin typeface="Times New Roman"/>
                  <a:ea typeface="Calibri"/>
                </a:rPr>
                <a:t>к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037320" y="3906720"/>
              <a:ext cx="768960" cy="64548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4d4d4d"/>
                  </a:solidFill>
                  <a:latin typeface="Times New Roman"/>
                  <a:ea typeface="Calibri"/>
                </a:rPr>
                <a:t>а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-37800" y="3896280"/>
              <a:ext cx="76896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4d4d4d"/>
                  </a:solidFill>
                  <a:latin typeface="Times New Roman"/>
                  <a:ea typeface="Calibri"/>
                </a:rPr>
                <a:t>б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25" name=""/>
          <p:cNvSpPr/>
          <p:nvPr/>
        </p:nvSpPr>
        <p:spPr>
          <a:xfrm>
            <a:off x="-152280" y="2637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3067560" y="4560840"/>
            <a:ext cx="5256000" cy="639000"/>
            <a:chOff x="3067560" y="4560840"/>
            <a:chExt cx="5256000" cy="639000"/>
          </a:xfrm>
        </p:grpSpPr>
        <p:sp>
          <p:nvSpPr>
            <p:cNvPr id="727" name=""/>
            <p:cNvSpPr/>
            <p:nvPr/>
          </p:nvSpPr>
          <p:spPr>
            <a:xfrm>
              <a:off x="7446600" y="4560840"/>
              <a:ext cx="876960" cy="63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4d4d4d"/>
                  </a:solidFill>
                  <a:latin typeface="Times New Roman"/>
                  <a:ea typeface="Calibri"/>
                </a:rPr>
                <a:t>я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566040" y="4562280"/>
              <a:ext cx="875880" cy="63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4d4d4d"/>
                  </a:solidFill>
                  <a:latin typeface="Times New Roman"/>
                  <a:ea typeface="Calibri"/>
                </a:rPr>
                <a:t>ц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698440" y="4562280"/>
              <a:ext cx="874440" cy="63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4d4d4d"/>
                  </a:solidFill>
                  <a:latin typeface="Times New Roman"/>
                  <a:ea typeface="Calibri"/>
                </a:rPr>
                <a:t>и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814640" y="4563000"/>
              <a:ext cx="875520" cy="63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4d4d4d"/>
                  </a:solidFill>
                  <a:latin typeface="Times New Roman"/>
                  <a:ea typeface="Calibri"/>
                </a:rPr>
                <a:t>с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941280" y="4560840"/>
              <a:ext cx="873360" cy="63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4d4d4d"/>
                  </a:solidFill>
                  <a:latin typeface="Times New Roman"/>
                  <a:ea typeface="Calibri"/>
                </a:rPr>
                <a:t>и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067560" y="4563000"/>
              <a:ext cx="874440" cy="63648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4d4d4d"/>
                  </a:solidFill>
                  <a:latin typeface="Times New Roman"/>
                  <a:ea typeface="Calibri"/>
                </a:rPr>
                <a:t>л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4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/>
          </p:nvPr>
        </p:nvSpPr>
        <p:spPr>
          <a:xfrm>
            <a:off x="301680" y="152280"/>
            <a:ext cx="85406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ahoma"/>
              </a:rPr>
              <a:t>Учень 1.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Щастя-долі вам бажаєм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У щасливій вашій хаті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Щоб ви всі були багаті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ahoma"/>
              </a:rPr>
              <a:t>Учень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Щоб лежали на столі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Паляниці немалі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ahoma"/>
              </a:rPr>
              <a:t>Учень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Щоб були у вас ковбаси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ahoma"/>
              </a:rPr>
              <a:t>Учень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Молоко і сіль, і м'ясо,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ahoma"/>
              </a:rPr>
              <a:t>Учень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І млинці, і пиріжки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ahoma"/>
              </a:rPr>
              <a:t>Учень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І пухнасті пампушк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ahoma"/>
              </a:rPr>
              <a:t>Учень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7.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Щоб були завжди щасливі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ahoma"/>
              </a:rPr>
              <a:t>Учень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8.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І завзяті, і вродливі!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ahoma"/>
              </a:rPr>
              <a:t>Всі разом.</a:t>
            </a:r>
            <a:r>
              <a:rPr b="0" i="1" lang="uk-U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Будьте здорові!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-360" y="990720"/>
            <a:ext cx="7924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ahoma"/>
              </a:rPr>
              <a:t>Добрий день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ahoma"/>
              </a:rPr>
              <a:t>У добрий час радо ми вітаєм вас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ahoma"/>
              </a:rPr>
              <a:t>З миром зустрічаємо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ahoma"/>
              </a:rPr>
              <a:t>Щастя вам бажаємо.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Автотренінґ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Я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чен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Я ходжу до школ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Мене навчають вчитис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Я все розумію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Я все хочу зна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333399"/>
                </a:solidFill>
                <a:latin typeface="Tahoma"/>
              </a:rPr>
              <a:t>Гасло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ahoma"/>
              </a:rPr>
              <a:t>Щоб робота в нас кипіла,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ahoma"/>
              </a:rPr>
              <a:t>Працювати будем: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Tahoma"/>
              </a:rPr>
              <a:t>Швидко! Дружно! Вміло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ролетіли в трійці коні-скакун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 санях повезли дівчину вон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Має біле личко дівчина чудова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Рукавом змахнула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 дерев обнов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Все навкруг іскриться, все переливаєтьс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Білокоса дівчина дітям усміхаєтьс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Ви ж часу не гайте, швидко відгадайте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Що за трійка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чалась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Як дівчина звалась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ahoma"/>
              </a:rPr>
              <a:t>Г.Дем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i="1" lang="uk-UA" sz="3200" spc="-1" strike="noStrike">
                <a:solidFill>
                  <a:srgbClr val="000000"/>
                </a:solidFill>
                <a:latin typeface="Tahoma"/>
              </a:rPr>
              <a:t>яненк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330033"/>
                </a:solidFill>
                <a:latin typeface="Times New Roman"/>
              </a:rPr>
              <a:t>Дівчина-зим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4724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365760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365760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3"/>
          <a:stretch/>
        </p:blipFill>
        <p:spPr>
          <a:xfrm>
            <a:off x="0" y="3581280"/>
            <a:ext cx="4724280" cy="327672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4"/>
          <a:stretch/>
        </p:blipFill>
        <p:spPr>
          <a:xfrm>
            <a:off x="4800600" y="3581280"/>
            <a:ext cx="4343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uk-UA" sz="3600" spc="-1" strike="noStrike">
                <a:solidFill>
                  <a:srgbClr val="000000"/>
                </a:solidFill>
                <a:latin typeface="Tahoma"/>
              </a:rPr>
              <a:t>Здрастуй, зимонько прекрасна!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uk-UA" sz="3600" spc="-1" strike="noStrike">
                <a:solidFill>
                  <a:srgbClr val="000000"/>
                </a:solidFill>
                <a:latin typeface="Tahoma"/>
              </a:rPr>
              <a:t>Білолиця, світла, ясна!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uk-UA" sz="3600" spc="-1" strike="noStrike">
                <a:solidFill>
                  <a:srgbClr val="000000"/>
                </a:solidFill>
                <a:latin typeface="Tahoma"/>
              </a:rPr>
              <a:t>Всі тебе вітають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uk-UA" sz="3600" spc="-1" strike="noStrike">
                <a:solidFill>
                  <a:srgbClr val="000000"/>
                </a:solidFill>
                <a:latin typeface="Tahoma"/>
              </a:rPr>
              <a:t>Щиро прославляють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3:05:11Z</dcterms:created>
  <dc:creator>user</dc:creator>
  <dc:description/>
  <dc:language>en-US</dc:language>
  <cp:lastModifiedBy>Master</cp:lastModifiedBy>
  <dcterms:modified xsi:type="dcterms:W3CDTF">2011-12-07T14:23:11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