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17.png" ContentType="image/png"/>
  <Override PartName="/ppt/media/image14.gif" ContentType="image/gif"/>
  <Override PartName="/ppt/media/image29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9.png" ContentType="image/png"/>
  <Override PartName="/ppt/media/image39.png" ContentType="image/png"/>
  <Override PartName="/ppt/media/image10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30.png" ContentType="image/png"/>
  <Override PartName="/ppt/media/image28.png" ContentType="image/png"/>
  <Override PartName="/ppt/media/image11.png" ContentType="image/png"/>
  <Override PartName="/ppt/media/image35.png" ContentType="image/png"/>
  <Override PartName="/ppt/media/image5.jpeg" ContentType="image/jpeg"/>
  <Override PartName="/ppt/media/image8.jpeg" ContentType="image/jpeg"/>
  <Override PartName="/ppt/media/image3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6FDF8-E50E-4D06-A85A-D2691E44E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29377-2A45-477D-9128-47036C84C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79D16-7B8E-48AB-9ADB-FD17A33F4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D8700-8ED8-4CC6-A69F-C5B394392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CE0EC-7BBB-46C1-ADE9-746AE787A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6C9E5-E157-4E74-81CF-C32574639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26819-0D83-4DEE-8A81-4EA220646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E7F3F-1A19-4CA8-BCFF-ECB4F6BF7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274C9-5D4B-483B-B8D0-333ADE08C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371F2-4076-49C6-B346-7CB435F22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7FC22-8EA2-4A13-A12A-0CD0EECE8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746AF-84EF-4CF8-AAD1-F292BF1B1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C03B8-7DFD-413A-91C7-1F58B43444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0_885fb_788eef42_X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3348000" y="260280"/>
            <a:ext cx="5256360" cy="23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99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изначення настрою </a:t>
            </a:r>
            <a:endParaRPr b="0" lang="en-US" sz="1800" spc="1" strike="noStrike">
              <a:ln w="19080">
                <a:solidFill>
                  <a:srgbClr val="000099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99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у творі </a:t>
            </a:r>
            <a:endParaRPr b="0" lang="en-US" sz="1800" spc="1" strike="noStrike">
              <a:ln w="19080">
                <a:solidFill>
                  <a:srgbClr val="000099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99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а Г.К.Андерсеном</a:t>
            </a:r>
            <a:endParaRPr b="0" lang="en-US" sz="1800" spc="1" strike="noStrike">
              <a:ln w="19080">
                <a:solidFill>
                  <a:srgbClr val="000099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99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"Р О М А Ш К А"</a:t>
            </a:r>
            <a:endParaRPr b="0" lang="en-US" sz="1800" spc="1" strike="noStrike">
              <a:ln w="19080">
                <a:solidFill>
                  <a:srgbClr val="000099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31480" cy="693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99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Я на сонце дуже схож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Золотиста, ніжна, гож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Рано-вранці розквітаю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Відгадати вам не важко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Що за квітка я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6084720" y="4149720"/>
            <a:ext cx="2590920" cy="21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2" dur="8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3" dur="8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" dur="8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720"/>
                            </p:stCondLst>
                            <p:childTnLst>
                              <p:par>
                                <p:cTn id="8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8" dur="8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9" dur="8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" dur="8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600"/>
                            </p:stCondLst>
                            <p:childTnLst>
                              <p:par>
                                <p:cTn id="9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4" dur="80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5" dur="80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" dur="80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480"/>
                            </p:stCondLst>
                            <p:childTnLst>
                              <p:par>
                                <p:cTn id="9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0" dur="8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1" dur="8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" dur="8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3320"/>
                            </p:stCondLst>
                            <p:childTnLst>
                              <p:par>
                                <p:cTn id="10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6" dur="80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7" dur="80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" dur="80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66ff99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6464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800000"/>
                </a:solidFill>
                <a:latin typeface="Arial"/>
              </a:rPr>
              <a:t>ГРА “ВІДШУКАЙ СЛОВО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7800" y="1600200"/>
            <a:ext cx="8585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ВВРВВВОВВМВВВАВВШВВВКВВВАВ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3132000" y="3357720"/>
            <a:ext cx="3672000" cy="33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ff99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611280" y="1773360"/>
            <a:ext cx="8281800" cy="482436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800000"/>
                </a:solidFill>
                <a:latin typeface="Arial"/>
              </a:rPr>
              <a:t>ЗАВДАННЯ УРОК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вчитися виразно читат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дізнатися про ромашку, її властивості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ознайомитися з віршами, легендами та піснями про квітку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збагатити свій словниковий запас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визначати настрій дійових осі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2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30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79280" y="216000"/>
            <a:ext cx="8848800" cy="64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37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419040" y="3467160"/>
            <a:ext cx="4368960" cy="30351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5076720" y="144360"/>
            <a:ext cx="3821040" cy="30942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5076720" y="3425760"/>
            <a:ext cx="3805200" cy="3041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4"/>
          <a:stretch/>
        </p:blipFill>
        <p:spPr>
          <a:xfrm>
            <a:off x="420840" y="146160"/>
            <a:ext cx="4440240" cy="31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4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cc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6588000" y="4365720"/>
            <a:ext cx="2376720" cy="2232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68280" y="1557360"/>
            <a:ext cx="758844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3300"/>
                </a:solidFill>
                <a:latin typeface="Arial"/>
              </a:rPr>
              <a:t>Працюватимем старанно 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3300"/>
                </a:solidFill>
                <a:latin typeface="Arial"/>
              </a:rPr>
              <a:t>Щоб почути у кінці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3300"/>
                </a:solidFill>
                <a:latin typeface="Arial"/>
              </a:rPr>
              <a:t>Що у нашім першім класі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3300"/>
                </a:solidFill>
                <a:latin typeface="Arial"/>
              </a:rPr>
              <a:t>Діти просто молодці 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880"/>
                            </p:stCondLst>
                            <p:childTnLst>
                              <p:par>
                                <p:cTn id="1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" dur="8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" dur="8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60"/>
                            </p:stCondLst>
                            <p:childTnLst>
                              <p:par>
                                <p:cTn id="1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" dur="8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" dur="8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2400"/>
                            </p:stCondLst>
                            <p:childTnLst>
                              <p:par>
                                <p:cTn id="2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" dur="8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" dur="8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50000">
              <a:srgbClr val="ffffcc"/>
            </a:gs>
            <a:gs pos="100000">
              <a:srgbClr val="cc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250920" y="404640"/>
            <a:ext cx="2143080" cy="214344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800000"/>
                </a:solidFill>
                <a:latin typeface="Arial"/>
              </a:rPr>
              <a:t>  </a:t>
            </a:r>
            <a:br>
              <a:rPr sz="4400"/>
            </a:br>
            <a:r>
              <a:rPr b="1" lang="uk-UA" sz="4400" spc="-1" strike="noStrike">
                <a:solidFill>
                  <a:srgbClr val="800000"/>
                </a:solidFill>
                <a:latin typeface="Arial"/>
              </a:rPr>
              <a:t>         </a:t>
            </a:r>
            <a:r>
              <a:rPr b="1" lang="uk-UA" sz="4400" spc="-1" strike="noStrike">
                <a:solidFill>
                  <a:srgbClr val="800000"/>
                </a:solidFill>
                <a:latin typeface="Arial"/>
              </a:rPr>
              <a:t>Словникова робо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5876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Голубити – ласкати, пестит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Непоказна – скромна, простенька, непомітн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Ясніла золотом – яскраво світил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Блискотіли – світили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99"/>
            </a:gs>
            <a:gs pos="50000">
              <a:srgbClr val="ffff00"/>
            </a:gs>
            <a:gs pos="100000">
              <a:srgbClr val="66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6443640" y="3860640"/>
            <a:ext cx="2152800" cy="20098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 rot="920400">
            <a:off x="6227280" y="1341000"/>
            <a:ext cx="1906560" cy="18525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 rot="20573400">
            <a:off x="324000" y="549000"/>
            <a:ext cx="2257200" cy="202860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8229600" cy="39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Сонце спить, небо спить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Навіть вітер не шуми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А тепер нам треба встат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Фізкультпаузу поча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Рано-вранці сонце встал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І проміння всім послал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Ось ромашка вже проснулас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І до сонця потягнулас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8244000" y="602136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 txBox="1"/>
          <p:nvPr/>
        </p:nvSpPr>
        <p:spPr>
          <a:xfrm>
            <a:off x="2340000" y="620640"/>
            <a:ext cx="43927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9900"/>
                    </a:gs>
                    <a:gs pos="50000">
                      <a:srgbClr val="ffffff"/>
                    </a:gs>
                    <a:gs pos="100000">
                      <a:srgbClr val="6699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ФІЗКУЛЬТХВИЛИНКА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9900"/>
                  </a:gs>
                  <a:gs pos="50000">
                    <a:srgbClr val="ffffff"/>
                  </a:gs>
                  <a:gs pos="100000">
                    <a:srgbClr val="669900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0" dur="1" fill="hold"/>
                                        <p:tgtEl>
                                          <p:spTgt spid="1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3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6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9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66ff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5796000" y="3429000"/>
            <a:ext cx="2967120" cy="306720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- Чому ромашці було так радісно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Читаючи, передайте її настрі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Відшукайте слова, яким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описані середин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ромашки та її пелюсточ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6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c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467080" cy="270828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800000"/>
                </a:solidFill>
                <a:latin typeface="Arial"/>
              </a:rPr>
              <a:t>           </a:t>
            </a:r>
            <a:r>
              <a:rPr b="1" lang="uk-UA" sz="3200" spc="-1" strike="noStrike">
                <a:solidFill>
                  <a:srgbClr val="800000"/>
                </a:solidFill>
                <a:latin typeface="Arial"/>
              </a:rPr>
              <a:t>Тестування за змістом</a:t>
            </a:r>
            <a:br>
              <a:rPr sz="3200"/>
            </a:br>
            <a:r>
              <a:rPr b="1" lang="uk-UA" sz="3200" spc="-1" strike="noStrike">
                <a:solidFill>
                  <a:srgbClr val="800000"/>
                </a:solidFill>
                <a:latin typeface="Arial"/>
              </a:rPr>
              <a:t>             казки «Ромашк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lvl="1" marL="930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-  Де росла маленька ромашка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27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а) у квітнику;        б) у зеленій трав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27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- Вона росла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27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а) швидко;             б) повіль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30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- Ромашка слухала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27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а) жайворонка;      б) горобц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30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- Її серединка ясніла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27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а) сріблом;              б) золот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30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- Чи була квітка щаслива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27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а) так;                        б) н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uk-UA" sz="4400" spc="-1" strike="noStrike">
                <a:solidFill>
                  <a:srgbClr val="660033"/>
                </a:solidFill>
                <a:latin typeface="Arial"/>
              </a:rPr>
              <a:t>ЛІТЕРАТУРНА ХВИЛИНКА</a:t>
            </a:r>
            <a:br>
              <a:rPr sz="40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90160" y="1600200"/>
            <a:ext cx="8535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uk-UA" sz="3200" spc="-1" strike="noStrike">
                <a:solidFill>
                  <a:srgbClr val="000099"/>
                </a:solidFill>
                <a:latin typeface="Arial"/>
              </a:rPr>
              <a:t>1. Слухання пісні про ромашк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1" lang="uk-UA" sz="3200" spc="-1" strike="noStrike">
                <a:solidFill>
                  <a:srgbClr val="000099"/>
                </a:solidFill>
                <a:latin typeface="Arial"/>
              </a:rPr>
              <a:t>2. Читання віршів. Ніна Воронюк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99"/>
                </a:solidFill>
                <a:latin typeface="Arial"/>
              </a:rPr>
              <a:t>       “</a:t>
            </a:r>
            <a:r>
              <a:rPr b="1" lang="uk-UA" sz="3200" spc="-1" strike="noStrike">
                <a:solidFill>
                  <a:srgbClr val="000099"/>
                </a:solidFill>
                <a:latin typeface="Arial"/>
              </a:rPr>
              <a:t>Ромашка”, Микола Близню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99"/>
                </a:solidFill>
                <a:latin typeface="Arial"/>
              </a:rPr>
              <a:t>       “</a:t>
            </a:r>
            <a:r>
              <a:rPr b="1" lang="uk-UA" sz="3200" spc="-1" strike="noStrike">
                <a:solidFill>
                  <a:srgbClr val="000099"/>
                </a:solidFill>
                <a:latin typeface="Arial"/>
              </a:rPr>
              <a:t>Ромашки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1" lang="uk-UA" sz="3200" spc="-1" strike="noStrike">
                <a:solidFill>
                  <a:srgbClr val="000099"/>
                </a:solidFill>
                <a:latin typeface="Arial"/>
              </a:rPr>
              <a:t>3. Легенда про ромашк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1" lang="uk-UA" sz="3200" spc="-1" strike="noStrike">
                <a:solidFill>
                  <a:srgbClr val="000099"/>
                </a:solidFill>
                <a:latin typeface="Arial"/>
              </a:rPr>
              <a:t>4. Прес-конференція (театралізовано)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 txBox="1"/>
          <p:nvPr/>
        </p:nvSpPr>
        <p:spPr>
          <a:xfrm>
            <a:off x="900000" y="3500280"/>
            <a:ext cx="424836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0000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ІСНЯ ПРО</a:t>
            </a:r>
            <a:endParaRPr b="0" lang="en-US" sz="1800" spc="1" strike="noStrike">
              <a:ln w="19080">
                <a:solidFill>
                  <a:srgbClr val="ffffff"/>
                </a:solidFill>
                <a:miter/>
              </a:ln>
              <a:solidFill>
                <a:srgbClr val="0000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0000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ОМАШКУ</a:t>
            </a:r>
            <a:endParaRPr b="0" lang="en-US" sz="1800" spc="1" strike="noStrike">
              <a:ln w="19080">
                <a:solidFill>
                  <a:srgbClr val="ffffff"/>
                </a:solidFill>
                <a:miter/>
              </a:ln>
              <a:solidFill>
                <a:srgbClr val="0000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324000" y="1890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9" dur="143363" fill="hold"/>
                                        <p:tgtEl>
                                          <p:spTgt spid="1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340000" y="1916280"/>
            <a:ext cx="4824360" cy="23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660033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ІДСУМОК УРОКУ</a:t>
            </a:r>
            <a:endParaRPr b="0" lang="en-US" sz="1800" spc="1" strike="noStrike">
              <a:ln w="19080">
                <a:solidFill>
                  <a:srgbClr val="ffffff"/>
                </a:solidFill>
                <a:miter/>
              </a:ln>
              <a:solidFill>
                <a:srgbClr val="660033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324000" y="692280"/>
            <a:ext cx="4968720" cy="21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ЯКУЮ ЗА УВАГУ !</a:t>
            </a:r>
            <a:endParaRPr b="0" lang="en-US" sz="1800" spc="1" strike="noStrike">
              <a:ln w="19080">
                <a:solidFill>
                  <a:srgbClr val="ffffff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УСПІХІВ ВАМ !</a:t>
            </a:r>
            <a:endParaRPr b="0" lang="en-US" sz="1800" spc="1" strike="noStrike">
              <a:ln w="19080">
                <a:solidFill>
                  <a:srgbClr val="ffffff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4572000" y="2932200"/>
            <a:ext cx="4411800" cy="37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93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88481791_4360286_0_6fb97_2a85aa6d_XL"/>
          <p:cNvPicPr/>
          <p:nvPr/>
        </p:nvPicPr>
        <p:blipFill>
          <a:blip r:embed="rId1"/>
          <a:stretch/>
        </p:blipFill>
        <p:spPr>
          <a:xfrm rot="21229800">
            <a:off x="0" y="2852280"/>
            <a:ext cx="2976480" cy="42213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611280" y="1688040"/>
            <a:ext cx="8281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Очі дивляться – та все бач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Вуха слухають – та все чую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Голова дума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Яким буде урок ? – Цікавим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Які у мене діти ? – Найкращі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Тож нехай мої та ваші надії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здійсняться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1403280" y="476280"/>
            <a:ext cx="6913800" cy="135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 чого ви чекаєте </a:t>
            </a:r>
            <a:endParaRPr b="1" lang="en-US" sz="1800" spc="1" strike="noStrike">
              <a:ln w="0">
                <a:noFill/>
              </a:ln>
              <a:solidFill>
                <a:srgbClr val="0000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ід сьогоднішнього уроку ?</a:t>
            </a:r>
            <a:endParaRPr b="1" lang="en-US" sz="1800" spc="1" strike="noStrike">
              <a:ln w="0">
                <a:noFill/>
              </a:ln>
              <a:solidFill>
                <a:srgbClr val="0000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4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5" descr="1233707616_romaski"/>
          <p:cNvPicPr/>
          <p:nvPr/>
        </p:nvPicPr>
        <p:blipFill>
          <a:blip r:embed="rId1"/>
          <a:stretch/>
        </p:blipFill>
        <p:spPr>
          <a:xfrm>
            <a:off x="-14400" y="14400"/>
            <a:ext cx="915696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556000" y="333360"/>
            <a:ext cx="5256000" cy="38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0000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 </a:t>
            </a:r>
            <a:r>
              <a:rPr b="0" lang="en-US" sz="18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0000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прави на</a:t>
            </a:r>
            <a:endParaRPr b="0" lang="en-US" sz="1800" spc="1" strike="noStrike">
              <a:ln w="19080">
                <a:solidFill>
                  <a:srgbClr val="ffffff"/>
                </a:solidFill>
                <a:miter/>
              </a:ln>
              <a:solidFill>
                <a:srgbClr val="0000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0000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0000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досконалення</a:t>
            </a:r>
            <a:endParaRPr b="0" lang="en-US" sz="1800" spc="1" strike="noStrike">
              <a:ln w="19080">
                <a:solidFill>
                  <a:srgbClr val="ffffff"/>
                </a:solidFill>
                <a:miter/>
              </a:ln>
              <a:solidFill>
                <a:srgbClr val="0000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0000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вичок читання</a:t>
            </a:r>
            <a:endParaRPr b="0" lang="en-US" sz="1800" spc="1" strike="noStrike">
              <a:ln w="19080">
                <a:solidFill>
                  <a:srgbClr val="ffffff"/>
                </a:solidFill>
                <a:miter/>
              </a:ln>
              <a:solidFill>
                <a:srgbClr val="0000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ff99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62120" y="1916280"/>
            <a:ext cx="7983360" cy="32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660033"/>
                </a:solidFill>
                <a:latin typeface="Arial"/>
              </a:rPr>
              <a:t>Роман на лужку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660033"/>
                </a:solidFill>
                <a:latin typeface="Arial"/>
              </a:rPr>
              <a:t>зірвав ромашк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260280"/>
            <a:ext cx="8351640" cy="6121440"/>
          </a:xfrm>
          <a:prstGeom prst="rect">
            <a:avLst/>
          </a:prstGeom>
          <a:noFill/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rcRect l="55635" t="2189" r="0" b="0"/>
          <a:stretch/>
        </p:blipFill>
        <p:spPr>
          <a:xfrm>
            <a:off x="5651640" y="2492280"/>
            <a:ext cx="2809800" cy="34578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 txBox="1"/>
          <p:nvPr/>
        </p:nvSpPr>
        <p:spPr>
          <a:xfrm>
            <a:off x="1979640" y="765000"/>
            <a:ext cx="56167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660033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овна зарядка</a:t>
            </a:r>
            <a:endParaRPr b="0" lang="en-US" sz="1800" spc="1" strike="noStrike">
              <a:ln w="19080">
                <a:solidFill>
                  <a:srgbClr val="ffffff"/>
                </a:solidFill>
                <a:miter/>
              </a:ln>
              <a:solidFill>
                <a:srgbClr val="660033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" dur="8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" dur="8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" dur="8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20"/>
                            </p:stCondLst>
                            <p:childTnLst>
                              <p:par>
                                <p:cTn id="5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" dur="8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" dur="8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" dur="8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692760" y="4010040"/>
            <a:ext cx="2310120" cy="27907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" descr="0_885f1_577c71a8_XL"/>
          <p:cNvPicPr/>
          <p:nvPr/>
        </p:nvPicPr>
        <p:blipFill>
          <a:blip r:embed="rId2"/>
          <a:stretch/>
        </p:blipFill>
        <p:spPr>
          <a:xfrm>
            <a:off x="23760" y="127080"/>
            <a:ext cx="2232000" cy="237492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11200" y="1452600"/>
            <a:ext cx="826308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- Уявіть, що у вас в долоня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ніжна квіточка-ромашка, закрийте очі, понюхайте і відчуйте її зап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Уявіть, що ви за святковим пасхальним столом, горит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свічечка. Мама попросил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обережно її загаси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Як ви це зробите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2809800" y="549360"/>
            <a:ext cx="54594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ихальні вправи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bbe0e3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6084720" y="4586400"/>
            <a:ext cx="3040200" cy="22352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 rot="21367800">
            <a:off x="204480" y="333000"/>
            <a:ext cx="3422520" cy="22669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539640" y="1989000"/>
            <a:ext cx="820908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Прочитайте слова правильно, повільн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Вправа 1 с. 14. (зошит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Поєднайте слова правої і лівої колонок парами за змістом і прочитайте їх швидк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Вправа 2 с. 14 (зошит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99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 rot="20895000">
            <a:off x="414000" y="813960"/>
            <a:ext cx="2016000" cy="174780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9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uk-UA" sz="4400" spc="-1" strike="noStrike">
                <a:solidFill>
                  <a:srgbClr val="000000"/>
                </a:solidFill>
                <a:latin typeface="Arial"/>
              </a:rPr>
              <a:t>Гра «Переплутанка»</a:t>
            </a:r>
            <a:br>
              <a:rPr sz="4400"/>
            </a:br>
            <a:r>
              <a:rPr b="1" lang="uk-UA" sz="4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uk-UA" sz="3600" spc="-1" strike="noStrike">
                <a:solidFill>
                  <a:srgbClr val="000000"/>
                </a:solidFill>
                <a:latin typeface="Arial"/>
              </a:rPr>
              <a:t>(Читання анаграм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907920" y="1990800"/>
            <a:ext cx="4456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uk-UA" sz="3600" spc="-1" strike="noStrike">
                <a:solidFill>
                  <a:srgbClr val="000000"/>
                </a:solidFill>
                <a:latin typeface="Arial"/>
              </a:rPr>
              <a:t>шкаРома   –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uk-UA" sz="3600" spc="-1" strike="noStrike">
                <a:solidFill>
                  <a:srgbClr val="000000"/>
                </a:solidFill>
                <a:latin typeface="Arial"/>
              </a:rPr>
              <a:t>баКульба  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uk-UA" sz="3600" spc="-1" strike="noStrike">
                <a:solidFill>
                  <a:srgbClr val="000000"/>
                </a:solidFill>
                <a:latin typeface="Arial"/>
              </a:rPr>
              <a:t>шникСоня –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2268360" y="4365720"/>
            <a:ext cx="2552760" cy="20876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 rot="224400">
            <a:off x="6587640" y="4292280"/>
            <a:ext cx="2143080" cy="21430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4500720" y="2565360"/>
            <a:ext cx="33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Arial"/>
              </a:rPr>
              <a:t>ромаш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429080" y="3141720"/>
            <a:ext cx="230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Arial"/>
              </a:rPr>
              <a:t>кульбаб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427640" y="3645000"/>
            <a:ext cx="33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Arial"/>
              </a:rPr>
              <a:t>соняшни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e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РОМАШ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КУЛЬБАБ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СОНЯШНИ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1042920" y="981000"/>
            <a:ext cx="720108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33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Звуко-буквенний аналіз слів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0033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75" name="Picture 6" descr="2440078_thumb"/>
          <p:cNvPicPr/>
          <p:nvPr/>
        </p:nvPicPr>
        <p:blipFill>
          <a:blip r:embed="rId1"/>
          <a:stretch/>
        </p:blipFill>
        <p:spPr>
          <a:xfrm>
            <a:off x="6443640" y="3789360"/>
            <a:ext cx="2411280" cy="240984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 rot="20590200">
            <a:off x="560520" y="3655800"/>
            <a:ext cx="2466720" cy="277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3T11:11:39Z</dcterms:created>
  <dc:creator>Admin</dc:creator>
  <dc:description/>
  <dc:language>en-US</dc:language>
  <cp:lastModifiedBy>Admin</cp:lastModifiedBy>
  <dcterms:modified xsi:type="dcterms:W3CDTF">2013-04-09T15:30:10Z</dcterms:modified>
  <cp:revision>25</cp:revision>
  <dc:subject/>
  <dc:title>Слайд 1</dc:title>
</cp:coreProperties>
</file>