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891-933F-4E8A-8963-5342476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F71-67A4-4039-A9E6-14C4B59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607-303E-419B-99A7-C450CDC7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FED-1C10-4163-B60A-D0316C99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64B-F43C-4F12-9295-806E045B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6C1-2FC0-45B4-8844-8297A8C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BDF-95E6-47DB-A5D0-9A5A3AD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764-E135-4C9B-8908-FCCFC1E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9F4-C203-4277-B1AD-BECD5F1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A67-7AB0-4A2C-A15C-D767DF0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C05-0E31-469B-B7FA-F66994A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AA3-3C1F-4390-9AA5-70A823C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EC30-4200-4BD4-82FE-C1937BA54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ubrila.com/wp-content/uploads/2016/04/466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57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Calibri"/>
              </a:rPr>
              <a:t>Тема уроку:</a:t>
            </a:r>
            <a:r>
              <a:rPr b="1" lang="ru-RU" sz="4400" spc="-1" strike="noStrike">
                <a:solidFill>
                  <a:srgbClr val="0099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гальні випадки віднімання та додавання двоцифрових чисел (продовження)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ворча робота над задаче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  О  З  У  М  Н  И  К  И 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642960" y="1143000"/>
            <a:ext cx="5357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Я всміхаюсь сонечк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драстуй зол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Я всміхаюсь хмарці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Хай собі пливе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Я всміхаюсь дощику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йся, мов з відр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92d050"/>
                </a:solidFill>
                <a:latin typeface="Times New Roman"/>
                <a:ea typeface="Calibri"/>
              </a:rPr>
              <a:t>Друзям усміхаю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ичу їм добр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215040" y="3571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68360" y="907920"/>
            <a:ext cx="8066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евіз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іркуємо – швидко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Відповідаємо - правильно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ахуємо – точно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ишемо – гарно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611280" y="1052640"/>
            <a:ext cx="806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можи їжачку дістатися грибів.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дповідь підкаже яку цифру ми будемо сьогодні прописув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466" descr="4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637000"/>
            <a:ext cx="7561440" cy="359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67640" y="4724280"/>
            <a:ext cx="504720" cy="5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286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іграфічна хвилин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0f0"/>
                </a:solidFill>
                <a:latin typeface="Monotype Corsiva"/>
                <a:ea typeface="Times New Roman"/>
              </a:rPr>
              <a:t>Презентація числ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о ви знаєте про ц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о спільного в написанні цих циф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62800" cy="12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Calibri"/>
              </a:rPr>
              <a:t>Установіть закономірність і запишіть числа, вставляючи пропущен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;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...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;… ;… ;…  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924280"/>
            <a:ext cx="50508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2924280"/>
            <a:ext cx="50472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924280"/>
            <a:ext cx="50508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2924280"/>
            <a:ext cx="576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924280"/>
            <a:ext cx="50472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2924280"/>
            <a:ext cx="57600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Гра “Розставити знаки “</a:t>
            </a: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” і “</a:t>
            </a:r>
            <a:r>
              <a:rPr b="0" lang="uk-UA" sz="40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” так, щоб рівняння були правильними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85840" y="1642680"/>
            <a:ext cx="8215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31 __ </a:t>
            </a: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5 = 26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6 </a:t>
            </a: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 __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 = 88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7  __ </a:t>
            </a: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 = 5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15 _</a:t>
            </a:r>
            <a:r>
              <a:rPr b="1" lang="uk-UA" sz="60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9 = 2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3716280"/>
            <a:ext cx="792000" cy="649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781360"/>
            <a:ext cx="863640" cy="718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508640"/>
            <a:ext cx="79200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5445000"/>
            <a:ext cx="79200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Calibri"/>
              </a:rPr>
              <a:t>Вправа « Мозковий штур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Яку дію виконаємо, якщо сказано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 … більше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 … менше»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Яку дію виконаємо, якщо сказано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скільки залищилося»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скількі всього»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0042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адача1. </a:t>
            </a:r>
            <a:br>
              <a:rPr sz="3200"/>
            </a:br>
            <a:r>
              <a:rPr b="1" lang="en-US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</a:t>
            </a:r>
            <a:r>
              <a:rPr b="1" lang="uk-UA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- 1</a:t>
            </a:r>
            <a:r>
              <a:rPr b="1" lang="en-US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</a:t>
            </a:r>
            <a:r>
              <a:rPr b="1" lang="uk-UA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кг                                      </a:t>
            </a:r>
            <a:br>
              <a:rPr sz="5400"/>
            </a:br>
            <a:r>
              <a:rPr b="1" lang="en-US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I</a:t>
            </a:r>
            <a:r>
              <a:rPr b="1" lang="uk-UA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- ?, на 1</a:t>
            </a:r>
            <a:r>
              <a:rPr b="1" lang="en-US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</a:t>
            </a:r>
            <a:r>
              <a:rPr b="1" lang="uk-UA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кг &gt; 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645000"/>
            <a:ext cx="74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Задача2.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Було -  30 м тканини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ідрізали – 6 м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Залишилося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leron10480450</cp:lastModifiedBy>
  <dcterms:modified xsi:type="dcterms:W3CDTF">2016-11-25T08:09:27Z</dcterms:modified>
  <cp:revision>7</cp:revision>
  <dc:subject/>
  <dc:title>Нестандартний урок –сюрприз  з математики у 2 класі  з елементами інтерактивних та інформаційних  технологій.  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d000000000001024140</vt:lpwstr>
  </property>
</Properties>
</file>