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F965-81CF-43E3-9DC9-194D45311F9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uk.wikipedia.org/wiki/&#1040;&#1087;&#1077;&#1090;&#1080;&#1090;" TargetMode="External"/><Relationship Id="rId2" Type="http://schemas.openxmlformats.org/officeDocument/2006/relationships/hyperlink" Target="http://uk.wikipedia.org/wiki/&#1040;&#1088;&#1090;&#1077;&#1088;&#1110;&#1072;&#1083;&#1100;&#1085;&#1080;&#1081;_&#1090;&#1080;&#1089;&#1082;" TargetMode="External"/><Relationship Id="rId3" Type="http://schemas.openxmlformats.org/officeDocument/2006/relationships/slide" Target="../slides/slide2.xml"/><Relationship Id="rId4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uk.wikipedia.org/wiki/&#1054;&#1088;&#1075;&#1072;&#1085;&#1110;&#1079;&#1084;" TargetMode="External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руга фаза стресу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(опору)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пов'язана з морфологічними й функціональними перебудовами в організмі, що підвищу­ють витривалість організму до дії стрес- подразників (довгострокова адаптація). Наприклад, синтезуються додаткові м'язові білки, що підвищує фізичну витривалість; утворюються додаткові еритроцити та збільшується в них уміст гемоглобіну — підвищується витрива­лість до дефіциту кисню; синтезується пігмент шкіри меланін, що захищає організм від шкідливої дії сонячної радіа­ції, й таке інше. Ці біосинтетичні процеси запускаються під впливом кортикостеро­їдів і соматотропного гормона, що виділя­ються в першій фазі стрес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ривалість даної фази може бути значною й тривати роками (наприклад, адаптація організму спортсмена до по­стійних фізичних навантажень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Якщо стрес-подразник зникає, по­ступово зникають і ті зміни, що були ним викликані (наприклад, зменшуєть­ся кількість антитіл у крові та кількість лейкоцитів після того, як організм подо­лав збудника інфекційної хвороби). Ос­новною умовою довготривалості другої фази стресу є відповідність сили стрес- подразника резервним можливостям організ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ретя фаза стресу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(виснаження)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виникає, якщо подразник занадто силь­ний і довготривалий. Це призводить до вичерпання резервних можливостей організму й руйнації механізмів адаптації. Наприклад, при невідповідності рівня фізичного навантаження рівню підготовленості людини виникає пере­тренування. Це супроводжується зниженням рівня натренованості й праце­здатності, погіршенням стану здоров'я. Якщо дія стрес-подразника триватиме, то вона може спричинити смер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плив стресу на організм, здебільшого сприймається як негативний, проте це не так. Помірні стресові впливи викликають підвищення загальної стійкості організму, розширення його пристосувальних можливостей. Наприклад, регулярні, поступово зростаючі за інтенсивністю й обсягом фізичні навантаження впливають лише позитивно. При правильній організації фізич­них тренувань проявляється в основному фаза опору. Організм стає стійкішим не лише до фізичних навантажень, а й до емоційних напружень, ін­фекцій, отруєнь тощ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плив стресу може бути й негативним. Особливо це стосується суто людської форми стресу — соціально обумовленої. Перебуваючи серед людей та підкоряючись суспільним вимогам і правилам поведінки, конкретна люди­на, здебільшого, не може проявити природну реакцію на стрес-подразник — реакцію втечі або нападу. Тобто напруження вегетативних систем і м'язів, яке виникає при стресі, не реалізується в активному русі. Це призводить до поступового розвитку вегетативно-судинної дистонії, гіпертонічної хвороби, атеросклерозу, цукрового діабету, ішемічної хвороби серця, а відтак — до інфарктів та інсульті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Ганс  Сельє видатний канадський ендокринолог, лікар за освітою, біолог 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вітовим ім'ям, директор Інституту експериментальної медицини та хірургії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родився в 1907 році, батько був  військовим лікарем - терапевтом, мав власну хірургічну клініку. Навчався Ганс на медичному факультеті  Пражського университета. Потім він продовжував навчання в Римі та Парижі. Після навчання, коли Ганцу було 22 роки протягом 2 років був асистентом кафедри експериментальної паталогії. Будучі студентом-медиком, звернув увагу на те, що у всіх хворих, які мають різні захворювання, спостерігається низка однакових симптомів (втрата </a:t>
            </a:r>
            <a:r>
              <a:rPr b="0" lang="uk-UA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апетиту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, м'язова слабкість, підвищений </a:t>
            </a:r>
            <a:r>
              <a:rPr b="0" lang="uk-UA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артеріальний тиск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, втрата віри в одужання). Вивчаючи історії хвороб цих людей, він дійшов висновку, що в основі їх захворювань лежить саме стрес або стресові ситуації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 1926 році Ганс Сельє запропонував термін стрес. Стрес це неспецифічна (загальна) реакція </a:t>
            </a:r>
            <a:r>
              <a:rPr b="0" lang="uk-UA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організму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(інколи іншої системи) на дуже сильний зовнішній впли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ін виникає при дії на організм надзвичайних  подразників, що викликають значне психічне й фізичне напруження. Вони можуть порушити гомеостаз, і називають їх стрес-подразник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рес виникає при дії таких факторів: холод, спека, травма, значне фізичне навантаження, збудники ін­фекційних захворювань, токсини, психічне й емоційне напруження та багато інш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рес-подразники, що сприймаються психікою людини як певна загроза, викликають супутні емоційні реакції, наприклад емоції страху або агресії. Страх – це первинна реакція людини на небезпеку. Агресія – це фізична або словесна поведінка людини, спрямована на пошкодження або зруйнуванн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ресові реакції мають три послідовні фази: тривоги, опору та виснаження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ерша фаза стресу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(тривоги)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може тривати до двох діб і супроводжується мобілізацією наявних резервів організму (короткочасна адаптація). На­приклад, вивільненням крові з депо при значній кровотечі. У першій фазі спра­цьовують такі нейрогуморальні механізми: під дією стрес-подразника активу­ється симпатична нервова система, що спричиняє до виділення адреналіну та норадреналіну наднирковими залозами; це викликає описані в попередньому параграфі зміни в м'язах і вегетативних органах. Водночас адреналін активує ядра гіпоталамуса, які спричиняють ут­ворення гіпофізом соматотропного й ад- ренокортикотропного гормонів. Остан­ній стимулює продукцію наднирковими залозами кортикостероїді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222C-9E0D-4FBA-BE68-09C79E47E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C6BA-25CC-431A-9787-5620584C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2D16-2A14-4C3C-9E76-83419EAC5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F01C-4813-43D2-BFA3-446CE8D2E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10423-763B-43A8-B3E6-C8C2CE295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8A31-DC98-437C-9303-185B4580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580B2-238A-40FC-B6BA-34F295F3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00FBD-F2CA-48DB-8142-D055DFAC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79CA-138A-48D9-A708-6075E6FC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DAF54-BF02-45D8-B254-150455B2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2603-AF4A-455C-9133-2F0F1EB6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6914-DC94-40F6-B51D-A0DE1391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92B3-9F61-4ABD-BBD6-19A577EE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C6B4-9496-402D-AB13-0E848577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68B79-7504-4AC5-B4C9-D8D9716F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EEAD1-3A65-4131-B42E-F1E0DBE6C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A71A-EFF2-417B-A106-B4E15DAD0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8D02-125B-4C8B-BDE9-5D390031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F027-4C2B-481A-83EB-D13ACFE2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C78A-888E-47A2-A301-2A587AD8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FEE6-C84A-4573-AF0B-52C680A2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FCFF-2EE5-4DE7-B0D4-C342385B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C193-BAE7-4FD7-BBFD-394116EB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53E1-96CF-49A0-B796-43BB8D90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73B9-8EE2-4C13-B60C-4ED92A9483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9C72-CBCA-4FE2-8BD7-55EF92B929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ffff"/>
                </a:solidFill>
                <a:latin typeface="Tahoma"/>
              </a:rPr>
              <a:t>СТРЕС ТА ЙОГО ЧИННИК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400800" y="1447920"/>
            <a:ext cx="2209680" cy="2590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352680" y="1981080"/>
            <a:ext cx="2286000" cy="2438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4562640"/>
            <a:ext cx="9296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ffff"/>
                </a:solidFill>
                <a:latin typeface="Tahoma"/>
              </a:rPr>
              <a:t>Стрес – це не те, що з нами трапляється, а те, як ми це сприймаєм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685800" y="1371600"/>
            <a:ext cx="21337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ffff"/>
                </a:solidFill>
                <a:latin typeface="Tahoma"/>
              </a:rPr>
              <a:t>Фаза опору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267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Значна триваліс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Морфологічні й функціональні перебудови в організмі, що підвищують витривалість до дій стрес - подразникі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191120" y="1752480"/>
            <a:ext cx="44193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ffff"/>
                </a:solidFill>
                <a:latin typeface="Tahoma"/>
              </a:rPr>
              <a:t>Фаза виснаженн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Вичерпання резервних можливостей організму й руйнації механізмів адаптації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При тривалій дії стрес – подразника може спричинити смер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581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ffff"/>
                </a:solidFill>
                <a:latin typeface="Tahoma"/>
              </a:rPr>
              <a:t>Вплив стресу на організм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10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ffff"/>
                </a:solidFill>
                <a:uFillTx/>
                <a:latin typeface="Tahoma"/>
              </a:rPr>
              <a:t>Позитивний</a:t>
            </a: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підвищуєть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імунітет, відступаю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хвороби, люд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відчуває припли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радості, відмін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виглядає і чудо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себе почуває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419720" y="167652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uk-UA" sz="2400" spc="-1" strike="noStrike" u="sng">
                <a:solidFill>
                  <a:srgbClr val="ffffff"/>
                </a:solidFill>
                <a:uFillTx/>
                <a:latin typeface="Tahoma"/>
              </a:rPr>
              <a:t>Негатив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надовго вибиває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людину із колії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і помітно підриває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здоров'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ffff"/>
                </a:solidFill>
                <a:latin typeface="Tahoma"/>
              </a:rPr>
              <a:t>Шляхи виходу зі стресових ситуацій</a:t>
            </a:r>
            <a:r>
              <a:rPr b="0" lang="uk-UA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4419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Фізичні вправ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Аромотерапі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Масаж, Теплий душ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Відпочинок на природі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Прослуховування муз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Вживати більше фруктів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181480" y="1828800"/>
            <a:ext cx="3429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ffff"/>
                </a:solidFill>
                <a:latin typeface="Tahoma"/>
              </a:rPr>
              <a:t>Історична довід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4343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Ганс Сельє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(26.01.1907- 16.10.198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8320" y="129492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Видатний канадсь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ендокринолог, лікар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за освітою, біолог з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світовим ім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ям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директор Інститут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експериментальної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медицини та хірургії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09480" y="1295280"/>
            <a:ext cx="3581640" cy="4191120"/>
            <a:chOff x="609480" y="1295280"/>
            <a:chExt cx="3581640" cy="4191120"/>
          </a:xfrm>
        </p:grpSpPr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609480" y="1295280"/>
              <a:ext cx="358164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 txBox="1"/>
            <p:nvPr/>
          </p:nvSpPr>
          <p:spPr>
            <a:xfrm>
              <a:off x="609480" y="1295280"/>
              <a:ext cx="3581640" cy="4191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19360" y="228240"/>
            <a:ext cx="42670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ffff"/>
                </a:solidFill>
                <a:latin typeface="Tahoma"/>
              </a:rPr>
              <a:t>Стрес - ц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в перекладі з англійської — напруга, тиск)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неспецифічна реакція організму у відповідь на дуже сильну дію (подразник) зовні, яка перевищує норму, а також відповідна реакція нервової систем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14400" y="228600"/>
            <a:ext cx="3429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57240" y="380880"/>
            <a:ext cx="5334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ffff"/>
                </a:solidFill>
                <a:latin typeface="Tahoma"/>
              </a:rPr>
              <a:t>Стрес – подразники призводять до …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lang="uk-UA" sz="3600" spc="-1" strike="noStrike" u="sng">
                <a:solidFill>
                  <a:srgbClr val="ffffff"/>
                </a:solidFill>
                <a:uFillTx/>
                <a:latin typeface="Tahoma"/>
              </a:rPr>
              <a:t>результа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Фізичне напруження         порушенн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гомеостаз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Психічне напруженн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5181480" y="3352680"/>
            <a:ext cx="152640" cy="1524240"/>
          </a:xfrm>
          <a:custGeom>
            <a:avLst/>
            <a:gdLst>
              <a:gd name="textAreaLeft" fmla="*/ 0 w 152640"/>
              <a:gd name="textAreaRight" fmla="*/ 55080 w 1526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85800" y="380880"/>
            <a:ext cx="28954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Стрес – подразники </a:t>
            </a:r>
            <a:br>
              <a:rPr sz="4000"/>
            </a:b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бувають ІІІ типів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Стрес – подразники які від нас не залежат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Це стрес – подразники на які ми </a:t>
            </a:r>
            <a:r>
              <a:rPr b="0" lang="uk-UA" sz="3200" spc="-1" strike="noStrike" u="sng">
                <a:solidFill>
                  <a:srgbClr val="ffffff"/>
                </a:solidFill>
                <a:uFillTx/>
                <a:latin typeface="Tahoma"/>
              </a:rPr>
              <a:t>можемо і повинні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вплину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Це події та явища які ми самі перетворюємо на пробле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uk-UA" sz="4000" spc="-1" strike="noStrike">
                <a:solidFill>
                  <a:srgbClr val="e5ffff"/>
                </a:solidFill>
                <a:latin typeface="Tahoma"/>
              </a:rPr>
              <a:t>Фактори  що викликають стрес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перевантаженн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конфлік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невизначеніст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нецікава діяльніст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холод, спек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екзамен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нереалізовані потреб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знижена самооцінка, тощ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257800" y="1447920"/>
            <a:ext cx="32004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ffff"/>
                </a:solidFill>
                <a:latin typeface="Tahoma"/>
              </a:rPr>
              <a:t>Стрес – подразники  викликають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uk-UA" sz="3200" spc="-1" strike="noStrike" u="sng">
                <a:solidFill>
                  <a:srgbClr val="ffffff"/>
                </a:solidFill>
                <a:uFillTx/>
                <a:latin typeface="Tahoma"/>
              </a:rPr>
              <a:t>Емоційні реакції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Страх                                 Агресі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362320" y="2666880"/>
            <a:ext cx="18288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10080" y="2666880"/>
            <a:ext cx="106704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62120" y="3809880"/>
            <a:ext cx="3200400" cy="2819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562720" y="3733920"/>
            <a:ext cx="30477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562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ffff"/>
                </a:solidFill>
                <a:latin typeface="Tahoma"/>
              </a:rPr>
              <a:t>Фази   стресу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251460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ІІІ фа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виснаженн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ІІ фа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опор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І фа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тривог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3048120"/>
            <a:ext cx="2286000" cy="2209680"/>
          </a:xfrm>
          <a:prstGeom prst="uturnArrow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1828800"/>
            <a:ext cx="1981080" cy="2209680"/>
          </a:xfrm>
          <a:prstGeom prst="uturnArrow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5800" y="228600"/>
            <a:ext cx="2590920" cy="28195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867280" y="3733920"/>
            <a:ext cx="2819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ffff"/>
                </a:solidFill>
                <a:latin typeface="Tahoma"/>
              </a:rPr>
              <a:t>Фаза тривоги</a:t>
            </a:r>
            <a:r>
              <a:rPr b="0" lang="uk-UA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3886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Триває до 2-х ді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Мобілізація резервів організм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Активується симпатична нервова систе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(виділення адреналіну та норадреналіну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257800" y="1752480"/>
            <a:ext cx="31240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SHOME</cp:lastModifiedBy>
  <dcterms:modified xsi:type="dcterms:W3CDTF">2012-02-07T14:45:37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