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E1C8-A2F1-42DD-9DF8-A9ECC5703D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0;&#1087;&#1077;&#1090;&#1080;&#1090;" TargetMode="External"/><Relationship Id="rId2" Type="http://schemas.openxmlformats.org/officeDocument/2006/relationships/hyperlink" Target="http://uk.wikipedia.org/wiki/&#1040;&#1088;&#1090;&#1077;&#1088;&#1110;&#1072;&#1083;&#1100;&#1085;&#1080;&#1081;_&#1090;&#1080;&#1089;&#1082;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54;&#1088;&#1075;&#1072;&#1085;&#1110;&#1079;&#1084;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руга фаза стресу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опору)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пов'язана з морфологічними й функціональними перебудовами в організмі, що підвищу­ють витривалість організму до дії стрес- подразників (довгострокова адаптація). Наприклад, синтезуються додаткові м'язові білки, що підвищує фізичну витривалість; утворюються додаткові еритроцити та збільшується в них уміст гемоглобіну — підвищується витрива­лість до дефіциту кисню; синтезується пігмент шкіри меланін, що захищає організм від шкідливої дії сонячної радіа­ції, й таке інше. Ці біосинтетичні процеси запускаються під впливом кортикостеро­їдів і соматотропного гормона, що виділя­ються в першій фазі стре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ивалість даної фази може бути значною й тривати роками (наприклад, адаптація організму спортсмена до по­стійних фізичних навантажен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Якщо стрес-подразник зникає, по­ступово зникають і ті зміни, що були ним викликані (наприклад, зменшуєть­ся кількість антитіл у крові та кількість лейкоцитів після того, як організм подо­лав збудника інфекційної хвороби). Ос­новною умовою довготривалості другої фази стресу є відповідність сили стрес- подразника резервним можливостям організ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етя фаза стресу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виснаження)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виникає, якщо подразник занадто силь­ний і довготривалий. Це призводить до вичерпання резервних можливостей організму й руйнації механізмів адаптації. Наприклад, при невідповідності рівня фізичного навантаження рівню підготовленості людини виникає пере­тренування. Це супроводжується зниженням рівня натренованості й праце­здатності, погіршенням стану здоров'я. Якщо дія стрес-подразника триватиме, то вона може спричинити смер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плив стресу на організм, здебільшого сприймається як негативний, проте це не так. Помірні стресові впливи викликають підвищення загальної стійкості організму, розширення його пристосувальних можливостей. Наприклад, регулярні, поступово зростаючі за інтенсивністю й обсягом фізичні навантаження впливають лише позитивно. При правильній організації фізич­них тренувань проявляється в основному фаза опору. Організм стає стійкішим не лише до фізичних навантажень, а й до емоційних напружень, ін­фекцій, отруєнь тощ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плив стресу може бути й негативним. Особливо це стосується суто людської форми стресу — соціально обумовленої. Перебуваючи серед людей та підкоряючись суспільним вимогам і правилам поведінки, конкретна люди­на, здебільшого, не може проявити природну реакцію на стрес-подразник — реакцію втечі або нападу. Тобто напруження вегетативних систем і м'язів, яке виникає при стресі, не реалізується в активному русі. Це призводить до поступового розвитку вегетативно-судинної дистонії, гіпертонічної хвороби, атеросклерозу, цукрового діабету, ішемічної хвороби серця, а відтак — до інфарктів та інсульті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анс  Сельє видатний канадський ендокринолог, лікар за освітою, біолог 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вітовим ім'ям, директор Інституту експериментальної медицини та хірургії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родився в 1907 році, батько був  військовим лікарем - терапевтом, мав власну хірургічну клініку. Навчався Ганс на медичному факультеті  Пражського университета. Потім він продовжував навчання в Римі та Парижі. Після навчання, коли Ганцу було 22 роки протягом 2 років був асистентом кафедри експериментальної паталогії. Будучі студентом-медиком, звернув увагу на те, що у всіх хворих, які мають різні захворювання, спостерігається низка однакових симптомів (втрата </a:t>
            </a:r>
            <a:r>
              <a:rPr b="0" lang="uk-UA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петиту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, м'язова слабкість, підвищений </a:t>
            </a:r>
            <a:r>
              <a:rPr b="0" lang="uk-UA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ртеріальний тиск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, втрата віри в одужання). Вивчаючи історії хвороб цих людей, він дійшов висновку, що в основі їх захворювань лежить саме стрес або стресові ситуації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 1926 році Ганс Сельє запропонував термін стрес. Стрес це неспецифічна (загальна) реакція </a:t>
            </a:r>
            <a:r>
              <a:rPr b="0" lang="uk-UA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рганізму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(інколи іншої системи) на дуже сильний зовнішній впли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ін виникає при дії на організм надзвичайних  подразників, що викликають значне психічне й фізичне напруження. Вони можуть порушити гомеостаз, і називають їх стрес-подразни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ес виникає при дії таких факторів: холод, спека, травма, значне фізичне навантаження, збудники ін­фекційних захворювань, токсини, психічне й емоційне напруження та багато інш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ес-подразники, що сприймаються психікою людини як певна загроза, викликають супутні емоційні реакції, наприклад емоції страху або агресії. Страх – це первинна реакція людини на небезпеку. Агресія – це фізична або словесна поведінка людини, спрямована на пошкодження або зруйнуван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есові реакції мають три послідовні фази: тривоги, опору та виснаженн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ша фаза стресу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тривоги)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може тривати до двох діб і супроводжується мобілізацією наявних резервів організму (короткочасна адаптація). На­приклад, вивільненням крові з депо при значній кровотечі. У першій фазі спра­цьовують такі нейрогуморальні механізми: під дією стрес-подразника активу­ється симпатична нервова система, що спричиняє до виділення адреналіну та норадреналіну наднирковими залозами; це викликає описані в попередньому параграфі зміни в м'язах і вегетативних органах. Водночас адреналін активує ядра гіпоталамуса, які спричиняють ут­ворення гіпофізом соматотропного й ад- ренокортикотропного гормонів. Остан­ній стимулює продукцію наднирковими залозами кортикостероїді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E06-63CD-48E2-B426-DFE327CD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DAE-5B44-4CE3-83B0-F55BF348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6266-5B01-4CCE-90FA-49731D81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787-4295-4ED8-9F41-8B7F9377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5F47-B7E2-48CA-8481-A1FA1E9F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9D94-7388-4E5F-AD5F-BDC76AE1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4E76-F0F5-4FC2-93F3-3031B572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0B02-9842-46EF-8571-C32832EF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551D-22B4-410E-A603-8A494643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83BF-0818-4E25-B2FF-B4C62774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BBA7-D09A-41C5-9C5D-D182F197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392-CB10-425D-A501-E2E3CCF9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CB7A-6120-4639-8ABC-7F83CF91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7126-B0D4-4B8A-9041-BF2F1142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495C-2DA4-44DD-B652-EBAA970B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9A55-DFE1-49D7-AA3C-B552BC5F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2105-CB4F-4083-AE8F-6EC35759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A93-53D6-4AAD-88E3-36500549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C07-C16B-4616-B8CD-381825D3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834-44AB-4393-9E0F-BEA1C94A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397-5926-44F0-A5F4-9B359347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988-A212-4AA5-BEE6-35DB4BF6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36C-B24A-40A0-BDB5-7E880210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062-7458-4C2E-BAF5-A8F529E3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6C68-9CD7-4724-A265-9EF7EFB36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0EBD-7909-4A04-8EF4-F56C8E736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СТРЕС ТА ЙОГО ЧИНН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2209680" cy="2590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352680" y="1981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4562640"/>
            <a:ext cx="929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Tahoma"/>
              </a:rPr>
              <a:t>Стрес – це не те, що з нами трапляється, а те, як ми це сприймаєм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85800" y="1371600"/>
            <a:ext cx="2133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Фаза опор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267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начна тривалі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Морфологічні й функціональні перебудови в організмі, що підвищують витривалість до дій стрес - подразникі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91120" y="1752480"/>
            <a:ext cx="4419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Фаза виснаженн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ичерпання резервних можливостей організму й руйнації механізмів адаптації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ри тривалій дії стрес – подразника може спричинити смер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581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Вплив стресу на організ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ahoma"/>
              </a:rPr>
              <a:t>Позитивний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ідвищуєть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імунітет, відступаю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хвороби, люд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ідчуває припли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радості, відмін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иглядає і чудо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себе почуває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19720" y="16765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uk-UA" sz="2400" spc="-1" strike="noStrike" u="sng">
                <a:solidFill>
                  <a:srgbClr val="ffffff"/>
                </a:solidFill>
                <a:uFillTx/>
                <a:latin typeface="Tahoma"/>
              </a:rPr>
              <a:t>Негатив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надовго вибиває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людину із колії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і помітно підриває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доров'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ffff"/>
                </a:solidFill>
                <a:latin typeface="Tahoma"/>
              </a:rPr>
              <a:t>Шляхи виходу зі стресових ситуацій</a:t>
            </a: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Фізичні вправ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ромотерапі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асаж, Теплий душ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ідпочинок на природ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рослуховування муз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живати більше фруктів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Історична довід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Ганс Сельє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(26.01.1907- 16.10.198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Видатний канадсь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ендокринолог, ліка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а освітою, біолог 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світовим ім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я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директор Інститут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експериментальної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медицини та хірургії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9480" y="1295280"/>
            <a:ext cx="3581640" cy="4191120"/>
            <a:chOff x="609480" y="1295280"/>
            <a:chExt cx="3581640" cy="419112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609480" y="1295280"/>
              <a:ext cx="35816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609480" y="1295280"/>
              <a:ext cx="3581640" cy="41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19360" y="2282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Стрес - ц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 перекладі з англійської — напруга, тиск)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еспецифічна реакція організму у відповідь на дуже сильну дію (подразник) зовні, яка перевищує норму, а також відповідна реакція нервової систе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3429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57240" y="380880"/>
            <a:ext cx="5334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ffff"/>
                </a:solidFill>
                <a:latin typeface="Tahoma"/>
              </a:rPr>
              <a:t>Стрес – подразники призводять до 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uk-UA" sz="3600" spc="-1" strike="noStrike" u="sng">
                <a:solidFill>
                  <a:srgbClr val="ffffff"/>
                </a:solidFill>
                <a:uFillTx/>
                <a:latin typeface="Tahoma"/>
              </a:rPr>
              <a:t>результа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Фізичне напруження         порушенн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омеостаз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сихічне напружен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3352680"/>
            <a:ext cx="152640" cy="152424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2895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Стрес – подразники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бувають ІІІ типі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трес – подразники які від нас не залежа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Це стрес – подразники на які ми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можемо і повинні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вплину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Це події та явища які ми самі перетворюємо на пробле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uk-UA" sz="4000" spc="-1" strike="noStrike">
                <a:solidFill>
                  <a:srgbClr val="e5ffff"/>
                </a:solidFill>
                <a:latin typeface="Tahoma"/>
              </a:rPr>
              <a:t>Фактори  що викликають стрес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еревантаженн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конфлі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евизначені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ецікава діяльні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олод, сп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екзаме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ереалізовані потреб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нижена самооцінка, тощ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200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ffff"/>
                </a:solidFill>
                <a:latin typeface="Tahoma"/>
              </a:rPr>
              <a:t>Стрес – подразники  викликают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Емоційні реакці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трах                                 Агресі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362320" y="2666880"/>
            <a:ext cx="18288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2666880"/>
            <a:ext cx="10670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2120" y="380988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3047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Фази   стрес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ІІІ ф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виснажен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ІІ ф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опо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І ф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трив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048120"/>
            <a:ext cx="2286000" cy="2209680"/>
          </a:xfrm>
          <a:prstGeom prst="uturnArrow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1828800"/>
            <a:ext cx="1981080" cy="2209680"/>
          </a:xfrm>
          <a:prstGeom prst="uturnArrow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2590920" cy="2819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867280" y="3733920"/>
            <a:ext cx="2819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Фаза тривоги</a:t>
            </a: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Триває до 2-х ді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Мобілізація резервів організ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Активується симпатична нервова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(виділення адреналіну та норадреналіну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57800" y="1752480"/>
            <a:ext cx="3124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HOME</cp:lastModifiedBy>
  <dcterms:modified xsi:type="dcterms:W3CDTF">2012-02-07T14:45:3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