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type.wav" ContentType="audio/x-wav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wmf" ContentType="image/x-wmf"/>
  <Override PartName="/ppt/media/image27.jpeg" ContentType="image/jpeg"/>
  <Override PartName="/ppt/media/image31.png" ContentType="image/png"/>
  <Override PartName="/ppt/media/image29.png" ContentType="image/png"/>
  <Override PartName="/ppt/media/image43.png" ContentType="image/png"/>
  <Override PartName="/ppt/media/image44.wmf" ContentType="image/x-wmf"/>
  <Override PartName="/ppt/media/image37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A5B2-DC17-40CC-8E77-7393E57844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DE01-1E7B-493F-995D-3100ED2B77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D56E-CE96-44E3-99DA-548CDD0E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E877-625D-4726-B3B3-A2A5468D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E4E7-2E01-47C8-8EE5-EDAE6FB3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8C96-38D6-49B9-84E1-9D9DA675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73D2-5E18-440F-9718-B0C834C1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272D-2F3F-4310-9A06-F5C9F8E8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7102-5E83-4ED4-91A8-F202AE6A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E196-0145-4011-8E85-88C91174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4608-DC62-4BBB-908B-A296D7D2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15CD-98D3-4D44-B5BE-CCE20872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7B33-AF37-434A-AB60-29218FDA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B3F6-82F4-43FE-AF40-D5DE9FF7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0674-D5A8-4D3F-BE1B-63EA5649A1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jpe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&amp;shcy;&amp;kcy;&amp;ocy;&amp;lcy;&amp;softcy;&amp;ncy;&amp;acy;&amp;yacy; &amp;vcy;&amp;icy;&amp;ncy;&amp;softcy;&amp;iecy;&amp;tcy;&amp;kcy;&amp;acy;"/>
          <p:cNvPicPr/>
          <p:nvPr/>
        </p:nvPicPr>
        <p:blipFill>
          <a:blip r:embed="rId1"/>
          <a:stretch/>
        </p:blipFill>
        <p:spPr>
          <a:xfrm>
            <a:off x="79200" y="44280"/>
            <a:ext cx="9006120" cy="676944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2195640" y="933480"/>
            <a:ext cx="576108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70c0"/>
                </a:solidFill>
                <a:latin typeface="Arial Narrow"/>
              </a:rPr>
              <a:t>Урок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70c0"/>
                </a:solidFill>
                <a:latin typeface="Arial Narrow"/>
              </a:rPr>
              <a:t>         </a:t>
            </a:r>
            <a:r>
              <a:rPr b="1" i="1" lang="uk-UA" sz="7200" spc="-1" strike="noStrike">
                <a:solidFill>
                  <a:srgbClr val="0070c0"/>
                </a:solidFill>
                <a:latin typeface="Arial Narrow"/>
              </a:rPr>
              <a:t>читанн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08000" y="115920"/>
            <a:ext cx="8856720" cy="6626160"/>
          </a:xfrm>
          <a:prstGeom prst="rect">
            <a:avLst/>
          </a:prstGeom>
          <a:solidFill>
            <a:srgbClr val="c3d69b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rcRect l="1138" t="1753" r="1296" b="1431"/>
          <a:stretch/>
        </p:blipFill>
        <p:spPr>
          <a:xfrm>
            <a:off x="1198440" y="1376280"/>
            <a:ext cx="7102440" cy="4784760"/>
          </a:xfrm>
          <a:prstGeom prst="rect">
            <a:avLst/>
          </a:prstGeom>
          <a:ln w="0">
            <a:noFill/>
          </a:ln>
        </p:spPr>
      </p:pic>
      <p:sp>
        <p:nvSpPr>
          <p:cNvPr id="144" name="Блок-схема: процесс 7"/>
          <p:cNvSpPr/>
          <p:nvPr/>
        </p:nvSpPr>
        <p:spPr>
          <a:xfrm>
            <a:off x="2124000" y="1628640"/>
            <a:ext cx="2519280" cy="4021200"/>
          </a:xfrm>
          <a:prstGeom prst="flowChartProcess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Блок-схема: процесс 8"/>
          <p:cNvSpPr/>
          <p:nvPr/>
        </p:nvSpPr>
        <p:spPr>
          <a:xfrm>
            <a:off x="4932360" y="1717560"/>
            <a:ext cx="2592360" cy="3956040"/>
          </a:xfrm>
          <a:prstGeom prst="flowChartProcess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93300"/>
                </a:solidFill>
                <a:latin typeface="Calibri"/>
                <a:ea typeface="Times New Roman"/>
              </a:rPr>
              <a:t>   </a:t>
            </a:r>
            <a:r>
              <a:rPr b="1" lang="uk-UA" sz="4400" spc="-1" strike="noStrike">
                <a:solidFill>
                  <a:srgbClr val="993300"/>
                </a:solidFill>
                <a:latin typeface="Calibri"/>
                <a:ea typeface="Times New Roman"/>
              </a:rPr>
              <a:t>«Син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0"/>
          <p:cNvSpPr/>
          <p:nvPr/>
        </p:nvSpPr>
        <p:spPr>
          <a:xfrm rot="19599600">
            <a:off x="95040" y="427320"/>
            <a:ext cx="30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33cc"/>
                </a:solidFill>
                <a:latin typeface="Monotype Corsiva"/>
              </a:rPr>
              <a:t>Нові  знан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2681280" y="2565360"/>
            <a:ext cx="1405080" cy="19702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1"/>
          <p:cNvSpPr/>
          <p:nvPr/>
        </p:nvSpPr>
        <p:spPr>
          <a:xfrm>
            <a:off x="2519280" y="46846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93300"/>
                </a:solidFill>
                <a:latin typeface="Calibri"/>
              </a:rPr>
              <a:t>  </a:t>
            </a:r>
            <a:r>
              <a:rPr b="1" lang="uk-UA" sz="1800" spc="-1" strike="noStrike">
                <a:solidFill>
                  <a:srgbClr val="993300"/>
                </a:solidFill>
                <a:latin typeface="Calibri"/>
              </a:rPr>
              <a:t>(1902 – 196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1946160" y="191916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Calibri"/>
              </a:rPr>
              <a:t>Валентина  Осєє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8" descr="http://img2.labirint.ru/books/267016/big.jpg"/>
          <p:cNvPicPr/>
          <p:nvPr/>
        </p:nvPicPr>
        <p:blipFill>
          <a:blip r:embed="rId3"/>
          <a:srcRect l="0" t="12728" r="0" b="26423"/>
          <a:stretch/>
        </p:blipFill>
        <p:spPr>
          <a:xfrm>
            <a:off x="5180040" y="1994040"/>
            <a:ext cx="209556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 rot="19748400">
            <a:off x="42480" y="507600"/>
            <a:ext cx="262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33cc"/>
                </a:solidFill>
                <a:latin typeface="Monotype Corsiva"/>
              </a:rPr>
              <a:t>Нові  знан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Блок-схема: несколько документов 10"/>
          <p:cNvSpPr/>
          <p:nvPr/>
        </p:nvSpPr>
        <p:spPr>
          <a:xfrm>
            <a:off x="2124000" y="476280"/>
            <a:ext cx="5256360" cy="6121440"/>
          </a:xfrm>
          <a:prstGeom prst="flowChartMultidocument">
            <a:avLst/>
          </a:prstGeom>
          <a:solidFill>
            <a:srgbClr val="4f81bd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1"/>
          <p:cNvSpPr/>
          <p:nvPr/>
        </p:nvSpPr>
        <p:spPr>
          <a:xfrm>
            <a:off x="2124000" y="1305000"/>
            <a:ext cx="576108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000"/>
                </a:solidFill>
                <a:latin typeface="Calibri"/>
              </a:rPr>
              <a:t>-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4000" spc="-1" strike="noStrike">
                <a:solidFill>
                  <a:srgbClr val="ffc000"/>
                </a:solidFill>
                <a:latin typeface="Calibri"/>
              </a:rPr>
              <a:t>жін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000"/>
                </a:solidFill>
                <a:latin typeface="Calibri"/>
              </a:rPr>
              <a:t>-  в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000"/>
                </a:solidFill>
                <a:latin typeface="Calibri"/>
              </a:rPr>
              <a:t>-  криниц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000"/>
                </a:solidFill>
                <a:latin typeface="Calibri"/>
              </a:rPr>
              <a:t>-  важкі від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000"/>
                </a:solidFill>
                <a:latin typeface="Calibri"/>
              </a:rPr>
              <a:t>-  руки боля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000"/>
                </a:solidFill>
                <a:latin typeface="Calibri"/>
              </a:rPr>
              <a:t>-  спину ломи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000"/>
                </a:solidFill>
                <a:latin typeface="Calibri"/>
              </a:rPr>
              <a:t>-  підбіг, узяв, поні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82520" y="115920"/>
            <a:ext cx="8783640" cy="6594480"/>
          </a:xfrm>
          <a:prstGeom prst="rect">
            <a:avLst/>
          </a:prstGeom>
          <a:ln w="0">
            <a:noFill/>
          </a:ln>
        </p:spPr>
      </p:pic>
      <p:grpSp>
        <p:nvGrpSpPr>
          <p:cNvPr id="156" name="Блок-схема: процесс 14"/>
          <p:cNvGrpSpPr/>
          <p:nvPr/>
        </p:nvGrpSpPr>
        <p:grpSpPr>
          <a:xfrm>
            <a:off x="2279520" y="523800"/>
            <a:ext cx="4584960" cy="1049400"/>
            <a:chOff x="2279520" y="523800"/>
            <a:chExt cx="4584960" cy="1049400"/>
          </a:xfrm>
        </p:grpSpPr>
        <p:pic>
          <p:nvPicPr>
            <p:cNvPr id="157" name="Блок-схема: процесс 14" descr=""/>
            <p:cNvPicPr/>
            <p:nvPr/>
          </p:nvPicPr>
          <p:blipFill>
            <a:blip r:embed="rId2"/>
            <a:stretch/>
          </p:blipFill>
          <p:spPr>
            <a:xfrm>
              <a:off x="2279520" y="523800"/>
              <a:ext cx="458496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305080" y="549360"/>
              <a:ext cx="453708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400" spc="-1" strike="noStrike">
                  <a:solidFill>
                    <a:srgbClr val="e46c0a"/>
                  </a:solidFill>
                  <a:latin typeface="Calibri"/>
                </a:rPr>
                <a:t>Фізкультхвилинка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79280" y="115920"/>
            <a:ext cx="8785440" cy="662616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 rot="19879200">
            <a:off x="-348120" y="407880"/>
            <a:ext cx="334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33cc"/>
                </a:solidFill>
                <a:latin typeface="Monotype Corsiva"/>
              </a:rPr>
              <a:t>Нові  знан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Прямоугольник 4"/>
          <p:cNvGrpSpPr/>
          <p:nvPr/>
        </p:nvGrpSpPr>
        <p:grpSpPr>
          <a:xfrm>
            <a:off x="2620800" y="450720"/>
            <a:ext cx="4011840" cy="927360"/>
            <a:chOff x="2620800" y="450720"/>
            <a:chExt cx="4011840" cy="927360"/>
          </a:xfrm>
        </p:grpSpPr>
        <p:pic>
          <p:nvPicPr>
            <p:cNvPr id="162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620800" y="450720"/>
              <a:ext cx="401184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2646360" y="476280"/>
              <a:ext cx="39607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00"/>
                  </a:solidFill>
                  <a:latin typeface="Calibri"/>
                </a:rPr>
                <a:t>Словникова робот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TextBox 5"/>
          <p:cNvSpPr/>
          <p:nvPr/>
        </p:nvSpPr>
        <p:spPr>
          <a:xfrm>
            <a:off x="168120" y="1916280"/>
            <a:ext cx="8785440" cy="30186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спритний                      голосно дзвінко співа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милуються                   вправний, умілий, мет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аливається                 любуються, тіша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Стрелка вниз 6"/>
          <p:cNvSpPr/>
          <p:nvPr/>
        </p:nvSpPr>
        <p:spPr>
          <a:xfrm rot="17959200">
            <a:off x="2878560" y="2219760"/>
            <a:ext cx="291960" cy="180828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Стрелка вниз 7"/>
          <p:cNvSpPr/>
          <p:nvPr/>
        </p:nvSpPr>
        <p:spPr>
          <a:xfrm rot="12898800">
            <a:off x="3141360" y="2444400"/>
            <a:ext cx="291960" cy="227484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Стрелка вниз 8"/>
          <p:cNvSpPr/>
          <p:nvPr/>
        </p:nvSpPr>
        <p:spPr>
          <a:xfrm rot="17959200">
            <a:off x="3048480" y="3105720"/>
            <a:ext cx="292320" cy="1808280"/>
          </a:xfrm>
          <a:prstGeom prst="downArrow">
            <a:avLst>
              <a:gd name="adj1" fmla="val 50000"/>
              <a:gd name="adj2" fmla="val 49946"/>
            </a:avLst>
          </a:prstGeom>
          <a:solidFill>
            <a:srgbClr val="4f81bd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7" descr=""/>
          <p:cNvPicPr/>
          <p:nvPr/>
        </p:nvPicPr>
        <p:blipFill>
          <a:blip r:embed="rId2"/>
          <a:stretch/>
        </p:blipFill>
        <p:spPr>
          <a:xfrm>
            <a:off x="6840360" y="4869000"/>
            <a:ext cx="208944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79280" y="260280"/>
            <a:ext cx="8785440" cy="64087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"/>
          <p:cNvSpPr/>
          <p:nvPr/>
        </p:nvSpPr>
        <p:spPr>
          <a:xfrm rot="19155600">
            <a:off x="-65160" y="600120"/>
            <a:ext cx="194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8000"/>
                </a:solidFill>
                <a:latin typeface="Monotype Corsiva"/>
              </a:rPr>
              <a:t>Умін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Прямоугольник 4"/>
          <p:cNvGrpSpPr/>
          <p:nvPr/>
        </p:nvGrpSpPr>
        <p:grpSpPr>
          <a:xfrm>
            <a:off x="2378160" y="536400"/>
            <a:ext cx="4437000" cy="1000440"/>
            <a:chOff x="2378160" y="536400"/>
            <a:chExt cx="4437000" cy="1000440"/>
          </a:xfrm>
        </p:grpSpPr>
        <p:pic>
          <p:nvPicPr>
            <p:cNvPr id="172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378160" y="536400"/>
              <a:ext cx="443700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2398680" y="561960"/>
              <a:ext cx="4390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254061"/>
                  </a:solidFill>
                  <a:latin typeface="Calibri"/>
                </a:rPr>
                <a:t>Правильно прочитай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TextBox 5"/>
          <p:cNvSpPr/>
          <p:nvPr/>
        </p:nvSpPr>
        <p:spPr>
          <a:xfrm>
            <a:off x="1692360" y="1989000"/>
            <a:ext cx="5975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Calibri"/>
              </a:rPr>
              <a:t>зупиняютьс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Calibri"/>
              </a:rPr>
              <a:t>розпліскуєтьс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Calibri"/>
              </a:rPr>
              <a:t>перевертаєтьс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Calibri"/>
              </a:rPr>
              <a:t>милуютьс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Calibri"/>
              </a:rPr>
              <a:t>заливаєтьс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Прямоугольник 3"/>
          <p:cNvGrpSpPr/>
          <p:nvPr/>
        </p:nvGrpSpPr>
        <p:grpSpPr>
          <a:xfrm>
            <a:off x="2444760" y="957240"/>
            <a:ext cx="4584600" cy="1000080"/>
            <a:chOff x="2444760" y="957240"/>
            <a:chExt cx="4584600" cy="1000080"/>
          </a:xfrm>
        </p:grpSpPr>
        <p:pic>
          <p:nvPicPr>
            <p:cNvPr id="177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2444760" y="957240"/>
              <a:ext cx="45846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467080" y="981000"/>
              <a:ext cx="45370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ddd9c3"/>
                  </a:solidFill>
                  <a:latin typeface="Calibri"/>
                </a:rPr>
                <a:t>Гра «Торбинка запитань»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9" name="TextBox 5"/>
          <p:cNvSpPr/>
          <p:nvPr/>
        </p:nvSpPr>
        <p:spPr>
          <a:xfrm rot="19611000">
            <a:off x="-523080" y="711720"/>
            <a:ext cx="403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b0f0"/>
                </a:solidFill>
                <a:latin typeface="Monotype Corsiva"/>
              </a:rPr>
              <a:t>Творча роб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2"/>
          <a:srcRect l="0" t="0" r="39251" b="0"/>
          <a:stretch/>
        </p:blipFill>
        <p:spPr>
          <a:xfrm>
            <a:off x="2771640" y="2637000"/>
            <a:ext cx="3351240" cy="30049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6"/>
          <p:cNvSpPr/>
          <p:nvPr/>
        </p:nvSpPr>
        <p:spPr>
          <a:xfrm rot="20787600">
            <a:off x="1787760" y="2452680"/>
            <a:ext cx="5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7"/>
          <p:cNvSpPr/>
          <p:nvPr/>
        </p:nvSpPr>
        <p:spPr>
          <a:xfrm rot="1265400">
            <a:off x="6955200" y="2899080"/>
            <a:ext cx="50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8"/>
          <p:cNvSpPr/>
          <p:nvPr/>
        </p:nvSpPr>
        <p:spPr>
          <a:xfrm rot="1037400">
            <a:off x="6376320" y="201096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9"/>
          <p:cNvSpPr/>
          <p:nvPr/>
        </p:nvSpPr>
        <p:spPr>
          <a:xfrm rot="21071400">
            <a:off x="4007880" y="1938240"/>
            <a:ext cx="54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08000" y="188640"/>
            <a:ext cx="8856720" cy="65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3"/>
          <p:cNvSpPr/>
          <p:nvPr/>
        </p:nvSpPr>
        <p:spPr>
          <a:xfrm rot="20432400">
            <a:off x="11520" y="388800"/>
            <a:ext cx="342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b0f0"/>
                </a:solidFill>
                <a:latin typeface="Monotype Corsiva"/>
              </a:rPr>
              <a:t>Творча роб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Прямоугольник 4"/>
          <p:cNvGrpSpPr/>
          <p:nvPr/>
        </p:nvGrpSpPr>
        <p:grpSpPr>
          <a:xfrm>
            <a:off x="2682720" y="738360"/>
            <a:ext cx="3791160" cy="925200"/>
            <a:chOff x="2682720" y="738360"/>
            <a:chExt cx="3791160" cy="925200"/>
          </a:xfrm>
        </p:grpSpPr>
        <p:pic>
          <p:nvPicPr>
            <p:cNvPr id="188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682720" y="738360"/>
              <a:ext cx="3791160" cy="92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706840" y="760320"/>
              <a:ext cx="3744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e6e0ec"/>
                  </a:solidFill>
                  <a:latin typeface="Calibri"/>
                </a:rPr>
                <a:t>  </a:t>
              </a:r>
              <a:r>
                <a:rPr b="1" lang="uk-UA" sz="3200" spc="-1" strike="noStrike">
                  <a:solidFill>
                    <a:srgbClr val="e6e0ec"/>
                  </a:solidFill>
                  <a:latin typeface="Calibri"/>
                </a:rPr>
                <a:t>Продовж  речення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TextBox 5"/>
          <p:cNvSpPr/>
          <p:nvPr/>
        </p:nvSpPr>
        <p:spPr>
          <a:xfrm flipH="1">
            <a:off x="545400" y="1341360"/>
            <a:ext cx="806436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04a7b"/>
                </a:solidFill>
                <a:latin typeface="Monotype Corsiva"/>
              </a:rPr>
              <a:t>Щиро любить матір той, х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403152"/>
                </a:solidFill>
                <a:latin typeface="Calibri"/>
              </a:rPr>
              <a:t>А) спритний і сильни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403152"/>
                </a:solidFill>
                <a:latin typeface="Calibri"/>
              </a:rPr>
              <a:t>Б) співає, як соловейко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403152"/>
                </a:solidFill>
                <a:latin typeface="Calibri"/>
              </a:rPr>
              <a:t>В) у всьому матері допомагає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6012000" y="2637000"/>
            <a:ext cx="28303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79280" y="260280"/>
            <a:ext cx="8785440" cy="6408720"/>
          </a:xfrm>
          <a:prstGeom prst="rect">
            <a:avLst/>
          </a:prstGeom>
          <a:solidFill>
            <a:srgbClr val="f6f8a6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5"/>
          <p:cNvSpPr/>
          <p:nvPr/>
        </p:nvSpPr>
        <p:spPr>
          <a:xfrm rot="19996200">
            <a:off x="117000" y="65808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b0f0"/>
                </a:solidFill>
                <a:latin typeface="Monotype Corsiva"/>
              </a:rPr>
              <a:t>Творча роб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 rot="20381400">
            <a:off x="3096720" y="143172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2"/>
          <a:srcRect l="2923" t="3537" r="2838" b="3759"/>
          <a:stretch/>
        </p:blipFill>
        <p:spPr>
          <a:xfrm rot="20970000">
            <a:off x="1302840" y="4211640"/>
            <a:ext cx="2414880" cy="1650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"/>
          <p:cNvPicPr/>
          <p:nvPr/>
        </p:nvPicPr>
        <p:blipFill>
          <a:blip r:embed="rId3"/>
          <a:srcRect l="6001" t="11476" r="9334" b="20571"/>
          <a:stretch/>
        </p:blipFill>
        <p:spPr>
          <a:xfrm rot="897000">
            <a:off x="5897160" y="1096920"/>
            <a:ext cx="2365560" cy="1392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4"/>
          <a:srcRect l="10993" t="3737" r="11232" b="4121"/>
          <a:stretch/>
        </p:blipFill>
        <p:spPr>
          <a:xfrm rot="660600">
            <a:off x="4705200" y="4839840"/>
            <a:ext cx="2105280" cy="1552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https://encrypted-tbn2.gstatic.com/images?q=tbn:ANd9GcRnvJmHIE8ujKjJ0-HuKQXYCFumTdWjjLRkKhqswzbSLy4cjA8Z"/>
          <p:cNvPicPr/>
          <p:nvPr/>
        </p:nvPicPr>
        <p:blipFill>
          <a:blip r:embed="rId5"/>
          <a:stretch/>
        </p:blipFill>
        <p:spPr>
          <a:xfrm rot="19749600">
            <a:off x="515880" y="2168640"/>
            <a:ext cx="2332080" cy="1671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"/>
          <p:cNvPicPr/>
          <p:nvPr/>
        </p:nvPicPr>
        <p:blipFill>
          <a:blip r:embed="rId6"/>
          <a:stretch/>
        </p:blipFill>
        <p:spPr>
          <a:xfrm>
            <a:off x="5219640" y="2924280"/>
            <a:ext cx="25434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Прямоугольник 3"/>
          <p:cNvGrpSpPr/>
          <p:nvPr/>
        </p:nvGrpSpPr>
        <p:grpSpPr>
          <a:xfrm>
            <a:off x="2316240" y="523800"/>
            <a:ext cx="4657680" cy="854280"/>
            <a:chOff x="2316240" y="523800"/>
            <a:chExt cx="4657680" cy="854280"/>
          </a:xfrm>
        </p:grpSpPr>
        <p:pic>
          <p:nvPicPr>
            <p:cNvPr id="202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2316240" y="523800"/>
              <a:ext cx="465768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2340000" y="549360"/>
              <a:ext cx="460836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3200" spc="-1" strike="noStrike">
                  <a:solidFill>
                    <a:srgbClr val="ddd9c3"/>
                  </a:solidFill>
                  <a:latin typeface="Calibri"/>
                </a:rPr>
                <a:t>    </a:t>
              </a:r>
              <a:r>
                <a:rPr b="1" i="1" lang="uk-UA" sz="3200" spc="-1" strike="noStrike">
                  <a:solidFill>
                    <a:srgbClr val="ddd9c3"/>
                  </a:solidFill>
                  <a:latin typeface="Calibri"/>
                </a:rPr>
                <a:t>Домашнє завдання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4" name="TextBox 4"/>
          <p:cNvSpPr/>
          <p:nvPr/>
        </p:nvSpPr>
        <p:spPr>
          <a:xfrm>
            <a:off x="900000" y="2190600"/>
            <a:ext cx="7993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- читати, відповідати на запитанн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- переказувати 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- придумати продовження до твор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Овал 5"/>
          <p:cNvSpPr/>
          <p:nvPr/>
        </p:nvSpPr>
        <p:spPr>
          <a:xfrm>
            <a:off x="324000" y="2276640"/>
            <a:ext cx="576000" cy="576000"/>
          </a:xfrm>
          <a:prstGeom prst="ellipse">
            <a:avLst/>
          </a:prstGeom>
          <a:solidFill>
            <a:srgbClr val="00b050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Овал 6"/>
          <p:cNvSpPr/>
          <p:nvPr/>
        </p:nvSpPr>
        <p:spPr>
          <a:xfrm>
            <a:off x="324000" y="3487680"/>
            <a:ext cx="576000" cy="57636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Овал 7"/>
          <p:cNvSpPr/>
          <p:nvPr/>
        </p:nvSpPr>
        <p:spPr>
          <a:xfrm>
            <a:off x="322200" y="4724280"/>
            <a:ext cx="576360" cy="57636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79280" y="188640"/>
            <a:ext cx="8785440" cy="65530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6-конечная звезда 9"/>
          <p:cNvSpPr/>
          <p:nvPr/>
        </p:nvSpPr>
        <p:spPr>
          <a:xfrm>
            <a:off x="1116000" y="333360"/>
            <a:ext cx="6696000" cy="6191280"/>
          </a:xfrm>
          <a:custGeom>
            <a:avLst/>
            <a:gdLst/>
            <a:ahLst/>
            <a:rect l="l" t="t" r="r" b="b"/>
            <a:pathLst>
              <a:path w="6696744" h="6192688">
                <a:moveTo>
                  <a:pt x="2" y="1548172"/>
                </a:moveTo>
                <a:lnTo>
                  <a:pt x="2232230" y="1548146"/>
                </a:lnTo>
                <a:lnTo>
                  <a:pt x="3348372" y="0"/>
                </a:lnTo>
                <a:lnTo>
                  <a:pt x="4464514" y="1548146"/>
                </a:lnTo>
                <a:lnTo>
                  <a:pt x="6696742" y="1548172"/>
                </a:lnTo>
                <a:lnTo>
                  <a:pt x="5580657" y="3096344"/>
                </a:lnTo>
                <a:lnTo>
                  <a:pt x="6696742" y="4644516"/>
                </a:lnTo>
                <a:lnTo>
                  <a:pt x="4464514" y="4644542"/>
                </a:lnTo>
                <a:lnTo>
                  <a:pt x="3348372" y="6192688"/>
                </a:lnTo>
                <a:lnTo>
                  <a:pt x="2232230" y="4644542"/>
                </a:lnTo>
                <a:lnTo>
                  <a:pt x="2" y="4644516"/>
                </a:lnTo>
                <a:lnTo>
                  <a:pt x="1116087" y="3096344"/>
                </a:lnTo>
                <a:lnTo>
                  <a:pt x="2" y="1548172"/>
                </a:lnTo>
                <a:close/>
              </a:path>
            </a:pathLst>
          </a:custGeom>
          <a:solidFill>
            <a:srgbClr val="4f81bd"/>
          </a:solidFill>
          <a:ln w="1584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7-конечная звезда 7"/>
          <p:cNvSpPr/>
          <p:nvPr/>
        </p:nvSpPr>
        <p:spPr>
          <a:xfrm rot="724200">
            <a:off x="1350720" y="658440"/>
            <a:ext cx="6840360" cy="5041800"/>
          </a:xfrm>
          <a:custGeom>
            <a:avLst/>
            <a:gdLst/>
            <a:ahLst/>
            <a:rect l="l" t="t" r="r" b="b"/>
            <a:pathLst>
              <a:path w="6840760" h="5040560">
                <a:moveTo>
                  <a:pt x="-18" y="3241618"/>
                </a:moveTo>
                <a:lnTo>
                  <a:pt x="1053396" y="2243273"/>
                </a:lnTo>
                <a:lnTo>
                  <a:pt x="677445" y="998349"/>
                </a:lnTo>
                <a:lnTo>
                  <a:pt x="2366984" y="998351"/>
                </a:lnTo>
                <a:lnTo>
                  <a:pt x="3420380" y="0"/>
                </a:lnTo>
                <a:lnTo>
                  <a:pt x="4473776" y="998351"/>
                </a:lnTo>
                <a:lnTo>
                  <a:pt x="6163315" y="998349"/>
                </a:lnTo>
                <a:lnTo>
                  <a:pt x="5787364" y="2243273"/>
                </a:lnTo>
                <a:lnTo>
                  <a:pt x="6840778" y="3241618"/>
                </a:lnTo>
                <a:lnTo>
                  <a:pt x="5318546" y="3795660"/>
                </a:lnTo>
                <a:lnTo>
                  <a:pt x="4942584" y="5040587"/>
                </a:lnTo>
                <a:lnTo>
                  <a:pt x="3420380" y="4486538"/>
                </a:lnTo>
                <a:lnTo>
                  <a:pt x="1898176" y="5040587"/>
                </a:lnTo>
                <a:lnTo>
                  <a:pt x="1522214" y="3795660"/>
                </a:lnTo>
                <a:lnTo>
                  <a:pt x="-18" y="3241618"/>
                </a:lnTo>
                <a:close/>
              </a:path>
            </a:pathLst>
          </a:custGeom>
          <a:solidFill>
            <a:srgbClr val="ffff00"/>
          </a:solidFill>
          <a:ln w="1584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8"/>
          <p:cNvSpPr/>
          <p:nvPr/>
        </p:nvSpPr>
        <p:spPr>
          <a:xfrm>
            <a:off x="2771640" y="2108160"/>
            <a:ext cx="42483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3800" spc="-1" strike="noStrike">
                <a:solidFill>
                  <a:srgbClr val="fa0000"/>
                </a:solidFill>
                <a:latin typeface="Monotype Corsiva"/>
              </a:rPr>
              <a:t>Успіх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Объект 2"/>
          <p:cNvGrpSpPr/>
          <p:nvPr/>
        </p:nvGrpSpPr>
        <p:grpSpPr>
          <a:xfrm>
            <a:off x="36360" y="-30240"/>
            <a:ext cx="9071280" cy="6845400"/>
            <a:chOff x="36360" y="-30240"/>
            <a:chExt cx="9071280" cy="6845400"/>
          </a:xfrm>
        </p:grpSpPr>
        <p:pic>
          <p:nvPicPr>
            <p:cNvPr id="53" name="Объект 2" descr=""/>
            <p:cNvPicPr/>
            <p:nvPr/>
          </p:nvPicPr>
          <p:blipFill>
            <a:blip r:embed="rId1"/>
            <a:stretch/>
          </p:blipFill>
          <p:spPr>
            <a:xfrm>
              <a:off x="36360" y="-30240"/>
              <a:ext cx="9071280" cy="684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08000" y="44280"/>
              <a:ext cx="8928000" cy="66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0070c0"/>
                  </a:solidFill>
                  <a:latin typeface="Calibri"/>
                </a:rPr>
                <a:t>                 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Схема 4" descr=""/>
          <p:cNvPicPr/>
          <p:nvPr/>
        </p:nvPicPr>
        <p:blipFill>
          <a:blip r:embed="rId2"/>
          <a:stretch/>
        </p:blipFill>
        <p:spPr>
          <a:xfrm>
            <a:off x="176040" y="262080"/>
            <a:ext cx="8791920" cy="62611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5"/>
          <p:cNvSpPr/>
          <p:nvPr/>
        </p:nvSpPr>
        <p:spPr>
          <a:xfrm>
            <a:off x="4859280" y="1662120"/>
            <a:ext cx="3384720" cy="3168720"/>
          </a:xfrm>
          <a:prstGeom prst="rect">
            <a:avLst/>
          </a:prstGeom>
          <a:solidFill>
            <a:srgbClr val="d99694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Рівно сяду я за парт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Руки гарно покла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Хвилюватися не варто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Я свій клас не підве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3"/>
          <a:stretch/>
        </p:blipFill>
        <p:spPr>
          <a:xfrm>
            <a:off x="900000" y="1662120"/>
            <a:ext cx="31813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5075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Oval 4"/>
          <p:cNvSpPr/>
          <p:nvPr/>
        </p:nvSpPr>
        <p:spPr>
          <a:xfrm>
            <a:off x="826920" y="2516040"/>
            <a:ext cx="1151280" cy="1008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1755720" y="1025640"/>
            <a:ext cx="1079640" cy="934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e46c0a"/>
                </a:solidFill>
                <a:latin typeface="Calibri"/>
              </a:rPr>
              <a:t>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3656160" y="291960"/>
            <a:ext cx="1079280" cy="935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e46c0a"/>
                </a:solidFill>
                <a:latin typeface="Calibri"/>
              </a:rPr>
              <a:t>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5680080" y="476280"/>
            <a:ext cx="1079640" cy="934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e46c0a"/>
                </a:solidFill>
                <a:latin typeface="Calibri"/>
              </a:rPr>
              <a:t>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Oval 8"/>
          <p:cNvSpPr/>
          <p:nvPr/>
        </p:nvSpPr>
        <p:spPr>
          <a:xfrm>
            <a:off x="7256520" y="1628640"/>
            <a:ext cx="1079280" cy="935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e46c0a"/>
                </a:solidFill>
                <a:latin typeface="Calibri"/>
              </a:rPr>
              <a:t>ю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1116000" y="251604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e46c0a"/>
                </a:solidFill>
                <a:latin typeface="Arial"/>
              </a:rPr>
              <a:t>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WordArt 22" descr=""/>
          <p:cNvPicPr/>
          <p:nvPr/>
        </p:nvPicPr>
        <p:blipFill>
          <a:blip r:embed="rId1"/>
          <a:stretch/>
        </p:blipFill>
        <p:spPr>
          <a:xfrm>
            <a:off x="1620720" y="4438800"/>
            <a:ext cx="6121440" cy="1687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3" descr="j0343343"/>
          <p:cNvPicPr/>
          <p:nvPr/>
        </p:nvPicPr>
        <p:blipFill>
          <a:blip r:embed="rId2"/>
          <a:stretch/>
        </p:blipFill>
        <p:spPr>
          <a:xfrm>
            <a:off x="3049560" y="1844640"/>
            <a:ext cx="26305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solidFill>
            <a:srgbClr val="d5abff"/>
          </a:solidFill>
          <a:ln w="9360">
            <a:solidFill>
              <a:srgbClr val="cc66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Прямоугольник 3"/>
          <p:cNvGrpSpPr/>
          <p:nvPr/>
        </p:nvGrpSpPr>
        <p:grpSpPr>
          <a:xfrm>
            <a:off x="2316240" y="706320"/>
            <a:ext cx="4657680" cy="1000080"/>
            <a:chOff x="2316240" y="706320"/>
            <a:chExt cx="4657680" cy="1000080"/>
          </a:xfrm>
        </p:grpSpPr>
        <p:pic>
          <p:nvPicPr>
            <p:cNvPr id="60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2316240" y="706320"/>
              <a:ext cx="4657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340000" y="731880"/>
              <a:ext cx="460836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400" spc="-1" strike="noStrike">
                  <a:solidFill>
                    <a:srgbClr val="0070c0"/>
                  </a:solidFill>
                  <a:latin typeface="Calibri"/>
                </a:rPr>
                <a:t>Очікуванн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TextBox 5"/>
          <p:cNvSpPr/>
          <p:nvPr/>
        </p:nvSpPr>
        <p:spPr>
          <a:xfrm rot="19795800">
            <a:off x="-18000" y="416160"/>
            <a:ext cx="32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00"/>
                </a:solidFill>
                <a:latin typeface="Monotype Corsiva"/>
              </a:rPr>
              <a:t>Відомі знан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6950160" y="4943520"/>
            <a:ext cx="1815840" cy="1536480"/>
          </a:xfrm>
          <a:prstGeom prst="rect">
            <a:avLst/>
          </a:prstGeom>
          <a:ln w="0">
            <a:noFill/>
          </a:ln>
        </p:spPr>
      </p:pic>
      <p:sp>
        <p:nvSpPr>
          <p:cNvPr id="64" name="Овальная выноска 8"/>
          <p:cNvSpPr/>
          <p:nvPr/>
        </p:nvSpPr>
        <p:spPr>
          <a:xfrm>
            <a:off x="900000" y="2060640"/>
            <a:ext cx="6551640" cy="4032360"/>
          </a:xfrm>
          <a:prstGeom prst="wedgeEllipseCallout">
            <a:avLst>
              <a:gd name="adj1" fmla="val -55791"/>
              <a:gd name="adj2" fmla="val 62939"/>
            </a:avLst>
          </a:prstGeom>
          <a:solidFill>
            <a:srgbClr val="fafc9e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 Narrow"/>
              </a:rPr>
              <a:t>Що ви очікуєте від уроку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 Narrow"/>
              </a:rPr>
              <a:t>Цей урок навчить мене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08000" y="115920"/>
            <a:ext cx="8918640" cy="667080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Вертикальный свиток 11"/>
          <p:cNvSpPr/>
          <p:nvPr/>
        </p:nvSpPr>
        <p:spPr>
          <a:xfrm>
            <a:off x="1332000" y="333360"/>
            <a:ext cx="6840360" cy="58323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2268360" y="1341360"/>
            <a:ext cx="5040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Monotype Corsiva"/>
              </a:rPr>
              <a:t>Ро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Monotype Corsiva"/>
              </a:rPr>
              <a:t>Відомі зн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Monotype Corsiva"/>
              </a:rPr>
              <a:t>Нові зн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Monotype Corsiva"/>
              </a:rPr>
              <a:t>Умі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Monotype Corsiva"/>
              </a:rPr>
              <a:t>Творча ро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Monotype Corsiva"/>
              </a:rPr>
              <a:t>Успі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3492360" y="33336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Arial Narrow"/>
              </a:rPr>
              <a:t>Пла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6797520" y="4292640"/>
            <a:ext cx="2016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Wingdings"/>
                <a:ea typeface="Wingdings"/>
              </a:rPr>
              <a:t>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Группа 6"/>
          <p:cNvGrpSpPr/>
          <p:nvPr/>
        </p:nvGrpSpPr>
        <p:grpSpPr>
          <a:xfrm>
            <a:off x="71280" y="54000"/>
            <a:ext cx="9001440" cy="6705720"/>
            <a:chOff x="71280" y="54000"/>
            <a:chExt cx="9001440" cy="6705720"/>
          </a:xfrm>
        </p:grpSpPr>
        <p:sp>
          <p:nvSpPr>
            <p:cNvPr id="71" name="Прямоугольник 7"/>
            <p:cNvSpPr/>
            <p:nvPr/>
          </p:nvSpPr>
          <p:spPr>
            <a:xfrm>
              <a:off x="71280" y="54000"/>
              <a:ext cx="9001440" cy="6705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" name="Полилиния 8"/>
            <p:cNvGrpSpPr/>
            <p:nvPr/>
          </p:nvGrpSpPr>
          <p:grpSpPr>
            <a:xfrm>
              <a:off x="2535480" y="212760"/>
              <a:ext cx="3737160" cy="829080"/>
              <a:chOff x="2535480" y="212760"/>
              <a:chExt cx="3737160" cy="829080"/>
            </a:xfrm>
          </p:grpSpPr>
          <p:pic>
            <p:nvPicPr>
              <p:cNvPr id="73" name="Полилиния 8" descr=""/>
              <p:cNvPicPr/>
              <p:nvPr/>
            </p:nvPicPr>
            <p:blipFill>
              <a:blip r:embed="rId1"/>
              <a:stretch/>
            </p:blipFill>
            <p:spPr>
              <a:xfrm>
                <a:off x="2535480" y="212760"/>
                <a:ext cx="373716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2601000" y="256680"/>
                <a:ext cx="3604320" cy="69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48240" bIns="482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176"/>
                  </a:spcAft>
                  <a:tabLst>
                    <a:tab algn="l" pos="0"/>
                    <a:tab algn="l" pos="1200240"/>
                    <a:tab algn="l" pos="2400480"/>
                    <a:tab algn="l" pos="3600360"/>
                    <a:tab algn="l" pos="4800600"/>
                    <a:tab algn="l" pos="6000840"/>
                    <a:tab algn="l" pos="7201080"/>
                    <a:tab algn="l" pos="8400960"/>
                    <a:tab algn="l" pos="9601200"/>
                    <a:tab algn="l" pos="108014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5" name="Скругленный прямоугольник 9"/>
            <p:cNvGrpSpPr/>
            <p:nvPr/>
          </p:nvGrpSpPr>
          <p:grpSpPr>
            <a:xfrm>
              <a:off x="852840" y="1322640"/>
              <a:ext cx="3377520" cy="956880"/>
              <a:chOff x="852840" y="1322640"/>
              <a:chExt cx="3377520" cy="956880"/>
            </a:xfrm>
          </p:grpSpPr>
          <p:pic>
            <p:nvPicPr>
              <p:cNvPr id="76" name="Скругленный прямоугольник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2840" y="1322640"/>
                <a:ext cx="3377520" cy="95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957960" y="1406160"/>
                <a:ext cx="3165840" cy="74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8" name="Полилиния 10"/>
            <p:cNvGrpSpPr/>
            <p:nvPr/>
          </p:nvGrpSpPr>
          <p:grpSpPr>
            <a:xfrm>
              <a:off x="4498920" y="1346760"/>
              <a:ext cx="3517560" cy="975240"/>
              <a:chOff x="4498920" y="1346760"/>
              <a:chExt cx="3517560" cy="975240"/>
            </a:xfrm>
          </p:grpSpPr>
          <p:pic>
            <p:nvPicPr>
              <p:cNvPr id="79" name="Полилиния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4498920" y="1346760"/>
                <a:ext cx="351756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>
                <a:off x="4572000" y="1397880"/>
                <a:ext cx="3371400" cy="82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1880" rIns="371880" tIns="371880" bIns="3718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874"/>
                  </a:spcAft>
                  <a:tabLst>
                    <a:tab algn="l" pos="0"/>
                    <a:tab algn="l" pos="1911240"/>
                    <a:tab algn="l" pos="3822840"/>
                    <a:tab algn="l" pos="5734080"/>
                    <a:tab algn="l" pos="7645320"/>
                    <a:tab algn="l" pos="95569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" name="Скругленный прямоугольник 11"/>
            <p:cNvGrpSpPr/>
            <p:nvPr/>
          </p:nvGrpSpPr>
          <p:grpSpPr>
            <a:xfrm>
              <a:off x="852840" y="2559960"/>
              <a:ext cx="3408120" cy="938520"/>
              <a:chOff x="852840" y="2559960"/>
              <a:chExt cx="3408120" cy="938520"/>
            </a:xfrm>
          </p:grpSpPr>
          <p:pic>
            <p:nvPicPr>
              <p:cNvPr id="82" name="Скругленный прямоугольник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840" y="2559960"/>
                <a:ext cx="3408120" cy="93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957240" y="2641320"/>
                <a:ext cx="3198600" cy="72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4" name="Полилиния 12"/>
            <p:cNvGrpSpPr/>
            <p:nvPr/>
          </p:nvGrpSpPr>
          <p:grpSpPr>
            <a:xfrm>
              <a:off x="4462200" y="2553840"/>
              <a:ext cx="3554280" cy="950760"/>
              <a:chOff x="4462200" y="2553840"/>
              <a:chExt cx="3554280" cy="950760"/>
            </a:xfrm>
          </p:grpSpPr>
          <p:pic>
            <p:nvPicPr>
              <p:cNvPr id="85" name="Полилиния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4462200" y="2553840"/>
                <a:ext cx="3554280" cy="95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4536000" y="2602080"/>
                <a:ext cx="3407400" cy="80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1880" rIns="371880" tIns="371880" bIns="3718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874"/>
                  </a:spcAft>
                  <a:tabLst>
                    <a:tab algn="l" pos="0"/>
                    <a:tab algn="l" pos="1911240"/>
                    <a:tab algn="l" pos="3822840"/>
                    <a:tab algn="l" pos="5734080"/>
                    <a:tab algn="l" pos="7645320"/>
                    <a:tab algn="l" pos="95569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7" name="Скругленный прямоугольник 13"/>
            <p:cNvGrpSpPr/>
            <p:nvPr/>
          </p:nvGrpSpPr>
          <p:grpSpPr>
            <a:xfrm>
              <a:off x="852840" y="3681720"/>
              <a:ext cx="3408120" cy="950760"/>
              <a:chOff x="852840" y="3681720"/>
              <a:chExt cx="3408120" cy="950760"/>
            </a:xfrm>
          </p:grpSpPr>
          <p:pic>
            <p:nvPicPr>
              <p:cNvPr id="88" name="Скругленный прямоугольник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852840" y="3681720"/>
                <a:ext cx="3408120" cy="95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957600" y="3762720"/>
                <a:ext cx="3197160" cy="73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0" name="Полилиния 14"/>
            <p:cNvGrpSpPr/>
            <p:nvPr/>
          </p:nvGrpSpPr>
          <p:grpSpPr>
            <a:xfrm>
              <a:off x="4486680" y="3675960"/>
              <a:ext cx="3529800" cy="963000"/>
              <a:chOff x="4486680" y="3675960"/>
              <a:chExt cx="3529800" cy="963000"/>
            </a:xfrm>
          </p:grpSpPr>
          <p:pic>
            <p:nvPicPr>
              <p:cNvPr id="91" name="Полилиния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4486680" y="3675960"/>
                <a:ext cx="3529800" cy="96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4562280" y="3723120"/>
                <a:ext cx="338112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1880" rIns="371880" tIns="371880" bIns="3718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874"/>
                  </a:spcAft>
                  <a:tabLst>
                    <a:tab algn="l" pos="0"/>
                    <a:tab algn="l" pos="1911240"/>
                    <a:tab algn="l" pos="3822840"/>
                    <a:tab algn="l" pos="5734080"/>
                    <a:tab algn="l" pos="7645320"/>
                    <a:tab algn="l" pos="95569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3" name="Скругленный прямоугольник 15"/>
            <p:cNvGrpSpPr/>
            <p:nvPr/>
          </p:nvGrpSpPr>
          <p:grpSpPr>
            <a:xfrm>
              <a:off x="852840" y="4791600"/>
              <a:ext cx="3432240" cy="950760"/>
              <a:chOff x="852840" y="4791600"/>
              <a:chExt cx="3432240" cy="950760"/>
            </a:xfrm>
          </p:grpSpPr>
          <p:pic>
            <p:nvPicPr>
              <p:cNvPr id="94" name="Скругленный прямоугольник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852840" y="4791600"/>
                <a:ext cx="3432240" cy="95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957600" y="4876560"/>
                <a:ext cx="3221640" cy="73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6" name="Полилиния 16"/>
            <p:cNvGrpSpPr/>
            <p:nvPr/>
          </p:nvGrpSpPr>
          <p:grpSpPr>
            <a:xfrm>
              <a:off x="4462200" y="4785480"/>
              <a:ext cx="3554280" cy="944640"/>
              <a:chOff x="4462200" y="4785480"/>
              <a:chExt cx="3554280" cy="944640"/>
            </a:xfrm>
          </p:grpSpPr>
          <p:pic>
            <p:nvPicPr>
              <p:cNvPr id="97" name="Полилиния 16" descr=""/>
              <p:cNvPicPr/>
              <p:nvPr/>
            </p:nvPicPr>
            <p:blipFill>
              <a:blip r:embed="rId9"/>
              <a:stretch/>
            </p:blipFill>
            <p:spPr>
              <a:xfrm>
                <a:off x="4462200" y="4785480"/>
                <a:ext cx="3554280" cy="94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4536000" y="4835520"/>
                <a:ext cx="3407400" cy="79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1880" rIns="371880" tIns="371880" bIns="3718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874"/>
                  </a:spcAft>
                  <a:tabLst>
                    <a:tab algn="l" pos="0"/>
                    <a:tab algn="l" pos="1911240"/>
                    <a:tab algn="l" pos="3822840"/>
                    <a:tab algn="l" pos="5734080"/>
                    <a:tab algn="l" pos="7645320"/>
                    <a:tab algn="l" pos="95569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9" name="TextBox 3"/>
          <p:cNvSpPr/>
          <p:nvPr/>
        </p:nvSpPr>
        <p:spPr>
          <a:xfrm>
            <a:off x="-684360" y="83664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4"/>
          <p:cNvSpPr/>
          <p:nvPr/>
        </p:nvSpPr>
        <p:spPr>
          <a:xfrm rot="20367000">
            <a:off x="-212760" y="361080"/>
            <a:ext cx="284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Monotype Corsiva"/>
              </a:rPr>
              <a:t>Розмин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17"/>
          <p:cNvSpPr/>
          <p:nvPr/>
        </p:nvSpPr>
        <p:spPr>
          <a:xfrm>
            <a:off x="2612880" y="328680"/>
            <a:ext cx="34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604a7b"/>
                </a:solidFill>
                <a:latin typeface="Calibri"/>
              </a:rPr>
              <a:t>Вправи з дикці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9"/>
          <p:cNvSpPr/>
          <p:nvPr/>
        </p:nvSpPr>
        <p:spPr>
          <a:xfrm>
            <a:off x="971640" y="143028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БІВІГІДІЖ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0"/>
          <p:cNvSpPr/>
          <p:nvPr/>
        </p:nvSpPr>
        <p:spPr>
          <a:xfrm>
            <a:off x="971640" y="2606760"/>
            <a:ext cx="31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БОВОГОДОЖ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21"/>
          <p:cNvSpPr/>
          <p:nvPr/>
        </p:nvSpPr>
        <p:spPr>
          <a:xfrm>
            <a:off x="971640" y="3701880"/>
            <a:ext cx="31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ЗІКІЛІМІН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2"/>
          <p:cNvSpPr/>
          <p:nvPr/>
        </p:nvSpPr>
        <p:spPr>
          <a:xfrm>
            <a:off x="971640" y="4791240"/>
            <a:ext cx="32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ЗОКОЛОМО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3"/>
          <p:cNvSpPr/>
          <p:nvPr/>
        </p:nvSpPr>
        <p:spPr>
          <a:xfrm>
            <a:off x="4680000" y="1430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ПІРІСІТІФ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4"/>
          <p:cNvSpPr/>
          <p:nvPr/>
        </p:nvSpPr>
        <p:spPr>
          <a:xfrm>
            <a:off x="4572000" y="26067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ПОРОСОТОФ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25"/>
          <p:cNvSpPr/>
          <p:nvPr/>
        </p:nvSpPr>
        <p:spPr>
          <a:xfrm>
            <a:off x="4643280" y="3701880"/>
            <a:ext cx="33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ХІЦІШІЧІЩ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6"/>
          <p:cNvSpPr/>
          <p:nvPr/>
        </p:nvSpPr>
        <p:spPr>
          <a:xfrm>
            <a:off x="4572000" y="47912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ХОЦОШОЧОЩ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Овал 3"/>
          <p:cNvSpPr/>
          <p:nvPr/>
        </p:nvSpPr>
        <p:spPr>
          <a:xfrm>
            <a:off x="1839960" y="1197000"/>
            <a:ext cx="5180040" cy="5040360"/>
          </a:xfrm>
          <a:prstGeom prst="ellipse">
            <a:avLst/>
          </a:prstGeom>
          <a:solidFill>
            <a:srgbClr val="4f81bd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684360" y="836640"/>
            <a:ext cx="79912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я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             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вп                   ро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рона      </a:t>
            </a:r>
            <a:r>
              <a:rPr b="1" lang="uk-UA" sz="6000" spc="-1" strike="noStrike">
                <a:solidFill>
                  <a:srgbClr val="a50021"/>
                </a:solidFill>
                <a:latin typeface="Calibri"/>
              </a:rPr>
              <a:t>100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       ля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лиця           л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                           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ї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Прямоугольник 7"/>
          <p:cNvGrpSpPr/>
          <p:nvPr/>
        </p:nvGrpSpPr>
        <p:grpSpPr>
          <a:xfrm>
            <a:off x="1378080" y="324000"/>
            <a:ext cx="6887880" cy="779400"/>
            <a:chOff x="1378080" y="324000"/>
            <a:chExt cx="6887880" cy="779400"/>
          </a:xfrm>
        </p:grpSpPr>
        <p:pic>
          <p:nvPicPr>
            <p:cNvPr id="114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1378080" y="324000"/>
              <a:ext cx="688788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403280" y="345960"/>
              <a:ext cx="6840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604a7b"/>
                  </a:solidFill>
                  <a:latin typeface="Calibri"/>
                </a:rPr>
                <a:t>Вправа на розширення кута зору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TextBox 8"/>
          <p:cNvSpPr/>
          <p:nvPr/>
        </p:nvSpPr>
        <p:spPr>
          <a:xfrm rot="19801800">
            <a:off x="155520" y="258480"/>
            <a:ext cx="2158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Monotype Corsiva"/>
              </a:rPr>
              <a:t>Розмин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08000" y="115560"/>
            <a:ext cx="8928000" cy="655308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i="1" lang="uk-UA" sz="4800" spc="-1" strike="noStrike">
                <a:solidFill>
                  <a:srgbClr val="000000"/>
                </a:solidFill>
                <a:latin typeface="Calibri"/>
              </a:rPr>
              <a:t>Сама підлог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i="1" lang="uk-UA" sz="4800" spc="-1" strike="noStrike">
                <a:solidFill>
                  <a:srgbClr val="000000"/>
                </a:solidFill>
                <a:latin typeface="Calibri"/>
              </a:rPr>
              <a:t>не мелася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i="1" lang="uk-UA" sz="4800" spc="-1" strike="noStrike">
                <a:solidFill>
                  <a:srgbClr val="000000"/>
                </a:solidFill>
                <a:latin typeface="Calibri"/>
              </a:rPr>
              <a:t>її мела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i="1" lang="uk-UA" sz="4800" spc="-1" strike="noStrike">
                <a:solidFill>
                  <a:srgbClr val="000000"/>
                </a:solidFill>
                <a:latin typeface="Calibri"/>
              </a:rPr>
              <a:t>мала Мелас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Прямоугольник 4"/>
          <p:cNvGrpSpPr/>
          <p:nvPr/>
        </p:nvGrpSpPr>
        <p:grpSpPr>
          <a:xfrm>
            <a:off x="2822400" y="450720"/>
            <a:ext cx="4218120" cy="927360"/>
            <a:chOff x="2822400" y="450720"/>
            <a:chExt cx="4218120" cy="927360"/>
          </a:xfrm>
        </p:grpSpPr>
        <p:pic>
          <p:nvPicPr>
            <p:cNvPr id="119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822400" y="450720"/>
              <a:ext cx="421812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843280" y="476280"/>
              <a:ext cx="41767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7030a0"/>
                  </a:solidFill>
                  <a:latin typeface="Calibri"/>
                </a:rPr>
                <a:t>Скоромовк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" name="Picture 4" descr="http://pictures.ucoz.ru/_ph/3/747004804.png"/>
          <p:cNvPicPr/>
          <p:nvPr/>
        </p:nvPicPr>
        <p:blipFill>
          <a:blip r:embed="rId2"/>
          <a:stretch/>
        </p:blipFill>
        <p:spPr>
          <a:xfrm>
            <a:off x="900000" y="2060640"/>
            <a:ext cx="2735280" cy="44514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7"/>
          <p:cNvSpPr/>
          <p:nvPr/>
        </p:nvSpPr>
        <p:spPr>
          <a:xfrm rot="19786200">
            <a:off x="-429840" y="347760"/>
            <a:ext cx="28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Monotype Corsiva"/>
              </a:rPr>
              <a:t>Розмин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grpSp>
        <p:nvGrpSpPr>
          <p:cNvPr id="125" name="Прямоугольник 12"/>
          <p:cNvGrpSpPr/>
          <p:nvPr/>
        </p:nvGrpSpPr>
        <p:grpSpPr>
          <a:xfrm>
            <a:off x="2822400" y="384120"/>
            <a:ext cx="3932280" cy="920880"/>
            <a:chOff x="2822400" y="384120"/>
            <a:chExt cx="3932280" cy="920880"/>
          </a:xfrm>
        </p:grpSpPr>
        <p:pic>
          <p:nvPicPr>
            <p:cNvPr id="126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2822400" y="384120"/>
              <a:ext cx="39322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843280" y="404640"/>
              <a:ext cx="38894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e46c0a"/>
                  </a:solidFill>
                  <a:latin typeface="Calibri"/>
                </a:rPr>
                <a:t>Вгадай вірш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TextBox 13"/>
          <p:cNvSpPr/>
          <p:nvPr/>
        </p:nvSpPr>
        <p:spPr>
          <a:xfrm rot="19781400">
            <a:off x="124200" y="539640"/>
            <a:ext cx="30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00"/>
                </a:solidFill>
                <a:latin typeface="Monotype Corsiva"/>
              </a:rPr>
              <a:t>Відомі знан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27"/>
          <p:cNvSpPr/>
          <p:nvPr/>
        </p:nvSpPr>
        <p:spPr>
          <a:xfrm>
            <a:off x="677880" y="1608120"/>
            <a:ext cx="2332080" cy="3030480"/>
          </a:xfrm>
          <a:prstGeom prst="rect">
            <a:avLst/>
          </a:prstGeom>
          <a:blipFill rotWithShape="0">
            <a:blip r:embed="rId3"/>
            <a:srcRect/>
            <a:stretch/>
          </a:blip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ая выноска 14"/>
          <p:cNvSpPr/>
          <p:nvPr/>
        </p:nvSpPr>
        <p:spPr>
          <a:xfrm rot="10800000">
            <a:off x="480960" y="4664160"/>
            <a:ext cx="2725920" cy="1728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480960" y="4813200"/>
            <a:ext cx="272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урботливі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ишив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ідненько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30"/>
          <p:cNvSpPr/>
          <p:nvPr/>
        </p:nvSpPr>
        <p:spPr>
          <a:xfrm>
            <a:off x="3424320" y="1608120"/>
            <a:ext cx="2371680" cy="3056040"/>
          </a:xfrm>
          <a:prstGeom prst="rect">
            <a:avLst/>
          </a:prstGeom>
          <a:blipFill rotWithShape="0">
            <a:blip r:embed="rId4"/>
            <a:srcRect/>
            <a:stretch/>
          </a:blip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ая выноска 16"/>
          <p:cNvSpPr/>
          <p:nvPr/>
        </p:nvSpPr>
        <p:spPr>
          <a:xfrm rot="10800000">
            <a:off x="3348000" y="4654440"/>
            <a:ext cx="2664000" cy="1728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9"/>
          <p:cNvSpPr/>
          <p:nvPr/>
        </p:nvSpPr>
        <p:spPr>
          <a:xfrm>
            <a:off x="3348000" y="4734000"/>
            <a:ext cx="259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зупинн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ейня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йструв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32"/>
          <p:cNvSpPr/>
          <p:nvPr/>
        </p:nvSpPr>
        <p:spPr>
          <a:xfrm>
            <a:off x="6300720" y="1608120"/>
            <a:ext cx="2303640" cy="3137040"/>
          </a:xfrm>
          <a:prstGeom prst="rect">
            <a:avLst/>
          </a:prstGeom>
          <a:blipFill rotWithShape="0">
            <a:blip r:embed="rId5"/>
            <a:srcRect/>
            <a:stretch/>
          </a:blip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ая выноска 17"/>
          <p:cNvSpPr/>
          <p:nvPr/>
        </p:nvSpPr>
        <p:spPr>
          <a:xfrm rot="10800000">
            <a:off x="6156000" y="4681080"/>
            <a:ext cx="2592360" cy="1701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20"/>
          <p:cNvSpPr/>
          <p:nvPr/>
        </p:nvSpPr>
        <p:spPr>
          <a:xfrm>
            <a:off x="6156360" y="4745160"/>
            <a:ext cx="259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скоч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хоч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ільша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08000" y="188640"/>
            <a:ext cx="8928000" cy="65530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Выноска-облако 3"/>
          <p:cNvSpPr/>
          <p:nvPr/>
        </p:nvSpPr>
        <p:spPr>
          <a:xfrm rot="1249800">
            <a:off x="826920" y="549360"/>
            <a:ext cx="7777440" cy="5256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c000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1855800" y="981000"/>
            <a:ext cx="6696000" cy="64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00"/>
                </a:solidFill>
                <a:latin typeface="Monotype Corsiva"/>
              </a:rPr>
              <a:t>Найрідніша, наймиліш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00"/>
                </a:solidFill>
                <a:latin typeface="Monotype Corsiva"/>
              </a:rPr>
              <a:t>Всіх вона нас пестить, тіши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00"/>
                </a:solidFill>
                <a:latin typeface="Monotype Corsiva"/>
              </a:rPr>
              <a:t>Завжди скрізь буває з на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00"/>
                </a:solidFill>
                <a:latin typeface="Monotype Corsiva"/>
              </a:rPr>
              <a:t>Відгадайте хто це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"/>
          <p:cNvSpPr/>
          <p:nvPr/>
        </p:nvSpPr>
        <p:spPr>
          <a:xfrm rot="19605600">
            <a:off x="188640" y="411840"/>
            <a:ext cx="280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33cc"/>
                </a:solidFill>
                <a:latin typeface="Monotype Corsiva"/>
              </a:rPr>
              <a:t>Нові  знан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12:11:53Z</dcterms:created>
  <dc:creator>Админ</dc:creator>
  <dc:description/>
  <dc:language>en-US</dc:language>
  <cp:lastModifiedBy>Админ</cp:lastModifiedBy>
  <dcterms:modified xsi:type="dcterms:W3CDTF">2012-11-07T17:16:12Z</dcterms:modified>
  <cp:revision>58</cp:revision>
  <dc:subject/>
  <dc:title>Презентация PowerPoint</dc:title>
</cp:coreProperties>
</file>