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25.jpeg" ContentType="image/jpeg"/>
  <Override PartName="/ppt/media/image2.png" ContentType="image/png"/>
  <Override PartName="/ppt/media/image24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1FCC-EDF7-4052-8C90-8BABCBFEF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0B87-1536-41D0-8B88-CEFC0054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D6BB-ECAB-49DB-8679-95F86AB51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7CC3-4467-4769-B8F3-7BD6270BD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F8D6-B65F-4CA1-904F-17F9420BF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8F89-2AEB-477B-B28C-368BEBBA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59D3-83D5-471D-AF16-0AF8F2F9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6DF3-13F3-4497-A630-CA45EF39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F668-E75E-4515-AAFC-4AC40D3A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F336-BD44-4357-9D5B-3FA5B911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3754-7543-4162-B310-22EB7E58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7C08-AD17-4894-97D9-600A17C7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6133-6A6F-4141-A377-CD358F55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BF40-0D69-46B0-9773-F5F55FC5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EDF2-50D0-40E8-A314-B68C683E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ADF0-52E1-47F0-A120-83BC76319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490A-0B6E-49CA-8976-F331364A9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99CE-DE61-46F2-9E36-1B232EC2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99E8-303B-4C01-A5A8-92E2C59C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A557-0CCF-4CAB-8BEE-6006FBEA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7473-17F9-4342-A11C-2D39C105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F646-519C-4011-B37D-981F22D0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EED3-691E-4E13-8A05-46CA58E3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02A5-774A-4182-8190-97FB7090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B05E-9DFF-4E96-BE0D-AC274D5F5A9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8A78-206C-4F9E-B790-D4E8BBF339A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4.xml"/><Relationship Id="rId6" Type="http://schemas.openxmlformats.org/officeDocument/2006/relationships/slide" Target="slide9.xml"/><Relationship Id="rId7" Type="http://schemas.openxmlformats.org/officeDocument/2006/relationships/slide" Target="slide14.xml"/><Relationship Id="rId8" Type="http://schemas.openxmlformats.org/officeDocument/2006/relationships/slide" Target="slide19.xml"/><Relationship Id="rId9" Type="http://schemas.openxmlformats.org/officeDocument/2006/relationships/slide" Target="slide5.xml"/><Relationship Id="rId10" Type="http://schemas.openxmlformats.org/officeDocument/2006/relationships/slide" Target="slide10.xml"/><Relationship Id="rId11" Type="http://schemas.openxmlformats.org/officeDocument/2006/relationships/slide" Target="slide15.xml"/><Relationship Id="rId12" Type="http://schemas.openxmlformats.org/officeDocument/2006/relationships/slide" Target="slide20.xml"/><Relationship Id="rId13" Type="http://schemas.openxmlformats.org/officeDocument/2006/relationships/slide" Target="slide6.xml"/><Relationship Id="rId14" Type="http://schemas.openxmlformats.org/officeDocument/2006/relationships/slide" Target="slide11.xml"/><Relationship Id="rId15" Type="http://schemas.openxmlformats.org/officeDocument/2006/relationships/slide" Target="slide16.xml"/><Relationship Id="rId16" Type="http://schemas.openxmlformats.org/officeDocument/2006/relationships/slide" Target="slide21.xml"/><Relationship Id="rId17" Type="http://schemas.openxmlformats.org/officeDocument/2006/relationships/slide" Target="slide7.xml"/><Relationship Id="rId18" Type="http://schemas.openxmlformats.org/officeDocument/2006/relationships/slide" Target="slide12.xml"/><Relationship Id="rId19" Type="http://schemas.openxmlformats.org/officeDocument/2006/relationships/slide" Target="slide17.xml"/><Relationship Id="rId20" Type="http://schemas.openxmlformats.org/officeDocument/2006/relationships/slide" Target="slide22.xml"/><Relationship Id="rId2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Comic Sans MS"/>
              </a:rPr>
              <a:t>Гра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403280" y="2133720"/>
            <a:ext cx="640080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mic Sans MS"/>
              </a:rPr>
              <a:t>Знавці роману “Майстер і Маргарита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348000" y="3357720"/>
            <a:ext cx="2901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mic Sans MS"/>
              </a:rPr>
              <a:t>Сюже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Чому Єшуа називав усіх «добрими людьми»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(Вважав, що немає злих людей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>
            <a:hlinkClick r:id="rId1" action="ppaction://hlinksldjump"/>
          </p:cNvPr>
          <p:cNvSpPr/>
          <p:nvPr/>
        </p:nvSpPr>
        <p:spPr>
          <a:xfrm>
            <a:off x="0" y="6021360"/>
            <a:ext cx="1476360" cy="836640"/>
          </a:xfrm>
          <a:custGeom>
            <a:avLst/>
            <a:gdLst>
              <a:gd name="textAreaLeft" fmla="*/ 54000 w 1476360"/>
              <a:gd name="textAreaRight" fmla="*/ 1422360 w 147636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38109" h="21600">
                <a:moveTo>
                  <a:pt x="0" y="0"/>
                </a:moveTo>
                <a:lnTo>
                  <a:pt x="38109" y="0"/>
                </a:lnTo>
                <a:lnTo>
                  <a:pt x="38109" y="21600"/>
                </a:lnTo>
                <a:lnTo>
                  <a:pt x="0" y="21600"/>
                </a:lnTo>
                <a:close/>
              </a:path>
              <a:path fill="lightenLess" w="38109" h="21600">
                <a:moveTo>
                  <a:pt x="0" y="0"/>
                </a:moveTo>
                <a:lnTo>
                  <a:pt x="38109" y="0"/>
                </a:lnTo>
                <a:lnTo>
                  <a:pt x="36709" y="1400"/>
                </a:lnTo>
                <a:lnTo>
                  <a:pt x="1400" y="1400"/>
                </a:lnTo>
                <a:close/>
              </a:path>
              <a:path fill="darken" w="38109" h="21600">
                <a:moveTo>
                  <a:pt x="38109" y="0"/>
                </a:moveTo>
                <a:lnTo>
                  <a:pt x="38109" y="21600"/>
                </a:lnTo>
                <a:lnTo>
                  <a:pt x="36709" y="20200"/>
                </a:lnTo>
                <a:lnTo>
                  <a:pt x="36709" y="1400"/>
                </a:lnTo>
                <a:close/>
              </a:path>
              <a:path fill="darkenLess" w="38109" h="21600">
                <a:moveTo>
                  <a:pt x="381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09" y="20200"/>
                </a:lnTo>
                <a:close/>
              </a:path>
              <a:path fill="lighten" w="381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109" h="21600">
                <a:moveTo>
                  <a:pt x="19054" y="3837"/>
                </a:moveTo>
                <a:lnTo>
                  <a:pt x="21631" y="6448"/>
                </a:lnTo>
                <a:lnTo>
                  <a:pt x="21631" y="4707"/>
                </a:lnTo>
                <a:lnTo>
                  <a:pt x="23406" y="4707"/>
                </a:lnTo>
                <a:lnTo>
                  <a:pt x="23406" y="8224"/>
                </a:lnTo>
                <a:lnTo>
                  <a:pt x="26017" y="10800"/>
                </a:lnTo>
                <a:lnTo>
                  <a:pt x="24364" y="10800"/>
                </a:lnTo>
                <a:lnTo>
                  <a:pt x="24364" y="17989"/>
                </a:lnTo>
                <a:lnTo>
                  <a:pt x="13745" y="17989"/>
                </a:lnTo>
                <a:lnTo>
                  <a:pt x="13745" y="10800"/>
                </a:lnTo>
                <a:lnTo>
                  <a:pt x="12091" y="10800"/>
                </a:lnTo>
                <a:close/>
              </a:path>
              <a:path fill="darkenLess" w="38109" h="21600">
                <a:moveTo>
                  <a:pt x="21631" y="6448"/>
                </a:moveTo>
                <a:lnTo>
                  <a:pt x="21631" y="4707"/>
                </a:lnTo>
                <a:lnTo>
                  <a:pt x="23406" y="4707"/>
                </a:lnTo>
                <a:lnTo>
                  <a:pt x="23406" y="8224"/>
                </a:lnTo>
                <a:close/>
              </a:path>
              <a:path fill="darkenLess" w="38109" h="21600">
                <a:moveTo>
                  <a:pt x="18132" y="14299"/>
                </a:moveTo>
                <a:lnTo>
                  <a:pt x="19977" y="14299"/>
                </a:lnTo>
                <a:lnTo>
                  <a:pt x="19977" y="17989"/>
                </a:lnTo>
                <a:lnTo>
                  <a:pt x="24364" y="17989"/>
                </a:lnTo>
                <a:lnTo>
                  <a:pt x="24364" y="10800"/>
                </a:lnTo>
                <a:lnTo>
                  <a:pt x="13745" y="10800"/>
                </a:lnTo>
                <a:lnTo>
                  <a:pt x="13745" y="17989"/>
                </a:lnTo>
                <a:lnTo>
                  <a:pt x="18132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6012000" y="3645000"/>
            <a:ext cx="17906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mic Sans MS"/>
              </a:rPr>
              <a:t>Сюже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Як збувається перше «пророцтво» іноземного професора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(Берліоз потрапляє під трамвай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>
            <a:hlinkClick r:id="rId1" action="ppaction://hlinksldjump"/>
          </p:cNvPr>
          <p:cNvSpPr/>
          <p:nvPr/>
        </p:nvSpPr>
        <p:spPr>
          <a:xfrm>
            <a:off x="179280" y="5877000"/>
            <a:ext cx="936720" cy="79200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545" h="21600">
                <a:moveTo>
                  <a:pt x="0" y="0"/>
                </a:moveTo>
                <a:lnTo>
                  <a:pt x="25545" y="0"/>
                </a:lnTo>
                <a:lnTo>
                  <a:pt x="25545" y="21600"/>
                </a:lnTo>
                <a:lnTo>
                  <a:pt x="0" y="21600"/>
                </a:lnTo>
                <a:close/>
              </a:path>
              <a:path fill="lightenLess" w="25545" h="21600">
                <a:moveTo>
                  <a:pt x="0" y="0"/>
                </a:moveTo>
                <a:lnTo>
                  <a:pt x="25545" y="0"/>
                </a:lnTo>
                <a:lnTo>
                  <a:pt x="24145" y="1400"/>
                </a:lnTo>
                <a:lnTo>
                  <a:pt x="1400" y="1400"/>
                </a:lnTo>
                <a:close/>
              </a:path>
              <a:path fill="darken" w="25545" h="21600">
                <a:moveTo>
                  <a:pt x="25545" y="0"/>
                </a:moveTo>
                <a:lnTo>
                  <a:pt x="25545" y="21600"/>
                </a:lnTo>
                <a:lnTo>
                  <a:pt x="24145" y="20200"/>
                </a:lnTo>
                <a:lnTo>
                  <a:pt x="24145" y="1400"/>
                </a:lnTo>
                <a:close/>
              </a:path>
              <a:path fill="darkenLess" w="25545" h="21600">
                <a:moveTo>
                  <a:pt x="2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45" y="20200"/>
                </a:lnTo>
                <a:close/>
              </a:path>
              <a:path fill="lighten" w="2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45" h="21600">
                <a:moveTo>
                  <a:pt x="12773" y="3837"/>
                </a:moveTo>
                <a:lnTo>
                  <a:pt x="15349" y="6448"/>
                </a:lnTo>
                <a:lnTo>
                  <a:pt x="15349" y="4707"/>
                </a:lnTo>
                <a:lnTo>
                  <a:pt x="17124" y="4707"/>
                </a:lnTo>
                <a:lnTo>
                  <a:pt x="17124" y="8224"/>
                </a:lnTo>
                <a:lnTo>
                  <a:pt x="19736" y="10800"/>
                </a:lnTo>
                <a:lnTo>
                  <a:pt x="18082" y="10800"/>
                </a:lnTo>
                <a:lnTo>
                  <a:pt x="18082" y="17989"/>
                </a:lnTo>
                <a:lnTo>
                  <a:pt x="7463" y="17989"/>
                </a:lnTo>
                <a:lnTo>
                  <a:pt x="7463" y="10800"/>
                </a:lnTo>
                <a:lnTo>
                  <a:pt x="5810" y="10800"/>
                </a:lnTo>
                <a:close/>
              </a:path>
              <a:path fill="darkenLess" w="25545" h="21600">
                <a:moveTo>
                  <a:pt x="15349" y="6448"/>
                </a:moveTo>
                <a:lnTo>
                  <a:pt x="15349" y="4707"/>
                </a:lnTo>
                <a:lnTo>
                  <a:pt x="17124" y="4707"/>
                </a:lnTo>
                <a:lnTo>
                  <a:pt x="17124" y="8224"/>
                </a:lnTo>
                <a:close/>
              </a:path>
              <a:path fill="darkenLess" w="25545" h="21600">
                <a:moveTo>
                  <a:pt x="11850" y="14299"/>
                </a:moveTo>
                <a:lnTo>
                  <a:pt x="13695" y="14299"/>
                </a:lnTo>
                <a:lnTo>
                  <a:pt x="13695" y="17989"/>
                </a:lnTo>
                <a:lnTo>
                  <a:pt x="18082" y="17989"/>
                </a:lnTo>
                <a:lnTo>
                  <a:pt x="18082" y="10800"/>
                </a:lnTo>
                <a:lnTo>
                  <a:pt x="7463" y="10800"/>
                </a:lnTo>
                <a:lnTo>
                  <a:pt x="7463" y="17989"/>
                </a:lnTo>
                <a:lnTo>
                  <a:pt x="11850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708360" y="3573360"/>
            <a:ext cx="360036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mic Sans MS"/>
              </a:rPr>
              <a:t>Сюже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Як у будинку літераторів реагують на трагічну звістку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(Спочатку літератори були вражені, та через кілька хвилин продовжили розважатися)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">
            <a:hlinkClick r:id="rId1" action="ppaction://hlinksldjump"/>
          </p:cNvPr>
          <p:cNvSpPr/>
          <p:nvPr/>
        </p:nvSpPr>
        <p:spPr>
          <a:xfrm>
            <a:off x="0" y="6093000"/>
            <a:ext cx="1476360" cy="765000"/>
          </a:xfrm>
          <a:custGeom>
            <a:avLst/>
            <a:gdLst>
              <a:gd name="textAreaLeft" fmla="*/ 49320 w 1476360"/>
              <a:gd name="textAreaRight" fmla="*/ 1427040 w 1476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41676" h="21600">
                <a:moveTo>
                  <a:pt x="0" y="0"/>
                </a:moveTo>
                <a:lnTo>
                  <a:pt x="41676" y="0"/>
                </a:lnTo>
                <a:lnTo>
                  <a:pt x="41676" y="21600"/>
                </a:lnTo>
                <a:lnTo>
                  <a:pt x="0" y="21600"/>
                </a:lnTo>
                <a:close/>
              </a:path>
              <a:path fill="lightenLess" w="41676" h="21600">
                <a:moveTo>
                  <a:pt x="0" y="0"/>
                </a:moveTo>
                <a:lnTo>
                  <a:pt x="41676" y="0"/>
                </a:lnTo>
                <a:lnTo>
                  <a:pt x="40276" y="1400"/>
                </a:lnTo>
                <a:lnTo>
                  <a:pt x="1400" y="1400"/>
                </a:lnTo>
                <a:close/>
              </a:path>
              <a:path fill="darken" w="41676" h="21600">
                <a:moveTo>
                  <a:pt x="41676" y="0"/>
                </a:moveTo>
                <a:lnTo>
                  <a:pt x="41676" y="21600"/>
                </a:lnTo>
                <a:lnTo>
                  <a:pt x="40276" y="20200"/>
                </a:lnTo>
                <a:lnTo>
                  <a:pt x="40276" y="1400"/>
                </a:lnTo>
                <a:close/>
              </a:path>
              <a:path fill="darkenLess" w="41676" h="21600">
                <a:moveTo>
                  <a:pt x="41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276" y="20200"/>
                </a:lnTo>
                <a:close/>
              </a:path>
              <a:path fill="lighten" w="41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676" h="21600">
                <a:moveTo>
                  <a:pt x="20838" y="3837"/>
                </a:moveTo>
                <a:lnTo>
                  <a:pt x="23414" y="6448"/>
                </a:lnTo>
                <a:lnTo>
                  <a:pt x="23414" y="4707"/>
                </a:lnTo>
                <a:lnTo>
                  <a:pt x="25190" y="4707"/>
                </a:lnTo>
                <a:lnTo>
                  <a:pt x="25190" y="8224"/>
                </a:lnTo>
                <a:lnTo>
                  <a:pt x="27801" y="10800"/>
                </a:lnTo>
                <a:lnTo>
                  <a:pt x="26147" y="10800"/>
                </a:lnTo>
                <a:lnTo>
                  <a:pt x="26147" y="17989"/>
                </a:lnTo>
                <a:lnTo>
                  <a:pt x="15529" y="17989"/>
                </a:lnTo>
                <a:lnTo>
                  <a:pt x="15529" y="10800"/>
                </a:lnTo>
                <a:lnTo>
                  <a:pt x="13875" y="10800"/>
                </a:lnTo>
                <a:close/>
              </a:path>
              <a:path fill="darkenLess" w="41676" h="21600">
                <a:moveTo>
                  <a:pt x="23414" y="6448"/>
                </a:moveTo>
                <a:lnTo>
                  <a:pt x="23414" y="4707"/>
                </a:lnTo>
                <a:lnTo>
                  <a:pt x="25190" y="4707"/>
                </a:lnTo>
                <a:lnTo>
                  <a:pt x="25190" y="8224"/>
                </a:lnTo>
                <a:close/>
              </a:path>
              <a:path fill="darkenLess" w="41676" h="21600">
                <a:moveTo>
                  <a:pt x="19915" y="14299"/>
                </a:moveTo>
                <a:lnTo>
                  <a:pt x="21761" y="14299"/>
                </a:lnTo>
                <a:lnTo>
                  <a:pt x="21761" y="17989"/>
                </a:lnTo>
                <a:lnTo>
                  <a:pt x="26147" y="17989"/>
                </a:lnTo>
                <a:lnTo>
                  <a:pt x="26147" y="10800"/>
                </a:lnTo>
                <a:lnTo>
                  <a:pt x="15529" y="10800"/>
                </a:lnTo>
                <a:lnTo>
                  <a:pt x="15529" y="17989"/>
                </a:lnTo>
                <a:lnTo>
                  <a:pt x="19915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4356000" y="4076640"/>
            <a:ext cx="351000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mic Sans MS"/>
              </a:rPr>
              <a:t>Моск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Як звали сусіда Берліоза по комуналці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omic Sans MS"/>
              </a:rPr>
              <a:t>(Степан Лиходіїв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">
            <a:hlinkClick r:id="rId1" action="ppaction://hlinksldjump"/>
          </p:cNvPr>
          <p:cNvSpPr/>
          <p:nvPr/>
        </p:nvSpPr>
        <p:spPr>
          <a:xfrm>
            <a:off x="611280" y="5157720"/>
            <a:ext cx="936360" cy="863640"/>
          </a:xfrm>
          <a:custGeom>
            <a:avLst/>
            <a:gdLst>
              <a:gd name="textAreaLeft" fmla="*/ 55800 w 936360"/>
              <a:gd name="textAreaRight" fmla="*/ 880560 w 9363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418" h="21600">
                <a:moveTo>
                  <a:pt x="0" y="0"/>
                </a:moveTo>
                <a:lnTo>
                  <a:pt x="23418" y="0"/>
                </a:lnTo>
                <a:lnTo>
                  <a:pt x="23418" y="21600"/>
                </a:lnTo>
                <a:lnTo>
                  <a:pt x="0" y="21600"/>
                </a:lnTo>
                <a:close/>
              </a:path>
              <a:path fill="lightenLess" w="23418" h="21600">
                <a:moveTo>
                  <a:pt x="0" y="0"/>
                </a:moveTo>
                <a:lnTo>
                  <a:pt x="23418" y="0"/>
                </a:lnTo>
                <a:lnTo>
                  <a:pt x="22018" y="1400"/>
                </a:lnTo>
                <a:lnTo>
                  <a:pt x="1400" y="1400"/>
                </a:lnTo>
                <a:close/>
              </a:path>
              <a:path fill="darken" w="23418" h="21600">
                <a:moveTo>
                  <a:pt x="23418" y="0"/>
                </a:moveTo>
                <a:lnTo>
                  <a:pt x="23418" y="21600"/>
                </a:lnTo>
                <a:lnTo>
                  <a:pt x="22018" y="20200"/>
                </a:lnTo>
                <a:lnTo>
                  <a:pt x="22018" y="1400"/>
                </a:lnTo>
                <a:close/>
              </a:path>
              <a:path fill="darkenLess" w="23418" h="21600">
                <a:moveTo>
                  <a:pt x="23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18" y="20200"/>
                </a:lnTo>
                <a:close/>
              </a:path>
              <a:path fill="lighten" w="23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18" h="21600">
                <a:moveTo>
                  <a:pt x="11709" y="3837"/>
                </a:moveTo>
                <a:lnTo>
                  <a:pt x="14285" y="6448"/>
                </a:lnTo>
                <a:lnTo>
                  <a:pt x="14285" y="4707"/>
                </a:lnTo>
                <a:lnTo>
                  <a:pt x="16061" y="4707"/>
                </a:lnTo>
                <a:lnTo>
                  <a:pt x="16061" y="8224"/>
                </a:lnTo>
                <a:lnTo>
                  <a:pt x="18672" y="10800"/>
                </a:lnTo>
                <a:lnTo>
                  <a:pt x="17018" y="10800"/>
                </a:lnTo>
                <a:lnTo>
                  <a:pt x="17018" y="17989"/>
                </a:lnTo>
                <a:lnTo>
                  <a:pt x="6400" y="17989"/>
                </a:lnTo>
                <a:lnTo>
                  <a:pt x="6400" y="10800"/>
                </a:lnTo>
                <a:lnTo>
                  <a:pt x="4746" y="10800"/>
                </a:lnTo>
                <a:close/>
              </a:path>
              <a:path fill="darkenLess" w="23418" h="21600">
                <a:moveTo>
                  <a:pt x="14285" y="6448"/>
                </a:moveTo>
                <a:lnTo>
                  <a:pt x="14285" y="4707"/>
                </a:lnTo>
                <a:lnTo>
                  <a:pt x="16061" y="4707"/>
                </a:lnTo>
                <a:lnTo>
                  <a:pt x="16061" y="8224"/>
                </a:lnTo>
                <a:close/>
              </a:path>
              <a:path fill="darkenLess" w="23418" h="21600">
                <a:moveTo>
                  <a:pt x="10786" y="14299"/>
                </a:moveTo>
                <a:lnTo>
                  <a:pt x="12632" y="14299"/>
                </a:lnTo>
                <a:lnTo>
                  <a:pt x="12632" y="17989"/>
                </a:lnTo>
                <a:lnTo>
                  <a:pt x="17018" y="17989"/>
                </a:lnTo>
                <a:lnTo>
                  <a:pt x="17018" y="10800"/>
                </a:lnTo>
                <a:lnTo>
                  <a:pt x="6400" y="10800"/>
                </a:lnTo>
                <a:lnTo>
                  <a:pt x="6400" y="17989"/>
                </a:lnTo>
                <a:lnTo>
                  <a:pt x="10786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708360" y="4221000"/>
            <a:ext cx="338472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mic Sans MS"/>
              </a:rPr>
              <a:t>Моск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Кому писав з Ялти Лиходїів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omic Sans MS"/>
              </a:rPr>
              <a:t>(Римському і Варенусі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324000" y="5805360"/>
            <a:ext cx="1295280" cy="863640"/>
          </a:xfrm>
          <a:custGeom>
            <a:avLst/>
            <a:gdLst>
              <a:gd name="textAreaLeft" fmla="*/ 55800 w 1295280"/>
              <a:gd name="textAreaRight" fmla="*/ 1239480 w 129528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32391" h="21600">
                <a:moveTo>
                  <a:pt x="0" y="0"/>
                </a:moveTo>
                <a:lnTo>
                  <a:pt x="32391" y="0"/>
                </a:lnTo>
                <a:lnTo>
                  <a:pt x="32391" y="21600"/>
                </a:lnTo>
                <a:lnTo>
                  <a:pt x="0" y="21600"/>
                </a:lnTo>
                <a:close/>
              </a:path>
              <a:path fill="lightenLess" w="32391" h="21600">
                <a:moveTo>
                  <a:pt x="0" y="0"/>
                </a:moveTo>
                <a:lnTo>
                  <a:pt x="32391" y="0"/>
                </a:lnTo>
                <a:lnTo>
                  <a:pt x="30991" y="1400"/>
                </a:lnTo>
                <a:lnTo>
                  <a:pt x="1400" y="1400"/>
                </a:lnTo>
                <a:close/>
              </a:path>
              <a:path fill="darken" w="32391" h="21600">
                <a:moveTo>
                  <a:pt x="32391" y="0"/>
                </a:moveTo>
                <a:lnTo>
                  <a:pt x="32391" y="21600"/>
                </a:lnTo>
                <a:lnTo>
                  <a:pt x="30991" y="20200"/>
                </a:lnTo>
                <a:lnTo>
                  <a:pt x="30991" y="1400"/>
                </a:lnTo>
                <a:close/>
              </a:path>
              <a:path fill="darkenLess" w="32391" h="21600">
                <a:moveTo>
                  <a:pt x="32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1" y="20200"/>
                </a:lnTo>
                <a:close/>
              </a:path>
              <a:path fill="lighten" w="32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1" h="21600">
                <a:moveTo>
                  <a:pt x="16196" y="3837"/>
                </a:moveTo>
                <a:lnTo>
                  <a:pt x="18772" y="6448"/>
                </a:lnTo>
                <a:lnTo>
                  <a:pt x="18772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5" y="10800"/>
                </a:lnTo>
                <a:lnTo>
                  <a:pt x="21505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3" y="10800"/>
                </a:lnTo>
                <a:close/>
              </a:path>
              <a:path fill="darkenLess" w="32391" h="21600">
                <a:moveTo>
                  <a:pt x="18772" y="6448"/>
                </a:moveTo>
                <a:lnTo>
                  <a:pt x="18772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1" h="21600">
                <a:moveTo>
                  <a:pt x="15273" y="14299"/>
                </a:moveTo>
                <a:lnTo>
                  <a:pt x="17118" y="14299"/>
                </a:lnTo>
                <a:lnTo>
                  <a:pt x="17118" y="17989"/>
                </a:lnTo>
                <a:lnTo>
                  <a:pt x="21505" y="17989"/>
                </a:lnTo>
                <a:lnTo>
                  <a:pt x="21505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3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2556000" y="3429000"/>
            <a:ext cx="352872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mic Sans MS"/>
              </a:rPr>
              <a:t>Моск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Чому одна з глав роману має назву «Слава пєтуху»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uk-UA" sz="3200" spc="-1" strike="noStrike">
                <a:solidFill>
                  <a:srgbClr val="000000"/>
                </a:solidFill>
                <a:latin typeface="Comic Sans MS"/>
              </a:rPr>
              <a:t>(Півень врятував Римського від Гелли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">
            <a:hlinkClick r:id="rId1" action="ppaction://hlinksldjump"/>
          </p:cNvPr>
          <p:cNvSpPr/>
          <p:nvPr/>
        </p:nvSpPr>
        <p:spPr>
          <a:xfrm>
            <a:off x="0" y="5805360"/>
            <a:ext cx="1619280" cy="1052640"/>
          </a:xfrm>
          <a:custGeom>
            <a:avLst/>
            <a:gdLst>
              <a:gd name="textAreaLeft" fmla="*/ 68040 w 1619280"/>
              <a:gd name="textAreaRight" fmla="*/ 1551240 w 161928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223" h="21600">
                <a:moveTo>
                  <a:pt x="0" y="0"/>
                </a:moveTo>
                <a:lnTo>
                  <a:pt x="33223" y="0"/>
                </a:lnTo>
                <a:lnTo>
                  <a:pt x="33223" y="21600"/>
                </a:lnTo>
                <a:lnTo>
                  <a:pt x="0" y="21600"/>
                </a:lnTo>
                <a:close/>
              </a:path>
              <a:path fill="lightenLess" w="33223" h="21600">
                <a:moveTo>
                  <a:pt x="0" y="0"/>
                </a:moveTo>
                <a:lnTo>
                  <a:pt x="33223" y="0"/>
                </a:lnTo>
                <a:lnTo>
                  <a:pt x="31823" y="1400"/>
                </a:lnTo>
                <a:lnTo>
                  <a:pt x="1400" y="1400"/>
                </a:lnTo>
                <a:close/>
              </a:path>
              <a:path fill="darken" w="33223" h="21600">
                <a:moveTo>
                  <a:pt x="33223" y="0"/>
                </a:moveTo>
                <a:lnTo>
                  <a:pt x="33223" y="21600"/>
                </a:lnTo>
                <a:lnTo>
                  <a:pt x="31823" y="20200"/>
                </a:lnTo>
                <a:lnTo>
                  <a:pt x="31823" y="1400"/>
                </a:lnTo>
                <a:close/>
              </a:path>
              <a:path fill="darkenLess" w="33223" h="21600">
                <a:moveTo>
                  <a:pt x="332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3" y="20200"/>
                </a:lnTo>
                <a:close/>
              </a:path>
              <a:path fill="lighten" w="332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223" h="21600">
                <a:moveTo>
                  <a:pt x="16612" y="3837"/>
                </a:moveTo>
                <a:lnTo>
                  <a:pt x="19188" y="6448"/>
                </a:lnTo>
                <a:lnTo>
                  <a:pt x="19188" y="4707"/>
                </a:lnTo>
                <a:lnTo>
                  <a:pt x="20964" y="4707"/>
                </a:lnTo>
                <a:lnTo>
                  <a:pt x="20964" y="8224"/>
                </a:lnTo>
                <a:lnTo>
                  <a:pt x="23575" y="10800"/>
                </a:lnTo>
                <a:lnTo>
                  <a:pt x="21921" y="10800"/>
                </a:lnTo>
                <a:lnTo>
                  <a:pt x="21921" y="17989"/>
                </a:lnTo>
                <a:lnTo>
                  <a:pt x="11302" y="17989"/>
                </a:lnTo>
                <a:lnTo>
                  <a:pt x="11302" y="10800"/>
                </a:lnTo>
                <a:lnTo>
                  <a:pt x="9649" y="10800"/>
                </a:lnTo>
                <a:close/>
              </a:path>
              <a:path fill="darkenLess" w="33223" h="21600">
                <a:moveTo>
                  <a:pt x="19188" y="6448"/>
                </a:moveTo>
                <a:lnTo>
                  <a:pt x="19188" y="4707"/>
                </a:lnTo>
                <a:lnTo>
                  <a:pt x="20964" y="4707"/>
                </a:lnTo>
                <a:lnTo>
                  <a:pt x="20964" y="8224"/>
                </a:lnTo>
                <a:close/>
              </a:path>
              <a:path fill="darkenLess" w="33223" h="21600">
                <a:moveTo>
                  <a:pt x="15689" y="14299"/>
                </a:moveTo>
                <a:lnTo>
                  <a:pt x="17534" y="14299"/>
                </a:lnTo>
                <a:lnTo>
                  <a:pt x="17534" y="17989"/>
                </a:lnTo>
                <a:lnTo>
                  <a:pt x="21921" y="17989"/>
                </a:lnTo>
                <a:lnTo>
                  <a:pt x="21921" y="10800"/>
                </a:lnTo>
                <a:lnTo>
                  <a:pt x="11302" y="10800"/>
                </a:lnTo>
                <a:lnTo>
                  <a:pt x="11302" y="17989"/>
                </a:lnTo>
                <a:lnTo>
                  <a:pt x="15689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3924360" y="3860640"/>
            <a:ext cx="22194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mic Sans MS"/>
              </a:rPr>
              <a:t>Моск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Як Озазелло оживив Маргариту й Майстра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omic Sans MS"/>
              </a:rPr>
              <a:t>(Він їм дав випити того ж вина за допомогою якого й отруїв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">
            <a:hlinkClick r:id="rId1" action="ppaction://hlinksldjump"/>
          </p:cNvPr>
          <p:cNvSpPr/>
          <p:nvPr/>
        </p:nvSpPr>
        <p:spPr>
          <a:xfrm>
            <a:off x="250920" y="5805360"/>
            <a:ext cx="1441440" cy="863640"/>
          </a:xfrm>
          <a:custGeom>
            <a:avLst/>
            <a:gdLst>
              <a:gd name="textAreaLeft" fmla="*/ 55800 w 1441440"/>
              <a:gd name="textAreaRight" fmla="*/ 1385640 w 14414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36045" h="21600">
                <a:moveTo>
                  <a:pt x="0" y="0"/>
                </a:moveTo>
                <a:lnTo>
                  <a:pt x="36045" y="0"/>
                </a:lnTo>
                <a:lnTo>
                  <a:pt x="36045" y="21600"/>
                </a:lnTo>
                <a:lnTo>
                  <a:pt x="0" y="21600"/>
                </a:lnTo>
                <a:close/>
              </a:path>
              <a:path fill="lightenLess" w="36045" h="21600">
                <a:moveTo>
                  <a:pt x="0" y="0"/>
                </a:moveTo>
                <a:lnTo>
                  <a:pt x="36045" y="0"/>
                </a:lnTo>
                <a:lnTo>
                  <a:pt x="34645" y="1400"/>
                </a:lnTo>
                <a:lnTo>
                  <a:pt x="1400" y="1400"/>
                </a:lnTo>
                <a:close/>
              </a:path>
              <a:path fill="darken" w="36045" h="21600">
                <a:moveTo>
                  <a:pt x="36045" y="0"/>
                </a:moveTo>
                <a:lnTo>
                  <a:pt x="36045" y="21600"/>
                </a:lnTo>
                <a:lnTo>
                  <a:pt x="34645" y="20200"/>
                </a:lnTo>
                <a:lnTo>
                  <a:pt x="34645" y="1400"/>
                </a:lnTo>
                <a:close/>
              </a:path>
              <a:path fill="darkenLess" w="36045" h="21600">
                <a:moveTo>
                  <a:pt x="360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45" y="20200"/>
                </a:lnTo>
                <a:close/>
              </a:path>
              <a:path fill="lighten" w="360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45" h="21600">
                <a:moveTo>
                  <a:pt x="18023" y="3837"/>
                </a:moveTo>
                <a:lnTo>
                  <a:pt x="20599" y="6448"/>
                </a:lnTo>
                <a:lnTo>
                  <a:pt x="20599" y="4707"/>
                </a:lnTo>
                <a:lnTo>
                  <a:pt x="22374" y="4707"/>
                </a:lnTo>
                <a:lnTo>
                  <a:pt x="22374" y="8224"/>
                </a:lnTo>
                <a:lnTo>
                  <a:pt x="24985" y="10800"/>
                </a:lnTo>
                <a:lnTo>
                  <a:pt x="23332" y="10800"/>
                </a:lnTo>
                <a:lnTo>
                  <a:pt x="23332" y="17989"/>
                </a:lnTo>
                <a:lnTo>
                  <a:pt x="12713" y="17989"/>
                </a:lnTo>
                <a:lnTo>
                  <a:pt x="12713" y="10800"/>
                </a:lnTo>
                <a:lnTo>
                  <a:pt x="11060" y="10800"/>
                </a:lnTo>
                <a:close/>
              </a:path>
              <a:path fill="darkenLess" w="36045" h="21600">
                <a:moveTo>
                  <a:pt x="20599" y="6448"/>
                </a:moveTo>
                <a:lnTo>
                  <a:pt x="20599" y="4707"/>
                </a:lnTo>
                <a:lnTo>
                  <a:pt x="22374" y="4707"/>
                </a:lnTo>
                <a:lnTo>
                  <a:pt x="22374" y="8224"/>
                </a:lnTo>
                <a:close/>
              </a:path>
              <a:path fill="darkenLess" w="36045" h="21600">
                <a:moveTo>
                  <a:pt x="17100" y="14299"/>
                </a:moveTo>
                <a:lnTo>
                  <a:pt x="18945" y="14299"/>
                </a:lnTo>
                <a:lnTo>
                  <a:pt x="18945" y="17989"/>
                </a:lnTo>
                <a:lnTo>
                  <a:pt x="23332" y="17989"/>
                </a:lnTo>
                <a:lnTo>
                  <a:pt x="23332" y="10800"/>
                </a:lnTo>
                <a:lnTo>
                  <a:pt x="12713" y="10800"/>
                </a:lnTo>
                <a:lnTo>
                  <a:pt x="12713" y="17989"/>
                </a:lnTo>
                <a:lnTo>
                  <a:pt x="17100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2843280" y="4149720"/>
            <a:ext cx="331308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mic Sans MS"/>
              </a:rPr>
              <a:t>Моск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Чи є у тексті пряма згадка про Фауст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uk-UA" sz="3200" spc="-1" strike="noStrike">
                <a:solidFill>
                  <a:srgbClr val="000000"/>
                </a:solidFill>
                <a:latin typeface="Comic Sans MS"/>
              </a:rPr>
              <a:t>(Так є. Коли Воланд дав вічний притулок Майстру й Маргариті, він порівнює Майстра з Фаустом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250920" y="5805360"/>
            <a:ext cx="1441440" cy="863640"/>
          </a:xfrm>
          <a:custGeom>
            <a:avLst/>
            <a:gdLst>
              <a:gd name="textAreaLeft" fmla="*/ 55800 w 1441440"/>
              <a:gd name="textAreaRight" fmla="*/ 1385640 w 14414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36045" h="21600">
                <a:moveTo>
                  <a:pt x="0" y="0"/>
                </a:moveTo>
                <a:lnTo>
                  <a:pt x="36045" y="0"/>
                </a:lnTo>
                <a:lnTo>
                  <a:pt x="36045" y="21600"/>
                </a:lnTo>
                <a:lnTo>
                  <a:pt x="0" y="21600"/>
                </a:lnTo>
                <a:close/>
              </a:path>
              <a:path fill="lightenLess" w="36045" h="21600">
                <a:moveTo>
                  <a:pt x="0" y="0"/>
                </a:moveTo>
                <a:lnTo>
                  <a:pt x="36045" y="0"/>
                </a:lnTo>
                <a:lnTo>
                  <a:pt x="34645" y="1400"/>
                </a:lnTo>
                <a:lnTo>
                  <a:pt x="1400" y="1400"/>
                </a:lnTo>
                <a:close/>
              </a:path>
              <a:path fill="darken" w="36045" h="21600">
                <a:moveTo>
                  <a:pt x="36045" y="0"/>
                </a:moveTo>
                <a:lnTo>
                  <a:pt x="36045" y="21600"/>
                </a:lnTo>
                <a:lnTo>
                  <a:pt x="34645" y="20200"/>
                </a:lnTo>
                <a:lnTo>
                  <a:pt x="34645" y="1400"/>
                </a:lnTo>
                <a:close/>
              </a:path>
              <a:path fill="darkenLess" w="36045" h="21600">
                <a:moveTo>
                  <a:pt x="360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45" y="20200"/>
                </a:lnTo>
                <a:close/>
              </a:path>
              <a:path fill="lighten" w="360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45" h="21600">
                <a:moveTo>
                  <a:pt x="18023" y="3837"/>
                </a:moveTo>
                <a:lnTo>
                  <a:pt x="20599" y="6448"/>
                </a:lnTo>
                <a:lnTo>
                  <a:pt x="20599" y="4707"/>
                </a:lnTo>
                <a:lnTo>
                  <a:pt x="22374" y="4707"/>
                </a:lnTo>
                <a:lnTo>
                  <a:pt x="22374" y="8224"/>
                </a:lnTo>
                <a:lnTo>
                  <a:pt x="24985" y="10800"/>
                </a:lnTo>
                <a:lnTo>
                  <a:pt x="23332" y="10800"/>
                </a:lnTo>
                <a:lnTo>
                  <a:pt x="23332" y="17989"/>
                </a:lnTo>
                <a:lnTo>
                  <a:pt x="12713" y="17989"/>
                </a:lnTo>
                <a:lnTo>
                  <a:pt x="12713" y="10800"/>
                </a:lnTo>
                <a:lnTo>
                  <a:pt x="11060" y="10800"/>
                </a:lnTo>
                <a:close/>
              </a:path>
              <a:path fill="darkenLess" w="36045" h="21600">
                <a:moveTo>
                  <a:pt x="20599" y="6448"/>
                </a:moveTo>
                <a:lnTo>
                  <a:pt x="20599" y="4707"/>
                </a:lnTo>
                <a:lnTo>
                  <a:pt x="22374" y="4707"/>
                </a:lnTo>
                <a:lnTo>
                  <a:pt x="22374" y="8224"/>
                </a:lnTo>
                <a:close/>
              </a:path>
              <a:path fill="darkenLess" w="36045" h="21600">
                <a:moveTo>
                  <a:pt x="17100" y="14299"/>
                </a:moveTo>
                <a:lnTo>
                  <a:pt x="18945" y="14299"/>
                </a:lnTo>
                <a:lnTo>
                  <a:pt x="18945" y="17989"/>
                </a:lnTo>
                <a:lnTo>
                  <a:pt x="23332" y="17989"/>
                </a:lnTo>
                <a:lnTo>
                  <a:pt x="23332" y="10800"/>
                </a:lnTo>
                <a:lnTo>
                  <a:pt x="12713" y="10800"/>
                </a:lnTo>
                <a:lnTo>
                  <a:pt x="12713" y="17989"/>
                </a:lnTo>
                <a:lnTo>
                  <a:pt x="17100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4572000" y="4437000"/>
            <a:ext cx="26640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mic Sans MS"/>
              </a:rPr>
              <a:t>Єршалаїм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Як у тексті названа хвороба Понтія Пілата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omic Sans MS"/>
              </a:rPr>
              <a:t>(Генікранія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>
            <a:hlinkClick r:id="rId1" action="ppaction://hlinksldjump"/>
          </p:cNvPr>
          <p:cNvSpPr/>
          <p:nvPr/>
        </p:nvSpPr>
        <p:spPr>
          <a:xfrm>
            <a:off x="468360" y="5589720"/>
            <a:ext cx="1295280" cy="792000"/>
          </a:xfrm>
          <a:custGeom>
            <a:avLst/>
            <a:gdLst>
              <a:gd name="textAreaLeft" fmla="*/ 51120 w 1295280"/>
              <a:gd name="textAreaRight" fmla="*/ 1244160 w 12952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35320" h="21600">
                <a:moveTo>
                  <a:pt x="0" y="0"/>
                </a:moveTo>
                <a:lnTo>
                  <a:pt x="35320" y="0"/>
                </a:lnTo>
                <a:lnTo>
                  <a:pt x="35320" y="21600"/>
                </a:lnTo>
                <a:lnTo>
                  <a:pt x="0" y="21600"/>
                </a:lnTo>
                <a:close/>
              </a:path>
              <a:path fill="lightenLess" w="35320" h="21600">
                <a:moveTo>
                  <a:pt x="0" y="0"/>
                </a:moveTo>
                <a:lnTo>
                  <a:pt x="35320" y="0"/>
                </a:lnTo>
                <a:lnTo>
                  <a:pt x="33920" y="1400"/>
                </a:lnTo>
                <a:lnTo>
                  <a:pt x="1400" y="1400"/>
                </a:lnTo>
                <a:close/>
              </a:path>
              <a:path fill="darken" w="35320" h="21600">
                <a:moveTo>
                  <a:pt x="35320" y="0"/>
                </a:moveTo>
                <a:lnTo>
                  <a:pt x="35320" y="21600"/>
                </a:lnTo>
                <a:lnTo>
                  <a:pt x="33920" y="20200"/>
                </a:lnTo>
                <a:lnTo>
                  <a:pt x="33920" y="1400"/>
                </a:lnTo>
                <a:close/>
              </a:path>
              <a:path fill="darkenLess" w="35320" h="21600">
                <a:moveTo>
                  <a:pt x="353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20" y="20200"/>
                </a:lnTo>
                <a:close/>
              </a:path>
              <a:path fill="lighten" w="353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20" h="21600">
                <a:moveTo>
                  <a:pt x="17660" y="3837"/>
                </a:moveTo>
                <a:lnTo>
                  <a:pt x="20236" y="6448"/>
                </a:lnTo>
                <a:lnTo>
                  <a:pt x="20236" y="4707"/>
                </a:lnTo>
                <a:lnTo>
                  <a:pt x="22012" y="4707"/>
                </a:lnTo>
                <a:lnTo>
                  <a:pt x="22012" y="8224"/>
                </a:lnTo>
                <a:lnTo>
                  <a:pt x="24623" y="10800"/>
                </a:lnTo>
                <a:lnTo>
                  <a:pt x="22969" y="10800"/>
                </a:lnTo>
                <a:lnTo>
                  <a:pt x="22969" y="17989"/>
                </a:lnTo>
                <a:lnTo>
                  <a:pt x="12351" y="17989"/>
                </a:lnTo>
                <a:lnTo>
                  <a:pt x="12351" y="10800"/>
                </a:lnTo>
                <a:lnTo>
                  <a:pt x="10697" y="10800"/>
                </a:lnTo>
                <a:close/>
              </a:path>
              <a:path fill="darkenLess" w="35320" h="21600">
                <a:moveTo>
                  <a:pt x="20236" y="6448"/>
                </a:moveTo>
                <a:lnTo>
                  <a:pt x="20236" y="4707"/>
                </a:lnTo>
                <a:lnTo>
                  <a:pt x="22012" y="4707"/>
                </a:lnTo>
                <a:lnTo>
                  <a:pt x="22012" y="8224"/>
                </a:lnTo>
                <a:close/>
              </a:path>
              <a:path fill="darkenLess" w="35320" h="21600">
                <a:moveTo>
                  <a:pt x="16737" y="14299"/>
                </a:moveTo>
                <a:lnTo>
                  <a:pt x="18582" y="14299"/>
                </a:lnTo>
                <a:lnTo>
                  <a:pt x="18582" y="17989"/>
                </a:lnTo>
                <a:lnTo>
                  <a:pt x="22969" y="17989"/>
                </a:lnTo>
                <a:lnTo>
                  <a:pt x="22969" y="10800"/>
                </a:lnTo>
                <a:lnTo>
                  <a:pt x="12351" y="10800"/>
                </a:lnTo>
                <a:lnTo>
                  <a:pt x="12351" y="17989"/>
                </a:lnTo>
                <a:lnTo>
                  <a:pt x="16737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3924360" y="3789360"/>
            <a:ext cx="401004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mic Sans MS"/>
              </a:rPr>
              <a:t>Єршалаї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Кому прокуратор доручив вбити Іуду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uk-UA" sz="3200" spc="-1" strike="noStrike">
                <a:solidFill>
                  <a:srgbClr val="000000"/>
                </a:solidFill>
                <a:latin typeface="Comic Sans MS"/>
              </a:rPr>
              <a:t>(Начальнику таємної служби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>
            <a:hlinkClick r:id="rId1" action="ppaction://hlinksldjump"/>
          </p:cNvPr>
          <p:cNvSpPr/>
          <p:nvPr/>
        </p:nvSpPr>
        <p:spPr>
          <a:xfrm>
            <a:off x="250920" y="5877000"/>
            <a:ext cx="1512720" cy="981000"/>
          </a:xfrm>
          <a:custGeom>
            <a:avLst/>
            <a:gdLst>
              <a:gd name="textAreaLeft" fmla="*/ 63360 w 1512720"/>
              <a:gd name="textAreaRight" fmla="*/ 1449360 w 151272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33303" h="21600">
                <a:moveTo>
                  <a:pt x="0" y="0"/>
                </a:moveTo>
                <a:lnTo>
                  <a:pt x="33303" y="0"/>
                </a:lnTo>
                <a:lnTo>
                  <a:pt x="33303" y="21600"/>
                </a:lnTo>
                <a:lnTo>
                  <a:pt x="0" y="21600"/>
                </a:lnTo>
                <a:close/>
              </a:path>
              <a:path fill="lightenLess" w="33303" h="21600">
                <a:moveTo>
                  <a:pt x="0" y="0"/>
                </a:moveTo>
                <a:lnTo>
                  <a:pt x="33303" y="0"/>
                </a:lnTo>
                <a:lnTo>
                  <a:pt x="31903" y="1400"/>
                </a:lnTo>
                <a:lnTo>
                  <a:pt x="1400" y="1400"/>
                </a:lnTo>
                <a:close/>
              </a:path>
              <a:path fill="darken" w="33303" h="21600">
                <a:moveTo>
                  <a:pt x="33303" y="0"/>
                </a:moveTo>
                <a:lnTo>
                  <a:pt x="33303" y="21600"/>
                </a:lnTo>
                <a:lnTo>
                  <a:pt x="31903" y="20200"/>
                </a:lnTo>
                <a:lnTo>
                  <a:pt x="31903" y="1400"/>
                </a:lnTo>
                <a:close/>
              </a:path>
              <a:path fill="darkenLess" w="33303" h="21600">
                <a:moveTo>
                  <a:pt x="33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03" y="20200"/>
                </a:lnTo>
                <a:close/>
              </a:path>
              <a:path fill="lighten" w="33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03" h="21600">
                <a:moveTo>
                  <a:pt x="16652" y="3837"/>
                </a:moveTo>
                <a:lnTo>
                  <a:pt x="19228" y="6448"/>
                </a:lnTo>
                <a:lnTo>
                  <a:pt x="19228" y="4707"/>
                </a:lnTo>
                <a:lnTo>
                  <a:pt x="21004" y="4707"/>
                </a:lnTo>
                <a:lnTo>
                  <a:pt x="21004" y="8224"/>
                </a:lnTo>
                <a:lnTo>
                  <a:pt x="23615" y="10800"/>
                </a:lnTo>
                <a:lnTo>
                  <a:pt x="21961" y="10800"/>
                </a:lnTo>
                <a:lnTo>
                  <a:pt x="21961" y="17989"/>
                </a:lnTo>
                <a:lnTo>
                  <a:pt x="11342" y="17989"/>
                </a:lnTo>
                <a:lnTo>
                  <a:pt x="11342" y="10800"/>
                </a:lnTo>
                <a:lnTo>
                  <a:pt x="9689" y="10800"/>
                </a:lnTo>
                <a:close/>
              </a:path>
              <a:path fill="darkenLess" w="33303" h="21600">
                <a:moveTo>
                  <a:pt x="19228" y="6448"/>
                </a:moveTo>
                <a:lnTo>
                  <a:pt x="19228" y="4707"/>
                </a:lnTo>
                <a:lnTo>
                  <a:pt x="21004" y="4707"/>
                </a:lnTo>
                <a:lnTo>
                  <a:pt x="21004" y="8224"/>
                </a:lnTo>
                <a:close/>
              </a:path>
              <a:path fill="darkenLess" w="33303" h="21600">
                <a:moveTo>
                  <a:pt x="15729" y="14299"/>
                </a:moveTo>
                <a:lnTo>
                  <a:pt x="17574" y="14299"/>
                </a:lnTo>
                <a:lnTo>
                  <a:pt x="17574" y="17989"/>
                </a:lnTo>
                <a:lnTo>
                  <a:pt x="21961" y="17989"/>
                </a:lnTo>
                <a:lnTo>
                  <a:pt x="21961" y="10800"/>
                </a:lnTo>
                <a:lnTo>
                  <a:pt x="11342" y="10800"/>
                </a:lnTo>
                <a:lnTo>
                  <a:pt x="11342" y="17989"/>
                </a:lnTo>
                <a:lnTo>
                  <a:pt x="15729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2843280" y="3573360"/>
            <a:ext cx="388944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79280" y="333360"/>
            <a:ext cx="1584360" cy="792000"/>
          </a:xfrm>
          <a:custGeom>
            <a:avLst/>
            <a:gdLst>
              <a:gd name="textAreaLeft" fmla="*/ 51120 w 1584360"/>
              <a:gd name="textAreaRight" fmla="*/ 1533240 w 1584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Літератур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еб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08000" y="333360"/>
            <a:ext cx="1584360" cy="792000"/>
          </a:xfrm>
          <a:custGeom>
            <a:avLst/>
            <a:gdLst>
              <a:gd name="textAreaLeft" fmla="*/ 51120 w 1584360"/>
              <a:gd name="textAreaRight" fmla="*/ 1533240 w 1584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ю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35280" y="333360"/>
            <a:ext cx="1584360" cy="792000"/>
          </a:xfrm>
          <a:custGeom>
            <a:avLst/>
            <a:gdLst>
              <a:gd name="textAreaLeft" fmla="*/ 51120 w 1584360"/>
              <a:gd name="textAreaRight" fmla="*/ 1533240 w 1584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64000" y="333360"/>
            <a:ext cx="1584360" cy="792000"/>
          </a:xfrm>
          <a:custGeom>
            <a:avLst/>
            <a:gdLst>
              <a:gd name="textAreaLeft" fmla="*/ 51120 w 1584360"/>
              <a:gd name="textAreaRight" fmla="*/ 1533240 w 1584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Єршалаї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4360" y="333360"/>
            <a:ext cx="1584360" cy="792000"/>
          </a:xfrm>
          <a:custGeom>
            <a:avLst/>
            <a:gdLst>
              <a:gd name="textAreaLeft" fmla="*/ 51120 w 1584360"/>
              <a:gd name="textAreaRight" fmla="*/ 1533240 w 1584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орний ящ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1413000"/>
            <a:ext cx="1079280" cy="576000"/>
          </a:xfrm>
          <a:custGeom>
            <a:avLst/>
            <a:gdLst>
              <a:gd name="textAreaLeft" fmla="*/ 37080 w 1079280"/>
              <a:gd name="textAreaRight" fmla="*/ 1042200 w 10792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0461" h="21600">
                <a:moveTo>
                  <a:pt x="0" y="0"/>
                </a:moveTo>
                <a:lnTo>
                  <a:pt x="40461" y="0"/>
                </a:lnTo>
                <a:lnTo>
                  <a:pt x="40461" y="21600"/>
                </a:lnTo>
                <a:lnTo>
                  <a:pt x="0" y="21600"/>
                </a:lnTo>
                <a:close/>
              </a:path>
              <a:path fill="lightenLess" w="40461" h="21600">
                <a:moveTo>
                  <a:pt x="0" y="0"/>
                </a:moveTo>
                <a:lnTo>
                  <a:pt x="40461" y="0"/>
                </a:lnTo>
                <a:lnTo>
                  <a:pt x="39061" y="1400"/>
                </a:lnTo>
                <a:lnTo>
                  <a:pt x="1400" y="1400"/>
                </a:lnTo>
                <a:close/>
              </a:path>
              <a:path fill="darken" w="40461" h="21600">
                <a:moveTo>
                  <a:pt x="40461" y="0"/>
                </a:moveTo>
                <a:lnTo>
                  <a:pt x="40461" y="21600"/>
                </a:lnTo>
                <a:lnTo>
                  <a:pt x="39061" y="20200"/>
                </a:lnTo>
                <a:lnTo>
                  <a:pt x="39061" y="1400"/>
                </a:lnTo>
                <a:close/>
              </a:path>
              <a:path fill="darkenLess" w="40461" h="21600">
                <a:moveTo>
                  <a:pt x="404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61" y="20200"/>
                </a:lnTo>
                <a:close/>
              </a:path>
              <a:path fill="lighten" w="404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b200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4000" y="1413000"/>
            <a:ext cx="1079640" cy="576000"/>
          </a:xfrm>
          <a:custGeom>
            <a:avLst/>
            <a:gdLst>
              <a:gd name="textAreaLeft" fmla="*/ 37080 w 1079640"/>
              <a:gd name="textAreaRight" fmla="*/ 1042560 w 1079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0475" h="21600">
                <a:moveTo>
                  <a:pt x="0" y="0"/>
                </a:moveTo>
                <a:lnTo>
                  <a:pt x="40475" y="0"/>
                </a:lnTo>
                <a:lnTo>
                  <a:pt x="40475" y="21600"/>
                </a:lnTo>
                <a:lnTo>
                  <a:pt x="0" y="21600"/>
                </a:lnTo>
                <a:close/>
              </a:path>
              <a:path fill="lightenLess" w="40475" h="21600">
                <a:moveTo>
                  <a:pt x="0" y="0"/>
                </a:moveTo>
                <a:lnTo>
                  <a:pt x="40475" y="0"/>
                </a:lnTo>
                <a:lnTo>
                  <a:pt x="39075" y="1400"/>
                </a:lnTo>
                <a:lnTo>
                  <a:pt x="1400" y="1400"/>
                </a:lnTo>
                <a:close/>
              </a:path>
              <a:path fill="darken" w="40475" h="21600">
                <a:moveTo>
                  <a:pt x="40475" y="0"/>
                </a:moveTo>
                <a:lnTo>
                  <a:pt x="40475" y="21600"/>
                </a:lnTo>
                <a:lnTo>
                  <a:pt x="39075" y="20200"/>
                </a:lnTo>
                <a:lnTo>
                  <a:pt x="39075" y="1400"/>
                </a:lnTo>
                <a:close/>
              </a:path>
              <a:path fill="darkenLess" w="40475" h="21600">
                <a:moveTo>
                  <a:pt x="40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5" y="20200"/>
                </a:lnTo>
                <a:close/>
              </a:path>
              <a:path fill="lighten" w="40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b200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51280" y="1413000"/>
            <a:ext cx="1079640" cy="576000"/>
          </a:xfrm>
          <a:custGeom>
            <a:avLst/>
            <a:gdLst>
              <a:gd name="textAreaLeft" fmla="*/ 37080 w 1079640"/>
              <a:gd name="textAreaRight" fmla="*/ 1042560 w 1079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0475" h="21600">
                <a:moveTo>
                  <a:pt x="0" y="0"/>
                </a:moveTo>
                <a:lnTo>
                  <a:pt x="40475" y="0"/>
                </a:lnTo>
                <a:lnTo>
                  <a:pt x="40475" y="21600"/>
                </a:lnTo>
                <a:lnTo>
                  <a:pt x="0" y="21600"/>
                </a:lnTo>
                <a:close/>
              </a:path>
              <a:path fill="lightenLess" w="40475" h="21600">
                <a:moveTo>
                  <a:pt x="0" y="0"/>
                </a:moveTo>
                <a:lnTo>
                  <a:pt x="40475" y="0"/>
                </a:lnTo>
                <a:lnTo>
                  <a:pt x="39075" y="1400"/>
                </a:lnTo>
                <a:lnTo>
                  <a:pt x="1400" y="1400"/>
                </a:lnTo>
                <a:close/>
              </a:path>
              <a:path fill="darken" w="40475" h="21600">
                <a:moveTo>
                  <a:pt x="40475" y="0"/>
                </a:moveTo>
                <a:lnTo>
                  <a:pt x="40475" y="21600"/>
                </a:lnTo>
                <a:lnTo>
                  <a:pt x="39075" y="20200"/>
                </a:lnTo>
                <a:lnTo>
                  <a:pt x="39075" y="1400"/>
                </a:lnTo>
                <a:close/>
              </a:path>
              <a:path fill="darkenLess" w="40475" h="21600">
                <a:moveTo>
                  <a:pt x="40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5" y="20200"/>
                </a:lnTo>
                <a:close/>
              </a:path>
              <a:path fill="lighten" w="40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b200"/>
                </a:solidFill>
                <a:uFillTx/>
                <a:latin typeface="Arial"/>
                <a:hlinkClick r:id="rId3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80000" y="1413000"/>
            <a:ext cx="1079640" cy="576000"/>
          </a:xfrm>
          <a:custGeom>
            <a:avLst/>
            <a:gdLst>
              <a:gd name="textAreaLeft" fmla="*/ 37080 w 1079640"/>
              <a:gd name="textAreaRight" fmla="*/ 1042560 w 1079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0475" h="21600">
                <a:moveTo>
                  <a:pt x="0" y="0"/>
                </a:moveTo>
                <a:lnTo>
                  <a:pt x="40475" y="0"/>
                </a:lnTo>
                <a:lnTo>
                  <a:pt x="40475" y="21600"/>
                </a:lnTo>
                <a:lnTo>
                  <a:pt x="0" y="21600"/>
                </a:lnTo>
                <a:close/>
              </a:path>
              <a:path fill="lightenLess" w="40475" h="21600">
                <a:moveTo>
                  <a:pt x="0" y="0"/>
                </a:moveTo>
                <a:lnTo>
                  <a:pt x="40475" y="0"/>
                </a:lnTo>
                <a:lnTo>
                  <a:pt x="39075" y="1400"/>
                </a:lnTo>
                <a:lnTo>
                  <a:pt x="1400" y="1400"/>
                </a:lnTo>
                <a:close/>
              </a:path>
              <a:path fill="darken" w="40475" h="21600">
                <a:moveTo>
                  <a:pt x="40475" y="0"/>
                </a:moveTo>
                <a:lnTo>
                  <a:pt x="40475" y="21600"/>
                </a:lnTo>
                <a:lnTo>
                  <a:pt x="39075" y="20200"/>
                </a:lnTo>
                <a:lnTo>
                  <a:pt x="39075" y="1400"/>
                </a:lnTo>
                <a:close/>
              </a:path>
              <a:path fill="darkenLess" w="40475" h="21600">
                <a:moveTo>
                  <a:pt x="40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5" y="20200"/>
                </a:lnTo>
                <a:close/>
              </a:path>
              <a:path fill="lighten" w="40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b200"/>
                </a:solidFill>
                <a:uFillTx/>
                <a:latin typeface="Arial"/>
                <a:hlinkClick r:id="rId4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08720" y="1413000"/>
            <a:ext cx="1079640" cy="576000"/>
          </a:xfrm>
          <a:custGeom>
            <a:avLst/>
            <a:gdLst>
              <a:gd name="textAreaLeft" fmla="*/ 37080 w 1079640"/>
              <a:gd name="textAreaRight" fmla="*/ 1042560 w 1079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0475" h="21600">
                <a:moveTo>
                  <a:pt x="0" y="0"/>
                </a:moveTo>
                <a:lnTo>
                  <a:pt x="40475" y="0"/>
                </a:lnTo>
                <a:lnTo>
                  <a:pt x="40475" y="21600"/>
                </a:lnTo>
                <a:lnTo>
                  <a:pt x="0" y="21600"/>
                </a:lnTo>
                <a:close/>
              </a:path>
              <a:path fill="lightenLess" w="40475" h="21600">
                <a:moveTo>
                  <a:pt x="0" y="0"/>
                </a:moveTo>
                <a:lnTo>
                  <a:pt x="40475" y="0"/>
                </a:lnTo>
                <a:lnTo>
                  <a:pt x="39075" y="1400"/>
                </a:lnTo>
                <a:lnTo>
                  <a:pt x="1400" y="1400"/>
                </a:lnTo>
                <a:close/>
              </a:path>
              <a:path fill="darken" w="40475" h="21600">
                <a:moveTo>
                  <a:pt x="40475" y="0"/>
                </a:moveTo>
                <a:lnTo>
                  <a:pt x="40475" y="21600"/>
                </a:lnTo>
                <a:lnTo>
                  <a:pt x="39075" y="20200"/>
                </a:lnTo>
                <a:lnTo>
                  <a:pt x="39075" y="1400"/>
                </a:lnTo>
                <a:close/>
              </a:path>
              <a:path fill="darkenLess" w="40475" h="21600">
                <a:moveTo>
                  <a:pt x="40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5" y="20200"/>
                </a:lnTo>
                <a:close/>
              </a:path>
              <a:path fill="lighten" w="40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2205000"/>
            <a:ext cx="1079280" cy="576360"/>
          </a:xfrm>
          <a:custGeom>
            <a:avLst/>
            <a:gdLst>
              <a:gd name="textAreaLeft" fmla="*/ 37080 w 1079280"/>
              <a:gd name="textAreaRight" fmla="*/ 1042200 w 1079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0436" h="21600">
                <a:moveTo>
                  <a:pt x="0" y="0"/>
                </a:moveTo>
                <a:lnTo>
                  <a:pt x="40436" y="0"/>
                </a:lnTo>
                <a:lnTo>
                  <a:pt x="40436" y="21600"/>
                </a:lnTo>
                <a:lnTo>
                  <a:pt x="0" y="21600"/>
                </a:lnTo>
                <a:close/>
              </a:path>
              <a:path fill="lightenLess" w="40436" h="21600">
                <a:moveTo>
                  <a:pt x="0" y="0"/>
                </a:moveTo>
                <a:lnTo>
                  <a:pt x="40436" y="0"/>
                </a:lnTo>
                <a:lnTo>
                  <a:pt x="39036" y="1400"/>
                </a:lnTo>
                <a:lnTo>
                  <a:pt x="1400" y="1400"/>
                </a:lnTo>
                <a:close/>
              </a:path>
              <a:path fill="darken" w="40436" h="21600">
                <a:moveTo>
                  <a:pt x="40436" y="0"/>
                </a:moveTo>
                <a:lnTo>
                  <a:pt x="40436" y="21600"/>
                </a:lnTo>
                <a:lnTo>
                  <a:pt x="39036" y="20200"/>
                </a:lnTo>
                <a:lnTo>
                  <a:pt x="39036" y="1400"/>
                </a:lnTo>
                <a:close/>
              </a:path>
              <a:path fill="darkenLess" w="40436" h="21600">
                <a:moveTo>
                  <a:pt x="40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36" y="20200"/>
                </a:lnTo>
                <a:close/>
              </a:path>
              <a:path fill="lighten" w="40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b200"/>
                </a:solidFill>
                <a:uFillTx/>
                <a:latin typeface="Arial"/>
                <a:hlinkClick r:id="rId5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24000" y="2205000"/>
            <a:ext cx="1079640" cy="576360"/>
          </a:xfrm>
          <a:custGeom>
            <a:avLst/>
            <a:gdLst>
              <a:gd name="textAreaLeft" fmla="*/ 37080 w 1079640"/>
              <a:gd name="textAreaRight" fmla="*/ 1042560 w 1079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0449" h="21600">
                <a:moveTo>
                  <a:pt x="0" y="0"/>
                </a:moveTo>
                <a:lnTo>
                  <a:pt x="40449" y="0"/>
                </a:lnTo>
                <a:lnTo>
                  <a:pt x="40449" y="21600"/>
                </a:lnTo>
                <a:lnTo>
                  <a:pt x="0" y="21600"/>
                </a:lnTo>
                <a:close/>
              </a:path>
              <a:path fill="lightenLess" w="40449" h="21600">
                <a:moveTo>
                  <a:pt x="0" y="0"/>
                </a:moveTo>
                <a:lnTo>
                  <a:pt x="40449" y="0"/>
                </a:lnTo>
                <a:lnTo>
                  <a:pt x="39050" y="1400"/>
                </a:lnTo>
                <a:lnTo>
                  <a:pt x="1400" y="1400"/>
                </a:lnTo>
                <a:close/>
              </a:path>
              <a:path fill="darken" w="40449" h="21600">
                <a:moveTo>
                  <a:pt x="40449" y="0"/>
                </a:moveTo>
                <a:lnTo>
                  <a:pt x="40449" y="21600"/>
                </a:lnTo>
                <a:lnTo>
                  <a:pt x="39050" y="20200"/>
                </a:lnTo>
                <a:lnTo>
                  <a:pt x="39050" y="1400"/>
                </a:lnTo>
                <a:close/>
              </a:path>
              <a:path fill="darkenLess" w="40449" h="21600">
                <a:moveTo>
                  <a:pt x="404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50" y="20200"/>
                </a:lnTo>
                <a:close/>
              </a:path>
              <a:path fill="lighten" w="404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b200"/>
                </a:solidFill>
                <a:uFillTx/>
                <a:latin typeface="Arial"/>
                <a:hlinkClick r:id="rId6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51280" y="2205000"/>
            <a:ext cx="1079640" cy="576360"/>
          </a:xfrm>
          <a:custGeom>
            <a:avLst/>
            <a:gdLst>
              <a:gd name="textAreaLeft" fmla="*/ 37080 w 1079640"/>
              <a:gd name="textAreaRight" fmla="*/ 1042560 w 1079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0449" h="21600">
                <a:moveTo>
                  <a:pt x="0" y="0"/>
                </a:moveTo>
                <a:lnTo>
                  <a:pt x="40449" y="0"/>
                </a:lnTo>
                <a:lnTo>
                  <a:pt x="40449" y="21600"/>
                </a:lnTo>
                <a:lnTo>
                  <a:pt x="0" y="21600"/>
                </a:lnTo>
                <a:close/>
              </a:path>
              <a:path fill="lightenLess" w="40449" h="21600">
                <a:moveTo>
                  <a:pt x="0" y="0"/>
                </a:moveTo>
                <a:lnTo>
                  <a:pt x="40449" y="0"/>
                </a:lnTo>
                <a:lnTo>
                  <a:pt x="39050" y="1400"/>
                </a:lnTo>
                <a:lnTo>
                  <a:pt x="1400" y="1400"/>
                </a:lnTo>
                <a:close/>
              </a:path>
              <a:path fill="darken" w="40449" h="21600">
                <a:moveTo>
                  <a:pt x="40449" y="0"/>
                </a:moveTo>
                <a:lnTo>
                  <a:pt x="40449" y="21600"/>
                </a:lnTo>
                <a:lnTo>
                  <a:pt x="39050" y="20200"/>
                </a:lnTo>
                <a:lnTo>
                  <a:pt x="39050" y="1400"/>
                </a:lnTo>
                <a:close/>
              </a:path>
              <a:path fill="darkenLess" w="40449" h="21600">
                <a:moveTo>
                  <a:pt x="404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50" y="20200"/>
                </a:lnTo>
                <a:close/>
              </a:path>
              <a:path fill="lighten" w="404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b200"/>
                </a:solidFill>
                <a:uFillTx/>
                <a:latin typeface="Arial"/>
                <a:hlinkClick r:id="rId7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580000" y="2205000"/>
            <a:ext cx="1079640" cy="576360"/>
          </a:xfrm>
          <a:custGeom>
            <a:avLst/>
            <a:gdLst>
              <a:gd name="textAreaLeft" fmla="*/ 37080 w 1079640"/>
              <a:gd name="textAreaRight" fmla="*/ 1042560 w 1079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0449" h="21600">
                <a:moveTo>
                  <a:pt x="0" y="0"/>
                </a:moveTo>
                <a:lnTo>
                  <a:pt x="40449" y="0"/>
                </a:lnTo>
                <a:lnTo>
                  <a:pt x="40449" y="21600"/>
                </a:lnTo>
                <a:lnTo>
                  <a:pt x="0" y="21600"/>
                </a:lnTo>
                <a:close/>
              </a:path>
              <a:path fill="lightenLess" w="40449" h="21600">
                <a:moveTo>
                  <a:pt x="0" y="0"/>
                </a:moveTo>
                <a:lnTo>
                  <a:pt x="40449" y="0"/>
                </a:lnTo>
                <a:lnTo>
                  <a:pt x="39050" y="1400"/>
                </a:lnTo>
                <a:lnTo>
                  <a:pt x="1400" y="1400"/>
                </a:lnTo>
                <a:close/>
              </a:path>
              <a:path fill="darken" w="40449" h="21600">
                <a:moveTo>
                  <a:pt x="40449" y="0"/>
                </a:moveTo>
                <a:lnTo>
                  <a:pt x="40449" y="21600"/>
                </a:lnTo>
                <a:lnTo>
                  <a:pt x="39050" y="20200"/>
                </a:lnTo>
                <a:lnTo>
                  <a:pt x="39050" y="1400"/>
                </a:lnTo>
                <a:close/>
              </a:path>
              <a:path fill="darkenLess" w="40449" h="21600">
                <a:moveTo>
                  <a:pt x="404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50" y="20200"/>
                </a:lnTo>
                <a:close/>
              </a:path>
              <a:path fill="lighten" w="404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b200"/>
                </a:solidFill>
                <a:uFillTx/>
                <a:latin typeface="Arial"/>
                <a:hlinkClick r:id="rId8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80360" y="2276640"/>
            <a:ext cx="1079280" cy="576000"/>
          </a:xfrm>
          <a:custGeom>
            <a:avLst/>
            <a:gdLst>
              <a:gd name="textAreaLeft" fmla="*/ 37080 w 1079280"/>
              <a:gd name="textAreaRight" fmla="*/ 1042200 w 10792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0461" h="21600">
                <a:moveTo>
                  <a:pt x="0" y="0"/>
                </a:moveTo>
                <a:lnTo>
                  <a:pt x="40461" y="0"/>
                </a:lnTo>
                <a:lnTo>
                  <a:pt x="40461" y="21600"/>
                </a:lnTo>
                <a:lnTo>
                  <a:pt x="0" y="21600"/>
                </a:lnTo>
                <a:close/>
              </a:path>
              <a:path fill="lightenLess" w="40461" h="21600">
                <a:moveTo>
                  <a:pt x="0" y="0"/>
                </a:moveTo>
                <a:lnTo>
                  <a:pt x="40461" y="0"/>
                </a:lnTo>
                <a:lnTo>
                  <a:pt x="39061" y="1400"/>
                </a:lnTo>
                <a:lnTo>
                  <a:pt x="1400" y="1400"/>
                </a:lnTo>
                <a:close/>
              </a:path>
              <a:path fill="darken" w="40461" h="21600">
                <a:moveTo>
                  <a:pt x="40461" y="0"/>
                </a:moveTo>
                <a:lnTo>
                  <a:pt x="40461" y="21600"/>
                </a:lnTo>
                <a:lnTo>
                  <a:pt x="39061" y="20200"/>
                </a:lnTo>
                <a:lnTo>
                  <a:pt x="39061" y="1400"/>
                </a:lnTo>
                <a:close/>
              </a:path>
              <a:path fill="darkenLess" w="40461" h="21600">
                <a:moveTo>
                  <a:pt x="404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61" y="20200"/>
                </a:lnTo>
                <a:close/>
              </a:path>
              <a:path fill="lighten" w="404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068640"/>
            <a:ext cx="1079280" cy="576360"/>
          </a:xfrm>
          <a:custGeom>
            <a:avLst/>
            <a:gdLst>
              <a:gd name="textAreaLeft" fmla="*/ 37080 w 1079280"/>
              <a:gd name="textAreaRight" fmla="*/ 1042200 w 1079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0436" h="21600">
                <a:moveTo>
                  <a:pt x="0" y="0"/>
                </a:moveTo>
                <a:lnTo>
                  <a:pt x="40436" y="0"/>
                </a:lnTo>
                <a:lnTo>
                  <a:pt x="40436" y="21600"/>
                </a:lnTo>
                <a:lnTo>
                  <a:pt x="0" y="21600"/>
                </a:lnTo>
                <a:close/>
              </a:path>
              <a:path fill="lightenLess" w="40436" h="21600">
                <a:moveTo>
                  <a:pt x="0" y="0"/>
                </a:moveTo>
                <a:lnTo>
                  <a:pt x="40436" y="0"/>
                </a:lnTo>
                <a:lnTo>
                  <a:pt x="39036" y="1400"/>
                </a:lnTo>
                <a:lnTo>
                  <a:pt x="1400" y="1400"/>
                </a:lnTo>
                <a:close/>
              </a:path>
              <a:path fill="darken" w="40436" h="21600">
                <a:moveTo>
                  <a:pt x="40436" y="0"/>
                </a:moveTo>
                <a:lnTo>
                  <a:pt x="40436" y="21600"/>
                </a:lnTo>
                <a:lnTo>
                  <a:pt x="39036" y="20200"/>
                </a:lnTo>
                <a:lnTo>
                  <a:pt x="39036" y="1400"/>
                </a:lnTo>
                <a:close/>
              </a:path>
              <a:path fill="darkenLess" w="40436" h="21600">
                <a:moveTo>
                  <a:pt x="40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36" y="20200"/>
                </a:lnTo>
                <a:close/>
              </a:path>
              <a:path fill="lighten" w="40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b200"/>
                </a:solidFill>
                <a:uFillTx/>
                <a:latin typeface="Arial"/>
                <a:hlinkClick r:id="rId9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24000" y="3068640"/>
            <a:ext cx="1079640" cy="576360"/>
          </a:xfrm>
          <a:custGeom>
            <a:avLst/>
            <a:gdLst>
              <a:gd name="textAreaLeft" fmla="*/ 37080 w 1079640"/>
              <a:gd name="textAreaRight" fmla="*/ 1042560 w 1079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0449" h="21600">
                <a:moveTo>
                  <a:pt x="0" y="0"/>
                </a:moveTo>
                <a:lnTo>
                  <a:pt x="40449" y="0"/>
                </a:lnTo>
                <a:lnTo>
                  <a:pt x="40449" y="21600"/>
                </a:lnTo>
                <a:lnTo>
                  <a:pt x="0" y="21600"/>
                </a:lnTo>
                <a:close/>
              </a:path>
              <a:path fill="lightenLess" w="40449" h="21600">
                <a:moveTo>
                  <a:pt x="0" y="0"/>
                </a:moveTo>
                <a:lnTo>
                  <a:pt x="40449" y="0"/>
                </a:lnTo>
                <a:lnTo>
                  <a:pt x="39050" y="1400"/>
                </a:lnTo>
                <a:lnTo>
                  <a:pt x="1400" y="1400"/>
                </a:lnTo>
                <a:close/>
              </a:path>
              <a:path fill="darken" w="40449" h="21600">
                <a:moveTo>
                  <a:pt x="40449" y="0"/>
                </a:moveTo>
                <a:lnTo>
                  <a:pt x="40449" y="21600"/>
                </a:lnTo>
                <a:lnTo>
                  <a:pt x="39050" y="20200"/>
                </a:lnTo>
                <a:lnTo>
                  <a:pt x="39050" y="1400"/>
                </a:lnTo>
                <a:close/>
              </a:path>
              <a:path fill="darkenLess" w="40449" h="21600">
                <a:moveTo>
                  <a:pt x="404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50" y="20200"/>
                </a:lnTo>
                <a:close/>
              </a:path>
              <a:path fill="lighten" w="404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b200"/>
                </a:solidFill>
                <a:uFillTx/>
                <a:latin typeface="Arial"/>
                <a:hlinkClick r:id="rId10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51280" y="3068640"/>
            <a:ext cx="1079640" cy="576360"/>
          </a:xfrm>
          <a:custGeom>
            <a:avLst/>
            <a:gdLst>
              <a:gd name="textAreaLeft" fmla="*/ 37080 w 1079640"/>
              <a:gd name="textAreaRight" fmla="*/ 1042560 w 1079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0449" h="21600">
                <a:moveTo>
                  <a:pt x="0" y="0"/>
                </a:moveTo>
                <a:lnTo>
                  <a:pt x="40449" y="0"/>
                </a:lnTo>
                <a:lnTo>
                  <a:pt x="40449" y="21600"/>
                </a:lnTo>
                <a:lnTo>
                  <a:pt x="0" y="21600"/>
                </a:lnTo>
                <a:close/>
              </a:path>
              <a:path fill="lightenLess" w="40449" h="21600">
                <a:moveTo>
                  <a:pt x="0" y="0"/>
                </a:moveTo>
                <a:lnTo>
                  <a:pt x="40449" y="0"/>
                </a:lnTo>
                <a:lnTo>
                  <a:pt x="39050" y="1400"/>
                </a:lnTo>
                <a:lnTo>
                  <a:pt x="1400" y="1400"/>
                </a:lnTo>
                <a:close/>
              </a:path>
              <a:path fill="darken" w="40449" h="21600">
                <a:moveTo>
                  <a:pt x="40449" y="0"/>
                </a:moveTo>
                <a:lnTo>
                  <a:pt x="40449" y="21600"/>
                </a:lnTo>
                <a:lnTo>
                  <a:pt x="39050" y="20200"/>
                </a:lnTo>
                <a:lnTo>
                  <a:pt x="39050" y="1400"/>
                </a:lnTo>
                <a:close/>
              </a:path>
              <a:path fill="darkenLess" w="40449" h="21600">
                <a:moveTo>
                  <a:pt x="404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50" y="20200"/>
                </a:lnTo>
                <a:close/>
              </a:path>
              <a:path fill="lighten" w="404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b200"/>
                </a:solidFill>
                <a:uFillTx/>
                <a:latin typeface="Arial"/>
                <a:hlinkClick r:id="rId11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51640" y="3068640"/>
            <a:ext cx="1079280" cy="576360"/>
          </a:xfrm>
          <a:custGeom>
            <a:avLst/>
            <a:gdLst>
              <a:gd name="textAreaLeft" fmla="*/ 37080 w 1079280"/>
              <a:gd name="textAreaRight" fmla="*/ 1042200 w 1079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0436" h="21600">
                <a:moveTo>
                  <a:pt x="0" y="0"/>
                </a:moveTo>
                <a:lnTo>
                  <a:pt x="40436" y="0"/>
                </a:lnTo>
                <a:lnTo>
                  <a:pt x="40436" y="21600"/>
                </a:lnTo>
                <a:lnTo>
                  <a:pt x="0" y="21600"/>
                </a:lnTo>
                <a:close/>
              </a:path>
              <a:path fill="lightenLess" w="40436" h="21600">
                <a:moveTo>
                  <a:pt x="0" y="0"/>
                </a:moveTo>
                <a:lnTo>
                  <a:pt x="40436" y="0"/>
                </a:lnTo>
                <a:lnTo>
                  <a:pt x="39036" y="1400"/>
                </a:lnTo>
                <a:lnTo>
                  <a:pt x="1400" y="1400"/>
                </a:lnTo>
                <a:close/>
              </a:path>
              <a:path fill="darken" w="40436" h="21600">
                <a:moveTo>
                  <a:pt x="40436" y="0"/>
                </a:moveTo>
                <a:lnTo>
                  <a:pt x="40436" y="21600"/>
                </a:lnTo>
                <a:lnTo>
                  <a:pt x="39036" y="20200"/>
                </a:lnTo>
                <a:lnTo>
                  <a:pt x="39036" y="1400"/>
                </a:lnTo>
                <a:close/>
              </a:path>
              <a:path fill="darkenLess" w="40436" h="21600">
                <a:moveTo>
                  <a:pt x="40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36" y="20200"/>
                </a:lnTo>
                <a:close/>
              </a:path>
              <a:path fill="lighten" w="40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b200"/>
                </a:solidFill>
                <a:uFillTx/>
                <a:latin typeface="Arial"/>
                <a:hlinkClick r:id="rId12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51640" y="3068640"/>
            <a:ext cx="1079640" cy="576360"/>
          </a:xfrm>
          <a:custGeom>
            <a:avLst/>
            <a:gdLst>
              <a:gd name="textAreaLeft" fmla="*/ 37080 w 1079640"/>
              <a:gd name="textAreaRight" fmla="*/ 1042560 w 1079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0449" h="21600">
                <a:moveTo>
                  <a:pt x="0" y="0"/>
                </a:moveTo>
                <a:lnTo>
                  <a:pt x="40449" y="0"/>
                </a:lnTo>
                <a:lnTo>
                  <a:pt x="40449" y="21600"/>
                </a:lnTo>
                <a:lnTo>
                  <a:pt x="0" y="21600"/>
                </a:lnTo>
                <a:close/>
              </a:path>
              <a:path fill="lightenLess" w="40449" h="21600">
                <a:moveTo>
                  <a:pt x="0" y="0"/>
                </a:moveTo>
                <a:lnTo>
                  <a:pt x="40449" y="0"/>
                </a:lnTo>
                <a:lnTo>
                  <a:pt x="39050" y="1400"/>
                </a:lnTo>
                <a:lnTo>
                  <a:pt x="1400" y="1400"/>
                </a:lnTo>
                <a:close/>
              </a:path>
              <a:path fill="darken" w="40449" h="21600">
                <a:moveTo>
                  <a:pt x="40449" y="0"/>
                </a:moveTo>
                <a:lnTo>
                  <a:pt x="40449" y="21600"/>
                </a:lnTo>
                <a:lnTo>
                  <a:pt x="39050" y="20200"/>
                </a:lnTo>
                <a:lnTo>
                  <a:pt x="39050" y="1400"/>
                </a:lnTo>
                <a:close/>
              </a:path>
              <a:path fill="darkenLess" w="40449" h="21600">
                <a:moveTo>
                  <a:pt x="404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50" y="20200"/>
                </a:lnTo>
                <a:close/>
              </a:path>
              <a:path fill="lighten" w="404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3933720"/>
            <a:ext cx="1079280" cy="576360"/>
          </a:xfrm>
          <a:custGeom>
            <a:avLst/>
            <a:gdLst>
              <a:gd name="textAreaLeft" fmla="*/ 37080 w 1079280"/>
              <a:gd name="textAreaRight" fmla="*/ 1042200 w 1079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0436" h="21600">
                <a:moveTo>
                  <a:pt x="0" y="0"/>
                </a:moveTo>
                <a:lnTo>
                  <a:pt x="40436" y="0"/>
                </a:lnTo>
                <a:lnTo>
                  <a:pt x="40436" y="21600"/>
                </a:lnTo>
                <a:lnTo>
                  <a:pt x="0" y="21600"/>
                </a:lnTo>
                <a:close/>
              </a:path>
              <a:path fill="lightenLess" w="40436" h="21600">
                <a:moveTo>
                  <a:pt x="0" y="0"/>
                </a:moveTo>
                <a:lnTo>
                  <a:pt x="40436" y="0"/>
                </a:lnTo>
                <a:lnTo>
                  <a:pt x="39036" y="1400"/>
                </a:lnTo>
                <a:lnTo>
                  <a:pt x="1400" y="1400"/>
                </a:lnTo>
                <a:close/>
              </a:path>
              <a:path fill="darken" w="40436" h="21600">
                <a:moveTo>
                  <a:pt x="40436" y="0"/>
                </a:moveTo>
                <a:lnTo>
                  <a:pt x="40436" y="21600"/>
                </a:lnTo>
                <a:lnTo>
                  <a:pt x="39036" y="20200"/>
                </a:lnTo>
                <a:lnTo>
                  <a:pt x="39036" y="1400"/>
                </a:lnTo>
                <a:close/>
              </a:path>
              <a:path fill="darkenLess" w="40436" h="21600">
                <a:moveTo>
                  <a:pt x="40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36" y="20200"/>
                </a:lnTo>
                <a:close/>
              </a:path>
              <a:path fill="lighten" w="40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b200"/>
                </a:solidFill>
                <a:uFillTx/>
                <a:latin typeface="Arial"/>
                <a:hlinkClick r:id="rId13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24000" y="3933720"/>
            <a:ext cx="1079640" cy="576360"/>
          </a:xfrm>
          <a:custGeom>
            <a:avLst/>
            <a:gdLst>
              <a:gd name="textAreaLeft" fmla="*/ 37080 w 1079640"/>
              <a:gd name="textAreaRight" fmla="*/ 1042560 w 1079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0449" h="21600">
                <a:moveTo>
                  <a:pt x="0" y="0"/>
                </a:moveTo>
                <a:lnTo>
                  <a:pt x="40449" y="0"/>
                </a:lnTo>
                <a:lnTo>
                  <a:pt x="40449" y="21600"/>
                </a:lnTo>
                <a:lnTo>
                  <a:pt x="0" y="21600"/>
                </a:lnTo>
                <a:close/>
              </a:path>
              <a:path fill="lightenLess" w="40449" h="21600">
                <a:moveTo>
                  <a:pt x="0" y="0"/>
                </a:moveTo>
                <a:lnTo>
                  <a:pt x="40449" y="0"/>
                </a:lnTo>
                <a:lnTo>
                  <a:pt x="39050" y="1400"/>
                </a:lnTo>
                <a:lnTo>
                  <a:pt x="1400" y="1400"/>
                </a:lnTo>
                <a:close/>
              </a:path>
              <a:path fill="darken" w="40449" h="21600">
                <a:moveTo>
                  <a:pt x="40449" y="0"/>
                </a:moveTo>
                <a:lnTo>
                  <a:pt x="40449" y="21600"/>
                </a:lnTo>
                <a:lnTo>
                  <a:pt x="39050" y="20200"/>
                </a:lnTo>
                <a:lnTo>
                  <a:pt x="39050" y="1400"/>
                </a:lnTo>
                <a:close/>
              </a:path>
              <a:path fill="darkenLess" w="40449" h="21600">
                <a:moveTo>
                  <a:pt x="404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50" y="20200"/>
                </a:lnTo>
                <a:close/>
              </a:path>
              <a:path fill="lighten" w="404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b200"/>
                </a:solidFill>
                <a:uFillTx/>
                <a:latin typeface="Arial"/>
                <a:hlinkClick r:id="rId14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51280" y="3933720"/>
            <a:ext cx="1079640" cy="576360"/>
          </a:xfrm>
          <a:custGeom>
            <a:avLst/>
            <a:gdLst>
              <a:gd name="textAreaLeft" fmla="*/ 37080 w 1079640"/>
              <a:gd name="textAreaRight" fmla="*/ 1042560 w 1079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0449" h="21600">
                <a:moveTo>
                  <a:pt x="0" y="0"/>
                </a:moveTo>
                <a:lnTo>
                  <a:pt x="40449" y="0"/>
                </a:lnTo>
                <a:lnTo>
                  <a:pt x="40449" y="21600"/>
                </a:lnTo>
                <a:lnTo>
                  <a:pt x="0" y="21600"/>
                </a:lnTo>
                <a:close/>
              </a:path>
              <a:path fill="lightenLess" w="40449" h="21600">
                <a:moveTo>
                  <a:pt x="0" y="0"/>
                </a:moveTo>
                <a:lnTo>
                  <a:pt x="40449" y="0"/>
                </a:lnTo>
                <a:lnTo>
                  <a:pt x="39050" y="1400"/>
                </a:lnTo>
                <a:lnTo>
                  <a:pt x="1400" y="1400"/>
                </a:lnTo>
                <a:close/>
              </a:path>
              <a:path fill="darken" w="40449" h="21600">
                <a:moveTo>
                  <a:pt x="40449" y="0"/>
                </a:moveTo>
                <a:lnTo>
                  <a:pt x="40449" y="21600"/>
                </a:lnTo>
                <a:lnTo>
                  <a:pt x="39050" y="20200"/>
                </a:lnTo>
                <a:lnTo>
                  <a:pt x="39050" y="1400"/>
                </a:lnTo>
                <a:close/>
              </a:path>
              <a:path fill="darkenLess" w="40449" h="21600">
                <a:moveTo>
                  <a:pt x="404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50" y="20200"/>
                </a:lnTo>
                <a:close/>
              </a:path>
              <a:path fill="lighten" w="404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b200"/>
                </a:solidFill>
                <a:uFillTx/>
                <a:latin typeface="Arial"/>
                <a:hlinkClick r:id="rId15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51640" y="3933720"/>
            <a:ext cx="1079280" cy="576360"/>
          </a:xfrm>
          <a:custGeom>
            <a:avLst/>
            <a:gdLst>
              <a:gd name="textAreaLeft" fmla="*/ 37080 w 1079280"/>
              <a:gd name="textAreaRight" fmla="*/ 1042200 w 1079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0436" h="21600">
                <a:moveTo>
                  <a:pt x="0" y="0"/>
                </a:moveTo>
                <a:lnTo>
                  <a:pt x="40436" y="0"/>
                </a:lnTo>
                <a:lnTo>
                  <a:pt x="40436" y="21600"/>
                </a:lnTo>
                <a:lnTo>
                  <a:pt x="0" y="21600"/>
                </a:lnTo>
                <a:close/>
              </a:path>
              <a:path fill="lightenLess" w="40436" h="21600">
                <a:moveTo>
                  <a:pt x="0" y="0"/>
                </a:moveTo>
                <a:lnTo>
                  <a:pt x="40436" y="0"/>
                </a:lnTo>
                <a:lnTo>
                  <a:pt x="39036" y="1400"/>
                </a:lnTo>
                <a:lnTo>
                  <a:pt x="1400" y="1400"/>
                </a:lnTo>
                <a:close/>
              </a:path>
              <a:path fill="darken" w="40436" h="21600">
                <a:moveTo>
                  <a:pt x="40436" y="0"/>
                </a:moveTo>
                <a:lnTo>
                  <a:pt x="40436" y="21600"/>
                </a:lnTo>
                <a:lnTo>
                  <a:pt x="39036" y="20200"/>
                </a:lnTo>
                <a:lnTo>
                  <a:pt x="39036" y="1400"/>
                </a:lnTo>
                <a:close/>
              </a:path>
              <a:path fill="darkenLess" w="40436" h="21600">
                <a:moveTo>
                  <a:pt x="40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36" y="20200"/>
                </a:lnTo>
                <a:close/>
              </a:path>
              <a:path fill="lighten" w="40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b200"/>
                </a:solidFill>
                <a:uFillTx/>
                <a:latin typeface="Arial"/>
                <a:hlinkClick r:id="rId16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24720" y="3933720"/>
            <a:ext cx="1079640" cy="576360"/>
          </a:xfrm>
          <a:custGeom>
            <a:avLst/>
            <a:gdLst>
              <a:gd name="textAreaLeft" fmla="*/ 37080 w 1079640"/>
              <a:gd name="textAreaRight" fmla="*/ 1042560 w 1079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0449" h="21600">
                <a:moveTo>
                  <a:pt x="0" y="0"/>
                </a:moveTo>
                <a:lnTo>
                  <a:pt x="40449" y="0"/>
                </a:lnTo>
                <a:lnTo>
                  <a:pt x="40449" y="21600"/>
                </a:lnTo>
                <a:lnTo>
                  <a:pt x="0" y="21600"/>
                </a:lnTo>
                <a:close/>
              </a:path>
              <a:path fill="lightenLess" w="40449" h="21600">
                <a:moveTo>
                  <a:pt x="0" y="0"/>
                </a:moveTo>
                <a:lnTo>
                  <a:pt x="40449" y="0"/>
                </a:lnTo>
                <a:lnTo>
                  <a:pt x="39050" y="1400"/>
                </a:lnTo>
                <a:lnTo>
                  <a:pt x="1400" y="1400"/>
                </a:lnTo>
                <a:close/>
              </a:path>
              <a:path fill="darken" w="40449" h="21600">
                <a:moveTo>
                  <a:pt x="40449" y="0"/>
                </a:moveTo>
                <a:lnTo>
                  <a:pt x="40449" y="21600"/>
                </a:lnTo>
                <a:lnTo>
                  <a:pt x="39050" y="20200"/>
                </a:lnTo>
                <a:lnTo>
                  <a:pt x="39050" y="1400"/>
                </a:lnTo>
                <a:close/>
              </a:path>
              <a:path fill="darkenLess" w="40449" h="21600">
                <a:moveTo>
                  <a:pt x="404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50" y="20200"/>
                </a:lnTo>
                <a:close/>
              </a:path>
              <a:path fill="lighten" w="404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4000" y="4797360"/>
            <a:ext cx="1079280" cy="576360"/>
          </a:xfrm>
          <a:custGeom>
            <a:avLst/>
            <a:gdLst>
              <a:gd name="textAreaLeft" fmla="*/ 37080 w 1079280"/>
              <a:gd name="textAreaRight" fmla="*/ 1042200 w 1079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0436" h="21600">
                <a:moveTo>
                  <a:pt x="0" y="0"/>
                </a:moveTo>
                <a:lnTo>
                  <a:pt x="40436" y="0"/>
                </a:lnTo>
                <a:lnTo>
                  <a:pt x="40436" y="21600"/>
                </a:lnTo>
                <a:lnTo>
                  <a:pt x="0" y="21600"/>
                </a:lnTo>
                <a:close/>
              </a:path>
              <a:path fill="lightenLess" w="40436" h="21600">
                <a:moveTo>
                  <a:pt x="0" y="0"/>
                </a:moveTo>
                <a:lnTo>
                  <a:pt x="40436" y="0"/>
                </a:lnTo>
                <a:lnTo>
                  <a:pt x="39036" y="1400"/>
                </a:lnTo>
                <a:lnTo>
                  <a:pt x="1400" y="1400"/>
                </a:lnTo>
                <a:close/>
              </a:path>
              <a:path fill="darken" w="40436" h="21600">
                <a:moveTo>
                  <a:pt x="40436" y="0"/>
                </a:moveTo>
                <a:lnTo>
                  <a:pt x="40436" y="21600"/>
                </a:lnTo>
                <a:lnTo>
                  <a:pt x="39036" y="20200"/>
                </a:lnTo>
                <a:lnTo>
                  <a:pt x="39036" y="1400"/>
                </a:lnTo>
                <a:close/>
              </a:path>
              <a:path fill="darkenLess" w="40436" h="21600">
                <a:moveTo>
                  <a:pt x="40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36" y="20200"/>
                </a:lnTo>
                <a:close/>
              </a:path>
              <a:path fill="lighten" w="40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b200"/>
                </a:solidFill>
                <a:uFillTx/>
                <a:latin typeface="Arial"/>
                <a:hlinkClick r:id="rId17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24000" y="4797360"/>
            <a:ext cx="1079640" cy="576360"/>
          </a:xfrm>
          <a:custGeom>
            <a:avLst/>
            <a:gdLst>
              <a:gd name="textAreaLeft" fmla="*/ 37080 w 1079640"/>
              <a:gd name="textAreaRight" fmla="*/ 1042560 w 1079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0449" h="21600">
                <a:moveTo>
                  <a:pt x="0" y="0"/>
                </a:moveTo>
                <a:lnTo>
                  <a:pt x="40449" y="0"/>
                </a:lnTo>
                <a:lnTo>
                  <a:pt x="40449" y="21600"/>
                </a:lnTo>
                <a:lnTo>
                  <a:pt x="0" y="21600"/>
                </a:lnTo>
                <a:close/>
              </a:path>
              <a:path fill="lightenLess" w="40449" h="21600">
                <a:moveTo>
                  <a:pt x="0" y="0"/>
                </a:moveTo>
                <a:lnTo>
                  <a:pt x="40449" y="0"/>
                </a:lnTo>
                <a:lnTo>
                  <a:pt x="39050" y="1400"/>
                </a:lnTo>
                <a:lnTo>
                  <a:pt x="1400" y="1400"/>
                </a:lnTo>
                <a:close/>
              </a:path>
              <a:path fill="darken" w="40449" h="21600">
                <a:moveTo>
                  <a:pt x="40449" y="0"/>
                </a:moveTo>
                <a:lnTo>
                  <a:pt x="40449" y="21600"/>
                </a:lnTo>
                <a:lnTo>
                  <a:pt x="39050" y="20200"/>
                </a:lnTo>
                <a:lnTo>
                  <a:pt x="39050" y="1400"/>
                </a:lnTo>
                <a:close/>
              </a:path>
              <a:path fill="darkenLess" w="40449" h="21600">
                <a:moveTo>
                  <a:pt x="404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50" y="20200"/>
                </a:lnTo>
                <a:close/>
              </a:path>
              <a:path fill="lighten" w="404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b200"/>
                </a:solidFill>
                <a:uFillTx/>
                <a:latin typeface="Arial"/>
                <a:hlinkClick r:id="rId18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4797360"/>
            <a:ext cx="1079640" cy="576360"/>
          </a:xfrm>
          <a:custGeom>
            <a:avLst/>
            <a:gdLst>
              <a:gd name="textAreaLeft" fmla="*/ 37080 w 1079640"/>
              <a:gd name="textAreaRight" fmla="*/ 1042560 w 1079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0449" h="21600">
                <a:moveTo>
                  <a:pt x="0" y="0"/>
                </a:moveTo>
                <a:lnTo>
                  <a:pt x="40449" y="0"/>
                </a:lnTo>
                <a:lnTo>
                  <a:pt x="40449" y="21600"/>
                </a:lnTo>
                <a:lnTo>
                  <a:pt x="0" y="21600"/>
                </a:lnTo>
                <a:close/>
              </a:path>
              <a:path fill="lightenLess" w="40449" h="21600">
                <a:moveTo>
                  <a:pt x="0" y="0"/>
                </a:moveTo>
                <a:lnTo>
                  <a:pt x="40449" y="0"/>
                </a:lnTo>
                <a:lnTo>
                  <a:pt x="39050" y="1400"/>
                </a:lnTo>
                <a:lnTo>
                  <a:pt x="1400" y="1400"/>
                </a:lnTo>
                <a:close/>
              </a:path>
              <a:path fill="darken" w="40449" h="21600">
                <a:moveTo>
                  <a:pt x="40449" y="0"/>
                </a:moveTo>
                <a:lnTo>
                  <a:pt x="40449" y="21600"/>
                </a:lnTo>
                <a:lnTo>
                  <a:pt x="39050" y="20200"/>
                </a:lnTo>
                <a:lnTo>
                  <a:pt x="39050" y="1400"/>
                </a:lnTo>
                <a:close/>
              </a:path>
              <a:path fill="darkenLess" w="40449" h="21600">
                <a:moveTo>
                  <a:pt x="404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50" y="20200"/>
                </a:lnTo>
                <a:close/>
              </a:path>
              <a:path fill="lighten" w="404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b200"/>
                </a:solidFill>
                <a:uFillTx/>
                <a:latin typeface="Arial"/>
                <a:hlinkClick r:id="rId19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24360" y="4797360"/>
            <a:ext cx="1079640" cy="576360"/>
          </a:xfrm>
          <a:custGeom>
            <a:avLst/>
            <a:gdLst>
              <a:gd name="textAreaLeft" fmla="*/ 37080 w 1079640"/>
              <a:gd name="textAreaRight" fmla="*/ 1042560 w 1079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0449" h="21600">
                <a:moveTo>
                  <a:pt x="0" y="0"/>
                </a:moveTo>
                <a:lnTo>
                  <a:pt x="40449" y="0"/>
                </a:lnTo>
                <a:lnTo>
                  <a:pt x="40449" y="21600"/>
                </a:lnTo>
                <a:lnTo>
                  <a:pt x="0" y="21600"/>
                </a:lnTo>
                <a:close/>
              </a:path>
              <a:path fill="lightenLess" w="40449" h="21600">
                <a:moveTo>
                  <a:pt x="0" y="0"/>
                </a:moveTo>
                <a:lnTo>
                  <a:pt x="40449" y="0"/>
                </a:lnTo>
                <a:lnTo>
                  <a:pt x="39050" y="1400"/>
                </a:lnTo>
                <a:lnTo>
                  <a:pt x="1400" y="1400"/>
                </a:lnTo>
                <a:close/>
              </a:path>
              <a:path fill="darken" w="40449" h="21600">
                <a:moveTo>
                  <a:pt x="40449" y="0"/>
                </a:moveTo>
                <a:lnTo>
                  <a:pt x="40449" y="21600"/>
                </a:lnTo>
                <a:lnTo>
                  <a:pt x="39050" y="20200"/>
                </a:lnTo>
                <a:lnTo>
                  <a:pt x="39050" y="1400"/>
                </a:lnTo>
                <a:close/>
              </a:path>
              <a:path fill="darkenLess" w="40449" h="21600">
                <a:moveTo>
                  <a:pt x="404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50" y="20200"/>
                </a:lnTo>
                <a:close/>
              </a:path>
              <a:path fill="lighten" w="404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b200"/>
                </a:solidFill>
                <a:uFillTx/>
                <a:latin typeface="Arial"/>
                <a:hlinkClick r:id="rId20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24720" y="4724280"/>
            <a:ext cx="1079640" cy="576360"/>
          </a:xfrm>
          <a:custGeom>
            <a:avLst/>
            <a:gdLst>
              <a:gd name="textAreaLeft" fmla="*/ 37080 w 1079640"/>
              <a:gd name="textAreaRight" fmla="*/ 1042560 w 1079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0449" h="21600">
                <a:moveTo>
                  <a:pt x="0" y="0"/>
                </a:moveTo>
                <a:lnTo>
                  <a:pt x="40449" y="0"/>
                </a:lnTo>
                <a:lnTo>
                  <a:pt x="40449" y="21600"/>
                </a:lnTo>
                <a:lnTo>
                  <a:pt x="0" y="21600"/>
                </a:lnTo>
                <a:close/>
              </a:path>
              <a:path fill="lightenLess" w="40449" h="21600">
                <a:moveTo>
                  <a:pt x="0" y="0"/>
                </a:moveTo>
                <a:lnTo>
                  <a:pt x="40449" y="0"/>
                </a:lnTo>
                <a:lnTo>
                  <a:pt x="39050" y="1400"/>
                </a:lnTo>
                <a:lnTo>
                  <a:pt x="1400" y="1400"/>
                </a:lnTo>
                <a:close/>
              </a:path>
              <a:path fill="darken" w="40449" h="21600">
                <a:moveTo>
                  <a:pt x="40449" y="0"/>
                </a:moveTo>
                <a:lnTo>
                  <a:pt x="40449" y="21600"/>
                </a:lnTo>
                <a:lnTo>
                  <a:pt x="39050" y="20200"/>
                </a:lnTo>
                <a:lnTo>
                  <a:pt x="39050" y="1400"/>
                </a:lnTo>
                <a:close/>
              </a:path>
              <a:path fill="darkenLess" w="40449" h="21600">
                <a:moveTo>
                  <a:pt x="404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50" y="20200"/>
                </a:lnTo>
                <a:close/>
              </a:path>
              <a:path fill="lighten" w="404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mic Sans MS"/>
              </a:rPr>
              <a:t>Єршалаї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Який напій пропонували засудженим? Чи прийняв його Єшуа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omic Sans MS"/>
              </a:rPr>
              <a:t>(Їм пропонували отруту. Єшуа його не прийняв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>
            <a:hlinkClick r:id="rId1" action="ppaction://hlinksldjump"/>
          </p:cNvPr>
          <p:cNvSpPr/>
          <p:nvPr/>
        </p:nvSpPr>
        <p:spPr>
          <a:xfrm>
            <a:off x="395280" y="5805360"/>
            <a:ext cx="1152360" cy="719280"/>
          </a:xfrm>
          <a:custGeom>
            <a:avLst/>
            <a:gdLst>
              <a:gd name="textAreaLeft" fmla="*/ 46440 w 1152360"/>
              <a:gd name="textAreaRight" fmla="*/ 1105920 w 115236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4599" h="21600">
                <a:moveTo>
                  <a:pt x="0" y="0"/>
                </a:moveTo>
                <a:lnTo>
                  <a:pt x="34599" y="0"/>
                </a:lnTo>
                <a:lnTo>
                  <a:pt x="34599" y="21600"/>
                </a:lnTo>
                <a:lnTo>
                  <a:pt x="0" y="21600"/>
                </a:lnTo>
                <a:close/>
              </a:path>
              <a:path fill="lightenLess" w="34599" h="21600">
                <a:moveTo>
                  <a:pt x="0" y="0"/>
                </a:moveTo>
                <a:lnTo>
                  <a:pt x="34599" y="0"/>
                </a:lnTo>
                <a:lnTo>
                  <a:pt x="33199" y="1400"/>
                </a:lnTo>
                <a:lnTo>
                  <a:pt x="1400" y="1400"/>
                </a:lnTo>
                <a:close/>
              </a:path>
              <a:path fill="darken" w="34599" h="21600">
                <a:moveTo>
                  <a:pt x="34599" y="0"/>
                </a:moveTo>
                <a:lnTo>
                  <a:pt x="34599" y="21600"/>
                </a:lnTo>
                <a:lnTo>
                  <a:pt x="33199" y="20200"/>
                </a:lnTo>
                <a:lnTo>
                  <a:pt x="33199" y="1400"/>
                </a:lnTo>
                <a:close/>
              </a:path>
              <a:path fill="darkenLess" w="34599" h="21600">
                <a:moveTo>
                  <a:pt x="345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99" y="20200"/>
                </a:lnTo>
                <a:close/>
              </a:path>
              <a:path fill="lighten" w="345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99" h="21600">
                <a:moveTo>
                  <a:pt x="17299" y="3837"/>
                </a:moveTo>
                <a:lnTo>
                  <a:pt x="19876" y="6448"/>
                </a:lnTo>
                <a:lnTo>
                  <a:pt x="19876" y="4707"/>
                </a:lnTo>
                <a:lnTo>
                  <a:pt x="21651" y="4707"/>
                </a:lnTo>
                <a:lnTo>
                  <a:pt x="21651" y="8224"/>
                </a:lnTo>
                <a:lnTo>
                  <a:pt x="24262" y="10800"/>
                </a:lnTo>
                <a:lnTo>
                  <a:pt x="22609" y="10800"/>
                </a:lnTo>
                <a:lnTo>
                  <a:pt x="22609" y="17989"/>
                </a:lnTo>
                <a:lnTo>
                  <a:pt x="11990" y="17989"/>
                </a:lnTo>
                <a:lnTo>
                  <a:pt x="11990" y="10800"/>
                </a:lnTo>
                <a:lnTo>
                  <a:pt x="10336" y="10800"/>
                </a:lnTo>
                <a:close/>
              </a:path>
              <a:path fill="darkenLess" w="34599" h="21600">
                <a:moveTo>
                  <a:pt x="19876" y="6448"/>
                </a:moveTo>
                <a:lnTo>
                  <a:pt x="19876" y="4707"/>
                </a:lnTo>
                <a:lnTo>
                  <a:pt x="21651" y="4707"/>
                </a:lnTo>
                <a:lnTo>
                  <a:pt x="21651" y="8224"/>
                </a:lnTo>
                <a:close/>
              </a:path>
              <a:path fill="darkenLess" w="34599" h="21600">
                <a:moveTo>
                  <a:pt x="16377" y="14299"/>
                </a:moveTo>
                <a:lnTo>
                  <a:pt x="18222" y="14299"/>
                </a:lnTo>
                <a:lnTo>
                  <a:pt x="18222" y="17989"/>
                </a:lnTo>
                <a:lnTo>
                  <a:pt x="22609" y="17989"/>
                </a:lnTo>
                <a:lnTo>
                  <a:pt x="22609" y="10800"/>
                </a:lnTo>
                <a:lnTo>
                  <a:pt x="11990" y="10800"/>
                </a:lnTo>
                <a:lnTo>
                  <a:pt x="11990" y="17989"/>
                </a:lnTo>
                <a:lnTo>
                  <a:pt x="16377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4879800" y="3933720"/>
            <a:ext cx="19418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mic Sans MS"/>
              </a:rPr>
              <a:t>Єршалаї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Хто заплатив Іуді за зраду Ганоцрі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omic Sans MS"/>
              </a:rPr>
              <a:t>(Першосв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1" i="1" lang="uk-UA" sz="3200" spc="-1" strike="noStrike">
                <a:solidFill>
                  <a:srgbClr val="000000"/>
                </a:solidFill>
                <a:latin typeface="Comic Sans MS"/>
              </a:rPr>
              <a:t>ященник Каїфа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>
            <a:hlinkClick r:id="rId1" action="ppaction://hlinksldjump"/>
          </p:cNvPr>
          <p:cNvSpPr/>
          <p:nvPr/>
        </p:nvSpPr>
        <p:spPr>
          <a:xfrm>
            <a:off x="179280" y="5950080"/>
            <a:ext cx="1297080" cy="647640"/>
          </a:xfrm>
          <a:custGeom>
            <a:avLst/>
            <a:gdLst>
              <a:gd name="textAreaLeft" fmla="*/ 41760 w 1297080"/>
              <a:gd name="textAreaRight" fmla="*/ 1255320 w 1297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3248" h="21600">
                <a:moveTo>
                  <a:pt x="0" y="0"/>
                </a:moveTo>
                <a:lnTo>
                  <a:pt x="43248" y="0"/>
                </a:lnTo>
                <a:lnTo>
                  <a:pt x="43248" y="21600"/>
                </a:lnTo>
                <a:lnTo>
                  <a:pt x="0" y="21600"/>
                </a:lnTo>
                <a:close/>
              </a:path>
              <a:path fill="lightenLess" w="43248" h="21600">
                <a:moveTo>
                  <a:pt x="0" y="0"/>
                </a:moveTo>
                <a:lnTo>
                  <a:pt x="43248" y="0"/>
                </a:lnTo>
                <a:lnTo>
                  <a:pt x="41848" y="1400"/>
                </a:lnTo>
                <a:lnTo>
                  <a:pt x="1400" y="1400"/>
                </a:lnTo>
                <a:close/>
              </a:path>
              <a:path fill="darken" w="43248" h="21600">
                <a:moveTo>
                  <a:pt x="43248" y="0"/>
                </a:moveTo>
                <a:lnTo>
                  <a:pt x="43248" y="21600"/>
                </a:lnTo>
                <a:lnTo>
                  <a:pt x="41848" y="20200"/>
                </a:lnTo>
                <a:lnTo>
                  <a:pt x="41848" y="1400"/>
                </a:lnTo>
                <a:close/>
              </a:path>
              <a:path fill="darkenLess" w="43248" h="21600">
                <a:moveTo>
                  <a:pt x="43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48" y="20200"/>
                </a:lnTo>
                <a:close/>
              </a:path>
              <a:path fill="lighten" w="43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48" h="21600">
                <a:moveTo>
                  <a:pt x="21624" y="3837"/>
                </a:moveTo>
                <a:lnTo>
                  <a:pt x="24200" y="6448"/>
                </a:lnTo>
                <a:lnTo>
                  <a:pt x="24200" y="4707"/>
                </a:lnTo>
                <a:lnTo>
                  <a:pt x="25976" y="4707"/>
                </a:lnTo>
                <a:lnTo>
                  <a:pt x="25976" y="8224"/>
                </a:lnTo>
                <a:lnTo>
                  <a:pt x="28587" y="10800"/>
                </a:lnTo>
                <a:lnTo>
                  <a:pt x="26933" y="10800"/>
                </a:lnTo>
                <a:lnTo>
                  <a:pt x="26933" y="17989"/>
                </a:lnTo>
                <a:lnTo>
                  <a:pt x="16315" y="17989"/>
                </a:lnTo>
                <a:lnTo>
                  <a:pt x="16315" y="10800"/>
                </a:lnTo>
                <a:lnTo>
                  <a:pt x="14661" y="10800"/>
                </a:lnTo>
                <a:close/>
              </a:path>
              <a:path fill="darkenLess" w="43248" h="21600">
                <a:moveTo>
                  <a:pt x="24200" y="6448"/>
                </a:moveTo>
                <a:lnTo>
                  <a:pt x="24200" y="4707"/>
                </a:lnTo>
                <a:lnTo>
                  <a:pt x="25976" y="4707"/>
                </a:lnTo>
                <a:lnTo>
                  <a:pt x="25976" y="8224"/>
                </a:lnTo>
                <a:close/>
              </a:path>
              <a:path fill="darkenLess" w="43248" h="21600">
                <a:moveTo>
                  <a:pt x="20701" y="14299"/>
                </a:moveTo>
                <a:lnTo>
                  <a:pt x="22547" y="14299"/>
                </a:lnTo>
                <a:lnTo>
                  <a:pt x="22547" y="17989"/>
                </a:lnTo>
                <a:lnTo>
                  <a:pt x="26933" y="17989"/>
                </a:lnTo>
                <a:lnTo>
                  <a:pt x="26933" y="10800"/>
                </a:lnTo>
                <a:lnTo>
                  <a:pt x="16315" y="10800"/>
                </a:lnTo>
                <a:lnTo>
                  <a:pt x="16315" y="17989"/>
                </a:lnTo>
                <a:lnTo>
                  <a:pt x="2070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3203640" y="3284640"/>
            <a:ext cx="20271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mic Sans MS"/>
              </a:rPr>
              <a:t>Єршалаї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Як Іуда потрапив до за місто перед тим, як його вбили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omic Sans MS"/>
              </a:rPr>
              <a:t>(Його виманила дівчина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179280" y="5805360"/>
            <a:ext cx="1513080" cy="1052640"/>
          </a:xfrm>
          <a:custGeom>
            <a:avLst/>
            <a:gdLst>
              <a:gd name="textAreaLeft" fmla="*/ 68040 w 1513080"/>
              <a:gd name="textAreaRight" fmla="*/ 1445040 w 151308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1045" h="21600">
                <a:moveTo>
                  <a:pt x="0" y="0"/>
                </a:moveTo>
                <a:lnTo>
                  <a:pt x="31045" y="0"/>
                </a:lnTo>
                <a:lnTo>
                  <a:pt x="31045" y="21600"/>
                </a:lnTo>
                <a:lnTo>
                  <a:pt x="0" y="21600"/>
                </a:lnTo>
                <a:close/>
              </a:path>
              <a:path fill="lightenLess" w="31045" h="21600">
                <a:moveTo>
                  <a:pt x="0" y="0"/>
                </a:moveTo>
                <a:lnTo>
                  <a:pt x="31045" y="0"/>
                </a:lnTo>
                <a:lnTo>
                  <a:pt x="29645" y="1400"/>
                </a:lnTo>
                <a:lnTo>
                  <a:pt x="1400" y="1400"/>
                </a:lnTo>
                <a:close/>
              </a:path>
              <a:path fill="darken" w="31045" h="21600">
                <a:moveTo>
                  <a:pt x="31045" y="0"/>
                </a:moveTo>
                <a:lnTo>
                  <a:pt x="31045" y="21600"/>
                </a:lnTo>
                <a:lnTo>
                  <a:pt x="29645" y="20200"/>
                </a:lnTo>
                <a:lnTo>
                  <a:pt x="29645" y="1400"/>
                </a:lnTo>
                <a:close/>
              </a:path>
              <a:path fill="darkenLess" w="31045" h="21600">
                <a:moveTo>
                  <a:pt x="310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45" y="20200"/>
                </a:lnTo>
                <a:close/>
              </a:path>
              <a:path fill="lighten" w="310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45" h="21600">
                <a:moveTo>
                  <a:pt x="15522" y="3837"/>
                </a:moveTo>
                <a:lnTo>
                  <a:pt x="18099" y="6448"/>
                </a:lnTo>
                <a:lnTo>
                  <a:pt x="18099" y="4707"/>
                </a:lnTo>
                <a:lnTo>
                  <a:pt x="19874" y="4707"/>
                </a:lnTo>
                <a:lnTo>
                  <a:pt x="19874" y="8224"/>
                </a:lnTo>
                <a:lnTo>
                  <a:pt x="22485" y="10800"/>
                </a:lnTo>
                <a:lnTo>
                  <a:pt x="20832" y="10800"/>
                </a:lnTo>
                <a:lnTo>
                  <a:pt x="20832" y="17989"/>
                </a:lnTo>
                <a:lnTo>
                  <a:pt x="10213" y="17989"/>
                </a:lnTo>
                <a:lnTo>
                  <a:pt x="10213" y="10800"/>
                </a:lnTo>
                <a:lnTo>
                  <a:pt x="8559" y="10800"/>
                </a:lnTo>
                <a:close/>
              </a:path>
              <a:path fill="darkenLess" w="31045" h="21600">
                <a:moveTo>
                  <a:pt x="18099" y="6448"/>
                </a:moveTo>
                <a:lnTo>
                  <a:pt x="18099" y="4707"/>
                </a:lnTo>
                <a:lnTo>
                  <a:pt x="19874" y="4707"/>
                </a:lnTo>
                <a:lnTo>
                  <a:pt x="19874" y="8224"/>
                </a:lnTo>
                <a:close/>
              </a:path>
              <a:path fill="darkenLess" w="31045" h="21600">
                <a:moveTo>
                  <a:pt x="14600" y="14299"/>
                </a:moveTo>
                <a:lnTo>
                  <a:pt x="16445" y="14299"/>
                </a:lnTo>
                <a:lnTo>
                  <a:pt x="16445" y="17989"/>
                </a:lnTo>
                <a:lnTo>
                  <a:pt x="20832" y="17989"/>
                </a:lnTo>
                <a:lnTo>
                  <a:pt x="20832" y="10800"/>
                </a:lnTo>
                <a:lnTo>
                  <a:pt x="10213" y="10800"/>
                </a:lnTo>
                <a:lnTo>
                  <a:pt x="10213" y="17989"/>
                </a:lnTo>
                <a:lnTo>
                  <a:pt x="14600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203640" y="3716280"/>
            <a:ext cx="302400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mic Sans MS"/>
              </a:rPr>
              <a:t>Чорний ящик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Які художні деталі 1-го розділу свідчать про радянську дійсність 1930 – х років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uk-UA" sz="3200" spc="-1" strike="noStrike">
                <a:solidFill>
                  <a:srgbClr val="000000"/>
                </a:solidFill>
                <a:latin typeface="Comic Sans MS"/>
              </a:rPr>
              <a:t>(Згадки про Соловки, «шпигуноманія», атеїзм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"/>
          <p:cNvSpPr/>
          <p:nvPr/>
        </p:nvSpPr>
        <p:spPr>
          <a:xfrm>
            <a:off x="324000" y="5805360"/>
            <a:ext cx="1152360" cy="863640"/>
          </a:xfrm>
          <a:custGeom>
            <a:avLst/>
            <a:gdLst>
              <a:gd name="textAreaLeft" fmla="*/ 55800 w 1152360"/>
              <a:gd name="textAreaRight" fmla="*/ 1096560 w 11523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14409" y="3837"/>
                </a:moveTo>
                <a:lnTo>
                  <a:pt x="16985" y="6448"/>
                </a:lnTo>
                <a:lnTo>
                  <a:pt x="16985" y="4707"/>
                </a:lnTo>
                <a:lnTo>
                  <a:pt x="18761" y="4707"/>
                </a:lnTo>
                <a:lnTo>
                  <a:pt x="18761" y="8224"/>
                </a:lnTo>
                <a:lnTo>
                  <a:pt x="21372" y="10800"/>
                </a:lnTo>
                <a:lnTo>
                  <a:pt x="19718" y="10800"/>
                </a:lnTo>
                <a:lnTo>
                  <a:pt x="19718" y="17989"/>
                </a:lnTo>
                <a:lnTo>
                  <a:pt x="9100" y="17989"/>
                </a:lnTo>
                <a:lnTo>
                  <a:pt x="9100" y="10800"/>
                </a:lnTo>
                <a:lnTo>
                  <a:pt x="7446" y="10800"/>
                </a:lnTo>
                <a:close/>
              </a:path>
              <a:path fill="darkenLess" w="28818" h="21600">
                <a:moveTo>
                  <a:pt x="16985" y="6448"/>
                </a:moveTo>
                <a:lnTo>
                  <a:pt x="16985" y="4707"/>
                </a:lnTo>
                <a:lnTo>
                  <a:pt x="18761" y="4707"/>
                </a:lnTo>
                <a:lnTo>
                  <a:pt x="18761" y="8224"/>
                </a:lnTo>
                <a:close/>
              </a:path>
              <a:path fill="darkenLess" w="28818" h="21600">
                <a:moveTo>
                  <a:pt x="13486" y="14299"/>
                </a:moveTo>
                <a:lnTo>
                  <a:pt x="15332" y="14299"/>
                </a:lnTo>
                <a:lnTo>
                  <a:pt x="15332" y="17989"/>
                </a:lnTo>
                <a:lnTo>
                  <a:pt x="19718" y="17989"/>
                </a:lnTo>
                <a:lnTo>
                  <a:pt x="19718" y="10800"/>
                </a:lnTo>
                <a:lnTo>
                  <a:pt x="9100" y="10800"/>
                </a:lnTo>
                <a:lnTo>
                  <a:pt x="9100" y="17989"/>
                </a:lnTo>
                <a:lnTo>
                  <a:pt x="13486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3276720" y="4581360"/>
            <a:ext cx="263196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mic Sans MS"/>
              </a:rPr>
              <a:t>Чорний ящи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Як змінюється ставлення Понтія Пілата до в’язня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omic Sans MS"/>
              </a:rPr>
              <a:t>(Від насмішки – до шанобливого ставлення, від катувань – до спроби врятувати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"/>
          <p:cNvSpPr/>
          <p:nvPr/>
        </p:nvSpPr>
        <p:spPr>
          <a:xfrm>
            <a:off x="250920" y="5877000"/>
            <a:ext cx="1296720" cy="792000"/>
          </a:xfrm>
          <a:custGeom>
            <a:avLst/>
            <a:gdLst>
              <a:gd name="textAreaLeft" fmla="*/ 51120 w 1296720"/>
              <a:gd name="textAreaRight" fmla="*/ 1245600 w 129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35359" h="21600">
                <a:moveTo>
                  <a:pt x="0" y="0"/>
                </a:moveTo>
                <a:lnTo>
                  <a:pt x="35359" y="0"/>
                </a:lnTo>
                <a:lnTo>
                  <a:pt x="35359" y="21600"/>
                </a:lnTo>
                <a:lnTo>
                  <a:pt x="0" y="21600"/>
                </a:lnTo>
                <a:close/>
              </a:path>
              <a:path fill="lightenLess" w="35359" h="21600">
                <a:moveTo>
                  <a:pt x="0" y="0"/>
                </a:moveTo>
                <a:lnTo>
                  <a:pt x="35359" y="0"/>
                </a:lnTo>
                <a:lnTo>
                  <a:pt x="33959" y="1400"/>
                </a:lnTo>
                <a:lnTo>
                  <a:pt x="1400" y="1400"/>
                </a:lnTo>
                <a:close/>
              </a:path>
              <a:path fill="darken" w="35359" h="21600">
                <a:moveTo>
                  <a:pt x="35359" y="0"/>
                </a:moveTo>
                <a:lnTo>
                  <a:pt x="35359" y="21600"/>
                </a:lnTo>
                <a:lnTo>
                  <a:pt x="33959" y="20200"/>
                </a:lnTo>
                <a:lnTo>
                  <a:pt x="33959" y="1400"/>
                </a:lnTo>
                <a:close/>
              </a:path>
              <a:path fill="darkenLess" w="35359" h="21600">
                <a:moveTo>
                  <a:pt x="35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59" y="20200"/>
                </a:lnTo>
                <a:close/>
              </a:path>
              <a:path fill="lighten" w="35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59" h="21600">
                <a:moveTo>
                  <a:pt x="17679" y="3837"/>
                </a:moveTo>
                <a:lnTo>
                  <a:pt x="20256" y="6448"/>
                </a:lnTo>
                <a:lnTo>
                  <a:pt x="20256" y="4707"/>
                </a:lnTo>
                <a:lnTo>
                  <a:pt x="22031" y="4707"/>
                </a:lnTo>
                <a:lnTo>
                  <a:pt x="22031" y="8224"/>
                </a:lnTo>
                <a:lnTo>
                  <a:pt x="24642" y="10800"/>
                </a:lnTo>
                <a:lnTo>
                  <a:pt x="22989" y="10800"/>
                </a:lnTo>
                <a:lnTo>
                  <a:pt x="22989" y="17989"/>
                </a:lnTo>
                <a:lnTo>
                  <a:pt x="12370" y="17989"/>
                </a:lnTo>
                <a:lnTo>
                  <a:pt x="12370" y="10800"/>
                </a:lnTo>
                <a:lnTo>
                  <a:pt x="10716" y="10800"/>
                </a:lnTo>
                <a:close/>
              </a:path>
              <a:path fill="darkenLess" w="35359" h="21600">
                <a:moveTo>
                  <a:pt x="20256" y="6448"/>
                </a:moveTo>
                <a:lnTo>
                  <a:pt x="20256" y="4707"/>
                </a:lnTo>
                <a:lnTo>
                  <a:pt x="22031" y="4707"/>
                </a:lnTo>
                <a:lnTo>
                  <a:pt x="22031" y="8224"/>
                </a:lnTo>
                <a:close/>
              </a:path>
              <a:path fill="darkenLess" w="35359" h="21600">
                <a:moveTo>
                  <a:pt x="16757" y="14299"/>
                </a:moveTo>
                <a:lnTo>
                  <a:pt x="18602" y="14299"/>
                </a:lnTo>
                <a:lnTo>
                  <a:pt x="18602" y="17989"/>
                </a:lnTo>
                <a:lnTo>
                  <a:pt x="22989" y="17989"/>
                </a:lnTo>
                <a:lnTo>
                  <a:pt x="22989" y="10800"/>
                </a:lnTo>
                <a:lnTo>
                  <a:pt x="12370" y="10800"/>
                </a:lnTo>
                <a:lnTo>
                  <a:pt x="12370" y="17989"/>
                </a:lnTo>
                <a:lnTo>
                  <a:pt x="16757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788000" y="4724280"/>
            <a:ext cx="31050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mic Sans MS"/>
              </a:rPr>
              <a:t>Чорний ящи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Які «фокуси» продемонстрував Воланд і його свита московській публіці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omic Sans MS"/>
              </a:rPr>
              <a:t>(Улаштував «грошовий дощ», модний магазин та ін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6093000"/>
            <a:ext cx="1476360" cy="765000"/>
          </a:xfrm>
          <a:custGeom>
            <a:avLst/>
            <a:gdLst>
              <a:gd name="textAreaLeft" fmla="*/ 49320 w 1476360"/>
              <a:gd name="textAreaRight" fmla="*/ 1427040 w 1476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41676" h="21600">
                <a:moveTo>
                  <a:pt x="0" y="0"/>
                </a:moveTo>
                <a:lnTo>
                  <a:pt x="41676" y="0"/>
                </a:lnTo>
                <a:lnTo>
                  <a:pt x="41676" y="21600"/>
                </a:lnTo>
                <a:lnTo>
                  <a:pt x="0" y="21600"/>
                </a:lnTo>
                <a:close/>
              </a:path>
              <a:path fill="lightenLess" w="41676" h="21600">
                <a:moveTo>
                  <a:pt x="0" y="0"/>
                </a:moveTo>
                <a:lnTo>
                  <a:pt x="41676" y="0"/>
                </a:lnTo>
                <a:lnTo>
                  <a:pt x="40276" y="1400"/>
                </a:lnTo>
                <a:lnTo>
                  <a:pt x="1400" y="1400"/>
                </a:lnTo>
                <a:close/>
              </a:path>
              <a:path fill="darken" w="41676" h="21600">
                <a:moveTo>
                  <a:pt x="41676" y="0"/>
                </a:moveTo>
                <a:lnTo>
                  <a:pt x="41676" y="21600"/>
                </a:lnTo>
                <a:lnTo>
                  <a:pt x="40276" y="20200"/>
                </a:lnTo>
                <a:lnTo>
                  <a:pt x="40276" y="1400"/>
                </a:lnTo>
                <a:close/>
              </a:path>
              <a:path fill="darkenLess" w="41676" h="21600">
                <a:moveTo>
                  <a:pt x="41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276" y="20200"/>
                </a:lnTo>
                <a:close/>
              </a:path>
              <a:path fill="lighten" w="41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676" h="21600">
                <a:moveTo>
                  <a:pt x="20838" y="3837"/>
                </a:moveTo>
                <a:lnTo>
                  <a:pt x="23414" y="6448"/>
                </a:lnTo>
                <a:lnTo>
                  <a:pt x="23414" y="4707"/>
                </a:lnTo>
                <a:lnTo>
                  <a:pt x="25190" y="4707"/>
                </a:lnTo>
                <a:lnTo>
                  <a:pt x="25190" y="8224"/>
                </a:lnTo>
                <a:lnTo>
                  <a:pt x="27801" y="10800"/>
                </a:lnTo>
                <a:lnTo>
                  <a:pt x="26147" y="10800"/>
                </a:lnTo>
                <a:lnTo>
                  <a:pt x="26147" y="17989"/>
                </a:lnTo>
                <a:lnTo>
                  <a:pt x="15529" y="17989"/>
                </a:lnTo>
                <a:lnTo>
                  <a:pt x="15529" y="10800"/>
                </a:lnTo>
                <a:lnTo>
                  <a:pt x="13875" y="10800"/>
                </a:lnTo>
                <a:close/>
              </a:path>
              <a:path fill="darkenLess" w="41676" h="21600">
                <a:moveTo>
                  <a:pt x="23414" y="6448"/>
                </a:moveTo>
                <a:lnTo>
                  <a:pt x="23414" y="4707"/>
                </a:lnTo>
                <a:lnTo>
                  <a:pt x="25190" y="4707"/>
                </a:lnTo>
                <a:lnTo>
                  <a:pt x="25190" y="8224"/>
                </a:lnTo>
                <a:close/>
              </a:path>
              <a:path fill="darkenLess" w="41676" h="21600">
                <a:moveTo>
                  <a:pt x="19915" y="14299"/>
                </a:moveTo>
                <a:lnTo>
                  <a:pt x="21761" y="14299"/>
                </a:lnTo>
                <a:lnTo>
                  <a:pt x="21761" y="17989"/>
                </a:lnTo>
                <a:lnTo>
                  <a:pt x="26147" y="17989"/>
                </a:lnTo>
                <a:lnTo>
                  <a:pt x="26147" y="10800"/>
                </a:lnTo>
                <a:lnTo>
                  <a:pt x="15529" y="10800"/>
                </a:lnTo>
                <a:lnTo>
                  <a:pt x="15529" y="17989"/>
                </a:lnTo>
                <a:lnTo>
                  <a:pt x="19915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780000" y="4653000"/>
            <a:ext cx="2278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mic Sans MS"/>
              </a:rPr>
              <a:t>Чорний ящи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Якою є доля Іуди? Чому з ним так учинили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omic Sans MS"/>
              </a:rPr>
              <a:t>(За наказом Понтія Пілата його вбито – спроба виправдатися перед Єшуа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395280" y="5734080"/>
            <a:ext cx="1297080" cy="934920"/>
          </a:xfrm>
          <a:custGeom>
            <a:avLst/>
            <a:gdLst>
              <a:gd name="textAreaLeft" fmla="*/ 60480 w 1297080"/>
              <a:gd name="textAreaRight" fmla="*/ 1236600 w 129708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9964" h="21600">
                <a:moveTo>
                  <a:pt x="0" y="0"/>
                </a:moveTo>
                <a:lnTo>
                  <a:pt x="29964" y="0"/>
                </a:lnTo>
                <a:lnTo>
                  <a:pt x="29964" y="21600"/>
                </a:lnTo>
                <a:lnTo>
                  <a:pt x="0" y="21600"/>
                </a:lnTo>
                <a:close/>
              </a:path>
              <a:path fill="lightenLess" w="29964" h="21600">
                <a:moveTo>
                  <a:pt x="0" y="0"/>
                </a:moveTo>
                <a:lnTo>
                  <a:pt x="29964" y="0"/>
                </a:lnTo>
                <a:lnTo>
                  <a:pt x="28564" y="1400"/>
                </a:lnTo>
                <a:lnTo>
                  <a:pt x="1400" y="1400"/>
                </a:lnTo>
                <a:close/>
              </a:path>
              <a:path fill="darken" w="29964" h="21600">
                <a:moveTo>
                  <a:pt x="29964" y="0"/>
                </a:moveTo>
                <a:lnTo>
                  <a:pt x="29964" y="21600"/>
                </a:lnTo>
                <a:lnTo>
                  <a:pt x="28564" y="20200"/>
                </a:lnTo>
                <a:lnTo>
                  <a:pt x="28564" y="1400"/>
                </a:lnTo>
                <a:close/>
              </a:path>
              <a:path fill="darkenLess" w="29964" h="21600">
                <a:moveTo>
                  <a:pt x="29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64" y="20200"/>
                </a:lnTo>
                <a:close/>
              </a:path>
              <a:path fill="lighten" w="29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64" h="21600">
                <a:moveTo>
                  <a:pt x="14982" y="3837"/>
                </a:moveTo>
                <a:lnTo>
                  <a:pt x="17558" y="6448"/>
                </a:lnTo>
                <a:lnTo>
                  <a:pt x="17558" y="4707"/>
                </a:lnTo>
                <a:lnTo>
                  <a:pt x="19334" y="4707"/>
                </a:lnTo>
                <a:lnTo>
                  <a:pt x="19334" y="8224"/>
                </a:lnTo>
                <a:lnTo>
                  <a:pt x="21945" y="10800"/>
                </a:lnTo>
                <a:lnTo>
                  <a:pt x="20291" y="10800"/>
                </a:lnTo>
                <a:lnTo>
                  <a:pt x="20291" y="17989"/>
                </a:lnTo>
                <a:lnTo>
                  <a:pt x="9673" y="17989"/>
                </a:lnTo>
                <a:lnTo>
                  <a:pt x="9673" y="10800"/>
                </a:lnTo>
                <a:lnTo>
                  <a:pt x="8019" y="10800"/>
                </a:lnTo>
                <a:close/>
              </a:path>
              <a:path fill="darkenLess" w="29964" h="21600">
                <a:moveTo>
                  <a:pt x="17558" y="6448"/>
                </a:moveTo>
                <a:lnTo>
                  <a:pt x="17558" y="4707"/>
                </a:lnTo>
                <a:lnTo>
                  <a:pt x="19334" y="4707"/>
                </a:lnTo>
                <a:lnTo>
                  <a:pt x="19334" y="8224"/>
                </a:lnTo>
                <a:close/>
              </a:path>
              <a:path fill="darkenLess" w="29964" h="21600">
                <a:moveTo>
                  <a:pt x="14059" y="14299"/>
                </a:moveTo>
                <a:lnTo>
                  <a:pt x="15905" y="14299"/>
                </a:lnTo>
                <a:lnTo>
                  <a:pt x="15905" y="17989"/>
                </a:lnTo>
                <a:lnTo>
                  <a:pt x="20291" y="17989"/>
                </a:lnTo>
                <a:lnTo>
                  <a:pt x="20291" y="10800"/>
                </a:lnTo>
                <a:lnTo>
                  <a:pt x="9673" y="10800"/>
                </a:lnTo>
                <a:lnTo>
                  <a:pt x="9673" y="17989"/>
                </a:lnTo>
                <a:lnTo>
                  <a:pt x="14059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4500720" y="4365720"/>
            <a:ext cx="31161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mic Sans MS"/>
              </a:rPr>
              <a:t>Чорний ящи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Які прикмети дійсності 1930-х років проступають у творі М. Булгаков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uk-UA" sz="2800" spc="-1" strike="noStrike">
                <a:solidFill>
                  <a:srgbClr val="000000"/>
                </a:solidFill>
                <a:latin typeface="Comic Sans MS"/>
              </a:rPr>
              <a:t>(Згадка про Соловки, «нехороша квартира», з якої безслідно зникають  люди; вияви «пильності» щодо іноземців – імовірних шпигунів; доноси та ін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395280" y="5661000"/>
            <a:ext cx="1512720" cy="863640"/>
          </a:xfrm>
          <a:custGeom>
            <a:avLst/>
            <a:gdLst>
              <a:gd name="textAreaLeft" fmla="*/ 55800 w 1512720"/>
              <a:gd name="textAreaRight" fmla="*/ 1456920 w 1512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37827" h="21600">
                <a:moveTo>
                  <a:pt x="0" y="0"/>
                </a:moveTo>
                <a:lnTo>
                  <a:pt x="37827" y="0"/>
                </a:lnTo>
                <a:lnTo>
                  <a:pt x="37827" y="21600"/>
                </a:lnTo>
                <a:lnTo>
                  <a:pt x="0" y="21600"/>
                </a:lnTo>
                <a:close/>
              </a:path>
              <a:path fill="lightenLess" w="37827" h="21600">
                <a:moveTo>
                  <a:pt x="0" y="0"/>
                </a:moveTo>
                <a:lnTo>
                  <a:pt x="37827" y="0"/>
                </a:lnTo>
                <a:lnTo>
                  <a:pt x="36427" y="1400"/>
                </a:lnTo>
                <a:lnTo>
                  <a:pt x="1400" y="1400"/>
                </a:lnTo>
                <a:close/>
              </a:path>
              <a:path fill="darken" w="37827" h="21600">
                <a:moveTo>
                  <a:pt x="37827" y="0"/>
                </a:moveTo>
                <a:lnTo>
                  <a:pt x="37827" y="21600"/>
                </a:lnTo>
                <a:lnTo>
                  <a:pt x="36427" y="20200"/>
                </a:lnTo>
                <a:lnTo>
                  <a:pt x="36427" y="1400"/>
                </a:lnTo>
                <a:close/>
              </a:path>
              <a:path fill="darkenLess" w="37827" h="21600">
                <a:moveTo>
                  <a:pt x="378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7" y="20200"/>
                </a:lnTo>
                <a:close/>
              </a:path>
              <a:path fill="lighten" w="378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7" h="21600">
                <a:moveTo>
                  <a:pt x="18914" y="3837"/>
                </a:moveTo>
                <a:lnTo>
                  <a:pt x="21490" y="6448"/>
                </a:lnTo>
                <a:lnTo>
                  <a:pt x="21490" y="4707"/>
                </a:lnTo>
                <a:lnTo>
                  <a:pt x="23265" y="4707"/>
                </a:lnTo>
                <a:lnTo>
                  <a:pt x="23265" y="8224"/>
                </a:lnTo>
                <a:lnTo>
                  <a:pt x="25876" y="10800"/>
                </a:lnTo>
                <a:lnTo>
                  <a:pt x="24223" y="10800"/>
                </a:lnTo>
                <a:lnTo>
                  <a:pt x="24223" y="17989"/>
                </a:lnTo>
                <a:lnTo>
                  <a:pt x="13604" y="17989"/>
                </a:lnTo>
                <a:lnTo>
                  <a:pt x="13604" y="10800"/>
                </a:lnTo>
                <a:lnTo>
                  <a:pt x="11951" y="10800"/>
                </a:lnTo>
                <a:close/>
              </a:path>
              <a:path fill="darkenLess" w="37827" h="21600">
                <a:moveTo>
                  <a:pt x="21490" y="6448"/>
                </a:moveTo>
                <a:lnTo>
                  <a:pt x="21490" y="4707"/>
                </a:lnTo>
                <a:lnTo>
                  <a:pt x="23265" y="4707"/>
                </a:lnTo>
                <a:lnTo>
                  <a:pt x="23265" y="8224"/>
                </a:lnTo>
                <a:close/>
              </a:path>
              <a:path fill="darkenLess" w="37827" h="21600">
                <a:moveTo>
                  <a:pt x="17991" y="14299"/>
                </a:moveTo>
                <a:lnTo>
                  <a:pt x="19836" y="14299"/>
                </a:lnTo>
                <a:lnTo>
                  <a:pt x="19836" y="17989"/>
                </a:lnTo>
                <a:lnTo>
                  <a:pt x="24223" y="17989"/>
                </a:lnTo>
                <a:lnTo>
                  <a:pt x="24223" y="10800"/>
                </a:lnTo>
                <a:lnTo>
                  <a:pt x="13604" y="10800"/>
                </a:lnTo>
                <a:lnTo>
                  <a:pt x="13604" y="17989"/>
                </a:lnTo>
                <a:lnTo>
                  <a:pt x="179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4211640" y="4508640"/>
            <a:ext cx="288144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mic Sans MS"/>
              </a:rPr>
              <a:t>Літературний ребус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540720" y="2394000"/>
            <a:ext cx="102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24360" y="2565360"/>
            <a:ext cx="49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000000"/>
                </a:solidFill>
                <a:latin typeface="Arial"/>
              </a:rPr>
              <a:t>РА = Е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124000" y="2060640"/>
            <a:ext cx="1629000" cy="2808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332720" y="512748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айс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250920" y="6021360"/>
            <a:ext cx="865080" cy="503280"/>
          </a:xfrm>
          <a:custGeom>
            <a:avLst/>
            <a:gdLst>
              <a:gd name="textAreaLeft" fmla="*/ 32400 w 865080"/>
              <a:gd name="textAreaRight" fmla="*/ 832680 w 86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117" h="21600">
                <a:moveTo>
                  <a:pt x="0" y="0"/>
                </a:moveTo>
                <a:lnTo>
                  <a:pt x="37117" y="0"/>
                </a:lnTo>
                <a:lnTo>
                  <a:pt x="37117" y="21600"/>
                </a:lnTo>
                <a:lnTo>
                  <a:pt x="0" y="21600"/>
                </a:lnTo>
                <a:close/>
              </a:path>
              <a:path fill="lightenLess" w="37117" h="21600">
                <a:moveTo>
                  <a:pt x="0" y="0"/>
                </a:moveTo>
                <a:lnTo>
                  <a:pt x="37117" y="0"/>
                </a:lnTo>
                <a:lnTo>
                  <a:pt x="35717" y="1400"/>
                </a:lnTo>
                <a:lnTo>
                  <a:pt x="1400" y="1400"/>
                </a:lnTo>
                <a:close/>
              </a:path>
              <a:path fill="darken" w="37117" h="21600">
                <a:moveTo>
                  <a:pt x="37117" y="0"/>
                </a:moveTo>
                <a:lnTo>
                  <a:pt x="37117" y="21600"/>
                </a:lnTo>
                <a:lnTo>
                  <a:pt x="35717" y="20200"/>
                </a:lnTo>
                <a:lnTo>
                  <a:pt x="35717" y="1400"/>
                </a:lnTo>
                <a:close/>
              </a:path>
              <a:path fill="darkenLess" w="37117" h="21600">
                <a:moveTo>
                  <a:pt x="37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17" y="20200"/>
                </a:lnTo>
                <a:close/>
              </a:path>
              <a:path fill="lighten" w="37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117" h="21600">
                <a:moveTo>
                  <a:pt x="18558" y="3837"/>
                </a:moveTo>
                <a:lnTo>
                  <a:pt x="21135" y="6448"/>
                </a:lnTo>
                <a:lnTo>
                  <a:pt x="21135" y="4707"/>
                </a:lnTo>
                <a:lnTo>
                  <a:pt x="22910" y="4707"/>
                </a:lnTo>
                <a:lnTo>
                  <a:pt x="22910" y="8224"/>
                </a:lnTo>
                <a:lnTo>
                  <a:pt x="25521" y="10800"/>
                </a:lnTo>
                <a:lnTo>
                  <a:pt x="23868" y="10800"/>
                </a:lnTo>
                <a:lnTo>
                  <a:pt x="23868" y="17989"/>
                </a:lnTo>
                <a:lnTo>
                  <a:pt x="13249" y="17989"/>
                </a:lnTo>
                <a:lnTo>
                  <a:pt x="13249" y="10800"/>
                </a:lnTo>
                <a:lnTo>
                  <a:pt x="11595" y="10800"/>
                </a:lnTo>
                <a:close/>
              </a:path>
              <a:path fill="darkenLess" w="37117" h="21600">
                <a:moveTo>
                  <a:pt x="21135" y="6448"/>
                </a:moveTo>
                <a:lnTo>
                  <a:pt x="21135" y="4707"/>
                </a:lnTo>
                <a:lnTo>
                  <a:pt x="22910" y="4707"/>
                </a:lnTo>
                <a:lnTo>
                  <a:pt x="22910" y="8224"/>
                </a:lnTo>
                <a:close/>
              </a:path>
              <a:path fill="darkenLess" w="37117" h="21600">
                <a:moveTo>
                  <a:pt x="17636" y="14299"/>
                </a:moveTo>
                <a:lnTo>
                  <a:pt x="19481" y="14299"/>
                </a:lnTo>
                <a:lnTo>
                  <a:pt x="19481" y="17989"/>
                </a:lnTo>
                <a:lnTo>
                  <a:pt x="23868" y="17989"/>
                </a:lnTo>
                <a:lnTo>
                  <a:pt x="23868" y="10800"/>
                </a:lnTo>
                <a:lnTo>
                  <a:pt x="13249" y="10800"/>
                </a:lnTo>
                <a:lnTo>
                  <a:pt x="13249" y="17989"/>
                </a:lnTo>
                <a:lnTo>
                  <a:pt x="17636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mic Sans MS"/>
              </a:rPr>
              <a:t>Літературний ребус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8136000" y="2205000"/>
            <a:ext cx="10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‘ 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19640" y="2205000"/>
            <a:ext cx="57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‘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9280" y="2243160"/>
            <a:ext cx="3095640" cy="17906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356000" y="1981080"/>
            <a:ext cx="3600720" cy="2340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333080" y="5127480"/>
            <a:ext cx="220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аргар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rId3" action="ppaction://hlinksldjump"/>
          </p:cNvPr>
          <p:cNvSpPr/>
          <p:nvPr/>
        </p:nvSpPr>
        <p:spPr>
          <a:xfrm>
            <a:off x="250920" y="6021360"/>
            <a:ext cx="1008000" cy="647640"/>
          </a:xfrm>
          <a:custGeom>
            <a:avLst/>
            <a:gdLst>
              <a:gd name="textAreaLeft" fmla="*/ 41760 w 1008000"/>
              <a:gd name="textAreaRight" fmla="*/ 966240 w 100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3612" h="21600">
                <a:moveTo>
                  <a:pt x="0" y="0"/>
                </a:moveTo>
                <a:lnTo>
                  <a:pt x="33612" y="0"/>
                </a:lnTo>
                <a:lnTo>
                  <a:pt x="33612" y="21600"/>
                </a:lnTo>
                <a:lnTo>
                  <a:pt x="0" y="21600"/>
                </a:lnTo>
                <a:close/>
              </a:path>
              <a:path fill="lightenLess" w="33612" h="21600">
                <a:moveTo>
                  <a:pt x="0" y="0"/>
                </a:moveTo>
                <a:lnTo>
                  <a:pt x="33612" y="0"/>
                </a:lnTo>
                <a:lnTo>
                  <a:pt x="32212" y="1400"/>
                </a:lnTo>
                <a:lnTo>
                  <a:pt x="1400" y="1400"/>
                </a:lnTo>
                <a:close/>
              </a:path>
              <a:path fill="darken" w="33612" h="21600">
                <a:moveTo>
                  <a:pt x="33612" y="0"/>
                </a:moveTo>
                <a:lnTo>
                  <a:pt x="33612" y="21600"/>
                </a:lnTo>
                <a:lnTo>
                  <a:pt x="32212" y="20200"/>
                </a:lnTo>
                <a:lnTo>
                  <a:pt x="32212" y="1400"/>
                </a:lnTo>
                <a:close/>
              </a:path>
              <a:path fill="darkenLess" w="33612" h="21600">
                <a:moveTo>
                  <a:pt x="33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12" y="20200"/>
                </a:lnTo>
                <a:close/>
              </a:path>
              <a:path fill="lighten" w="33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12" h="21600">
                <a:moveTo>
                  <a:pt x="16806" y="3837"/>
                </a:moveTo>
                <a:lnTo>
                  <a:pt x="19382" y="6448"/>
                </a:lnTo>
                <a:lnTo>
                  <a:pt x="19382" y="4707"/>
                </a:lnTo>
                <a:lnTo>
                  <a:pt x="21158" y="4707"/>
                </a:lnTo>
                <a:lnTo>
                  <a:pt x="21158" y="8224"/>
                </a:lnTo>
                <a:lnTo>
                  <a:pt x="23769" y="10800"/>
                </a:lnTo>
                <a:lnTo>
                  <a:pt x="22115" y="10800"/>
                </a:lnTo>
                <a:lnTo>
                  <a:pt x="22115" y="17989"/>
                </a:lnTo>
                <a:lnTo>
                  <a:pt x="11497" y="17989"/>
                </a:lnTo>
                <a:lnTo>
                  <a:pt x="11497" y="10800"/>
                </a:lnTo>
                <a:lnTo>
                  <a:pt x="9843" y="10800"/>
                </a:lnTo>
                <a:close/>
              </a:path>
              <a:path fill="darkenLess" w="33612" h="21600">
                <a:moveTo>
                  <a:pt x="19382" y="6448"/>
                </a:moveTo>
                <a:lnTo>
                  <a:pt x="19382" y="4707"/>
                </a:lnTo>
                <a:lnTo>
                  <a:pt x="21158" y="4707"/>
                </a:lnTo>
                <a:lnTo>
                  <a:pt x="21158" y="8224"/>
                </a:lnTo>
                <a:close/>
              </a:path>
              <a:path fill="darkenLess" w="33612" h="21600">
                <a:moveTo>
                  <a:pt x="15883" y="14299"/>
                </a:moveTo>
                <a:lnTo>
                  <a:pt x="17729" y="14299"/>
                </a:lnTo>
                <a:lnTo>
                  <a:pt x="17729" y="17989"/>
                </a:lnTo>
                <a:lnTo>
                  <a:pt x="22115" y="17989"/>
                </a:lnTo>
                <a:lnTo>
                  <a:pt x="22115" y="10800"/>
                </a:lnTo>
                <a:lnTo>
                  <a:pt x="11497" y="10800"/>
                </a:lnTo>
                <a:lnTo>
                  <a:pt x="11497" y="17989"/>
                </a:lnTo>
                <a:lnTo>
                  <a:pt x="15883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mic Sans MS"/>
              </a:rPr>
              <a:t>Літературний ребус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250920" y="2492280"/>
            <a:ext cx="10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‘ 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635280" y="2421000"/>
            <a:ext cx="2519280" cy="18684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156360" y="292428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7200" spc="-1" strike="noStrike">
                <a:solidFill>
                  <a:srgbClr val="000000"/>
                </a:solidFill>
                <a:latin typeface="Arial"/>
              </a:rPr>
              <a:t>НИ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71640" y="4840200"/>
            <a:ext cx="22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ездом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rId3" action="ppaction://hlinksldjump"/>
          </p:cNvPr>
          <p:cNvSpPr/>
          <p:nvPr/>
        </p:nvSpPr>
        <p:spPr>
          <a:xfrm>
            <a:off x="250920" y="6093000"/>
            <a:ext cx="1081080" cy="765000"/>
          </a:xfrm>
          <a:custGeom>
            <a:avLst/>
            <a:gdLst>
              <a:gd name="textAreaLeft" fmla="*/ 49320 w 1081080"/>
              <a:gd name="textAreaRight" fmla="*/ 1031760 w 10810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0520" h="21600">
                <a:moveTo>
                  <a:pt x="0" y="0"/>
                </a:moveTo>
                <a:lnTo>
                  <a:pt x="30520" y="0"/>
                </a:lnTo>
                <a:lnTo>
                  <a:pt x="30520" y="21600"/>
                </a:lnTo>
                <a:lnTo>
                  <a:pt x="0" y="21600"/>
                </a:lnTo>
                <a:close/>
              </a:path>
              <a:path fill="lightenLess" w="30520" h="21600">
                <a:moveTo>
                  <a:pt x="0" y="0"/>
                </a:moveTo>
                <a:lnTo>
                  <a:pt x="30520" y="0"/>
                </a:lnTo>
                <a:lnTo>
                  <a:pt x="29120" y="1400"/>
                </a:lnTo>
                <a:lnTo>
                  <a:pt x="1400" y="1400"/>
                </a:lnTo>
                <a:close/>
              </a:path>
              <a:path fill="darken" w="30520" h="21600">
                <a:moveTo>
                  <a:pt x="30520" y="0"/>
                </a:moveTo>
                <a:lnTo>
                  <a:pt x="30520" y="21600"/>
                </a:lnTo>
                <a:lnTo>
                  <a:pt x="29120" y="20200"/>
                </a:lnTo>
                <a:lnTo>
                  <a:pt x="29120" y="1400"/>
                </a:lnTo>
                <a:close/>
              </a:path>
              <a:path fill="darkenLess" w="30520" h="21600">
                <a:moveTo>
                  <a:pt x="305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20" y="20200"/>
                </a:lnTo>
                <a:close/>
              </a:path>
              <a:path fill="lighten" w="305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20" h="21600">
                <a:moveTo>
                  <a:pt x="15260" y="3837"/>
                </a:moveTo>
                <a:lnTo>
                  <a:pt x="17837" y="6448"/>
                </a:lnTo>
                <a:lnTo>
                  <a:pt x="17837" y="4707"/>
                </a:lnTo>
                <a:lnTo>
                  <a:pt x="19612" y="4707"/>
                </a:lnTo>
                <a:lnTo>
                  <a:pt x="19612" y="8224"/>
                </a:lnTo>
                <a:lnTo>
                  <a:pt x="22223" y="10800"/>
                </a:lnTo>
                <a:lnTo>
                  <a:pt x="20569" y="10800"/>
                </a:lnTo>
                <a:lnTo>
                  <a:pt x="20569" y="17989"/>
                </a:lnTo>
                <a:lnTo>
                  <a:pt x="9951" y="17989"/>
                </a:lnTo>
                <a:lnTo>
                  <a:pt x="9951" y="10800"/>
                </a:lnTo>
                <a:lnTo>
                  <a:pt x="8297" y="10800"/>
                </a:lnTo>
                <a:close/>
              </a:path>
              <a:path fill="darkenLess" w="30520" h="21600">
                <a:moveTo>
                  <a:pt x="17837" y="6448"/>
                </a:moveTo>
                <a:lnTo>
                  <a:pt x="17837" y="4707"/>
                </a:lnTo>
                <a:lnTo>
                  <a:pt x="19612" y="4707"/>
                </a:lnTo>
                <a:lnTo>
                  <a:pt x="19612" y="8224"/>
                </a:lnTo>
                <a:close/>
              </a:path>
              <a:path fill="darkenLess" w="30520" h="21600">
                <a:moveTo>
                  <a:pt x="14338" y="14299"/>
                </a:moveTo>
                <a:lnTo>
                  <a:pt x="16183" y="14299"/>
                </a:lnTo>
                <a:lnTo>
                  <a:pt x="16183" y="17989"/>
                </a:lnTo>
                <a:lnTo>
                  <a:pt x="20569" y="17989"/>
                </a:lnTo>
                <a:lnTo>
                  <a:pt x="20569" y="10800"/>
                </a:lnTo>
                <a:lnTo>
                  <a:pt x="9951" y="10800"/>
                </a:lnTo>
                <a:lnTo>
                  <a:pt x="9951" y="17989"/>
                </a:lnTo>
                <a:lnTo>
                  <a:pt x="14338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mic Sans MS"/>
              </a:rPr>
              <a:t>Літературний ребус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/>
          <p:cNvSpPr/>
          <p:nvPr/>
        </p:nvSpPr>
        <p:spPr>
          <a:xfrm>
            <a:off x="395280" y="220500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сія- Моск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країна – Киї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імеччина -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80000" y="2492280"/>
            <a:ext cx="388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uk-UA" sz="8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9600" spc="-1" strike="noStrike">
                <a:solidFill>
                  <a:srgbClr val="000000"/>
                </a:solidFill>
                <a:latin typeface="Arial"/>
              </a:rPr>
              <a:t>ОЗ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60000" y="4768920"/>
            <a:ext cx="175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ерліо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0" y="5877000"/>
            <a:ext cx="1258920" cy="981000"/>
          </a:xfrm>
          <a:custGeom>
            <a:avLst/>
            <a:gdLst>
              <a:gd name="textAreaLeft" fmla="*/ 63360 w 1258920"/>
              <a:gd name="textAreaRight" fmla="*/ 1195560 w 125892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7717" h="21600">
                <a:moveTo>
                  <a:pt x="0" y="0"/>
                </a:moveTo>
                <a:lnTo>
                  <a:pt x="27717" y="0"/>
                </a:lnTo>
                <a:lnTo>
                  <a:pt x="27717" y="21600"/>
                </a:lnTo>
                <a:lnTo>
                  <a:pt x="0" y="21600"/>
                </a:lnTo>
                <a:close/>
              </a:path>
              <a:path fill="lightenLess" w="27717" h="21600">
                <a:moveTo>
                  <a:pt x="0" y="0"/>
                </a:moveTo>
                <a:lnTo>
                  <a:pt x="27717" y="0"/>
                </a:lnTo>
                <a:lnTo>
                  <a:pt x="26317" y="1400"/>
                </a:lnTo>
                <a:lnTo>
                  <a:pt x="1400" y="1400"/>
                </a:lnTo>
                <a:close/>
              </a:path>
              <a:path fill="darken" w="27717" h="21600">
                <a:moveTo>
                  <a:pt x="27717" y="0"/>
                </a:moveTo>
                <a:lnTo>
                  <a:pt x="27717" y="21600"/>
                </a:lnTo>
                <a:lnTo>
                  <a:pt x="26317" y="20200"/>
                </a:lnTo>
                <a:lnTo>
                  <a:pt x="26317" y="1400"/>
                </a:lnTo>
                <a:close/>
              </a:path>
              <a:path fill="darkenLess" w="27717" h="21600">
                <a:moveTo>
                  <a:pt x="277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7" y="20200"/>
                </a:lnTo>
                <a:close/>
              </a:path>
              <a:path fill="lighten" w="277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7" h="21600">
                <a:moveTo>
                  <a:pt x="13859" y="3837"/>
                </a:moveTo>
                <a:lnTo>
                  <a:pt x="16435" y="6448"/>
                </a:lnTo>
                <a:lnTo>
                  <a:pt x="16435" y="4707"/>
                </a:lnTo>
                <a:lnTo>
                  <a:pt x="18210" y="4707"/>
                </a:lnTo>
                <a:lnTo>
                  <a:pt x="18210" y="8224"/>
                </a:lnTo>
                <a:lnTo>
                  <a:pt x="20822" y="10800"/>
                </a:lnTo>
                <a:lnTo>
                  <a:pt x="19168" y="10800"/>
                </a:lnTo>
                <a:lnTo>
                  <a:pt x="19168" y="17989"/>
                </a:lnTo>
                <a:lnTo>
                  <a:pt x="8549" y="17989"/>
                </a:lnTo>
                <a:lnTo>
                  <a:pt x="8549" y="10800"/>
                </a:lnTo>
                <a:lnTo>
                  <a:pt x="6896" y="10800"/>
                </a:lnTo>
                <a:close/>
              </a:path>
              <a:path fill="darkenLess" w="27717" h="21600">
                <a:moveTo>
                  <a:pt x="16435" y="6448"/>
                </a:moveTo>
                <a:lnTo>
                  <a:pt x="16435" y="4707"/>
                </a:lnTo>
                <a:lnTo>
                  <a:pt x="18210" y="4707"/>
                </a:lnTo>
                <a:lnTo>
                  <a:pt x="18210" y="8224"/>
                </a:lnTo>
                <a:close/>
              </a:path>
              <a:path fill="darkenLess" w="27717" h="21600">
                <a:moveTo>
                  <a:pt x="12936" y="14299"/>
                </a:moveTo>
                <a:lnTo>
                  <a:pt x="14781" y="14299"/>
                </a:lnTo>
                <a:lnTo>
                  <a:pt x="14781" y="17989"/>
                </a:lnTo>
                <a:lnTo>
                  <a:pt x="19168" y="17989"/>
                </a:lnTo>
                <a:lnTo>
                  <a:pt x="19168" y="10800"/>
                </a:lnTo>
                <a:lnTo>
                  <a:pt x="8549" y="10800"/>
                </a:lnTo>
                <a:lnTo>
                  <a:pt x="8549" y="17989"/>
                </a:lnTo>
                <a:lnTo>
                  <a:pt x="12936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mic Sans MS"/>
              </a:rPr>
              <a:t>Літературний ребус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2449440" cy="24494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340000" y="1916280"/>
            <a:ext cx="10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‘ 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0000" y="1844640"/>
            <a:ext cx="43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56360" y="270828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7200" spc="-1" strike="noStrike">
                <a:solidFill>
                  <a:srgbClr val="000000"/>
                </a:solidFill>
                <a:latin typeface="Arial"/>
              </a:rPr>
              <a:t>О=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067280" y="1844640"/>
            <a:ext cx="2160360" cy="21607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259280" y="476892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арен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rId3" action="ppaction://hlinksldjump"/>
          </p:cNvPr>
          <p:cNvSpPr/>
          <p:nvPr/>
        </p:nvSpPr>
        <p:spPr>
          <a:xfrm>
            <a:off x="250920" y="5877000"/>
            <a:ext cx="1296720" cy="792000"/>
          </a:xfrm>
          <a:custGeom>
            <a:avLst/>
            <a:gdLst>
              <a:gd name="textAreaLeft" fmla="*/ 51120 w 1296720"/>
              <a:gd name="textAreaRight" fmla="*/ 1245600 w 129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35359" h="21600">
                <a:moveTo>
                  <a:pt x="0" y="0"/>
                </a:moveTo>
                <a:lnTo>
                  <a:pt x="35359" y="0"/>
                </a:lnTo>
                <a:lnTo>
                  <a:pt x="35359" y="21600"/>
                </a:lnTo>
                <a:lnTo>
                  <a:pt x="0" y="21600"/>
                </a:lnTo>
                <a:close/>
              </a:path>
              <a:path fill="lightenLess" w="35359" h="21600">
                <a:moveTo>
                  <a:pt x="0" y="0"/>
                </a:moveTo>
                <a:lnTo>
                  <a:pt x="35359" y="0"/>
                </a:lnTo>
                <a:lnTo>
                  <a:pt x="33959" y="1400"/>
                </a:lnTo>
                <a:lnTo>
                  <a:pt x="1400" y="1400"/>
                </a:lnTo>
                <a:close/>
              </a:path>
              <a:path fill="darken" w="35359" h="21600">
                <a:moveTo>
                  <a:pt x="35359" y="0"/>
                </a:moveTo>
                <a:lnTo>
                  <a:pt x="35359" y="21600"/>
                </a:lnTo>
                <a:lnTo>
                  <a:pt x="33959" y="20200"/>
                </a:lnTo>
                <a:lnTo>
                  <a:pt x="33959" y="1400"/>
                </a:lnTo>
                <a:close/>
              </a:path>
              <a:path fill="darkenLess" w="35359" h="21600">
                <a:moveTo>
                  <a:pt x="35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59" y="20200"/>
                </a:lnTo>
                <a:close/>
              </a:path>
              <a:path fill="lighten" w="35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59" h="21600">
                <a:moveTo>
                  <a:pt x="17679" y="3837"/>
                </a:moveTo>
                <a:lnTo>
                  <a:pt x="20256" y="6448"/>
                </a:lnTo>
                <a:lnTo>
                  <a:pt x="20256" y="4707"/>
                </a:lnTo>
                <a:lnTo>
                  <a:pt x="22031" y="4707"/>
                </a:lnTo>
                <a:lnTo>
                  <a:pt x="22031" y="8224"/>
                </a:lnTo>
                <a:lnTo>
                  <a:pt x="24642" y="10800"/>
                </a:lnTo>
                <a:lnTo>
                  <a:pt x="22989" y="10800"/>
                </a:lnTo>
                <a:lnTo>
                  <a:pt x="22989" y="17989"/>
                </a:lnTo>
                <a:lnTo>
                  <a:pt x="12370" y="17989"/>
                </a:lnTo>
                <a:lnTo>
                  <a:pt x="12370" y="10800"/>
                </a:lnTo>
                <a:lnTo>
                  <a:pt x="10716" y="10800"/>
                </a:lnTo>
                <a:close/>
              </a:path>
              <a:path fill="darkenLess" w="35359" h="21600">
                <a:moveTo>
                  <a:pt x="20256" y="6448"/>
                </a:moveTo>
                <a:lnTo>
                  <a:pt x="20256" y="4707"/>
                </a:lnTo>
                <a:lnTo>
                  <a:pt x="22031" y="4707"/>
                </a:lnTo>
                <a:lnTo>
                  <a:pt x="22031" y="8224"/>
                </a:lnTo>
                <a:close/>
              </a:path>
              <a:path fill="darkenLess" w="35359" h="21600">
                <a:moveTo>
                  <a:pt x="16757" y="14299"/>
                </a:moveTo>
                <a:lnTo>
                  <a:pt x="18602" y="14299"/>
                </a:lnTo>
                <a:lnTo>
                  <a:pt x="18602" y="17989"/>
                </a:lnTo>
                <a:lnTo>
                  <a:pt x="22989" y="17989"/>
                </a:lnTo>
                <a:lnTo>
                  <a:pt x="22989" y="10800"/>
                </a:lnTo>
                <a:lnTo>
                  <a:pt x="12370" y="10800"/>
                </a:lnTo>
                <a:lnTo>
                  <a:pt x="12370" y="17989"/>
                </a:lnTo>
                <a:lnTo>
                  <a:pt x="16757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mic Sans MS"/>
              </a:rPr>
              <a:t>Сюже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З якою метою Воланд прибув до Москви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(Подивитися, як змінилися люди за 300 років, і відновити справедливість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250920" y="5950080"/>
            <a:ext cx="936360" cy="503280"/>
          </a:xfrm>
          <a:custGeom>
            <a:avLst/>
            <a:gdLst>
              <a:gd name="textAreaLeft" fmla="*/ 32400 w 936360"/>
              <a:gd name="textAreaRight" fmla="*/ 903960 w 93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0174" h="21600">
                <a:moveTo>
                  <a:pt x="0" y="0"/>
                </a:moveTo>
                <a:lnTo>
                  <a:pt x="40174" y="0"/>
                </a:lnTo>
                <a:lnTo>
                  <a:pt x="40174" y="21600"/>
                </a:lnTo>
                <a:lnTo>
                  <a:pt x="0" y="21600"/>
                </a:lnTo>
                <a:close/>
              </a:path>
              <a:path fill="lightenLess" w="40174" h="21600">
                <a:moveTo>
                  <a:pt x="0" y="0"/>
                </a:moveTo>
                <a:lnTo>
                  <a:pt x="40174" y="0"/>
                </a:lnTo>
                <a:lnTo>
                  <a:pt x="38774" y="1400"/>
                </a:lnTo>
                <a:lnTo>
                  <a:pt x="1400" y="1400"/>
                </a:lnTo>
                <a:close/>
              </a:path>
              <a:path fill="darken" w="40174" h="21600">
                <a:moveTo>
                  <a:pt x="40174" y="0"/>
                </a:moveTo>
                <a:lnTo>
                  <a:pt x="40174" y="21600"/>
                </a:lnTo>
                <a:lnTo>
                  <a:pt x="38774" y="20200"/>
                </a:lnTo>
                <a:lnTo>
                  <a:pt x="38774" y="1400"/>
                </a:lnTo>
                <a:close/>
              </a:path>
              <a:path fill="darkenLess" w="40174" h="21600">
                <a:moveTo>
                  <a:pt x="40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74" y="20200"/>
                </a:lnTo>
                <a:close/>
              </a:path>
              <a:path fill="lighten" w="40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74" h="21600">
                <a:moveTo>
                  <a:pt x="20087" y="3837"/>
                </a:moveTo>
                <a:lnTo>
                  <a:pt x="22663" y="6448"/>
                </a:lnTo>
                <a:lnTo>
                  <a:pt x="22663" y="4707"/>
                </a:lnTo>
                <a:lnTo>
                  <a:pt x="24439" y="4707"/>
                </a:lnTo>
                <a:lnTo>
                  <a:pt x="24439" y="8224"/>
                </a:lnTo>
                <a:lnTo>
                  <a:pt x="27050" y="10800"/>
                </a:lnTo>
                <a:lnTo>
                  <a:pt x="25396" y="10800"/>
                </a:lnTo>
                <a:lnTo>
                  <a:pt x="25396" y="17989"/>
                </a:lnTo>
                <a:lnTo>
                  <a:pt x="14778" y="17989"/>
                </a:lnTo>
                <a:lnTo>
                  <a:pt x="14778" y="10800"/>
                </a:lnTo>
                <a:lnTo>
                  <a:pt x="13124" y="10800"/>
                </a:lnTo>
                <a:close/>
              </a:path>
              <a:path fill="darkenLess" w="40174" h="21600">
                <a:moveTo>
                  <a:pt x="22663" y="6448"/>
                </a:moveTo>
                <a:lnTo>
                  <a:pt x="22663" y="4707"/>
                </a:lnTo>
                <a:lnTo>
                  <a:pt x="24439" y="4707"/>
                </a:lnTo>
                <a:lnTo>
                  <a:pt x="24439" y="8224"/>
                </a:lnTo>
                <a:close/>
              </a:path>
              <a:path fill="darkenLess" w="40174" h="21600">
                <a:moveTo>
                  <a:pt x="19164" y="14299"/>
                </a:moveTo>
                <a:lnTo>
                  <a:pt x="21010" y="14299"/>
                </a:lnTo>
                <a:lnTo>
                  <a:pt x="21010" y="17989"/>
                </a:lnTo>
                <a:lnTo>
                  <a:pt x="25396" y="17989"/>
                </a:lnTo>
                <a:lnTo>
                  <a:pt x="25396" y="10800"/>
                </a:lnTo>
                <a:lnTo>
                  <a:pt x="14778" y="10800"/>
                </a:lnTo>
                <a:lnTo>
                  <a:pt x="14778" y="17989"/>
                </a:lnTo>
                <a:lnTo>
                  <a:pt x="19164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572000" y="4076640"/>
            <a:ext cx="352908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mic Sans MS"/>
              </a:rPr>
              <a:t>Сюже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Яких висновків дійшов Воланд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(Люди не змінилися, їх ще більше зіпсувало «квартирне питання»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>
            <a:hlinkClick r:id="rId1" action="ppaction://hlinksldjump"/>
          </p:cNvPr>
          <p:cNvSpPr/>
          <p:nvPr/>
        </p:nvSpPr>
        <p:spPr>
          <a:xfrm>
            <a:off x="250920" y="5877000"/>
            <a:ext cx="1081080" cy="720720"/>
          </a:xfrm>
          <a:custGeom>
            <a:avLst/>
            <a:gdLst>
              <a:gd name="textAreaLeft" fmla="*/ 46440 w 1081080"/>
              <a:gd name="textAreaRight" fmla="*/ 1034640 w 10810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95" h="21600">
                <a:moveTo>
                  <a:pt x="0" y="0"/>
                </a:moveTo>
                <a:lnTo>
                  <a:pt x="32395" y="0"/>
                </a:lnTo>
                <a:lnTo>
                  <a:pt x="32395" y="21600"/>
                </a:lnTo>
                <a:lnTo>
                  <a:pt x="0" y="21600"/>
                </a:lnTo>
                <a:close/>
              </a:path>
              <a:path fill="lightenLess" w="32395" h="21600">
                <a:moveTo>
                  <a:pt x="0" y="0"/>
                </a:moveTo>
                <a:lnTo>
                  <a:pt x="32395" y="0"/>
                </a:lnTo>
                <a:lnTo>
                  <a:pt x="30995" y="1400"/>
                </a:lnTo>
                <a:lnTo>
                  <a:pt x="1400" y="1400"/>
                </a:lnTo>
                <a:close/>
              </a:path>
              <a:path fill="darken" w="32395" h="21600">
                <a:moveTo>
                  <a:pt x="32395" y="0"/>
                </a:moveTo>
                <a:lnTo>
                  <a:pt x="32395" y="21600"/>
                </a:lnTo>
                <a:lnTo>
                  <a:pt x="30995" y="20200"/>
                </a:lnTo>
                <a:lnTo>
                  <a:pt x="30995" y="1400"/>
                </a:lnTo>
                <a:close/>
              </a:path>
              <a:path fill="darkenLess" w="32395" h="21600">
                <a:moveTo>
                  <a:pt x="3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5" y="20200"/>
                </a:lnTo>
                <a:close/>
              </a:path>
              <a:path fill="lighten" w="3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5" h="21600">
                <a:moveTo>
                  <a:pt x="16197" y="3837"/>
                </a:moveTo>
                <a:lnTo>
                  <a:pt x="18774" y="6448"/>
                </a:lnTo>
                <a:lnTo>
                  <a:pt x="18774" y="4707"/>
                </a:lnTo>
                <a:lnTo>
                  <a:pt x="20549" y="4707"/>
                </a:lnTo>
                <a:lnTo>
                  <a:pt x="20549" y="8224"/>
                </a:lnTo>
                <a:lnTo>
                  <a:pt x="23160" y="10800"/>
                </a:lnTo>
                <a:lnTo>
                  <a:pt x="21507" y="10800"/>
                </a:lnTo>
                <a:lnTo>
                  <a:pt x="21507" y="17989"/>
                </a:lnTo>
                <a:lnTo>
                  <a:pt x="10888" y="17989"/>
                </a:lnTo>
                <a:lnTo>
                  <a:pt x="10888" y="10800"/>
                </a:lnTo>
                <a:lnTo>
                  <a:pt x="9234" y="10800"/>
                </a:lnTo>
                <a:close/>
              </a:path>
              <a:path fill="darkenLess" w="32395" h="21600">
                <a:moveTo>
                  <a:pt x="18774" y="6448"/>
                </a:moveTo>
                <a:lnTo>
                  <a:pt x="18774" y="4707"/>
                </a:lnTo>
                <a:lnTo>
                  <a:pt x="20549" y="4707"/>
                </a:lnTo>
                <a:lnTo>
                  <a:pt x="20549" y="8224"/>
                </a:lnTo>
                <a:close/>
              </a:path>
              <a:path fill="darkenLess" w="32395" h="21600">
                <a:moveTo>
                  <a:pt x="15275" y="14299"/>
                </a:moveTo>
                <a:lnTo>
                  <a:pt x="17120" y="14299"/>
                </a:lnTo>
                <a:lnTo>
                  <a:pt x="17120" y="17989"/>
                </a:lnTo>
                <a:lnTo>
                  <a:pt x="21507" y="17989"/>
                </a:lnTo>
                <a:lnTo>
                  <a:pt x="21507" y="10800"/>
                </a:lnTo>
                <a:lnTo>
                  <a:pt x="10888" y="10800"/>
                </a:lnTo>
                <a:lnTo>
                  <a:pt x="10888" y="17989"/>
                </a:lnTo>
                <a:lnTo>
                  <a:pt x="15275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3564000" y="3660840"/>
            <a:ext cx="367200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6T22:50:31Z</dcterms:created>
  <dc:creator>Елена</dc:creator>
  <dc:description/>
  <dc:language>en-US</dc:language>
  <cp:lastModifiedBy>Елена</cp:lastModifiedBy>
  <dcterms:modified xsi:type="dcterms:W3CDTF">2017-08-25T17:58:26Z</dcterms:modified>
  <cp:revision>5</cp:revision>
  <dc:subject/>
  <dc:title>Слайд 1</dc:title>
</cp:coreProperties>
</file>