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A71-1B29-4D15-B084-10C8420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DAF-8FDB-490B-BC9B-836D47E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1CB-B615-4215-85F9-7B0180BE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D2A-91FE-4EEF-8B5B-3F10E1B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2D6-5A6C-4CFF-91CC-BD501B45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846-FB7E-480E-ACC2-2C153F3C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FC4-D2D0-4A6A-A82D-684E3CE9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952-2B8A-4D44-9592-6DF5851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09E-7291-46ED-9C72-D565E4A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51AA-03BA-4102-B5CA-B49FC1F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C37-B1EE-409E-9A68-5C42D47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D03-1867-4106-8614-F208BC1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EF66-6960-418B-80DA-D6056279DA2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1197000"/>
            <a:ext cx="8497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03152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403152"/>
                </a:solidFill>
                <a:latin typeface="Times New Roman"/>
              </a:rPr>
              <a:t>Кирило-Мефодіївське братство: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403152"/>
                </a:solidFill>
                <a:latin typeface="Times New Roman"/>
              </a:rPr>
              <a:t>гурток однодумців чи ідеологів національного відродження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851280" y="476280"/>
            <a:ext cx="1944720" cy="288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ВРУ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428760" y="785880"/>
            <a:ext cx="8496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Національна ідея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усвідомлення українцями себе як окремого народу з власною історією, культурою. Традиціями, мовою. Можливістю національного існуванн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Національне відродження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 –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цес пробудження самосвідомості нар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Calibri"/>
              </a:rPr>
              <a:t>Дефініції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Calibri"/>
              </a:rPr>
              <a:t>Кирило-Мефодіївське братство: гурток  ідеологів національного відроджен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&amp;Kcy;&amp;icy;&amp;rcy;&amp;icy;&amp;lcy;&amp;ocy; &amp;iukcy; &amp;Mcy;&amp;iecy;&amp;fcy;&amp;ocy;&amp;dcy;&amp;iukcy;&amp;jcy;. &amp;Ncy;&amp;acy; &amp;chcy;&amp;iecy;&amp;scy;&amp;tcy;&amp;softcy; &amp;ncy;&amp;icy;&amp;khcy; &amp;ncy;&amp;acy;&amp;zcy;&amp;vcy;&amp;acy;&amp;ncy;&amp;ocy; &amp;bcy;&amp;rcy;&amp;acy;&amp;tcy;&amp;scy;&amp;tcy;&amp;vcy;&amp;ocy;."/>
          <p:cNvPicPr/>
          <p:nvPr/>
        </p:nvPicPr>
        <p:blipFill>
          <a:blip r:embed="rId1"/>
          <a:stretch/>
        </p:blipFill>
        <p:spPr>
          <a:xfrm>
            <a:off x="395280" y="260280"/>
            <a:ext cx="6176880" cy="4748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071720" y="4000680"/>
            <a:ext cx="727380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ahoma"/>
              </a:rPr>
              <a:t>Кирило-Мефодіївське братство (товариство),  засноване в січні 1846 р.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      </a:t>
            </a:r>
            <a:r>
              <a:rPr b="1" lang="uk-UA" sz="3600" spc="-1" strike="noStrike">
                <a:solidFill>
                  <a:srgbClr val="cc0000"/>
                </a:solidFill>
                <a:latin typeface="Tahoma"/>
              </a:rPr>
              <a:t>в Києві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3" descr="897a51c22dd4.png"/>
          <p:cNvPicPr/>
          <p:nvPr/>
        </p:nvPicPr>
        <p:blipFill>
          <a:blip r:embed="rId1"/>
          <a:stretch/>
        </p:blipFill>
        <p:spPr>
          <a:xfrm>
            <a:off x="642960" y="714240"/>
            <a:ext cx="157176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3132000" y="1268280"/>
            <a:ext cx="5040360" cy="10083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76720" y="1474920"/>
            <a:ext cx="43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грамні документи брат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755640" y="2637000"/>
            <a:ext cx="3600360" cy="136836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11280" y="2997360"/>
            <a:ext cx="388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Книга буття українського народу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4716360" y="2637000"/>
            <a:ext cx="4427640" cy="143964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896000" y="3068640"/>
            <a:ext cx="42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Статут слов’янського товариства Святих Кирила і Мефоді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643280" y="4653000"/>
            <a:ext cx="13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3995640" y="4365720"/>
            <a:ext cx="2305080" cy="647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995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головна ідея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6877080" y="4365720"/>
            <a:ext cx="180036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877080" y="4365720"/>
            <a:ext cx="201600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головні правил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22"/>
          <p:cNvSpPr/>
          <p:nvPr/>
        </p:nvSpPr>
        <p:spPr>
          <a:xfrm flipH="1">
            <a:off x="5148000" y="3933720"/>
            <a:ext cx="647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7451640" y="4076640"/>
            <a:ext cx="7207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irc_mi" descr="1279534101_zakbozhuy"/>
          <p:cNvPicPr/>
          <p:nvPr/>
        </p:nvPicPr>
        <p:blipFill>
          <a:blip r:embed="rId2"/>
          <a:stretch/>
        </p:blipFill>
        <p:spPr>
          <a:xfrm rot="21249000">
            <a:off x="250560" y="4149360"/>
            <a:ext cx="150480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irc_mi" descr="1101012006001017_f0_0"/>
          <p:cNvPicPr/>
          <p:nvPr/>
        </p:nvPicPr>
        <p:blipFill>
          <a:blip r:embed="rId3"/>
          <a:stretch/>
        </p:blipFill>
        <p:spPr>
          <a:xfrm rot="729600">
            <a:off x="2050920" y="3860280"/>
            <a:ext cx="185436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Line 28"/>
          <p:cNvSpPr/>
          <p:nvPr/>
        </p:nvSpPr>
        <p:spPr>
          <a:xfrm flipH="1">
            <a:off x="3563640" y="2276640"/>
            <a:ext cx="136836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4932360" y="2276640"/>
            <a:ext cx="1079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rc_mi" descr="4470"/>
          <p:cNvPicPr/>
          <p:nvPr/>
        </p:nvPicPr>
        <p:blipFill>
          <a:blip r:embed="rId1"/>
          <a:stretch/>
        </p:blipFill>
        <p:spPr>
          <a:xfrm rot="20619600">
            <a:off x="797040" y="947520"/>
            <a:ext cx="2825640" cy="4552920"/>
          </a:xfrm>
          <a:prstGeom prst="rect">
            <a:avLst/>
          </a:prstGeom>
          <a:ln w="0">
            <a:noFill/>
          </a:ln>
        </p:spPr>
      </p:pic>
      <p:pic>
        <p:nvPicPr>
          <p:cNvPr id="68" name="irc_mi" descr="15_image012"/>
          <p:cNvPicPr/>
          <p:nvPr/>
        </p:nvPicPr>
        <p:blipFill>
          <a:blip r:embed="rId2"/>
          <a:stretch/>
        </p:blipFill>
        <p:spPr>
          <a:xfrm>
            <a:off x="3857760" y="1000080"/>
            <a:ext cx="4230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500040" y="4500720"/>
            <a:ext cx="581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нига буття українського народу»                                        (</a:t>
            </a:r>
            <a:r>
              <a:rPr b="1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нша назва — «Закон божий»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irc_mi" descr="zakon_bozy"/>
          <p:cNvPicPr/>
          <p:nvPr/>
        </p:nvPicPr>
        <p:blipFill>
          <a:blip r:embed="rId1"/>
          <a:stretch/>
        </p:blipFill>
        <p:spPr>
          <a:xfrm rot="21440400">
            <a:off x="1002960" y="804960"/>
            <a:ext cx="4011480" cy="33447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71" name="irc_mi" descr="150px-Kostomarov2"/>
          <p:cNvPicPr/>
          <p:nvPr/>
        </p:nvPicPr>
        <p:blipFill>
          <a:blip r:embed="rId2"/>
          <a:stretch/>
        </p:blipFill>
        <p:spPr>
          <a:xfrm rot="21190200">
            <a:off x="5214600" y="1071360"/>
            <a:ext cx="3284640" cy="422568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rc_mi" descr="%D1%88%D1%88"/>
          <p:cNvPicPr/>
          <p:nvPr/>
        </p:nvPicPr>
        <p:blipFill>
          <a:blip r:embed="rId1"/>
          <a:stretch/>
        </p:blipFill>
        <p:spPr>
          <a:xfrm>
            <a:off x="1143000" y="357120"/>
            <a:ext cx="4624560" cy="35895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pic-1.jpg"/>
          <p:cNvPicPr/>
          <p:nvPr/>
        </p:nvPicPr>
        <p:blipFill>
          <a:blip r:embed="rId2"/>
          <a:stretch/>
        </p:blipFill>
        <p:spPr>
          <a:xfrm rot="655200">
            <a:off x="6502320" y="603360"/>
            <a:ext cx="2157480" cy="324000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9" descr="img_5_4_1_0.jpeg"/>
          <p:cNvPicPr/>
          <p:nvPr/>
        </p:nvPicPr>
        <p:blipFill>
          <a:blip r:embed="rId3"/>
          <a:stretch/>
        </p:blipFill>
        <p:spPr>
          <a:xfrm>
            <a:off x="4857840" y="3500280"/>
            <a:ext cx="2147760" cy="3068640"/>
          </a:xfrm>
          <a:prstGeom prst="rect">
            <a:avLst/>
          </a:prstGeom>
          <a:ln w="0">
            <a:noFill/>
          </a:ln>
        </p:spPr>
      </p:pic>
      <p:pic>
        <p:nvPicPr>
          <p:cNvPr id="75" name="irc_mi" descr="150px-%D0%91%D1%96%D0%BB%D0%BE%D0%B7%D0%B5%D1%80%D1%81%D1%8C%D0%BA%D0%B8%D0%B9_%D0%92"/>
          <p:cNvPicPr/>
          <p:nvPr/>
        </p:nvPicPr>
        <p:blipFill>
          <a:blip r:embed="rId4"/>
          <a:stretch/>
        </p:blipFill>
        <p:spPr>
          <a:xfrm>
            <a:off x="1500120" y="3571920"/>
            <a:ext cx="20923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rc_mi" descr="kostomarov"/>
          <p:cNvPicPr/>
          <p:nvPr/>
        </p:nvPicPr>
        <p:blipFill>
          <a:blip r:embed="rId1"/>
          <a:stretch/>
        </p:blipFill>
        <p:spPr>
          <a:xfrm rot="21075600">
            <a:off x="852480" y="415800"/>
            <a:ext cx="5794560" cy="4154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42960" y="4000680"/>
            <a:ext cx="800100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ahoma"/>
              </a:rPr>
              <a:t>“</a:t>
            </a:r>
            <a:r>
              <a:rPr b="1" i="1" lang="uk-UA" sz="2400" spc="-1" strike="noStrike">
                <a:solidFill>
                  <a:srgbClr val="7030a0"/>
                </a:solidFill>
                <a:latin typeface="Tahoma"/>
              </a:rPr>
              <a:t>І встане Україна з своєї могили, і знову озоветься до всіх Слов’ян, і почують крик її, і встане слов’янщина, і не залишиться ні царя, ні царевича, ні царівни, ні князя, ні графа, ні герцога, ні сиятельства, ні превосходительства, ні пана, ні боярина, ні кріпака, ні холопа…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9:21:47Z</dcterms:created>
  <dc:creator>User</dc:creator>
  <dc:description/>
  <dc:language>en-US</dc:language>
  <cp:lastModifiedBy>User</cp:lastModifiedBy>
  <dcterms:modified xsi:type="dcterms:W3CDTF">2013-03-12T11:42:28Z</dcterms:modified>
  <cp:revision>10</cp:revision>
  <dc:subject/>
  <dc:title>Слайд 1</dc:title>
</cp:coreProperties>
</file>