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2EB-7D75-4D54-9D37-ABFC1619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657-3625-4DB9-ACE0-36CC651E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7F9-A8F0-4DC8-B2A4-2AA51D44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61E-2BCC-4211-BE63-E1DFE042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CF61-F817-4E2E-B326-A45E92E7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E00B-C0B1-435B-8A19-03122E9A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A598-0F76-44C9-B816-6F2CB9CF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825-CD88-427F-AE5A-5AB8FF37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8A1D-C42D-4AF7-A84D-DC82AA9E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B173-73F4-4294-8D5D-023EC93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1AF8-59C7-4405-8A87-064CD9A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459-CA57-487C-8BBD-0EF4D4F5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FD29-0528-4684-AC57-B8260FF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6425-40C1-4D82-8A26-871AF64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7F0-E5F1-4656-B2DC-1B84DF0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4E4-98D9-4672-9314-F25F0038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90B9-636B-40FF-89FA-3C28C0F4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C53-5FC9-423A-B303-B79F1BB3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3D4-FABA-4DAD-B0F1-DA7FD3B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E23-7438-4573-B614-217E3008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4D6-D31C-4E84-8846-A21AD63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DD0-B3C2-4F02-B902-2BD7C06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47F-F4D7-4F52-9D14-47F6F42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081-4DA1-475E-995B-DB6861C4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5C78-2393-4797-8FCE-5DE1645EF3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478-9A43-4337-BA6A-00D101FCF3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Рисунок 1" descr="Описание: http://www.zhrrkrog.dp.ua/upload-files/images/sagaidachnij.jpg"/>
          <p:cNvPicPr/>
          <p:nvPr/>
        </p:nvPicPr>
        <p:blipFill>
          <a:blip r:embed="rId1"/>
          <a:stretch/>
        </p:blipFill>
        <p:spPr>
          <a:xfrm>
            <a:off x="533520" y="380880"/>
            <a:ext cx="3352680" cy="5105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962520" y="205740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Гетьман Петро Сагайдачний (Конашевич-Сагайдачний)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один із найславетніших і найталановитіших козацьких вождів та полководців, що з однаковим успіхом діяв і на полі бою, і на дипломатичних тере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іяльність гетьма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19480" cy="44719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9370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656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61080" y="1785960"/>
            <a:ext cx="42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гайдачний-воїн-оборонец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гайдачний-полі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гайдачний-меценат і покров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ульту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ійськова діяльніст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орядкував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козацьке військ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в власну військову тактику та стратегі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ився вдалимими морськими і сухопутними походами проти Османскої Пор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ідіграв  вирішальну роль роль в битві під Хот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літична діяльніст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хищав інтереси українского народ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йнимав участь в європейській політиці того часу (відносини с Польщею і московським царем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ернув увагу до козаків в Європ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світницька діяльніст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24080" cy="28195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80880" y="242244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Створив культурний осередок в Києві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Стояв біля витоків Київскої братської шко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Захищав та підтримував православну церкв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Ініціатор відновлення в 1620 році православної ієрархі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 rot="11157000">
            <a:off x="5363640" y="5098680"/>
            <a:ext cx="32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удівля Київського брат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Хотинський замо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країнське козацтво в Хотинській війні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дпис на могильному камені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ут зложив запорізький гетьман свої кості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етро Конашевич, поранений задля вольност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тчизни, коли турки сильно напад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І пострілів смертельних кілька йому завд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І вмер, захищаючи батьківський кра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, Творче, блакить йому неба пода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Яко ревнителю віри справдешньої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 котрій з дитинства ще похрещен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оку тисяча шістсот двадцять друг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хований в монастирі братства Київськог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 котрий кілька тисяч офірува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Щоб там розвивались науки жада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 безсмертну заслужив славу, наш гетьман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і, вона у забутті, певне, не постан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ки Дністер із Дніпром многорибні плину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ти справи всі твої славно будуть лину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 впадеш у глибину забуття безличн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 загинеш у літах — маєш славу вічн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ідповіді на завданн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І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аріант                                   ІІ варіа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гіршилось                         1. у 1632 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ратства                              2. у 1632 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огоявленське                      3.”Літопис або камінь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Козацтва у 1620 р.                   “Євхаристіон або требник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Іпатій Потій                           4. Єпархіальні соб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ладислав І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                       5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Й.-В. Рутсь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росвітницькою                    6. П. Мог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Йов Борецький                      7. у 1615 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ороже                                 8. П.Конашевича-Сагайдач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 потрібно                           9. Митрополичу консисторі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10. Василіанський орд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країнські коза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ahoma"/>
              </a:rPr>
              <a:t>Українське козацтво </a:t>
            </a:r>
            <a:br>
              <a:rPr sz="3600"/>
            </a:br>
            <a:r>
              <a:rPr b="1" lang="uk-UA" sz="3600" spc="-1" strike="noStrike">
                <a:solidFill>
                  <a:srgbClr val="ffffcc"/>
                </a:solidFill>
                <a:latin typeface="Tahoma"/>
              </a:rPr>
              <a:t>у першій чверті 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XV</a:t>
            </a:r>
            <a:r>
              <a:rPr b="1" lang="uk-UA" sz="3600" spc="-1" strike="noStrike">
                <a:solidFill>
                  <a:srgbClr val="ffffcc"/>
                </a:solidFill>
                <a:latin typeface="Tahoma"/>
              </a:rPr>
              <a:t>ІІ ст.</a:t>
            </a:r>
            <a:br>
              <a:rPr sz="3600"/>
            </a:br>
            <a:r>
              <a:rPr b="1" lang="uk-UA" sz="3600" spc="-1" strike="noStrike">
                <a:solidFill>
                  <a:srgbClr val="ffffcc"/>
                </a:solidFill>
                <a:latin typeface="Tahoma"/>
              </a:rPr>
              <a:t>Гетьман П.Конашевич-Сагайдачни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2666880"/>
            <a:ext cx="854064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Проблемне питання.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- Чому морські походи козаків ХVІІ ст. назвали добою героїчних походів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заки готуються до походу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3360" y="16761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зацька чай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Морські походи козакі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добуття Каф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22:02:12Z</dcterms:created>
  <dc:creator>Админ</dc:creator>
  <dc:description/>
  <dc:language>en-US</dc:language>
  <cp:lastModifiedBy>Админ</cp:lastModifiedBy>
  <dcterms:modified xsi:type="dcterms:W3CDTF">2014-11-18T19:46:2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