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1BA-0418-44E0-9CCE-7338F5A7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824-31A5-452E-A393-B7748D34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36B-4771-4D67-ADA5-BCB06D8B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0B1-0850-4549-8A62-1C6F462C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2276-9B6A-4A65-A960-5132394E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40E1-39E4-497D-8CDB-3D076824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F33F-8DD5-4B16-85CA-07BBD28B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D93A-7FA3-43CA-8763-93A55728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32F6-329A-448B-A645-8AD56732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CEBE-6E66-49EF-B191-0D4B7208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35A2-A9C3-42A2-B3D4-2D27B7E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F06-5230-4E54-B94E-4EE20519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F816-4D61-434E-9920-35609D6D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FE9C-605A-40F8-B496-7800F3A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729-54E0-4ABF-82A9-5A9D9313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FD7B-1D50-412D-AD36-53A422BD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3FA4-94A0-4C9C-B92F-95B82477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364-BDDD-4628-9C25-470E7E27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27D-C2EB-475D-922E-40BBF343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3A3-D74C-46DD-A293-B4165008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000-F0B1-41CE-BAF0-5D73DF0E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220-0628-4DE7-83FB-407B5CFB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431-6095-40F0-8AA9-F3BD5CBD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5B06-499C-4730-9A00-0A54B02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2F88-0B08-4AA7-8223-69A5F4A94D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D27F-F976-44B2-AA81-A67290E49C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00000" y="1413000"/>
            <a:ext cx="73454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к удосконалювати себ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292360" y="4652640"/>
            <a:ext cx="34052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Марченкова О.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ЗО НВО № 113 ДМ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м. Дніп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Маленькие дети в школе — стоковое фото #61487381"/>
          <p:cNvPicPr/>
          <p:nvPr/>
        </p:nvPicPr>
        <p:blipFill>
          <a:blip r:embed="rId1"/>
          <a:stretch/>
        </p:blipFill>
        <p:spPr>
          <a:xfrm>
            <a:off x="755640" y="4076640"/>
            <a:ext cx="4286160" cy="1743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900000" y="1413000"/>
            <a:ext cx="734544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86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к удосконалювати себ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Відомий психотерапевт Вірджінія Сатир так говорить про зростання самооцінки: “ На щастя,для всіх нас існують способи підвищення самооцінки у будь якому віці, оскільки самооцінка виникає внаслідок навчання. Формування самооцінки відбувається постійно, протягом усього  людського життя. Тому, доки людина живе</a:t>
            </a:r>
            <a:r>
              <a:rPr b="0" lang="uk-UA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займатися цим ніколи не пізно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Існує кілька типів людей. Одні, ніби граючись, вирішують свої проблеми. Інших, навпаки, може “ покласти на лопатки ” найменша дрібничка. До якого типу відносишся ти? Давай перевірим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Молодая Школа мальчик, окруженный книги — стоковое фото #1960908"/>
          <p:cNvPicPr/>
          <p:nvPr/>
        </p:nvPicPr>
        <p:blipFill>
          <a:blip r:embed="rId1"/>
          <a:stretch/>
        </p:blipFill>
        <p:spPr>
          <a:xfrm>
            <a:off x="2484360" y="3645000"/>
            <a:ext cx="3998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13336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00"/>
                </a:solidFill>
                <a:latin typeface="Arial"/>
              </a:rPr>
              <a:t>Цей тест увійшов до збірника популярних, надзвичайно корисних для самодіагностики тестів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1. Чи розповідаєш ти про сої проблеми, неприємност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) ні –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) звичайно, якщо є співрозмовник –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)не завжди – 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к ти переживаєш стражданн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) завжди дуже важко – 4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) це залежить від обставин –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) Ти намагаєшся терпіти, не сумніваючись, що будь - які неприємності рано чи пізно закінчуються -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640" y="0"/>
            <a:ext cx="8209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Чи вмієш ти вирішувати свої проблеми?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3. Що ти робиш, якщо тебе щось глибоко вражає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) радієш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) ідеш до хороших друзів –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) сидиш у дома і жалієш сам себе – 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4. Коли близька людина тебе ображає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) ховаєшся у свою черепашку  -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) вимагаєш пояснень –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) розповідаєш  про це кожному, хто готовий  тебе слухати – 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5. У хвилину щаст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) не думаєш про перенесене нещастя –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) боїшся, що ця хвилина швидко пройде – 3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) не забуваєш про те, що в житті є багато неприємностей – 5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6)На твою думку доля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) тебе переслідує – 5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) до тебе несправедлива –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) до тебе прихильна – 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7. Про що ти думаєш після сварки з друго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А) про приємне –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) мрієш про таємну помсту – 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) думаєш, скільки від цього втрачено  - 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А тепер полічи бали, які ти набрав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Від 7 до 10 балів.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и легко змирився зі своїми неприємностями, оскільки вмієш правильно їх оцінювати. Важливо й те, що ти не дуже любиш себе жаліти. Твоя душевна рівновага гідна захопленн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Від 11 до 19 балів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уває, що ти” проклинаєш” долю.Але у тебе є прекрасна “ віддушина”: можливість вихлюпнути свої проблеми на інших. Після цього тобі стає легше. І все ж задумайся, чи не варто навчитися краще володіти собою, аніж користуватися постійно лише таким “ засобом” вирішення своїх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Від 20 до 27 балів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 Ти ще не навчився правильно “ розправлятися” зі своїми бідами. Можливо, тому вони тебе так “ дістають”. Ти намагаєшся замкнутися в собі, нерідко пожаліти себе. Але,можливо,варто використати інший засіб?Мобілізуй свою енергію! У тобі достатньо доброго, хорошого. Все це допоможе тобі успішн вирішити власні проблеми і розвязати складні ситуації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Уявіть чарівника — великого дивака, який дуже любить свою дивовижну колекцію. Тільки він збирає не марки, не значки і навіть не календарики, а характери людей. Він уважно придивляється до кожного, знаходить у його характері головне і перетворює цю рису на що-небудь зрозуміле. Наприклад, дитячий сміх наш чарівник перетворює на маленькі дзвіночки, сльози стають краплями дощу, жадібність — великою потворною жабою, заздрість — змією, а любов — людським серцем. риси кожної людини зберігаються у чарівника на окремих полицях, щоб нічого не переплуталося. Але характери у всіх різні. В однієї людини більше доброти, а в іншої — потягу до знань. Тому і предмети в колекції чарівника різних розмірів. Намалюйте малюнок із тих предметів, на які чарівник перетворив би ваш характ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Поміркуйте, що на вашому малюнку буде великим, а що — маленьким. Скористайтеся олівц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Художник на работе! Социальные 3D персонажей: художник с кисти и палитра носить берет и шарф. Новый постоянно растущей коллекции выразительные уникальный многоразовым изображений. Концепция для человека искусства иллю — стоковое фото #9599438"/>
          <p:cNvPicPr/>
          <p:nvPr/>
        </p:nvPicPr>
        <p:blipFill>
          <a:blip r:embed="rId1"/>
          <a:stretch/>
        </p:blipFill>
        <p:spPr>
          <a:xfrm>
            <a:off x="6012000" y="5661000"/>
            <a:ext cx="1333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 – це Я. У всьому світі немає точнісінько такого, як 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Є люди, які чимось схожі на мене, але немає точнісінько такого, як 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Тому все, що йде від мене, - це справді моє, оскільки саме Я обрав 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ені належить усе, що в мені є; моє тіло, включаючи все, що воно робить; моя свідомість, включаючи всі мої думки і плани; мої очі, включаючи всі образи, які вони бачать; мої почуття, якими б вони не були, - тривога, задоволення, напруга, любов, роздратування, раді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ені належать усі мої фантазії, мої мрії, мої надії і мої острах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ені належать усі мої перемоги й успіхи. Всі мої помилки і пораз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се це належить мені. І тому я можу близько познайомитися з собою. Я можу полюбити себе і потоваришувати з собою. І я можу зробити так, щоб усе в мені діяло відповідно до моїх інтерес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 знаю, що дещо в мені не так, і є в мені щось таке, чого Я не знаю. Але оскільки Я товаришую із собою і люблю себе, Я можу поступово і терпляче відкривати в себе джерело того, що завдає мені клопоту, дізнаюсь все більше й більше цікавого про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се, що Я бачу і відчуваю, все що Я говорю і що Я роблю, що Я думаю і відчуваю в даний момент, - усе моє. І це допомогає мені дізнатися, де Я і хто Я в да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Коли Я вдивляюсь в моє минуле, дивлюся на те, що Я бачив і відчувати, що Я говорив, і що Я робив, як Я думав і як Я відчував. Я бачу, що це мене цілком влаштовує. Я можу відмовитися від того, що здається мені непотрібним, зберегти те, що здається потрібним, і відкрити у собі щось но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 можу бачити, слухати, відчувати, думати, говорити, діяти. Я маю все, щоб бути близьким з іншими людьми, щоб бути продуктивним, вносячи зміст і порядок у всіт своїх речей і людей навколо ме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 належу собі і цим пишаюся. БО МОЖУ ТВОРИТИ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Я – це Я, і Я – ЦЕ ЧУДОВО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( Вірджінія Сати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Пам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ятай, що ти – недосконалий – і це цілком нормально. Ти – людина, яка може помилятися і виправляти свої помил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Визнай себе таким, яким ти є – унікальним, оригінальним, людян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Arial"/>
              </a:rPr>
              <a:t>Живи справжнім, і ти матимеш задоволення від житт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00"/>
                </a:solidFill>
                <a:uFillTx/>
                <a:latin typeface="Comic Sans MS"/>
              </a:rPr>
              <a:t>       </a:t>
            </a:r>
            <a:r>
              <a:rPr b="1" lang="uk-UA" sz="3600" spc="-1" strike="noStrike" u="sng">
                <a:solidFill>
                  <a:srgbClr val="ffff00"/>
                </a:solidFill>
                <a:uFillTx/>
                <a:latin typeface="Comic Sans MS"/>
              </a:rPr>
              <a:t>“ </a:t>
            </a:r>
            <a:r>
              <a:rPr b="1" lang="uk-UA" sz="3600" spc="-1" strike="noStrike" u="sng">
                <a:solidFill>
                  <a:srgbClr val="ffff00"/>
                </a:solidFill>
                <a:uFillTx/>
                <a:latin typeface="Comic Sans MS"/>
              </a:rPr>
              <a:t>Вір у себе. Живи гідно. Якщо людям потрібно щоб хтось протягнув їм руку, зроби це 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Comic Sans MS"/>
              </a:rPr>
              <a:t>                          </a:t>
            </a:r>
            <a:r>
              <a:rPr b="1" lang="uk-UA" sz="3600" spc="-1" strike="noStrike">
                <a:solidFill>
                  <a:srgbClr val="ffff00"/>
                </a:solidFill>
                <a:latin typeface="Comic Sans MS"/>
              </a:rPr>
              <a:t>( Р. Торес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Передает выше — стоковое фото #8693864"/>
          <p:cNvPicPr/>
          <p:nvPr/>
        </p:nvPicPr>
        <p:blipFill>
          <a:blip r:embed="rId1"/>
          <a:stretch/>
        </p:blipFill>
        <p:spPr>
          <a:xfrm>
            <a:off x="1403280" y="3500280"/>
            <a:ext cx="22510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Будь-які зміни в собі починаються з розуміння і пізнання себе, своїх потреб, вимог, бажань, прагнень, можлив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iзнать себе - то школа нелег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Життя мінливе, мов швидка piк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ідбиток твій, що сплив на мiлин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 берез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никає в бистрин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ізнай себе у подвигу, в тpyд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дь прокурором на тому суді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 сам в собі ти судиш кожен а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удь прокурор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ідчи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 не ка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(Платон Вороньк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Пам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ятай, що ти – особистість, і цінуй 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Розвивай у себе прагнення пізнати свою особисті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Шукай у собі нестандартність, незвичайність, і вони обов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`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язково знайду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Оцінюй себе і свої вчинки критично, а невдачі – з гум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Розвивай дещо іронічне ставлення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до самого себе. Це допоможе уникнути зверхнос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Мальчик в очках и костюме лежал на полу — стоковое фото #12359307"/>
          <p:cNvPicPr/>
          <p:nvPr/>
        </p:nvPicPr>
        <p:blipFill>
          <a:blip r:embed="rId1"/>
          <a:stretch/>
        </p:blipFill>
        <p:spPr>
          <a:xfrm>
            <a:off x="4356000" y="4221000"/>
            <a:ext cx="3278160" cy="218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Мальчик в очках и костюме лежал на полу — стоковое фото #12359307"/>
          <p:cNvPicPr/>
          <p:nvPr/>
        </p:nvPicPr>
        <p:blipFill>
          <a:blip r:embed="rId2"/>
          <a:stretch/>
        </p:blipFill>
        <p:spPr>
          <a:xfrm>
            <a:off x="4356000" y="4221000"/>
            <a:ext cx="327816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00"/>
                </a:solidFill>
                <a:latin typeface="Arial"/>
              </a:rPr>
              <a:t>Першим принципом є освіта. Відточуйте свої навички в тому, що у вас виходить добре. Однак також не забувайте про те, що у вас виходить поган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00"/>
                </a:solidFill>
                <a:latin typeface="Arial"/>
              </a:rPr>
              <a:t>Наступним принципом є ніколи не припиняти вчитися. Адже світ не стоїть на одному місці, він безперервно розвивається так само,  як і людство. Допитливість та ентузіазм повинні бути незмінними вашими супутниками протягом усього життєвого шлях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00"/>
                </a:solidFill>
                <a:latin typeface="Arial"/>
              </a:rPr>
              <a:t>Проявляйте турботу про себе, яка полягає у фізичній активності, правильному раціоні, міцному і повноцінному сні, а також у збалансованості розумового, фізичного і духовного розвитку. Однак не варто забувати і про відпочин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00"/>
                </a:solidFill>
                <a:latin typeface="Arial"/>
              </a:rPr>
              <a:t>Поставте собі мету, яка буде сильно надихати вас і здаватися трішки нездійсненною. Намагайтеся щодня наближатися до її реалізації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00"/>
                </a:solidFill>
                <a:latin typeface="Arial"/>
              </a:rPr>
              <a:t>Намагайтеся уникати негативно налаштованого оточення. Віддавайте перевагу спілкуванню з людьми, які надихатимуть вас, викликатимуть посмішку і кидатимуть викл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00"/>
                </a:solidFill>
                <a:latin typeface="Arial"/>
              </a:rPr>
              <a:t>Пам’ятайте, що самовдосконалення повинно відбуватися в різних напрямках. Так, наприклад, фізичне самовдосконалення нерозривно пов’язане з особистісним зростанням і самовдосконалення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ffff00"/>
                </a:solidFill>
                <a:latin typeface="Arial"/>
              </a:rPr>
              <a:t>На жаль, багато людей у ​​щоденній гонитві за матеріальним благополуччям забувають про те, що духовне самовдосконалення відіграє дуже важливу роль для особистісного росту і розвитку. Духовне самовдосконалення направлене на усвідомлення правильного вибору напрямку життєвих принципів і ці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476280"/>
            <a:ext cx="69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Якщо ти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прагнеш змінитися – дій! Дій і контролюй себе! Тільки ти сам є суддею будь – якої ситуації, а самоконтроль – твій головний помічник у цьом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Помічником у цьому тобі буде тест  на самооці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Одноклассники вместе учатся — стоковое фото #131368522"/>
          <p:cNvPicPr/>
          <p:nvPr/>
        </p:nvPicPr>
        <p:blipFill>
          <a:blip r:embed="rId1"/>
          <a:stretch/>
        </p:blipFill>
        <p:spPr>
          <a:xfrm>
            <a:off x="4500720" y="3573360"/>
            <a:ext cx="3555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835280" y="189000"/>
            <a:ext cx="583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 на самооцін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1628640"/>
            <a:ext cx="79930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Перед тобою – список із 20 якостей особистості. Вибери з них найяскравіше виражені в тебе якості. І в колонці, розміщеній зліва від списку якостей , постав цифру 1. Потім  вибери наступну за ступенем вираженості у тобі якість і познач її цифрою 2 і т.д Найменш виражені якості матиме номер 20. Після того у колонц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( № ідеал),розміщеній справа від списку , оціни якості з позиції ідеальної людини</a:t>
            </a:r>
            <a:r>
              <a:rPr b="1" i="1" lang="uk-UA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Мальчик с книгами — стоковое фото #13336306"/>
          <p:cNvPicPr/>
          <p:nvPr/>
        </p:nvPicPr>
        <p:blipFill>
          <a:blip r:embed="rId1"/>
          <a:stretch/>
        </p:blipFill>
        <p:spPr>
          <a:xfrm>
            <a:off x="6012000" y="3860640"/>
            <a:ext cx="1847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0" y="44280"/>
          <a:ext cx="9143640" cy="6966000"/>
        </p:xfrm>
        <a:graphic>
          <a:graphicData uri="http://schemas.openxmlformats.org/drawingml/2006/table">
            <a:tbl>
              <a:tblPr/>
              <a:tblGrid>
                <a:gridCol w="1905120"/>
                <a:gridCol w="2587320"/>
                <a:gridCol w="1413000"/>
                <a:gridCol w="1620720"/>
                <a:gridCol w="16174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Якост</a:t>
                      </a: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ідеа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№ - № ід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ступлив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мілив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стрима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стирлив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спіш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омунікабель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еорганізова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ілеспрямова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оягуз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нергій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зпеч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урботлив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руб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ерпелив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мовпевне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йдуж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ктив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расномовн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перт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оброзичливі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ума ( Д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имвол « Д» ( наступна колонка) означає різницю між рангом, яким ти дав собі, і рангом, котрий ти поставив ідеальній людині ( знак при цьому не враховуєтьс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Символ “Д2 “ – це квадрат одержаної різниц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 =1 –( 0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,00075хсума Д2) – це формула, яка дає змогу визначити самооцін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= 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до 0,3 – низь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=0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,4 – 0,6 – оптимальн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= 0</a:t>
            </a: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,7 – 1,0 – вис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00"/>
                </a:solidFill>
                <a:latin typeface="Arial"/>
              </a:rPr>
              <a:t>За відомою формулою психолога У. Джеймса: “ самооцінка” дорівнює: “ успіх”, поділений на” домагання”. Іншими словами, самооцінку можна підвищити, якщо підвищувати рівень успіху або знизити рівень домага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7:44:21Z</dcterms:created>
  <dc:creator>Admin</dc:creator>
  <dc:description/>
  <dc:language>en-US</dc:language>
  <cp:lastModifiedBy>ЕВГЕН</cp:lastModifiedBy>
  <dcterms:modified xsi:type="dcterms:W3CDTF">2017-07-21T19:30:00Z</dcterms:modified>
  <cp:revision>15</cp:revision>
  <dc:subject/>
  <dc:title>Слайд 1</dc:title>
</cp:coreProperties>
</file>