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6411-2C2C-4907-BD00-5E5C57F80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BD14-4BF2-476A-B859-A9D30722E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1804-0984-4285-9D46-BD9E6FEB7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C0F3-E119-44DF-8375-9FA5D0F77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8C18-88F8-4221-9BE3-AA524256EA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5F0-1A32-455F-97CB-BA85D871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9B0-92D0-4F3E-9398-BE3CD56B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AE6-6B6E-49B0-B0E4-73771893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0C9-005A-455F-9B16-228AD930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213-33E3-499F-AF89-703EBF0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4B5-8567-4B2A-BF04-EF2BE6D8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CAC-0FCA-41DD-9CFD-F2E662CD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A91-2AAF-429B-A968-3C91CDA7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0B7-C4C6-492E-9956-39C73F75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26D-C93F-4AE5-B8D4-FDFA3864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9FB-972D-4272-80FA-5326A0A7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176-EE45-4072-9BCC-2C22B1B8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676C-BF3C-4E2F-B76B-B8914FD97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давання та віднімання десяткових дробі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картинка 1"/>
          <p:cNvPicPr/>
          <p:nvPr/>
        </p:nvPicPr>
        <p:blipFill>
          <a:blip r:embed="rId1"/>
          <a:stretch/>
        </p:blipFill>
        <p:spPr>
          <a:xfrm>
            <a:off x="2124000" y="3716280"/>
            <a:ext cx="4191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озставте правильно коми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1699920"/>
            <a:ext cx="37450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  75 + 25 = 1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67 – 37 = 3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59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5 + 387 = 43,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4654 –25 =44,0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http://www.playcast.ru/uploads/2015/09/26/15214801.jpg"/>
          <p:cNvPicPr/>
          <p:nvPr/>
        </p:nvPicPr>
        <p:blipFill>
          <a:blip r:embed="rId1"/>
          <a:stretch/>
        </p:blipFill>
        <p:spPr>
          <a:xfrm>
            <a:off x="2268360" y="3987720"/>
            <a:ext cx="3097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ідповіді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628280"/>
            <a:ext cx="338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7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 2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= 1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6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3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=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5 + 38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= 43,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46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-2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= 44,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boombob.ru/img/picture/Jun/27/6563c21129cd7fa3d9b1a37db3e6c38e/2.jpg"/>
          <p:cNvPicPr/>
          <p:nvPr/>
        </p:nvPicPr>
        <p:blipFill>
          <a:blip r:embed="rId1"/>
          <a:stretch/>
        </p:blipFill>
        <p:spPr>
          <a:xfrm>
            <a:off x="2408400" y="3789360"/>
            <a:ext cx="32209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0081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арківська дитяча залізниц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138480" cy="2335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 Південна залізниця в Харкові є підрозділом Південної залізниці і займається вихованням зміни залізнични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яча залізниця вузькоколійна, її довжина 3,6км, а рейки розташовуються від парку Горького до лісопарку, проходячи через Соколь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удження залізниці датується 1940 ро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8752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14400" y="1557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(12, 75 + х) – 7,9 = 20,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(х – 13,67) + 24,9 = 79,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17,29 + (х – 59,43) = 84,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озв'яжіть рівнян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http://www.playcast.ru/uploads/2015/09/26/15214801.jpg"/>
          <p:cNvPicPr/>
          <p:nvPr/>
        </p:nvPicPr>
        <p:blipFill>
          <a:blip r:embed="rId1"/>
          <a:stretch/>
        </p:blipFill>
        <p:spPr>
          <a:xfrm>
            <a:off x="179280" y="3429000"/>
            <a:ext cx="3098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ідповіді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341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).12,75 + х = 20,33 + 7,9          2).х – 13,67 = 79,31 – 24,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2,75 + х = 28,23                         х – 13,67 = 54,4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х = 28,23 – 12,75                        х = 54,41 + 13,6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</a:t>
            </a:r>
            <a:r>
              <a:rPr b="1" lang="uk-UA" sz="3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х = 15,48</a:t>
            </a:r>
            <a:r>
              <a:rPr b="1" lang="uk-UA" sz="30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                              </a:t>
            </a:r>
            <a:r>
              <a:rPr b="1" lang="uk-UA" sz="3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х = 68,0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                       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).х – 59,43 = 84,4 – 17,2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х – 59,43 = 67,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х = 67,11 + 59,4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</a:t>
            </a:r>
            <a:r>
              <a:rPr b="1" lang="uk-UA" sz="3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х = 126,5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boombob.ru/img/picture/Jun/27/6563c21129cd7fa3d9b1a37db3e6c38e/2.jpg"/>
          <p:cNvPicPr/>
          <p:nvPr/>
        </p:nvPicPr>
        <p:blipFill>
          <a:blip r:embed="rId1"/>
          <a:stretch/>
        </p:blipFill>
        <p:spPr>
          <a:xfrm>
            <a:off x="250920" y="4076640"/>
            <a:ext cx="25732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“ </a:t>
            </a:r>
            <a:r>
              <a:rPr b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зеркальний струмінь 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тан “ Дзеркальний струмінь ”  є символом міста і побудований на честь перемоги СРСР в Другій світовій вій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тан знаходиться в Парку Перемоги, навпроти Театру опери і бал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очатку ХХ століття на місці фонтану була церква, яка за часів радянської влади була знесена, а на пустирі було побудовано парк з фонта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125880" cy="2306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ідповіді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,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uk-UA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0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5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6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7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</a:t>
            </a:r>
            <a:r>
              <a:rPr b="1" lang="uk-UA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,</a:t>
            </a:r>
            <a:r>
              <a:rPr b="1" lang="uk-UA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8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uk-UA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,84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boombob.ru/img/picture/Jun/27/6563c21129cd7fa3d9b1a37db3e6c38e/2.jpg"/>
          <p:cNvPicPr/>
          <p:nvPr/>
        </p:nvPicPr>
        <p:blipFill>
          <a:blip r:embed="rId1"/>
          <a:stretch/>
        </p:blipFill>
        <p:spPr>
          <a:xfrm>
            <a:off x="250920" y="4076640"/>
            <a:ext cx="25732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лоща Свобо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Свободи у Харкові – центральна площа міста, яка займає шосте місце за величиною у Європі і дванадцяте у сві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жина площі Свободи складає від 690 до 750 метрів, ширина від 96 до 125 метрів, площа 11,9 гектар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формою площа Свободи нагадує колбу, шийка якої звернена до вулиці Сумсько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станції метро “ Університет “ та  “ Держпром “ знаходяться під площею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375000" cy="222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34545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0720" y="333000"/>
            <a:ext cx="770256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даткове завдання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2060280"/>
            <a:ext cx="64008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ишіть у метра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 см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 дм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 мм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http://www.playcast.ru/uploads/2015/09/26/15214801.jpg"/>
          <p:cNvPicPr/>
          <p:nvPr/>
        </p:nvPicPr>
        <p:blipFill>
          <a:blip r:embed="rId1"/>
          <a:stretch/>
        </p:blipFill>
        <p:spPr>
          <a:xfrm>
            <a:off x="826920" y="3213000"/>
            <a:ext cx="3097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кажи свій настрі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в чудовому гуморі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і трішки сумн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2997360"/>
            <a:ext cx="4572000" cy="309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ідповіді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227664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 см = 3,24 м 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 дм = 32,4 м 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 мм = 0,324 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boombob.ru/img/picture/Jun/27/6563c21129cd7fa3d9b1a37db3e6c38e/2.jpg"/>
          <p:cNvPicPr/>
          <p:nvPr/>
        </p:nvPicPr>
        <p:blipFill>
          <a:blip r:embed="rId1"/>
          <a:stretch/>
        </p:blipFill>
        <p:spPr>
          <a:xfrm>
            <a:off x="755640" y="2492280"/>
            <a:ext cx="25732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ьогодні на уроці ми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торили читання і запис десяткового дроб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тренувалися порівнювати десяткові дроб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осконалили вміння додавати і віднімати десяткові дроб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38480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кажи свій настрі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в чудовому гуморі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і трішки сумн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781360"/>
            <a:ext cx="4040280" cy="2738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5076720" y="2560680"/>
            <a:ext cx="31719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машнє  завдання:  §§ 29-30, </a:t>
            </a:r>
            <a:br>
              <a:rPr sz="4400"/>
            </a:br>
            <a:r>
              <a:rPr b="1" lang="uk-UA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№ 1274, 1276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graphnet.ru/images/1575111_shkola-animaciya.jpg"/>
          <p:cNvPicPr/>
          <p:nvPr/>
        </p:nvPicPr>
        <p:blipFill>
          <a:blip r:embed="rId1"/>
          <a:stretch/>
        </p:blipFill>
        <p:spPr>
          <a:xfrm>
            <a:off x="1706400" y="2060640"/>
            <a:ext cx="5731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якую за увагу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846000" y="1600200"/>
            <a:ext cx="745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пиши дроби в порядку зростання і дізнаєшся ключове слово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7120" y="2708280"/>
          <a:ext cx="6089760" cy="1944720"/>
        </p:xfrm>
        <a:graphic>
          <a:graphicData uri="http://schemas.openxmlformats.org/drawingml/2006/table">
            <a:tbl>
              <a:tblPr/>
              <a:tblGrid>
                <a:gridCol w="870120"/>
                <a:gridCol w="869760"/>
                <a:gridCol w="870120"/>
                <a:gridCol w="869760"/>
                <a:gridCol w="870120"/>
                <a:gridCol w="869760"/>
                <a:gridCol w="87012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://www.odisseya-nn.ru/files/A.jpg"/>
          <p:cNvPicPr/>
          <p:nvPr/>
        </p:nvPicPr>
        <p:blipFill>
          <a:blip r:embed="rId1"/>
          <a:stretch/>
        </p:blipFill>
        <p:spPr>
          <a:xfrm>
            <a:off x="539640" y="236520"/>
            <a:ext cx="774720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lenta.kharkiv.ua/db/0.jpg"/>
          <p:cNvPicPr/>
          <p:nvPr/>
        </p:nvPicPr>
        <p:blipFill>
          <a:blip r:embed="rId1"/>
          <a:stretch/>
        </p:blipFill>
        <p:spPr>
          <a:xfrm>
            <a:off x="-47520" y="0"/>
            <a:ext cx="923904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ам'ятник козакові Харь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з легенд свідчить, що пам'ятник козакові Харько споруджений на честь засновника міста Харк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у було встановлено посеред проїжджої частини на початку проспекту Науки у серпні 2004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зовий монумент вагою 12 тонн і висотою більше 7 метрів подарував жителям Харкова знаменитий російський скульптор Зураб Церетел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888840" y="1600200"/>
            <a:ext cx="31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числіт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І варіан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21333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0,7 + 4,28 + 0,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2,75 + (0,342 + 0,2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7,891 + 3,9 + 2,109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24,2 – 0,86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9 – 0,67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ІІ варі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5892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0,6 +5,37 + 0,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3,36 + (0,564 + 0,64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14,537 + 5,9 + 5,4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8,1 -5,3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7 – 0,8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ідповіді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І варі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5,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3,3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13,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23,3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8,3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ІІ варі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6,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4,56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25,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2,77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6,1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0081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Харківський історичний муз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ківський історичний музей – один із найбільших в Україні. На даний момент  він має 4 відділи: феодалізму, капіталізму, первісної спільноти і радянського ча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кальна колекція налічує більше 250 тис. цінних пам'я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можна побачити рідкісні археологічні, етнографічні і нумізматичні експонати, а також твори живопису, колекції  прапорів, зброї, нагород, книг, історичні документи, колекції листівок та рідкісні фотограф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297180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466560" y="3860640"/>
            <a:ext cx="29210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08:15:06Z</dcterms:created>
  <dc:creator>Семья</dc:creator>
  <dc:description/>
  <dc:language>en-US</dc:language>
  <cp:lastModifiedBy>User</cp:lastModifiedBy>
  <dcterms:modified xsi:type="dcterms:W3CDTF">2017-07-15T11:15:48Z</dcterms:modified>
  <cp:revision>191</cp:revision>
  <dc:subject/>
  <dc:title>Слайд 1</dc:title>
</cp:coreProperties>
</file>