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10.jpeg" ContentType="image/jpeg"/>
  <Override PartName="/ppt/media/image35.jpeg" ContentType="image/jpeg"/>
  <Override PartName="/ppt/media/image5.png" ContentType="image/png"/>
  <Override PartName="/ppt/media/image26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7B7-FAD2-4D93-A2A1-4130EF73B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E569-5DF6-48A7-9BF5-805C19828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A28-567D-487D-A47B-3D2A3487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A3-9543-45FC-9ABA-BC9589F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B96-26ED-4D4A-9BC7-023610C1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C0A-3F76-4C14-A5DD-56B1AF73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94C-F70F-4635-9A98-2DD65D13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FDE8-0500-4357-9D2D-00208AE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17F-C3D9-4EF5-9C78-8CCA2FF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9517-C4FF-4C67-8F99-E44AEE1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9DB-2BD8-415F-BE7A-80447A8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DF0-CD87-4560-9ED4-73A9AA1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530B-0416-45D5-AB18-38FF31B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8D3-0A35-46FB-96E0-A32DAD9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7C76-DDE2-4C5A-B7CB-6D339A7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BEF-51FB-4774-8400-2374E48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86D8-6C1A-4B52-A7C8-8F18E42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9520-71B2-4E3E-B81D-507418E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DB7-97CA-4302-A300-EBD5C29E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D75-C8B4-41BD-B3D8-88CA5349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417-8B72-437A-8AFC-61C55AC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A64-289A-4252-B15C-E483D7F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5C6-C0E7-4B1A-A2D5-7FE6841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841-2113-44D1-82CD-E7FC406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246-23F0-4176-913F-716E01C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CBC-1EA2-4A53-9868-A5BF5B4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0f2f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f2f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f2f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f2f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50f2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f2f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50f2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7826-0F45-4A9C-8F7B-941D26710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0f2f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f2f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f2f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50f2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f2f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50f2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0f2f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50f2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200-7DD4-452C-9426-44E51BE666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ультимедійна презентація уроку з природознавств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284720" y="1916280"/>
            <a:ext cx="448452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ой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Їх різноманіт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4591080" y="4041720"/>
            <a:ext cx="3645000" cy="16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rcRect l="5898" t="32556" r="49213" b="17050"/>
          <a:stretch/>
        </p:blipFill>
        <p:spPr>
          <a:xfrm>
            <a:off x="179280" y="2060640"/>
            <a:ext cx="4105440" cy="3456000"/>
          </a:xfrm>
          <a:prstGeom prst="rect">
            <a:avLst/>
          </a:prstGeom>
          <a:ln w="0">
            <a:noFill/>
          </a:ln>
        </p:spPr>
      </p:pic>
      <p:sp>
        <p:nvSpPr>
          <p:cNvPr id="222" name="Скругленный прямоугольник 6"/>
          <p:cNvSpPr/>
          <p:nvPr/>
        </p:nvSpPr>
        <p:spPr>
          <a:xfrm>
            <a:off x="3492360" y="5732640"/>
            <a:ext cx="19227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79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ривий Рі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16-2017 н. р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ae8"/>
            </a:solidFill>
            <a:miter/>
          </a:ln>
        </p:spPr>
      </p:pic>
      <p:pic>
        <p:nvPicPr>
          <p:cNvPr id="284" name="Picture 22" descr="17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285" name="Объект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Объект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1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6"/>
          <p:cNvSpPr/>
          <p:nvPr/>
        </p:nvSpPr>
        <p:spPr>
          <a:xfrm>
            <a:off x="928800" y="1785960"/>
            <a:ext cx="2016000" cy="723960"/>
          </a:xfrm>
          <a:prstGeom prst="wedgeRoundRectCallout">
            <a:avLst>
              <a:gd name="adj1" fmla="val -42597"/>
              <a:gd name="adj2" fmla="val 101689"/>
              <a:gd name="adj3" fmla="val 16667"/>
            </a:avLst>
          </a:prstGeom>
          <a:gradFill rotWithShape="0">
            <a:gsLst>
              <a:gs pos="0">
                <a:srgbClr val="92cfcf"/>
              </a:gs>
              <a:gs pos="100000">
                <a:srgbClr val="e0efe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1000080" y="3000240"/>
            <a:ext cx="2016000" cy="652680"/>
          </a:xfrm>
          <a:prstGeom prst="wedgeRoundRectCallout">
            <a:avLst>
              <a:gd name="adj1" fmla="val -42597"/>
              <a:gd name="adj2" fmla="val 101689"/>
              <a:gd name="adj3" fmla="val 16667"/>
            </a:avLst>
          </a:prstGeom>
          <a:solidFill>
            <a:srgbClr val="b3f7fe"/>
          </a:solidFill>
          <a:ln w="25560">
            <a:solidFill>
              <a:srgbClr val="83b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ке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1000080" y="4143240"/>
            <a:ext cx="2016000" cy="652680"/>
          </a:xfrm>
          <a:prstGeom prst="wedgeRoundRectCallout">
            <a:avLst>
              <a:gd name="adj1" fmla="val -42597"/>
              <a:gd name="adj2" fmla="val 101689"/>
              <a:gd name="adj3" fmla="val 16667"/>
            </a:avLst>
          </a:pr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т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1071720" y="5429160"/>
            <a:ext cx="2016000" cy="652680"/>
          </a:xfrm>
          <a:prstGeom prst="wedgeRoundRectCallout">
            <a:avLst>
              <a:gd name="adj1" fmla="val -42597"/>
              <a:gd name="adj2" fmla="val 101689"/>
              <a:gd name="adj3" fmla="val 16667"/>
            </a:avLst>
          </a:pr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Рі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4857840" y="2786040"/>
            <a:ext cx="3457440" cy="86364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існа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4"/>
          <p:cNvSpPr/>
          <p:nvPr/>
        </p:nvSpPr>
        <p:spPr>
          <a:xfrm>
            <a:off x="4857840" y="4071960"/>
            <a:ext cx="3457440" cy="86364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олона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4857840" y="5357880"/>
            <a:ext cx="3457440" cy="86364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існа 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4857840" y="1643040"/>
            <a:ext cx="3457440" cy="86364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олона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2071800" y="214200"/>
            <a:ext cx="5000400" cy="914400"/>
          </a:xfrm>
          <a:prstGeom prst="rect">
            <a:avLst/>
          </a:prstGeom>
          <a:solidFill>
            <a:srgbClr val="b3f7fe"/>
          </a:solidFill>
          <a:ln w="25560">
            <a:solidFill>
              <a:srgbClr val="83b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йди помил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Прямая со стрелкой 12"/>
          <p:cNvCxnSpPr/>
          <p:nvPr/>
        </p:nvCxnSpPr>
        <p:spPr>
          <a:xfrm>
            <a:off x="3071520" y="2214720"/>
            <a:ext cx="17866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9" name="Прямая со стрелкой 14"/>
          <p:cNvCxnSpPr/>
          <p:nvPr/>
        </p:nvCxnSpPr>
        <p:spPr>
          <a:xfrm>
            <a:off x="3071880" y="3285720"/>
            <a:ext cx="16437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Прямая со стрелкой 16"/>
          <p:cNvCxnSpPr/>
          <p:nvPr/>
        </p:nvCxnSpPr>
        <p:spPr>
          <a:xfrm>
            <a:off x="3071880" y="4428720"/>
            <a:ext cx="17150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Прямая со стрелкой 18"/>
          <p:cNvCxnSpPr/>
          <p:nvPr/>
        </p:nvCxnSpPr>
        <p:spPr>
          <a:xfrm>
            <a:off x="3143160" y="5785920"/>
            <a:ext cx="16437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2" name="Плюс 15"/>
          <p:cNvSpPr/>
          <p:nvPr/>
        </p:nvSpPr>
        <p:spPr>
          <a:xfrm>
            <a:off x="8429760" y="1857240"/>
            <a:ext cx="428400" cy="428760"/>
          </a:xfrm>
          <a:custGeom>
            <a:avLst/>
            <a:gdLst>
              <a:gd name="textAreaLeft" fmla="*/ 56520 w 428400"/>
              <a:gd name="textAreaRight" fmla="*/ 371880 w 428400"/>
              <a:gd name="textAreaTop" fmla="*/ 163800 h 428760"/>
              <a:gd name="textAreaBottom" fmla="*/ 264960 h 428760"/>
            </a:gdLst>
            <a:ahLst/>
            <a:rect l="textAreaLeft" t="textAreaTop" r="textAreaRight" b="textAreaBottom"/>
            <a:pathLst>
              <a:path w="428625" h="428625">
                <a:moveTo>
                  <a:pt x="56814" y="163906"/>
                </a:moveTo>
                <a:lnTo>
                  <a:pt x="163906" y="163906"/>
                </a:lnTo>
                <a:lnTo>
                  <a:pt x="163906" y="56814"/>
                </a:lnTo>
                <a:lnTo>
                  <a:pt x="264719" y="56814"/>
                </a:lnTo>
                <a:lnTo>
                  <a:pt x="264719" y="163906"/>
                </a:lnTo>
                <a:lnTo>
                  <a:pt x="371811" y="163906"/>
                </a:lnTo>
                <a:lnTo>
                  <a:pt x="371811" y="264719"/>
                </a:lnTo>
                <a:lnTo>
                  <a:pt x="264719" y="264719"/>
                </a:lnTo>
                <a:lnTo>
                  <a:pt x="264719" y="371811"/>
                </a:lnTo>
                <a:lnTo>
                  <a:pt x="163906" y="371811"/>
                </a:lnTo>
                <a:lnTo>
                  <a:pt x="163906" y="264719"/>
                </a:lnTo>
                <a:lnTo>
                  <a:pt x="56814" y="26471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люс 17"/>
          <p:cNvSpPr/>
          <p:nvPr/>
        </p:nvSpPr>
        <p:spPr>
          <a:xfrm>
            <a:off x="8358120" y="5643720"/>
            <a:ext cx="428760" cy="428400"/>
          </a:xfrm>
          <a:custGeom>
            <a:avLst/>
            <a:gdLst>
              <a:gd name="textAreaLeft" fmla="*/ 56520 w 428760"/>
              <a:gd name="textAreaRight" fmla="*/ 372240 w 428760"/>
              <a:gd name="textAreaTop" fmla="*/ 163800 h 428400"/>
              <a:gd name="textAreaBottom" fmla="*/ 264600 h 428400"/>
            </a:gdLst>
            <a:ahLst/>
            <a:rect l="textAreaLeft" t="textAreaTop" r="textAreaRight" b="textAreaBottom"/>
            <a:pathLst>
              <a:path w="428625" h="428625">
                <a:moveTo>
                  <a:pt x="56814" y="163906"/>
                </a:moveTo>
                <a:lnTo>
                  <a:pt x="163906" y="163906"/>
                </a:lnTo>
                <a:lnTo>
                  <a:pt x="163906" y="56814"/>
                </a:lnTo>
                <a:lnTo>
                  <a:pt x="264719" y="56814"/>
                </a:lnTo>
                <a:lnTo>
                  <a:pt x="264719" y="163906"/>
                </a:lnTo>
                <a:lnTo>
                  <a:pt x="371811" y="163906"/>
                </a:lnTo>
                <a:lnTo>
                  <a:pt x="371811" y="264719"/>
                </a:lnTo>
                <a:lnTo>
                  <a:pt x="264719" y="264719"/>
                </a:lnTo>
                <a:lnTo>
                  <a:pt x="264719" y="371811"/>
                </a:lnTo>
                <a:lnTo>
                  <a:pt x="163906" y="371811"/>
                </a:lnTo>
                <a:lnTo>
                  <a:pt x="163906" y="264719"/>
                </a:lnTo>
                <a:lnTo>
                  <a:pt x="56814" y="26471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множение 19"/>
          <p:cNvSpPr/>
          <p:nvPr/>
        </p:nvSpPr>
        <p:spPr>
          <a:xfrm>
            <a:off x="4714920" y="2500200"/>
            <a:ext cx="3214800" cy="1500480"/>
          </a:xfrm>
          <a:custGeom>
            <a:avLst/>
            <a:gdLst>
              <a:gd name="textAreaLeft" fmla="*/ 748080 w 3214800"/>
              <a:gd name="textAreaRight" fmla="*/ 2466720 w 3214800"/>
              <a:gd name="textAreaTop" fmla="*/ 308880 h 1500480"/>
              <a:gd name="textAreaBottom" fmla="*/ 1191600 h 1500480"/>
            </a:gdLst>
            <a:ahLst/>
            <a:rect l="textAreaLeft" t="textAreaTop" r="textAreaRight" b="textAreaBottom"/>
            <a:pathLst>
              <a:path w="3214688" h="1500187">
                <a:moveTo>
                  <a:pt x="748047" y="411824"/>
                </a:moveTo>
                <a:lnTo>
                  <a:pt x="796129" y="308791"/>
                </a:lnTo>
                <a:lnTo>
                  <a:pt x="1607344" y="687358"/>
                </a:lnTo>
                <a:lnTo>
                  <a:pt x="2418559" y="308791"/>
                </a:lnTo>
                <a:lnTo>
                  <a:pt x="2466641" y="411824"/>
                </a:lnTo>
                <a:lnTo>
                  <a:pt x="1741777" y="750094"/>
                </a:lnTo>
                <a:lnTo>
                  <a:pt x="2466641" y="1088363"/>
                </a:lnTo>
                <a:lnTo>
                  <a:pt x="2418559" y="1191396"/>
                </a:lnTo>
                <a:lnTo>
                  <a:pt x="1607344" y="812829"/>
                </a:lnTo>
                <a:lnTo>
                  <a:pt x="796129" y="1191396"/>
                </a:lnTo>
                <a:lnTo>
                  <a:pt x="748047" y="1088363"/>
                </a:lnTo>
                <a:lnTo>
                  <a:pt x="1472911" y="7500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Умножение 20"/>
          <p:cNvSpPr/>
          <p:nvPr/>
        </p:nvSpPr>
        <p:spPr>
          <a:xfrm>
            <a:off x="4857840" y="3786120"/>
            <a:ext cx="3214440" cy="1500120"/>
          </a:xfrm>
          <a:custGeom>
            <a:avLst/>
            <a:gdLst>
              <a:gd name="textAreaLeft" fmla="*/ 747720 w 3214440"/>
              <a:gd name="textAreaRight" fmla="*/ 2466720 w 3214440"/>
              <a:gd name="textAreaTop" fmla="*/ 308520 h 1500120"/>
              <a:gd name="textAreaBottom" fmla="*/ 1191600 h 1500120"/>
            </a:gdLst>
            <a:ahLst/>
            <a:rect l="textAreaLeft" t="textAreaTop" r="textAreaRight" b="textAreaBottom"/>
            <a:pathLst>
              <a:path w="3214688" h="1500187">
                <a:moveTo>
                  <a:pt x="748047" y="411824"/>
                </a:moveTo>
                <a:lnTo>
                  <a:pt x="796129" y="308791"/>
                </a:lnTo>
                <a:lnTo>
                  <a:pt x="1607344" y="687358"/>
                </a:lnTo>
                <a:lnTo>
                  <a:pt x="2418559" y="308791"/>
                </a:lnTo>
                <a:lnTo>
                  <a:pt x="2466641" y="411824"/>
                </a:lnTo>
                <a:lnTo>
                  <a:pt x="1741777" y="750094"/>
                </a:lnTo>
                <a:lnTo>
                  <a:pt x="2466641" y="1088363"/>
                </a:lnTo>
                <a:lnTo>
                  <a:pt x="2418559" y="1191396"/>
                </a:lnTo>
                <a:lnTo>
                  <a:pt x="1607344" y="812829"/>
                </a:lnTo>
                <a:lnTo>
                  <a:pt x="796129" y="1191396"/>
                </a:lnTo>
                <a:lnTo>
                  <a:pt x="748047" y="1088363"/>
                </a:lnTo>
                <a:lnTo>
                  <a:pt x="1472911" y="7500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6f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61616"/>
                </a:solidFill>
                <a:latin typeface="Arial"/>
              </a:rPr>
              <a:t>Фізкультхвил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Picture 5" descr="http://www.med.cap.ru/home/549/import/edcd9c50-904f-470e-a123-0fcf096bade1.jpg"/>
          <p:cNvPicPr/>
          <p:nvPr/>
        </p:nvPicPr>
        <p:blipFill>
          <a:blip r:embed="rId1"/>
          <a:stretch/>
        </p:blipFill>
        <p:spPr>
          <a:xfrm>
            <a:off x="3143160" y="2071800"/>
            <a:ext cx="2809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2700360" y="2205000"/>
            <a:ext cx="3744720" cy="151308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еві  водой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50920" y="2708280"/>
            <a:ext cx="208908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468360" y="1268280"/>
            <a:ext cx="2089080" cy="720720"/>
          </a:xfrm>
          <a:prstGeom prst="flowChartAlternateProcess">
            <a:avLst/>
          </a:prstGeom>
          <a:solidFill>
            <a:srgbClr val="0088e4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3492360" y="4869000"/>
            <a:ext cx="208944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395280" y="4076640"/>
            <a:ext cx="208908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286680" y="4005360"/>
            <a:ext cx="264312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осховищ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786720" y="2428920"/>
            <a:ext cx="208908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6732720" y="1197000"/>
            <a:ext cx="208908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6" name="AutoShape 21"/>
          <p:cNvCxnSpPr>
            <a:stCxn id="308" idx="0"/>
            <a:endCxn id="315" idx="1"/>
          </p:cNvCxnSpPr>
          <p:nvPr/>
        </p:nvCxnSpPr>
        <p:spPr>
          <a:xfrm flipV="1">
            <a:off x="4573440" y="1556640"/>
            <a:ext cx="216000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7" name="AutoShape 23"/>
          <p:cNvCxnSpPr>
            <a:stCxn id="308" idx="0"/>
          </p:cNvCxnSpPr>
          <p:nvPr/>
        </p:nvCxnSpPr>
        <p:spPr>
          <a:xfrm flipV="1">
            <a:off x="4573080" y="1124640"/>
            <a:ext cx="35640" cy="1080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8" name="AutoShape 24"/>
          <p:cNvCxnSpPr>
            <a:stCxn id="308" idx="0"/>
            <a:endCxn id="310" idx="3"/>
          </p:cNvCxnSpPr>
          <p:nvPr/>
        </p:nvCxnSpPr>
        <p:spPr>
          <a:xfrm flipH="1" flipV="1">
            <a:off x="2557080" y="1627920"/>
            <a:ext cx="2016720" cy="57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9" name="AutoShape 25"/>
          <p:cNvCxnSpPr>
            <a:stCxn id="308" idx="1"/>
            <a:endCxn id="309" idx="3"/>
          </p:cNvCxnSpPr>
          <p:nvPr/>
        </p:nvCxnSpPr>
        <p:spPr>
          <a:xfrm flipH="1">
            <a:off x="2339280" y="2962080"/>
            <a:ext cx="361080" cy="106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0" name="AutoShape 26"/>
          <p:cNvCxnSpPr>
            <a:stCxn id="308" idx="3"/>
            <a:endCxn id="314" idx="1"/>
          </p:cNvCxnSpPr>
          <p:nvPr/>
        </p:nvCxnSpPr>
        <p:spPr>
          <a:xfrm flipV="1">
            <a:off x="6444720" y="2788560"/>
            <a:ext cx="342360" cy="173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1" name="AutoShape 28"/>
          <p:cNvCxnSpPr>
            <a:stCxn id="308" idx="2"/>
            <a:endCxn id="311" idx="0"/>
          </p:cNvCxnSpPr>
          <p:nvPr/>
        </p:nvCxnSpPr>
        <p:spPr>
          <a:xfrm flipH="1">
            <a:off x="4536360" y="3717720"/>
            <a:ext cx="37080" cy="1151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" name="AutoShape 29"/>
          <p:cNvCxnSpPr>
            <a:stCxn id="308" idx="2"/>
          </p:cNvCxnSpPr>
          <p:nvPr/>
        </p:nvCxnSpPr>
        <p:spPr>
          <a:xfrm>
            <a:off x="4573080" y="3718080"/>
            <a:ext cx="2086920" cy="575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3" name="AutoShape 30"/>
          <p:cNvCxnSpPr>
            <a:stCxn id="308" idx="2"/>
            <a:endCxn id="312" idx="3"/>
          </p:cNvCxnSpPr>
          <p:nvPr/>
        </p:nvCxnSpPr>
        <p:spPr>
          <a:xfrm flipH="1">
            <a:off x="2483640" y="3717720"/>
            <a:ext cx="2089800" cy="719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4" name="AutoShape 4"/>
          <p:cNvSpPr/>
          <p:nvPr/>
        </p:nvSpPr>
        <p:spPr>
          <a:xfrm>
            <a:off x="3500280" y="571680"/>
            <a:ext cx="2089440" cy="720720"/>
          </a:xfrm>
          <a:prstGeom prst="flowChartAlternateProcess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Объект 3" descr=""/>
          <p:cNvPicPr/>
          <p:nvPr/>
        </p:nvPicPr>
        <p:blipFill>
          <a:blip r:embed="rId1"/>
          <a:srcRect l="0" t="0" r="44013" b="0"/>
          <a:stretch/>
        </p:blipFill>
        <p:spPr>
          <a:xfrm>
            <a:off x="214200" y="1857240"/>
            <a:ext cx="460224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kolodec-index-niz"/>
          <p:cNvPicPr/>
          <p:nvPr/>
        </p:nvPicPr>
        <p:blipFill>
          <a:blip r:embed="rId2"/>
          <a:stretch/>
        </p:blipFill>
        <p:spPr>
          <a:xfrm>
            <a:off x="5643720" y="2286000"/>
            <a:ext cx="2908080" cy="39085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"/>
          <p:cNvSpPr/>
          <p:nvPr/>
        </p:nvSpPr>
        <p:spPr>
          <a:xfrm>
            <a:off x="2143080" y="0"/>
            <a:ext cx="4286160" cy="151272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земні во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Заголовок 2"/>
          <p:cNvSpPr/>
          <p:nvPr/>
        </p:nvSpPr>
        <p:spPr>
          <a:xfrm>
            <a:off x="-571680" y="464328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1616"/>
                </a:solidFill>
                <a:latin typeface="Arial"/>
              </a:rPr>
              <a:t>Джерело</a:t>
            </a:r>
            <a:br>
              <a:rPr sz="2400"/>
            </a:br>
            <a:r>
              <a:rPr b="0" lang="uk-UA" sz="2400" spc="-1" strike="noStrike">
                <a:solidFill>
                  <a:srgbClr val="161616"/>
                </a:solidFill>
                <a:latin typeface="Arial"/>
              </a:rPr>
              <a:t>1 – грунт;</a:t>
            </a:r>
            <a:br>
              <a:rPr sz="2400"/>
            </a:br>
            <a:r>
              <a:rPr b="0" lang="uk-UA" sz="2400" spc="-1" strike="noStrike">
                <a:solidFill>
                  <a:srgbClr val="161616"/>
                </a:solidFill>
                <a:latin typeface="Arial"/>
              </a:rPr>
              <a:t>2 – пісок;</a:t>
            </a:r>
            <a:br>
              <a:rPr sz="2400"/>
            </a:br>
            <a:r>
              <a:rPr b="0" lang="uk-UA" sz="2400" spc="-1" strike="noStrike">
                <a:solidFill>
                  <a:srgbClr val="161616"/>
                </a:solidFill>
                <a:latin typeface="Arial"/>
              </a:rPr>
              <a:t>3 – глина;</a:t>
            </a:r>
            <a:br>
              <a:rPr sz="2400"/>
            </a:br>
            <a:r>
              <a:rPr b="0" lang="uk-UA" sz="2400" spc="-1" strike="noStrike">
                <a:solidFill>
                  <a:srgbClr val="161616"/>
                </a:solidFill>
                <a:latin typeface="Arial"/>
              </a:rPr>
              <a:t>      4 – джере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1680" y="285840"/>
            <a:ext cx="3816360" cy="42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61616"/>
                </a:solidFill>
                <a:latin typeface="Arial"/>
              </a:rPr>
              <a:t>Дніпро – найбільша річка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0" name="Объект 5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4092480" cy="5483520"/>
          </a:xfrm>
          <a:prstGeom prst="rect">
            <a:avLst/>
          </a:prstGeom>
          <a:ln w="0">
            <a:noFill/>
          </a:ln>
        </p:spPr>
      </p:pic>
      <p:sp>
        <p:nvSpPr>
          <p:cNvPr id="331" name="Заголовок 1"/>
          <p:cNvSpPr/>
          <p:nvPr/>
        </p:nvSpPr>
        <p:spPr>
          <a:xfrm>
            <a:off x="5500800" y="4143240"/>
            <a:ext cx="33130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61616"/>
                </a:solidFill>
                <a:latin typeface="Arial"/>
              </a:rPr>
              <a:t>Довжина Дніпра 2280 к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2143080" y="0"/>
            <a:ext cx="4286160" cy="71424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ікави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4200" y="2857680"/>
            <a:ext cx="3571920" cy="78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Озеро Синевір - перлина Карпат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4" name="Объект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214880" cy="2643120"/>
          </a:xfrm>
          <a:prstGeom prst="rect">
            <a:avLst/>
          </a:prstGeom>
          <a:ln w="0">
            <a:noFill/>
          </a:ln>
        </p:spPr>
      </p:pic>
      <p:pic>
        <p:nvPicPr>
          <p:cNvPr id="335" name="Объект 3" descr=""/>
          <p:cNvPicPr/>
          <p:nvPr/>
        </p:nvPicPr>
        <p:blipFill>
          <a:blip r:embed="rId2"/>
          <a:stretch/>
        </p:blipFill>
        <p:spPr>
          <a:xfrm>
            <a:off x="4929120" y="214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336" name="Заголовок 1"/>
          <p:cNvSpPr/>
          <p:nvPr/>
        </p:nvSpPr>
        <p:spPr>
          <a:xfrm>
            <a:off x="4572000" y="2857680"/>
            <a:ext cx="42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Озеро Світязь- найглиб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озеро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Объект 7" descr=""/>
          <p:cNvPicPr/>
          <p:nvPr/>
        </p:nvPicPr>
        <p:blipFill>
          <a:blip r:embed="rId3"/>
          <a:stretch/>
        </p:blipFill>
        <p:spPr>
          <a:xfrm>
            <a:off x="428760" y="3857760"/>
            <a:ext cx="4037040" cy="2531880"/>
          </a:xfrm>
          <a:prstGeom prst="rect">
            <a:avLst/>
          </a:prstGeom>
          <a:ln w="0">
            <a:noFill/>
          </a:ln>
        </p:spPr>
      </p:pic>
      <p:sp>
        <p:nvSpPr>
          <p:cNvPr id="338" name="Заголовок 4"/>
          <p:cNvSpPr/>
          <p:nvPr/>
        </p:nvSpPr>
        <p:spPr>
          <a:xfrm>
            <a:off x="571680" y="5786280"/>
            <a:ext cx="40003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Сиваш- найбі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солоне озе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Объект 3" descr=""/>
          <p:cNvPicPr/>
          <p:nvPr/>
        </p:nvPicPr>
        <p:blipFill>
          <a:blip r:embed="rId4"/>
          <a:stretch/>
        </p:blipFill>
        <p:spPr>
          <a:xfrm>
            <a:off x="4643280" y="3786120"/>
            <a:ext cx="4175280" cy="2643120"/>
          </a:xfrm>
          <a:prstGeom prst="rect">
            <a:avLst/>
          </a:prstGeom>
          <a:ln w="0">
            <a:noFill/>
          </a:ln>
        </p:spPr>
      </p:pic>
      <p:sp>
        <p:nvSpPr>
          <p:cNvPr id="340" name="Заголовок 4"/>
          <p:cNvSpPr/>
          <p:nvPr/>
        </p:nvSpPr>
        <p:spPr>
          <a:xfrm>
            <a:off x="3857760" y="5786280"/>
            <a:ext cx="528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еро Ялпуг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більше </a:t>
            </a: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існе озеро Украї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2"/>
          <p:cNvSpPr/>
          <p:nvPr/>
        </p:nvSpPr>
        <p:spPr>
          <a:xfrm>
            <a:off x="2143080" y="0"/>
            <a:ext cx="4286160" cy="71424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ікави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Объект 7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4357440" cy="4929120"/>
          </a:xfrm>
          <a:prstGeom prst="rect">
            <a:avLst/>
          </a:prstGeom>
          <a:ln w="0">
            <a:noFill/>
          </a:ln>
        </p:spPr>
      </p:pic>
      <p:pic>
        <p:nvPicPr>
          <p:cNvPr id="343" name="Объект 3" descr=""/>
          <p:cNvPicPr/>
          <p:nvPr/>
        </p:nvPicPr>
        <p:blipFill>
          <a:blip r:embed="rId2"/>
          <a:stretch/>
        </p:blipFill>
        <p:spPr>
          <a:xfrm>
            <a:off x="5000760" y="428760"/>
            <a:ext cx="3808440" cy="48574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585720" y="53211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орне мо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 flipV="1" rot="10800000">
            <a:off x="5500800" y="53532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овське мо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1763640" y="1268280"/>
            <a:ext cx="597708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ukraine_physical_map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Овал 3"/>
          <p:cNvSpPr/>
          <p:nvPr/>
        </p:nvSpPr>
        <p:spPr>
          <a:xfrm>
            <a:off x="6500880" y="4714920"/>
            <a:ext cx="164304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Овал 4"/>
          <p:cNvSpPr/>
          <p:nvPr/>
        </p:nvSpPr>
        <p:spPr>
          <a:xfrm>
            <a:off x="3571920" y="4929120"/>
            <a:ext cx="2143080" cy="164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Группа 11"/>
          <p:cNvGrpSpPr/>
          <p:nvPr/>
        </p:nvGrpSpPr>
        <p:grpSpPr>
          <a:xfrm>
            <a:off x="4338720" y="1776240"/>
            <a:ext cx="2309760" cy="3272040"/>
            <a:chOff x="4338720" y="1776240"/>
            <a:chExt cx="2309760" cy="3272040"/>
          </a:xfrm>
        </p:grpSpPr>
        <p:sp>
          <p:nvSpPr>
            <p:cNvPr id="351" name="Полилиния 7"/>
            <p:cNvSpPr/>
            <p:nvPr/>
          </p:nvSpPr>
          <p:spPr>
            <a:xfrm>
              <a:off x="5221440" y="4845240"/>
              <a:ext cx="487080" cy="203040"/>
            </a:xfrm>
            <a:custGeom>
              <a:avLst/>
              <a:gdLst/>
              <a:ahLst/>
              <a:rect l="l" t="t" r="r" b="b"/>
              <a:pathLst>
                <a:path w="488461" h="203516">
                  <a:moveTo>
                    <a:pt x="0" y="199609"/>
                  </a:moveTo>
                  <a:cubicBezTo>
                    <a:pt x="3908" y="200911"/>
                    <a:pt x="7604" y="203516"/>
                    <a:pt x="11723" y="203516"/>
                  </a:cubicBezTo>
                  <a:cubicBezTo>
                    <a:pt x="33794" y="203516"/>
                    <a:pt x="19263" y="188438"/>
                    <a:pt x="27354" y="172255"/>
                  </a:cubicBezTo>
                  <a:cubicBezTo>
                    <a:pt x="29196" y="168571"/>
                    <a:pt x="35393" y="170189"/>
                    <a:pt x="39077" y="168347"/>
                  </a:cubicBezTo>
                  <a:cubicBezTo>
                    <a:pt x="43278" y="166247"/>
                    <a:pt x="46508" y="162439"/>
                    <a:pt x="50800" y="160532"/>
                  </a:cubicBezTo>
                  <a:cubicBezTo>
                    <a:pt x="67031" y="153318"/>
                    <a:pt x="77065" y="152152"/>
                    <a:pt x="93785" y="148809"/>
                  </a:cubicBezTo>
                  <a:cubicBezTo>
                    <a:pt x="96390" y="146204"/>
                    <a:pt x="99952" y="144288"/>
                    <a:pt x="101600" y="140993"/>
                  </a:cubicBezTo>
                  <a:cubicBezTo>
                    <a:pt x="105284" y="133625"/>
                    <a:pt x="103590" y="123372"/>
                    <a:pt x="109415" y="117547"/>
                  </a:cubicBezTo>
                  <a:lnTo>
                    <a:pt x="125046" y="101916"/>
                  </a:lnTo>
                  <a:cubicBezTo>
                    <a:pt x="154366" y="72596"/>
                    <a:pt x="131273" y="90771"/>
                    <a:pt x="211015" y="82378"/>
                  </a:cubicBezTo>
                  <a:cubicBezTo>
                    <a:pt x="216225" y="81075"/>
                    <a:pt x="221302" y="77936"/>
                    <a:pt x="226646" y="78470"/>
                  </a:cubicBezTo>
                  <a:cubicBezTo>
                    <a:pt x="234843" y="79290"/>
                    <a:pt x="242100" y="84288"/>
                    <a:pt x="250092" y="86286"/>
                  </a:cubicBezTo>
                  <a:lnTo>
                    <a:pt x="265723" y="90193"/>
                  </a:lnTo>
                  <a:cubicBezTo>
                    <a:pt x="274841" y="88891"/>
                    <a:pt x="284255" y="88933"/>
                    <a:pt x="293077" y="86286"/>
                  </a:cubicBezTo>
                  <a:cubicBezTo>
                    <a:pt x="297575" y="84936"/>
                    <a:pt x="300483" y="80320"/>
                    <a:pt x="304800" y="78470"/>
                  </a:cubicBezTo>
                  <a:cubicBezTo>
                    <a:pt x="309736" y="76354"/>
                    <a:pt x="315221" y="75865"/>
                    <a:pt x="320431" y="74563"/>
                  </a:cubicBezTo>
                  <a:cubicBezTo>
                    <a:pt x="328246" y="69353"/>
                    <a:pt x="337236" y="65574"/>
                    <a:pt x="343877" y="58932"/>
                  </a:cubicBezTo>
                  <a:cubicBezTo>
                    <a:pt x="346482" y="56327"/>
                    <a:pt x="348397" y="52764"/>
                    <a:pt x="351692" y="51116"/>
                  </a:cubicBezTo>
                  <a:cubicBezTo>
                    <a:pt x="356496" y="48714"/>
                    <a:pt x="361977" y="47718"/>
                    <a:pt x="367323" y="47209"/>
                  </a:cubicBezTo>
                  <a:cubicBezTo>
                    <a:pt x="389405" y="45106"/>
                    <a:pt x="411610" y="44604"/>
                    <a:pt x="433754" y="43301"/>
                  </a:cubicBezTo>
                  <a:cubicBezTo>
                    <a:pt x="459437" y="4777"/>
                    <a:pt x="437846" y="30650"/>
                    <a:pt x="461108" y="12040"/>
                  </a:cubicBezTo>
                  <a:cubicBezTo>
                    <a:pt x="463985" y="9738"/>
                    <a:pt x="465628" y="5872"/>
                    <a:pt x="468923" y="4224"/>
                  </a:cubicBezTo>
                  <a:cubicBezTo>
                    <a:pt x="477370" y="0"/>
                    <a:pt x="481232" y="316"/>
                    <a:pt x="488461" y="316"/>
                  </a:cubicBezTo>
                </a:path>
              </a:pathLst>
            </a:custGeom>
            <a:noFill/>
            <a:ln w="38160">
              <a:solidFill>
                <a:srgbClr val="007bc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олилиния 8"/>
            <p:cNvSpPr/>
            <p:nvPr/>
          </p:nvSpPr>
          <p:spPr>
            <a:xfrm>
              <a:off x="4338720" y="1776240"/>
              <a:ext cx="1360440" cy="1104840"/>
            </a:xfrm>
            <a:custGeom>
              <a:avLst/>
              <a:gdLst/>
              <a:ahLst/>
              <a:rect l="l" t="t" r="r" b="b"/>
              <a:pathLst>
                <a:path w="1360967" h="1105786">
                  <a:moveTo>
                    <a:pt x="0" y="0"/>
                  </a:moveTo>
                  <a:cubicBezTo>
                    <a:pt x="695" y="2781"/>
                    <a:pt x="15717" y="67493"/>
                    <a:pt x="21265" y="74428"/>
                  </a:cubicBezTo>
                  <a:cubicBezTo>
                    <a:pt x="29248" y="84407"/>
                    <a:pt x="42530" y="88605"/>
                    <a:pt x="53163" y="95693"/>
                  </a:cubicBezTo>
                  <a:cubicBezTo>
                    <a:pt x="63795" y="109870"/>
                    <a:pt x="77135" y="122373"/>
                    <a:pt x="85060" y="138223"/>
                  </a:cubicBezTo>
                  <a:cubicBezTo>
                    <a:pt x="91595" y="151294"/>
                    <a:pt x="87587" y="168595"/>
                    <a:pt x="95693" y="180754"/>
                  </a:cubicBezTo>
                  <a:cubicBezTo>
                    <a:pt x="102781" y="191386"/>
                    <a:pt x="117973" y="193604"/>
                    <a:pt x="127590" y="202019"/>
                  </a:cubicBezTo>
                  <a:cubicBezTo>
                    <a:pt x="146450" y="218522"/>
                    <a:pt x="180753" y="255182"/>
                    <a:pt x="180753" y="255182"/>
                  </a:cubicBezTo>
                  <a:cubicBezTo>
                    <a:pt x="184297" y="269359"/>
                    <a:pt x="181053" y="287379"/>
                    <a:pt x="191386" y="297712"/>
                  </a:cubicBezTo>
                  <a:cubicBezTo>
                    <a:pt x="201719" y="308045"/>
                    <a:pt x="220485" y="302588"/>
                    <a:pt x="233916" y="308344"/>
                  </a:cubicBezTo>
                  <a:cubicBezTo>
                    <a:pt x="245662" y="313378"/>
                    <a:pt x="255181" y="322521"/>
                    <a:pt x="265814" y="329610"/>
                  </a:cubicBezTo>
                  <a:cubicBezTo>
                    <a:pt x="308396" y="325352"/>
                    <a:pt x="369701" y="307126"/>
                    <a:pt x="414669" y="329610"/>
                  </a:cubicBezTo>
                  <a:cubicBezTo>
                    <a:pt x="423635" y="334093"/>
                    <a:pt x="428846" y="343787"/>
                    <a:pt x="435935" y="350875"/>
                  </a:cubicBezTo>
                  <a:lnTo>
                    <a:pt x="457200" y="414670"/>
                  </a:lnTo>
                  <a:lnTo>
                    <a:pt x="467832" y="446568"/>
                  </a:lnTo>
                  <a:cubicBezTo>
                    <a:pt x="472704" y="505027"/>
                    <a:pt x="456835" y="563161"/>
                    <a:pt x="499730" y="606056"/>
                  </a:cubicBezTo>
                  <a:cubicBezTo>
                    <a:pt x="508766" y="615092"/>
                    <a:pt x="520995" y="620233"/>
                    <a:pt x="531628" y="627321"/>
                  </a:cubicBezTo>
                  <a:cubicBezTo>
                    <a:pt x="538716" y="637954"/>
                    <a:pt x="542914" y="651236"/>
                    <a:pt x="552893" y="659219"/>
                  </a:cubicBezTo>
                  <a:cubicBezTo>
                    <a:pt x="561644" y="666220"/>
                    <a:pt x="574489" y="665436"/>
                    <a:pt x="584790" y="669851"/>
                  </a:cubicBezTo>
                  <a:cubicBezTo>
                    <a:pt x="599359" y="676095"/>
                    <a:pt x="612604" y="685229"/>
                    <a:pt x="627321" y="691116"/>
                  </a:cubicBezTo>
                  <a:cubicBezTo>
                    <a:pt x="648133" y="699441"/>
                    <a:pt x="691116" y="712382"/>
                    <a:pt x="691116" y="712382"/>
                  </a:cubicBezTo>
                  <a:cubicBezTo>
                    <a:pt x="694660" y="723014"/>
                    <a:pt x="694748" y="735527"/>
                    <a:pt x="701749" y="744279"/>
                  </a:cubicBezTo>
                  <a:cubicBezTo>
                    <a:pt x="722063" y="769671"/>
                    <a:pt x="739862" y="763336"/>
                    <a:pt x="765544" y="776177"/>
                  </a:cubicBezTo>
                  <a:cubicBezTo>
                    <a:pt x="776974" y="781892"/>
                    <a:pt x="785477" y="792955"/>
                    <a:pt x="797442" y="797442"/>
                  </a:cubicBezTo>
                  <a:cubicBezTo>
                    <a:pt x="814363" y="803787"/>
                    <a:pt x="833072" y="803692"/>
                    <a:pt x="850604" y="808075"/>
                  </a:cubicBezTo>
                  <a:cubicBezTo>
                    <a:pt x="861477" y="810793"/>
                    <a:pt x="871725" y="815628"/>
                    <a:pt x="882502" y="818707"/>
                  </a:cubicBezTo>
                  <a:cubicBezTo>
                    <a:pt x="896553" y="822721"/>
                    <a:pt x="910855" y="825796"/>
                    <a:pt x="925032" y="829340"/>
                  </a:cubicBezTo>
                  <a:cubicBezTo>
                    <a:pt x="932120" y="839972"/>
                    <a:pt x="937261" y="852201"/>
                    <a:pt x="946297" y="861237"/>
                  </a:cubicBezTo>
                  <a:cubicBezTo>
                    <a:pt x="966911" y="881851"/>
                    <a:pt x="984147" y="884487"/>
                    <a:pt x="1010093" y="893135"/>
                  </a:cubicBezTo>
                  <a:cubicBezTo>
                    <a:pt x="1108267" y="958585"/>
                    <a:pt x="987504" y="875064"/>
                    <a:pt x="1063256" y="935665"/>
                  </a:cubicBezTo>
                  <a:cubicBezTo>
                    <a:pt x="1073234" y="943648"/>
                    <a:pt x="1085175" y="948947"/>
                    <a:pt x="1095153" y="956930"/>
                  </a:cubicBezTo>
                  <a:cubicBezTo>
                    <a:pt x="1131139" y="985720"/>
                    <a:pt x="1116618" y="999528"/>
                    <a:pt x="1180214" y="1020726"/>
                  </a:cubicBezTo>
                  <a:cubicBezTo>
                    <a:pt x="1229256" y="1037073"/>
                    <a:pt x="1201121" y="1029160"/>
                    <a:pt x="1265274" y="1041991"/>
                  </a:cubicBezTo>
                  <a:cubicBezTo>
                    <a:pt x="1275907" y="1049079"/>
                    <a:pt x="1285742" y="1057541"/>
                    <a:pt x="1297172" y="1063256"/>
                  </a:cubicBezTo>
                  <a:cubicBezTo>
                    <a:pt x="1307196" y="1068268"/>
                    <a:pt x="1319459" y="1068123"/>
                    <a:pt x="1329069" y="1073889"/>
                  </a:cubicBezTo>
                  <a:cubicBezTo>
                    <a:pt x="1329072" y="1073891"/>
                    <a:pt x="1355649" y="1100468"/>
                    <a:pt x="1360967" y="1105786"/>
                  </a:cubicBezTo>
                </a:path>
              </a:pathLst>
            </a:custGeom>
            <a:noFill/>
            <a:ln w="38160">
              <a:solidFill>
                <a:srgbClr val="007bc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Полилиния 9"/>
            <p:cNvSpPr/>
            <p:nvPr/>
          </p:nvSpPr>
          <p:spPr>
            <a:xfrm>
              <a:off x="5719680" y="2892240"/>
              <a:ext cx="928800" cy="966600"/>
            </a:xfrm>
            <a:custGeom>
              <a:avLst/>
              <a:gdLst/>
              <a:ahLst/>
              <a:rect l="l" t="t" r="r" b="b"/>
              <a:pathLst>
                <a:path w="928116" h="967563">
                  <a:moveTo>
                    <a:pt x="0" y="0"/>
                  </a:moveTo>
                  <a:cubicBezTo>
                    <a:pt x="10633" y="7088"/>
                    <a:pt x="20221" y="16075"/>
                    <a:pt x="31898" y="21265"/>
                  </a:cubicBezTo>
                  <a:cubicBezTo>
                    <a:pt x="52381" y="30369"/>
                    <a:pt x="77042" y="30096"/>
                    <a:pt x="95693" y="42530"/>
                  </a:cubicBezTo>
                  <a:cubicBezTo>
                    <a:pt x="187113" y="103475"/>
                    <a:pt x="71443" y="30404"/>
                    <a:pt x="159489" y="74428"/>
                  </a:cubicBezTo>
                  <a:cubicBezTo>
                    <a:pt x="170918" y="80143"/>
                    <a:pt x="179956" y="89978"/>
                    <a:pt x="191386" y="95693"/>
                  </a:cubicBezTo>
                  <a:cubicBezTo>
                    <a:pt x="206635" y="103317"/>
                    <a:pt x="252194" y="113553"/>
                    <a:pt x="265814" y="116958"/>
                  </a:cubicBezTo>
                  <a:lnTo>
                    <a:pt x="361507" y="180753"/>
                  </a:lnTo>
                  <a:lnTo>
                    <a:pt x="393405" y="202018"/>
                  </a:lnTo>
                  <a:cubicBezTo>
                    <a:pt x="400493" y="212651"/>
                    <a:pt x="405634" y="224880"/>
                    <a:pt x="414670" y="233916"/>
                  </a:cubicBezTo>
                  <a:cubicBezTo>
                    <a:pt x="485554" y="304800"/>
                    <a:pt x="411126" y="202018"/>
                    <a:pt x="467833" y="287079"/>
                  </a:cubicBezTo>
                  <a:cubicBezTo>
                    <a:pt x="471377" y="297712"/>
                    <a:pt x="471740" y="310011"/>
                    <a:pt x="478465" y="318977"/>
                  </a:cubicBezTo>
                  <a:cubicBezTo>
                    <a:pt x="493502" y="339026"/>
                    <a:pt x="531628" y="372139"/>
                    <a:pt x="531628" y="372139"/>
                  </a:cubicBezTo>
                  <a:cubicBezTo>
                    <a:pt x="535172" y="382772"/>
                    <a:pt x="534336" y="396112"/>
                    <a:pt x="542261" y="404037"/>
                  </a:cubicBezTo>
                  <a:cubicBezTo>
                    <a:pt x="607584" y="469360"/>
                    <a:pt x="647332" y="449742"/>
                    <a:pt x="744279" y="457200"/>
                  </a:cubicBezTo>
                  <a:cubicBezTo>
                    <a:pt x="820198" y="482506"/>
                    <a:pt x="789424" y="466031"/>
                    <a:pt x="839972" y="499730"/>
                  </a:cubicBezTo>
                  <a:cubicBezTo>
                    <a:pt x="847060" y="510363"/>
                    <a:pt x="853254" y="521649"/>
                    <a:pt x="861237" y="531628"/>
                  </a:cubicBezTo>
                  <a:cubicBezTo>
                    <a:pt x="867499" y="539456"/>
                    <a:pt x="879333" y="543383"/>
                    <a:pt x="882503" y="552893"/>
                  </a:cubicBezTo>
                  <a:cubicBezTo>
                    <a:pt x="928116" y="689732"/>
                    <a:pt x="862318" y="581096"/>
                    <a:pt x="914400" y="659218"/>
                  </a:cubicBezTo>
                  <a:cubicBezTo>
                    <a:pt x="905030" y="715442"/>
                    <a:pt x="919713" y="723016"/>
                    <a:pt x="871870" y="744279"/>
                  </a:cubicBezTo>
                  <a:cubicBezTo>
                    <a:pt x="851387" y="753383"/>
                    <a:pt x="808075" y="765544"/>
                    <a:pt x="808075" y="765544"/>
                  </a:cubicBezTo>
                  <a:cubicBezTo>
                    <a:pt x="836427" y="850605"/>
                    <a:pt x="793898" y="751367"/>
                    <a:pt x="850605" y="808074"/>
                  </a:cubicBezTo>
                  <a:cubicBezTo>
                    <a:pt x="858530" y="815999"/>
                    <a:pt x="857693" y="829339"/>
                    <a:pt x="861237" y="839972"/>
                  </a:cubicBezTo>
                  <a:lnTo>
                    <a:pt x="871870" y="967563"/>
                  </a:lnTo>
                </a:path>
              </a:pathLst>
            </a:custGeom>
            <a:noFill/>
            <a:ln w="38160">
              <a:solidFill>
                <a:srgbClr val="007bc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Полилиния 10"/>
            <p:cNvSpPr/>
            <p:nvPr/>
          </p:nvSpPr>
          <p:spPr>
            <a:xfrm>
              <a:off x="5749920" y="3954600"/>
              <a:ext cx="865080" cy="851040"/>
            </a:xfrm>
            <a:custGeom>
              <a:avLst/>
              <a:gdLst/>
              <a:ahLst/>
              <a:rect l="l" t="t" r="r" b="b"/>
              <a:pathLst>
                <a:path w="865413" h="850604">
                  <a:moveTo>
                    <a:pt x="842921" y="0"/>
                  </a:moveTo>
                  <a:cubicBezTo>
                    <a:pt x="845748" y="28265"/>
                    <a:pt x="865413" y="120128"/>
                    <a:pt x="842921" y="159488"/>
                  </a:cubicBezTo>
                  <a:cubicBezTo>
                    <a:pt x="836581" y="170583"/>
                    <a:pt x="822700" y="175563"/>
                    <a:pt x="811023" y="180753"/>
                  </a:cubicBezTo>
                  <a:cubicBezTo>
                    <a:pt x="790540" y="189857"/>
                    <a:pt x="747228" y="202018"/>
                    <a:pt x="747228" y="202018"/>
                  </a:cubicBezTo>
                  <a:cubicBezTo>
                    <a:pt x="704698" y="198474"/>
                    <a:pt x="661734" y="198402"/>
                    <a:pt x="619637" y="191386"/>
                  </a:cubicBezTo>
                  <a:cubicBezTo>
                    <a:pt x="597527" y="187701"/>
                    <a:pt x="577107" y="177209"/>
                    <a:pt x="555842" y="170121"/>
                  </a:cubicBezTo>
                  <a:lnTo>
                    <a:pt x="523944" y="159488"/>
                  </a:lnTo>
                  <a:cubicBezTo>
                    <a:pt x="448099" y="184771"/>
                    <a:pt x="539796" y="148921"/>
                    <a:pt x="460149" y="202018"/>
                  </a:cubicBezTo>
                  <a:cubicBezTo>
                    <a:pt x="450823" y="208235"/>
                    <a:pt x="438276" y="207639"/>
                    <a:pt x="428251" y="212651"/>
                  </a:cubicBezTo>
                  <a:cubicBezTo>
                    <a:pt x="416822" y="218366"/>
                    <a:pt x="407784" y="228201"/>
                    <a:pt x="396354" y="233916"/>
                  </a:cubicBezTo>
                  <a:cubicBezTo>
                    <a:pt x="374561" y="244812"/>
                    <a:pt x="331508" y="251138"/>
                    <a:pt x="311293" y="255181"/>
                  </a:cubicBezTo>
                  <a:cubicBezTo>
                    <a:pt x="307749" y="269358"/>
                    <a:pt x="304860" y="283714"/>
                    <a:pt x="300661" y="297711"/>
                  </a:cubicBezTo>
                  <a:cubicBezTo>
                    <a:pt x="294220" y="319181"/>
                    <a:pt x="284831" y="339761"/>
                    <a:pt x="279395" y="361507"/>
                  </a:cubicBezTo>
                  <a:cubicBezTo>
                    <a:pt x="275851" y="375684"/>
                    <a:pt x="275298" y="390967"/>
                    <a:pt x="268763" y="404037"/>
                  </a:cubicBezTo>
                  <a:cubicBezTo>
                    <a:pt x="257333" y="426896"/>
                    <a:pt x="226233" y="467832"/>
                    <a:pt x="226233" y="467832"/>
                  </a:cubicBezTo>
                  <a:cubicBezTo>
                    <a:pt x="222689" y="482009"/>
                    <a:pt x="222135" y="497292"/>
                    <a:pt x="215600" y="510362"/>
                  </a:cubicBezTo>
                  <a:cubicBezTo>
                    <a:pt x="211117" y="519328"/>
                    <a:pt x="200350" y="523608"/>
                    <a:pt x="194335" y="531628"/>
                  </a:cubicBezTo>
                  <a:cubicBezTo>
                    <a:pt x="179001" y="552074"/>
                    <a:pt x="165982" y="574158"/>
                    <a:pt x="151805" y="595423"/>
                  </a:cubicBezTo>
                  <a:lnTo>
                    <a:pt x="151805" y="595423"/>
                  </a:lnTo>
                  <a:cubicBezTo>
                    <a:pt x="144717" y="616688"/>
                    <a:pt x="142974" y="640567"/>
                    <a:pt x="130540" y="659218"/>
                  </a:cubicBezTo>
                  <a:cubicBezTo>
                    <a:pt x="123452" y="669851"/>
                    <a:pt x="114990" y="679686"/>
                    <a:pt x="109275" y="691116"/>
                  </a:cubicBezTo>
                  <a:cubicBezTo>
                    <a:pt x="104263" y="701141"/>
                    <a:pt x="103654" y="712989"/>
                    <a:pt x="98642" y="723014"/>
                  </a:cubicBezTo>
                  <a:cubicBezTo>
                    <a:pt x="92927" y="734443"/>
                    <a:pt x="83092" y="743482"/>
                    <a:pt x="77377" y="754911"/>
                  </a:cubicBezTo>
                  <a:cubicBezTo>
                    <a:pt x="72365" y="764936"/>
                    <a:pt x="72961" y="777483"/>
                    <a:pt x="66744" y="786809"/>
                  </a:cubicBezTo>
                  <a:cubicBezTo>
                    <a:pt x="58403" y="799320"/>
                    <a:pt x="46398" y="809081"/>
                    <a:pt x="34847" y="818707"/>
                  </a:cubicBezTo>
                  <a:cubicBezTo>
                    <a:pt x="0" y="847746"/>
                    <a:pt x="2949" y="825582"/>
                    <a:pt x="2949" y="850604"/>
                  </a:cubicBezTo>
                </a:path>
              </a:pathLst>
            </a:custGeom>
            <a:noFill/>
            <a:ln w="38160">
              <a:solidFill>
                <a:srgbClr val="007bc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static.iloveukraine.com.ua/p/0/29/29896/5612a9541412261cdbac8f85b4a3cb05.jpg"/>
          <p:cNvPicPr/>
          <p:nvPr/>
        </p:nvPicPr>
        <p:blipFill>
          <a:blip r:embed="rId1"/>
          <a:stretch/>
        </p:blipFill>
        <p:spPr>
          <a:xfrm>
            <a:off x="428760" y="428760"/>
            <a:ext cx="4071960" cy="3000240"/>
          </a:xfrm>
          <a:prstGeom prst="rect">
            <a:avLst/>
          </a:prstGeom>
          <a:ln w="0">
            <a:noFill/>
          </a:ln>
        </p:spPr>
      </p:pic>
      <p:sp>
        <p:nvSpPr>
          <p:cNvPr id="356" name="Скругленный прямоугольник 2"/>
          <p:cNvSpPr/>
          <p:nvPr/>
        </p:nvSpPr>
        <p:spPr>
          <a:xfrm>
            <a:off x="785880" y="3643200"/>
            <a:ext cx="30002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ксаг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http://www.kryvyirih.dp.ua/ua/osximage/name/221209236733769_n_1o/%D0%BD%D0%BE%D0%B2%D1%8B%D0%B9%20%D1%84%D0%B0%D0%B9%D0%BB%20%282029643840%29.jpg"/>
          <p:cNvPicPr/>
          <p:nvPr/>
        </p:nvPicPr>
        <p:blipFill>
          <a:blip r:embed="rId2"/>
          <a:stretch/>
        </p:blipFill>
        <p:spPr>
          <a:xfrm>
            <a:off x="4500720" y="3286080"/>
            <a:ext cx="4429080" cy="3357720"/>
          </a:xfrm>
          <a:prstGeom prst="rect">
            <a:avLst/>
          </a:prstGeom>
          <a:ln w="0">
            <a:noFill/>
          </a:ln>
        </p:spPr>
      </p:pic>
      <p:sp>
        <p:nvSpPr>
          <p:cNvPr id="358" name="Скругленный прямоугольник 4"/>
          <p:cNvSpPr/>
          <p:nvPr/>
        </p:nvSpPr>
        <p:spPr>
          <a:xfrm>
            <a:off x="4929120" y="2357280"/>
            <a:ext cx="300060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гулец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gimn_krivogo_roga_-_krivoj_rog (cut-mp3.com).mp3" descr=""/>
          <p:cNvPicPr/>
          <p:nvPr/>
        </p:nvPicPr>
        <p:blipFill>
          <a:blip r:embed="rId3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50153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Капля 1"/>
          <p:cNvSpPr/>
          <p:nvPr/>
        </p:nvSpPr>
        <p:spPr>
          <a:xfrm>
            <a:off x="2571840" y="271476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0" y="457200"/>
                </a:moveTo>
                <a:lnTo>
                  <a:pt x="0" y="457200"/>
                </a:lnTo>
                <a:arcTo wR="457200" hR="457200" stAng="-10799992" swAng="5400000"/>
                <a:lnTo>
                  <a:pt x="685800" y="0"/>
                </a:lnTo>
                <a:lnTo>
                  <a:pt x="914400" y="0"/>
                </a:lnTo>
                <a:lnTo>
                  <a:pt x="914400" y="342900"/>
                </a:lnTo>
                <a:arcTo wR="0" hR="114300" stAng="0" swAng="0"/>
                <a:lnTo>
                  <a:pt x="847445" y="847445"/>
                </a:lnTo>
                <a:arcTo wR="-228600" hR="228600" stAng="2700000" swAng="10800000"/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jcnm"/>
          <p:cNvPicPr/>
          <p:nvPr/>
        </p:nvPicPr>
        <p:blipFill>
          <a:blip r:embed="rId1"/>
          <a:stretch/>
        </p:blipFill>
        <p:spPr>
          <a:xfrm>
            <a:off x="1857240" y="1071720"/>
            <a:ext cx="5416560" cy="3319200"/>
          </a:xfrm>
          <a:prstGeom prst="rect">
            <a:avLst/>
          </a:prstGeom>
          <a:ln w="0">
            <a:noFill/>
          </a:ln>
        </p:spPr>
      </p:pic>
      <p:sp>
        <p:nvSpPr>
          <p:cNvPr id="225" name="Горизонтальный свиток 4"/>
          <p:cNvSpPr/>
          <p:nvPr/>
        </p:nvSpPr>
        <p:spPr>
          <a:xfrm>
            <a:off x="1403280" y="3357720"/>
            <a:ext cx="5740560" cy="35002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8a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ae8"/>
                </a:solidFill>
                <a:latin typeface="Arial"/>
              </a:rPr>
              <a:t>працювати творч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ae8"/>
                </a:solidFill>
                <a:latin typeface="Arial"/>
              </a:rPr>
              <a:t>- не перебивати товариш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ae8"/>
                </a:solidFill>
                <a:latin typeface="Arial"/>
              </a:rPr>
              <a:t>- поважати його дум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5"/>
          <p:cNvSpPr/>
          <p:nvPr/>
        </p:nvSpPr>
        <p:spPr>
          <a:xfrm>
            <a:off x="785880" y="214200"/>
            <a:ext cx="7929360" cy="85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говорення правил роботи на уроц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2143080" y="0"/>
            <a:ext cx="4286160" cy="71424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заї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428760" y="928800"/>
            <a:ext cx="2071440" cy="914400"/>
          </a:xfrm>
          <a:prstGeom prst="rect">
            <a:avLst/>
          </a:prstGeom>
          <a:gradFill rotWithShape="0">
            <a:gsLst>
              <a:gs pos="0">
                <a:srgbClr val="8ebeff"/>
              </a:gs>
              <a:gs pos="100000">
                <a:srgbClr val="dfecff"/>
              </a:gs>
            </a:gsLst>
            <a:lin ang="16200000"/>
          </a:gradFill>
          <a:ln w="9360">
            <a:solidFill>
              <a:srgbClr val="0079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литу</a:t>
            </a:r>
            <a:r>
              <a:rPr b="0" lang="uk-UA" sz="1800" spc="-1" strike="noStrike">
                <a:solidFill>
                  <a:srgbClr val="008ae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428760" y="1928880"/>
            <a:ext cx="1714320" cy="914400"/>
          </a:xfrm>
          <a:prstGeom prst="rect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428760" y="2928960"/>
            <a:ext cx="1714320" cy="914400"/>
          </a:xfrm>
          <a:prstGeom prst="rect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наза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285840" y="3929040"/>
            <a:ext cx="2571840" cy="914400"/>
          </a:xfrm>
          <a:prstGeom prst="rect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збере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Овал 12"/>
          <p:cNvSpPr/>
          <p:nvPr/>
        </p:nvSpPr>
        <p:spPr>
          <a:xfrm>
            <a:off x="5929200" y="642960"/>
            <a:ext cx="321480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13"/>
          <p:cNvSpPr/>
          <p:nvPr/>
        </p:nvSpPr>
        <p:spPr>
          <a:xfrm>
            <a:off x="6572160" y="1714680"/>
            <a:ext cx="257184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орщу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Овал 14"/>
          <p:cNvSpPr/>
          <p:nvPr/>
        </p:nvSpPr>
        <p:spPr>
          <a:xfrm>
            <a:off x="5500800" y="3786120"/>
            <a:ext cx="364320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звари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21"/>
          <p:cNvSpPr/>
          <p:nvPr/>
        </p:nvSpPr>
        <p:spPr>
          <a:xfrm>
            <a:off x="5572080" y="2714760"/>
            <a:ext cx="321480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ез</a:t>
            </a:r>
            <a:r>
              <a:rPr b="0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ятиугольник 22"/>
          <p:cNvSpPr/>
          <p:nvPr/>
        </p:nvSpPr>
        <p:spPr>
          <a:xfrm>
            <a:off x="357120" y="5357880"/>
            <a:ext cx="3571920" cy="12142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8" y="0"/>
                </a:lnTo>
                <a:lnTo>
                  <a:pt x="21600" y="10800"/>
                </a:lnTo>
                <a:lnTo>
                  <a:pt x="179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литу воду назад не збере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ятиугольник 23"/>
          <p:cNvSpPr/>
          <p:nvPr/>
        </p:nvSpPr>
        <p:spPr>
          <a:xfrm>
            <a:off x="4572000" y="4857840"/>
            <a:ext cx="4357800" cy="121428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90" y="0"/>
                </a:lnTo>
                <a:lnTo>
                  <a:pt x="21600" y="10800"/>
                </a:lnTo>
                <a:lnTo>
                  <a:pt x="185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води й борщу не звари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Овал 24"/>
          <p:cNvSpPr/>
          <p:nvPr/>
        </p:nvSpPr>
        <p:spPr>
          <a:xfrm>
            <a:off x="3500280" y="2000160"/>
            <a:ext cx="321480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25"/>
          <p:cNvSpPr/>
          <p:nvPr/>
        </p:nvSpPr>
        <p:spPr>
          <a:xfrm>
            <a:off x="2786040" y="3214800"/>
            <a:ext cx="3214800" cy="91440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6"/>
          <p:cNvSpPr/>
          <p:nvPr/>
        </p:nvSpPr>
        <p:spPr>
          <a:xfrm>
            <a:off x="2714760" y="1071720"/>
            <a:ext cx="1714320" cy="914400"/>
          </a:xfrm>
          <a:prstGeom prst="rect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adm.voborote.ua/userfiles/image/%D0%BF%D1%80%D0%B8%D0%B3%D0%BE%D1%82%D0%BE%D0%B2%D0%BB%D0%B5%D0%BD%D0%B8%D0%B5%20%D0%BF%D0%B8%D1%89%D0%B8.jpg"/>
          <p:cNvPicPr/>
          <p:nvPr/>
        </p:nvPicPr>
        <p:blipFill>
          <a:blip r:embed="rId1"/>
          <a:stretch/>
        </p:blipFill>
        <p:spPr>
          <a:xfrm>
            <a:off x="428760" y="928800"/>
            <a:ext cx="2214360" cy="2133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foto.awd.ru/data/media/2/Grand_Palace_3_-___.JPG"/>
          <p:cNvPicPr/>
          <p:nvPr/>
        </p:nvPicPr>
        <p:blipFill>
          <a:blip r:embed="rId2"/>
          <a:stretch/>
        </p:blipFill>
        <p:spPr>
          <a:xfrm>
            <a:off x="3286080" y="928800"/>
            <a:ext cx="2500200" cy="20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s011.radikal.ru/i315/1206/a7/7475d4bc9ef6.jpg"/>
          <p:cNvPicPr/>
          <p:nvPr/>
        </p:nvPicPr>
        <p:blipFill>
          <a:blip r:embed="rId3"/>
          <a:stretch/>
        </p:blipFill>
        <p:spPr>
          <a:xfrm>
            <a:off x="6500880" y="857160"/>
            <a:ext cx="2214360" cy="1886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content.onliner.by/news/dengi/2012/04/rybak.jpg"/>
          <p:cNvPicPr/>
          <p:nvPr/>
        </p:nvPicPr>
        <p:blipFill>
          <a:blip r:embed="rId4"/>
          <a:stretch/>
        </p:blipFill>
        <p:spPr>
          <a:xfrm>
            <a:off x="428760" y="3286080"/>
            <a:ext cx="2214360" cy="2019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http://www.ship-project.ru/img/catalog/c81b.jpg"/>
          <p:cNvPicPr/>
          <p:nvPr/>
        </p:nvPicPr>
        <p:blipFill>
          <a:blip r:embed="rId5"/>
          <a:stretch/>
        </p:blipFill>
        <p:spPr>
          <a:xfrm>
            <a:off x="3357720" y="3143160"/>
            <a:ext cx="2428560" cy="2376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http://www.rivage.ru/images/finland/hotel/10175/11.jpg"/>
          <p:cNvPicPr/>
          <p:nvPr/>
        </p:nvPicPr>
        <p:blipFill>
          <a:blip r:embed="rId6"/>
          <a:stretch/>
        </p:blipFill>
        <p:spPr>
          <a:xfrm>
            <a:off x="6500880" y="3214800"/>
            <a:ext cx="2214360" cy="239544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2"/>
          <p:cNvSpPr/>
          <p:nvPr/>
        </p:nvSpPr>
        <p:spPr>
          <a:xfrm>
            <a:off x="1000080" y="0"/>
            <a:ext cx="7000920" cy="714240"/>
          </a:xfrm>
          <a:prstGeom prst="flowChartAlternate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 людина викорстовує воду 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http://900igr.net/datai/obg/Povedenie-na-vode/0007-004-Nakhodjas-na-pljazhe-ne-zabyvajte-o-bezopasnosti.jpg"/>
          <p:cNvPicPr/>
          <p:nvPr/>
        </p:nvPicPr>
        <p:blipFill>
          <a:blip r:embed="rId1"/>
          <a:stretch/>
        </p:blipFill>
        <p:spPr>
          <a:xfrm>
            <a:off x="1357200" y="1928880"/>
            <a:ext cx="6215040" cy="41972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"/>
          <p:cNvSpPr/>
          <p:nvPr/>
        </p:nvSpPr>
        <p:spPr>
          <a:xfrm>
            <a:off x="928800" y="71424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1616"/>
                </a:solidFill>
                <a:latin typeface="Arial"/>
              </a:rPr>
              <a:t>Правила поведінки на вод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4141800" y="-185904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6"/>
          <p:cNvSpPr/>
          <p:nvPr/>
        </p:nvSpPr>
        <p:spPr>
          <a:xfrm>
            <a:off x="4141800" y="-185904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4141800" y="-185904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4141800" y="-185904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2"/>
          <p:cNvSpPr/>
          <p:nvPr/>
        </p:nvSpPr>
        <p:spPr>
          <a:xfrm>
            <a:off x="4141800" y="-185904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6" descr="http://www.7gy.ru/images/stories/podelki/korablik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adf3f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89" name="Облако 11"/>
          <p:cNvSpPr/>
          <p:nvPr/>
        </p:nvSpPr>
        <p:spPr>
          <a:xfrm>
            <a:off x="3071880" y="0"/>
            <a:ext cx="1414440" cy="914400"/>
          </a:xfrm>
          <a:custGeom>
            <a:avLst/>
            <a:gdLst>
              <a:gd name="textAreaLeft" fmla="*/ 194760 w 1414440"/>
              <a:gd name="textAreaRight" fmla="*/ 1118880 w 141444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85bfff"/>
              </a:gs>
              <a:gs pos="100000">
                <a:srgbClr val="dcecff"/>
              </a:gs>
            </a:gsLst>
            <a:lin ang="16200000"/>
          </a:gradFill>
          <a:ln w="9360">
            <a:solidFill>
              <a:srgbClr val="0086e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блако 12"/>
          <p:cNvSpPr/>
          <p:nvPr/>
        </p:nvSpPr>
        <p:spPr>
          <a:xfrm>
            <a:off x="0" y="0"/>
            <a:ext cx="1857240" cy="914400"/>
          </a:xfrm>
          <a:custGeom>
            <a:avLst/>
            <a:gdLst>
              <a:gd name="textAreaLeft" fmla="*/ 255960 w 1857240"/>
              <a:gd name="textAreaRight" fmla="*/ 1469160 w 185724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bcffff"/>
              </a:gs>
              <a:gs pos="100000">
                <a:srgbClr val="eaffff"/>
              </a:gs>
            </a:gsLst>
            <a:lin ang="16200000"/>
          </a:gradFill>
          <a:ln w="9360">
            <a:solidFill>
              <a:srgbClr val="adf3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Облако 13"/>
          <p:cNvSpPr/>
          <p:nvPr/>
        </p:nvSpPr>
        <p:spPr>
          <a:xfrm>
            <a:off x="4714920" y="142920"/>
            <a:ext cx="1714320" cy="914400"/>
          </a:xfrm>
          <a:custGeom>
            <a:avLst/>
            <a:gdLst>
              <a:gd name="textAreaLeft" fmla="*/ 236160 w 1714320"/>
              <a:gd name="textAreaRight" fmla="*/ 1356120 w 171432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bcffff"/>
              </a:gs>
              <a:gs pos="100000">
                <a:srgbClr val="eaffff"/>
              </a:gs>
            </a:gsLst>
            <a:lin ang="16200000"/>
          </a:gradFill>
          <a:ln w="9360">
            <a:solidFill>
              <a:srgbClr val="adf3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Облако 14"/>
          <p:cNvSpPr/>
          <p:nvPr/>
        </p:nvSpPr>
        <p:spPr>
          <a:xfrm>
            <a:off x="7358040" y="0"/>
            <a:ext cx="1785960" cy="914400"/>
          </a:xfrm>
          <a:custGeom>
            <a:avLst/>
            <a:gdLst>
              <a:gd name="textAreaLeft" fmla="*/ 245880 w 1785960"/>
              <a:gd name="textAreaRight" fmla="*/ 1413000 w 178596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bcffff"/>
              </a:gs>
              <a:gs pos="100000">
                <a:srgbClr val="eaffff"/>
              </a:gs>
            </a:gsLst>
            <a:lin ang="16200000"/>
          </a:gradFill>
          <a:ln w="9360">
            <a:solidFill>
              <a:srgbClr val="adf3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Облако 15"/>
          <p:cNvSpPr/>
          <p:nvPr/>
        </p:nvSpPr>
        <p:spPr>
          <a:xfrm>
            <a:off x="0" y="2786040"/>
            <a:ext cx="1643040" cy="914400"/>
          </a:xfrm>
          <a:custGeom>
            <a:avLst/>
            <a:gdLst>
              <a:gd name="textAreaLeft" fmla="*/ 226440 w 1643040"/>
              <a:gd name="textAreaRight" fmla="*/ 1299960 w 164304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Облако 16"/>
          <p:cNvSpPr/>
          <p:nvPr/>
        </p:nvSpPr>
        <p:spPr>
          <a:xfrm>
            <a:off x="0" y="1143000"/>
            <a:ext cx="1928880" cy="914400"/>
          </a:xfrm>
          <a:custGeom>
            <a:avLst/>
            <a:gdLst>
              <a:gd name="textAreaLeft" fmla="*/ 265680 w 1928880"/>
              <a:gd name="textAreaRight" fmla="*/ 1526040 w 192888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bcffff"/>
              </a:gs>
              <a:gs pos="100000">
                <a:srgbClr val="eaffff"/>
              </a:gs>
            </a:gsLst>
            <a:lin ang="16200000"/>
          </a:gradFill>
          <a:ln w="9360">
            <a:solidFill>
              <a:srgbClr val="adf3f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блако 17"/>
          <p:cNvSpPr/>
          <p:nvPr/>
        </p:nvSpPr>
        <p:spPr>
          <a:xfrm>
            <a:off x="3143160" y="1785960"/>
            <a:ext cx="1414440" cy="914400"/>
          </a:xfrm>
          <a:custGeom>
            <a:avLst/>
            <a:gdLst>
              <a:gd name="textAreaLeft" fmla="*/ 194760 w 1414440"/>
              <a:gd name="textAreaRight" fmla="*/ 1118880 w 141444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Облако 18"/>
          <p:cNvSpPr/>
          <p:nvPr/>
        </p:nvSpPr>
        <p:spPr>
          <a:xfrm>
            <a:off x="7286760" y="1714680"/>
            <a:ext cx="1857240" cy="914400"/>
          </a:xfrm>
          <a:custGeom>
            <a:avLst/>
            <a:gdLst>
              <a:gd name="textAreaLeft" fmla="*/ 255960 w 1857240"/>
              <a:gd name="textAreaRight" fmla="*/ 1469160 w 185724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Облако 19"/>
          <p:cNvSpPr/>
          <p:nvPr/>
        </p:nvSpPr>
        <p:spPr>
          <a:xfrm>
            <a:off x="4714920" y="1143000"/>
            <a:ext cx="1785960" cy="914400"/>
          </a:xfrm>
          <a:custGeom>
            <a:avLst/>
            <a:gdLst>
              <a:gd name="textAreaLeft" fmla="*/ 245880 w 1785960"/>
              <a:gd name="textAreaRight" fmla="*/ 1413000 w 178596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Облако 20"/>
          <p:cNvSpPr/>
          <p:nvPr/>
        </p:nvSpPr>
        <p:spPr>
          <a:xfrm>
            <a:off x="4643280" y="2786040"/>
            <a:ext cx="1414800" cy="914400"/>
          </a:xfrm>
          <a:custGeom>
            <a:avLst/>
            <a:gdLst>
              <a:gd name="textAreaLeft" fmla="*/ 194760 w 1414800"/>
              <a:gd name="textAreaRight" fmla="*/ 1119240 w 14148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1143000" y="1928880"/>
            <a:ext cx="6500880" cy="381636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Ві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ма з віку рідина, усяк її вжива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Буває хмаркою вона, сніжинкою буває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Бува, як скло, крихка твер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Звичайна, підкажіть…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http://img0.liveinternet.ru/images/attach/c/6/92/945/92945706_90801520_0_69a40_10dd2f64_XL.png"/>
          <p:cNvPicPr/>
          <p:nvPr/>
        </p:nvPicPr>
        <p:blipFill>
          <a:blip r:embed="rId1"/>
          <a:stretch/>
        </p:blipFill>
        <p:spPr>
          <a:xfrm>
            <a:off x="214200" y="0"/>
            <a:ext cx="3438720" cy="265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img1.liveinternet.ru/images/attach/b/0/10175/10175140_10315179_rainxc.gif"/>
          <p:cNvPicPr/>
          <p:nvPr/>
        </p:nvPicPr>
        <p:blipFill>
          <a:blip r:embed="rId2"/>
          <a:stretch/>
        </p:blipFill>
        <p:spPr>
          <a:xfrm>
            <a:off x="4857840" y="357120"/>
            <a:ext cx="1857240" cy="1752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stat20.privet.ru/lr/0b33dd2fd7fd0931af2ed7ceced393f3"/>
          <p:cNvPicPr/>
          <p:nvPr/>
        </p:nvPicPr>
        <p:blipFill>
          <a:blip r:embed="rId3"/>
          <a:stretch/>
        </p:blipFill>
        <p:spPr>
          <a:xfrm>
            <a:off x="6143760" y="5143680"/>
            <a:ext cx="2228760" cy="1095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7"/>
          <p:cNvSpPr/>
          <p:nvPr/>
        </p:nvSpPr>
        <p:spPr>
          <a:xfrm>
            <a:off x="2214720" y="5143680"/>
            <a:ext cx="371448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ae8"/>
                </a:solidFill>
                <a:latin typeface="Arial"/>
              </a:rPr>
              <a:t>Пригадай , де в природ</a:t>
            </a:r>
            <a:r>
              <a:rPr b="0" lang="uk-UA" sz="1800" spc="-1" strike="noStrike">
                <a:solidFill>
                  <a:srgbClr val="008ae8"/>
                </a:solidFill>
                <a:latin typeface="Arial"/>
              </a:rPr>
              <a:t>і  зустрічається во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Капля 1"/>
          <p:cNvSpPr/>
          <p:nvPr/>
        </p:nvSpPr>
        <p:spPr>
          <a:xfrm>
            <a:off x="2000160" y="2643120"/>
            <a:ext cx="914400" cy="914400"/>
          </a:xfrm>
          <a:prstGeom prst="pie">
            <a:avLst/>
          </a:pr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Капля 4"/>
          <p:cNvSpPr/>
          <p:nvPr/>
        </p:nvSpPr>
        <p:spPr>
          <a:xfrm>
            <a:off x="4429080" y="1428840"/>
            <a:ext cx="914400" cy="914400"/>
          </a:xfrm>
          <a:prstGeom prst="pie">
            <a:avLst/>
          </a:prstGeom>
          <a:gradFill rotWithShape="0">
            <a:gsLst>
              <a:gs pos="0">
                <a:srgbClr val="85bfff"/>
              </a:gs>
              <a:gs pos="100000">
                <a:srgbClr val="dcecff"/>
              </a:gs>
            </a:gsLst>
            <a:lin ang="16200000"/>
          </a:gradFill>
          <a:ln w="9360">
            <a:solidFill>
              <a:srgbClr val="0086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Капля 5"/>
          <p:cNvSpPr/>
          <p:nvPr/>
        </p:nvSpPr>
        <p:spPr>
          <a:xfrm>
            <a:off x="5929200" y="1928880"/>
            <a:ext cx="914400" cy="914400"/>
          </a:xfrm>
          <a:prstGeom prst="pie">
            <a:avLst/>
          </a:prstGeom>
          <a:solidFill>
            <a:srgbClr val="92cfc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Капля 6"/>
          <p:cNvGrpSpPr/>
          <p:nvPr/>
        </p:nvGrpSpPr>
        <p:grpSpPr>
          <a:xfrm>
            <a:off x="3992400" y="2498760"/>
            <a:ext cx="1067040" cy="1062000"/>
            <a:chOff x="3992400" y="2498760"/>
            <a:chExt cx="1067040" cy="1062000"/>
          </a:xfrm>
        </p:grpSpPr>
        <p:pic>
          <p:nvPicPr>
            <p:cNvPr id="236" name="Капля 6" descr=""/>
            <p:cNvPicPr/>
            <p:nvPr/>
          </p:nvPicPr>
          <p:blipFill>
            <a:blip r:embed="rId1"/>
            <a:stretch/>
          </p:blipFill>
          <p:spPr>
            <a:xfrm>
              <a:off x="3992400" y="2498760"/>
              <a:ext cx="10670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205160" y="27050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о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Капля 7"/>
          <p:cNvSpPr/>
          <p:nvPr/>
        </p:nvSpPr>
        <p:spPr>
          <a:xfrm>
            <a:off x="5929200" y="3286080"/>
            <a:ext cx="914400" cy="914400"/>
          </a:xfrm>
          <a:prstGeom prst="pie">
            <a:avLst/>
          </a:pr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Капля 8"/>
          <p:cNvSpPr/>
          <p:nvPr/>
        </p:nvSpPr>
        <p:spPr>
          <a:xfrm>
            <a:off x="2143080" y="1571760"/>
            <a:ext cx="914400" cy="914400"/>
          </a:xfrm>
          <a:prstGeom prst="pie">
            <a:avLst/>
          </a:prstGeom>
          <a:gradFill rotWithShape="0">
            <a:gsLst>
              <a:gs pos="0">
                <a:srgbClr val="a3eded"/>
              </a:gs>
              <a:gs pos="100000">
                <a:srgbClr val="e6fafa"/>
              </a:gs>
            </a:gsLst>
            <a:lin ang="16200000"/>
          </a:gradFill>
          <a:ln w="9360">
            <a:solidFill>
              <a:srgbClr val="0099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Капля 9"/>
          <p:cNvSpPr/>
          <p:nvPr/>
        </p:nvSpPr>
        <p:spPr>
          <a:xfrm>
            <a:off x="3071880" y="3286080"/>
            <a:ext cx="914400" cy="914400"/>
          </a:xfrm>
          <a:prstGeom prst="pie">
            <a:avLst/>
          </a:prstGeom>
          <a:gradFill rotWithShape="0">
            <a:gsLst>
              <a:gs pos="0">
                <a:srgbClr val="85bfff"/>
              </a:gs>
              <a:gs pos="100000">
                <a:srgbClr val="dcecff"/>
              </a:gs>
            </a:gsLst>
            <a:lin ang="16200000"/>
          </a:gradFill>
          <a:ln w="9360">
            <a:solidFill>
              <a:srgbClr val="0086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1692360" y="4373640"/>
            <a:ext cx="6000840" cy="1431720"/>
          </a:xfrm>
          <a:prstGeom prst="rect">
            <a:avLst/>
          </a:prstGeom>
          <a:solidFill>
            <a:srgbClr val="dcfc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й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Їх різноманітт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ukraine_physical_map_full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143160" y="2357280"/>
            <a:ext cx="2592360" cy="2016360"/>
          </a:xfrm>
          <a:prstGeom prst="flowChartConnector">
            <a:avLst/>
          </a:prstGeom>
          <a:gradFill rotWithShape="0">
            <a:gsLst>
              <a:gs pos="0">
                <a:srgbClr val="85bfff"/>
              </a:gs>
              <a:gs pos="100000">
                <a:srgbClr val="dcecff"/>
              </a:gs>
            </a:gsLst>
            <a:lin ang="16200000"/>
          </a:gradFill>
          <a:ln w="9360">
            <a:solidFill>
              <a:srgbClr val="0086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й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286000" y="285840"/>
            <a:ext cx="4071960" cy="863640"/>
          </a:xfrm>
          <a:prstGeom prst="flowChartProcess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оціативний ку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940360" y="501336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бол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929200" y="392904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кеа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0360" y="2708280"/>
            <a:ext cx="270360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осховищ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940360" y="148428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ста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395280" y="508464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мо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395280" y="393372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річ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468360" y="278136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оз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57120" y="1643040"/>
            <a:ext cx="2592360" cy="863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джере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Блок-схема: перфолента 1"/>
          <p:cNvSpPr/>
          <p:nvPr/>
        </p:nvSpPr>
        <p:spPr>
          <a:xfrm>
            <a:off x="1214280" y="500040"/>
            <a:ext cx="6643800" cy="1519200"/>
          </a:xfrm>
          <a:prstGeom prst="flowChartPunchedTape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закінчене рече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857160" y="2143080"/>
            <a:ext cx="7429680" cy="121464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сі водойми поділяються  на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000080" y="5072040"/>
            <a:ext cx="7429680" cy="121464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ойми, які  створила  людина   називають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Скругленный прямоугольник 4"/>
          <p:cNvSpPr/>
          <p:nvPr/>
        </p:nvSpPr>
        <p:spPr>
          <a:xfrm>
            <a:off x="428760" y="3643200"/>
            <a:ext cx="8358120" cy="1214640"/>
          </a:xfrm>
          <a:prstGeom prst="roundRect">
            <a:avLst>
              <a:gd name="adj" fmla="val 16667"/>
            </a:avLst>
          </a:prstGeom>
          <a:solidFill>
            <a:srgbClr val="b8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одойми, які утворилися самостійно називаютьс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Скругленный прямоугольник 27"/>
          <p:cNvSpPr/>
          <p:nvPr/>
        </p:nvSpPr>
        <p:spPr>
          <a:xfrm>
            <a:off x="2714760" y="1285920"/>
            <a:ext cx="3456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одой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28"/>
          <p:cNvSpPr/>
          <p:nvPr/>
        </p:nvSpPr>
        <p:spPr>
          <a:xfrm>
            <a:off x="4786200" y="2214720"/>
            <a:ext cx="34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Штучні</a:t>
            </a:r>
            <a:r>
              <a:rPr b="0" lang="uk-UA" sz="1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29"/>
          <p:cNvSpPr/>
          <p:nvPr/>
        </p:nvSpPr>
        <p:spPr>
          <a:xfrm>
            <a:off x="4786200" y="3071880"/>
            <a:ext cx="345600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водосхов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30"/>
          <p:cNvSpPr/>
          <p:nvPr/>
        </p:nvSpPr>
        <p:spPr>
          <a:xfrm>
            <a:off x="4786200" y="3857760"/>
            <a:ext cx="34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31"/>
          <p:cNvSpPr/>
          <p:nvPr/>
        </p:nvSpPr>
        <p:spPr>
          <a:xfrm>
            <a:off x="4786200" y="4643280"/>
            <a:ext cx="3456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кан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Скругленный прямоугольник 32"/>
          <p:cNvSpPr/>
          <p:nvPr/>
        </p:nvSpPr>
        <p:spPr>
          <a:xfrm>
            <a:off x="428760" y="2214720"/>
            <a:ext cx="34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3c2d6"/>
                </a:solidFill>
                <a:latin typeface="Arial"/>
              </a:rPr>
              <a:t>Природні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3"/>
          <p:cNvSpPr/>
          <p:nvPr/>
        </p:nvSpPr>
        <p:spPr>
          <a:xfrm>
            <a:off x="428760" y="3071880"/>
            <a:ext cx="345744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джер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34"/>
          <p:cNvSpPr/>
          <p:nvPr/>
        </p:nvSpPr>
        <p:spPr>
          <a:xfrm>
            <a:off x="428760" y="3714840"/>
            <a:ext cx="34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рі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35"/>
          <p:cNvSpPr/>
          <p:nvPr/>
        </p:nvSpPr>
        <p:spPr>
          <a:xfrm>
            <a:off x="428760" y="4357800"/>
            <a:ext cx="3457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о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36"/>
          <p:cNvSpPr/>
          <p:nvPr/>
        </p:nvSpPr>
        <p:spPr>
          <a:xfrm>
            <a:off x="428760" y="5000760"/>
            <a:ext cx="3457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бо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кругленный прямоугольник 37"/>
          <p:cNvSpPr/>
          <p:nvPr/>
        </p:nvSpPr>
        <p:spPr>
          <a:xfrm>
            <a:off x="428760" y="5643720"/>
            <a:ext cx="3457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Скругленный прямоугольник 37"/>
          <p:cNvSpPr/>
          <p:nvPr/>
        </p:nvSpPr>
        <p:spPr>
          <a:xfrm>
            <a:off x="428760" y="6281640"/>
            <a:ext cx="3457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ae8"/>
                </a:solidFill>
                <a:latin typeface="Trebuchet MS"/>
              </a:rPr>
              <a:t>оке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3"/>
          <p:cNvSpPr/>
          <p:nvPr/>
        </p:nvSpPr>
        <p:spPr>
          <a:xfrm>
            <a:off x="1928880" y="214200"/>
            <a:ext cx="4714920" cy="914400"/>
          </a:xfrm>
          <a:prstGeom prst="rect">
            <a:avLst/>
          </a:prstGeom>
          <a:gradFill rotWithShape="0">
            <a:gsLst>
              <a:gs pos="0">
                <a:srgbClr val="0068c2"/>
              </a:gs>
              <a:gs pos="100000">
                <a:srgbClr val="008cff"/>
              </a:gs>
            </a:gsLst>
            <a:lin ang="16200000"/>
          </a:gradFill>
          <a:ln w="9360">
            <a:solidFill>
              <a:srgbClr val="0086e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зподільний аналі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Блок-схема: перфолента 1"/>
          <p:cNvSpPr/>
          <p:nvPr/>
        </p:nvSpPr>
        <p:spPr>
          <a:xfrm>
            <a:off x="2214720" y="357120"/>
            <a:ext cx="3929040" cy="1519200"/>
          </a:xfrm>
          <a:prstGeom prst="flowChartPunchedTape">
            <a:avLst/>
          </a:prstGeom>
          <a:gradFill rotWithShape="0">
            <a:gsLst>
              <a:gs pos="0">
                <a:srgbClr val="83bfff"/>
              </a:gs>
              <a:gs pos="100000">
                <a:srgbClr val="dbecff"/>
              </a:gs>
            </a:gsLst>
            <a:lin ang="16200000"/>
          </a:gradFill>
          <a:ln w="9360">
            <a:solidFill>
              <a:srgbClr val="0088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Овал 2"/>
          <p:cNvSpPr/>
          <p:nvPr/>
        </p:nvSpPr>
        <p:spPr>
          <a:xfrm>
            <a:off x="343080" y="1125360"/>
            <a:ext cx="1871640" cy="230364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ол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Овал 3"/>
          <p:cNvSpPr/>
          <p:nvPr/>
        </p:nvSpPr>
        <p:spPr>
          <a:xfrm>
            <a:off x="6300720" y="1149480"/>
            <a:ext cx="1884600" cy="2279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іс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Пряма зі стрілкою 5"/>
          <p:cNvCxnSpPr/>
          <p:nvPr/>
        </p:nvCxnSpPr>
        <p:spPr>
          <a:xfrm flipH="1">
            <a:off x="5866560" y="3429000"/>
            <a:ext cx="1081800" cy="5054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74" name="Пряма зі стрілкою 7"/>
          <p:cNvCxnSpPr/>
          <p:nvPr/>
        </p:nvCxnSpPr>
        <p:spPr>
          <a:xfrm>
            <a:off x="7127640" y="3435120"/>
            <a:ext cx="1080" cy="76572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75" name="Пряма зі стрілкою 9"/>
          <p:cNvCxnSpPr/>
          <p:nvPr/>
        </p:nvCxnSpPr>
        <p:spPr>
          <a:xfrm>
            <a:off x="7164000" y="3179880"/>
            <a:ext cx="1080360" cy="50400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76" name="Пряма зі стрілкою 11"/>
          <p:cNvCxnSpPr>
            <a:stCxn id="271" idx="4"/>
          </p:cNvCxnSpPr>
          <p:nvPr/>
        </p:nvCxnSpPr>
        <p:spPr>
          <a:xfrm flipH="1">
            <a:off x="467640" y="3428640"/>
            <a:ext cx="810360" cy="57708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77" name="Пряма зі стрілкою 13"/>
          <p:cNvCxnSpPr>
            <a:stCxn id="271" idx="4"/>
          </p:cNvCxnSpPr>
          <p:nvPr/>
        </p:nvCxnSpPr>
        <p:spPr>
          <a:xfrm>
            <a:off x="1278000" y="3428640"/>
            <a:ext cx="937440" cy="57708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278" name="Прямокутник 14"/>
          <p:cNvSpPr/>
          <p:nvPr/>
        </p:nvSpPr>
        <p:spPr>
          <a:xfrm>
            <a:off x="4572000" y="3971880"/>
            <a:ext cx="1440000" cy="10666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кутник 15"/>
          <p:cNvSpPr/>
          <p:nvPr/>
        </p:nvSpPr>
        <p:spPr>
          <a:xfrm>
            <a:off x="6300720" y="4329000"/>
            <a:ext cx="1295640" cy="9003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АВ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кутник 16"/>
          <p:cNvSpPr/>
          <p:nvPr/>
        </p:nvSpPr>
        <p:spPr>
          <a:xfrm>
            <a:off x="7704000" y="3740040"/>
            <a:ext cx="1368720" cy="919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кутник 17"/>
          <p:cNvSpPr/>
          <p:nvPr/>
        </p:nvSpPr>
        <p:spPr>
          <a:xfrm>
            <a:off x="179280" y="4149720"/>
            <a:ext cx="1297080" cy="9349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кутник 18"/>
          <p:cNvSpPr/>
          <p:nvPr/>
        </p:nvSpPr>
        <p:spPr>
          <a:xfrm>
            <a:off x="1979640" y="4149720"/>
            <a:ext cx="1440000" cy="8888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6:23:29Z</dcterms:created>
  <dc:creator>Владимир Леонидович</dc:creator>
  <dc:description/>
  <dc:language>en-US</dc:language>
  <cp:lastModifiedBy>user</cp:lastModifiedBy>
  <cp:lastPrinted>2013-09-26T03:54:43Z</cp:lastPrinted>
  <dcterms:modified xsi:type="dcterms:W3CDTF">2017-08-19T16:03:18Z</dcterms:modified>
  <cp:revision>68</cp:revision>
  <dc:subject/>
  <dc:title>Слайд 1</dc:title>
</cp:coreProperties>
</file>