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7.gif" ContentType="image/gif"/>
  <Override PartName="/ppt/media/image6.gif" ContentType="image/gif"/>
  <Override PartName="/ppt/media/image9.png" ContentType="image/png"/>
  <Override PartName="/ppt/media/image29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.png" ContentType="image/png"/>
  <Override PartName="/ppt/media/image25.png" ContentType="image/png"/>
  <Override PartName="/ppt/media/image28.png" ContentType="image/png"/>
  <Override PartName="/ppt/media/image16.jpeg" ContentType="image/jpeg"/>
  <Override PartName="/ppt/media/image24.gif" ContentType="image/gif"/>
  <Override PartName="/ppt/media/image27.png" ContentType="image/png"/>
  <Override PartName="/ppt/media/image21.jpeg" ContentType="image/jpeg"/>
  <Override PartName="/ppt/media/image22.png" ContentType="image/png"/>
  <Override PartName="/ppt/media/image19.gif" ContentType="image/gif"/>
  <Override PartName="/ppt/media/image10.png" ContentType="image/png"/>
  <Override PartName="/ppt/media/image23.png" ContentType="image/png"/>
  <Override PartName="/ppt/media/image20.gif" ContentType="image/gif"/>
  <Override PartName="/ppt/media/image18.jpeg" ContentType="image/jpeg"/>
  <Override PartName="/ppt/media/image17.jpeg" ContentType="image/jpe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82D-B2D8-47AF-80E6-61DA90E9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77D-0C6F-4D73-9E2D-43088D36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7C9-1F23-4DBB-913C-42ACFE74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C1D-2B17-49AC-8A89-C8072FDB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62CA-96CB-4DD9-9D94-42B18FA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FB57-B386-4AAA-B34C-6B68CF6F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DF2-ED66-43DB-99DA-D93E54EF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212-5E6C-4A21-9DFD-89A65367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7B6-9DA5-4DF1-BD30-D9D534C9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E2E0-55A6-4BBB-B781-8CF167A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6C0-3118-4849-A704-1F9CE9A4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A6D-9CAE-49FB-8F99-9636CF40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C:\Users\malves\AppData\Local\Microsoft\Windows\Temporary Internet Files\Content.IE5\SGE5N6DW\MPj04387460000[1].jpg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F712-F8AF-427D-93DA-1977F93E1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2785680"/>
            <a:ext cx="832968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Будова і функції органів травлення, травних залоз. Лабораторна робота </a:t>
            </a:r>
            <a:br>
              <a:rPr sz="4400"/>
            </a:b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            №4. Дія ферментів слини на крохмаль.</a:t>
            </a:r>
            <a:br>
              <a:rPr sz="44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pic>
        <p:nvPicPr>
          <p:cNvPr id="43" name="Picture 2" descr="E:\124445656.gif"/>
          <p:cNvPicPr/>
          <p:nvPr/>
        </p:nvPicPr>
        <p:blipFill>
          <a:blip r:embed="rId1"/>
          <a:stretch/>
        </p:blipFill>
        <p:spPr>
          <a:xfrm>
            <a:off x="714240" y="0"/>
            <a:ext cx="2286000" cy="156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Будова травної системи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Система органів травлення складається з травного каналу і травних зало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Травний тракт поділяється на такі відділ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. ротова порожн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2.гло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3.стравохі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4.шлун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5.тонкий кишеч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6. товстий кишеч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7. анальний отві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Травні залози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Це органи в яких утворюються і виділяються травні соки, які беруть участь в травленн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иди травних залоз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1.3 пари слинних зал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2. залози оболонки шлунку і кишеч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3. печінка і підшлункова зало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Стінки травного каналу складаються з трьох оболонок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Внутрішньої оболонки ( епітеліальної) – утворюється слиз, що зволожує стінки кана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 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зевої  - утворена 2 шарами непосмугованих  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зів , їхнє скорочення сприяє перемішуванні їж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Зовнішня оболонка – вистилає черевну порожнину ( очереви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Функції травної системи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Секреторна – виділення ферментів у складі слини, шлункового , підшлункового і кишкового соків та жовч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 рухова функція – жування , ковтання , перемішування їж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Всмоктування поживних речовин – здійснюється слизовою оболонкою шлунка , тонкою та товстою киш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f497d"/>
                </a:solidFill>
                <a:latin typeface="Calibri"/>
              </a:rPr>
              <a:t>Особливості травлення в ротовій порожнині.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7840" y="1071360"/>
            <a:ext cx="4000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травлення починається в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ові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жнин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Її утворюють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і щоки, верхня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жня щелеп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яких розташован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Щелепи вкрит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снам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 нижній частині ротової порожнини є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и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 смаку. Він бере участь у перемішуванні та проковтуванні їжі й формуванні мовле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мия человека- Пищеварение в ротовой полости.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785880"/>
            <a:ext cx="2320920" cy="2835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0" t="0" r="28247" b="0"/>
          <a:stretch/>
        </p:blipFill>
        <p:spPr>
          <a:xfrm>
            <a:off x="2643120" y="1214280"/>
            <a:ext cx="2443320" cy="2428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642960" y="3786120"/>
            <a:ext cx="400032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uk-UA" sz="4000" spc="-1" strike="noStrike">
                <a:solidFill>
                  <a:srgbClr val="1f497d"/>
                </a:solidFill>
                <a:latin typeface="Calibri"/>
              </a:rPr>
              <a:t>Слинні залози і їх функції. 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4200" y="785520"/>
            <a:ext cx="39290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юдини є три пар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нних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о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привушні, піднижньощелепні і під’язикові). За добу у неї виділяється від 1,0 до 1,5 л сли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на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дукт секреції слинних залоз. Вона містить 99% води, солі, органічні речовини – білки і слиз (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ци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Слина зволожує їжу, перетворює її на м'яку слизьку грудку, яка легко проковтуєтьс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liliya\Мои документы\презинтація\image001.jpg"/>
          <p:cNvPicPr/>
          <p:nvPr/>
        </p:nvPicPr>
        <p:blipFill>
          <a:blip r:embed="rId1"/>
          <a:srcRect l="0" t="0" r="0" b="16665"/>
          <a:stretch/>
        </p:blipFill>
        <p:spPr>
          <a:xfrm>
            <a:off x="4214880" y="857160"/>
            <a:ext cx="4714920" cy="6000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85840" y="4071600"/>
            <a:ext cx="85010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менти слини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ілаз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ьтаз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чинають розщеплювати складні вуглеводи на простіші. Спочатку амілаза розщеплює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ісахарид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хариді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л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харид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ід дією мальтази розщеплюються до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сахаридів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юкози). У слині є також фермент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ізоци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ий сприяє загоєнню ран слизової оболонки ротової порожнини і знищує мікроорганіз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00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Будова зуба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3920" y="785520"/>
            <a:ext cx="79297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істкові органи, розташовані в ротовій порожнині. У дорослої людини 32 зуби. За формою і функціями розрізняють: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ізц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кл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і кутні зуб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уб складається з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е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шийк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к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кожній щелепі спереду розташовані по 4 різці, поряд із ними – по одному іклу, далі з кожного боку є два малі і три великі кутні зуби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езывание зубов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liliya\Мои документы\презинтація\images11.jpeg"/>
          <p:cNvPicPr/>
          <p:nvPr/>
        </p:nvPicPr>
        <p:blipFill>
          <a:blip r:embed="rId1"/>
          <a:stretch/>
        </p:blipFill>
        <p:spPr>
          <a:xfrm>
            <a:off x="1285920" y="3643200"/>
            <a:ext cx="6740640" cy="228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Documents and Settings\liliya\Мои документы\презинтація\129727058.gif"/>
          <p:cNvPicPr/>
          <p:nvPr/>
        </p:nvPicPr>
        <p:blipFill>
          <a:blip r:embed="rId2"/>
          <a:stretch/>
        </p:blipFill>
        <p:spPr>
          <a:xfrm>
            <a:off x="214200" y="928800"/>
            <a:ext cx="1165320" cy="1485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714560" y="356760"/>
            <a:ext cx="3971880" cy="58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ішня частина зуба м'яка 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льп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овнішня –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ерд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 якої входять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ал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нтин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мент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Documents and Settings\liliya\Мои документы\презинтація\tooth.jpg"/>
          <p:cNvPicPr/>
          <p:nvPr/>
        </p:nvPicPr>
        <p:blipFill>
          <a:blip r:embed="rId1"/>
          <a:stretch/>
        </p:blipFill>
        <p:spPr>
          <a:xfrm>
            <a:off x="285840" y="214200"/>
            <a:ext cx="4071960" cy="5973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Documents and Settings\liliya\Мои документы\презинтація\R89.jpg"/>
          <p:cNvPicPr/>
          <p:nvPr/>
        </p:nvPicPr>
        <p:blipFill>
          <a:blip r:embed="rId2"/>
          <a:stretch/>
        </p:blipFill>
        <p:spPr>
          <a:xfrm>
            <a:off x="4643280" y="2071800"/>
            <a:ext cx="4214880" cy="4000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57120" y="999720"/>
            <a:ext cx="832968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у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з'ясувати процеси, що відбуваються в ротовій порожнині,  розкрити значення механічної та хімічної обробки їжі, ознайомити учнів властивостями ферментів слини ;  розглянути методи дослідження ШКТ ; вивчити будову зуба й зубної системи, розкрити  їх  роль у травленні;познайомити учнів із хворобами зубів; розробити засоби профілактики захворювання зубів формувати науковий світогляд, проводити екологічне, профорієнтаційне, валеологічне виховання учні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C:\Documents and Settings\liliya\Мои документы\презинтація\521527266.gif"/>
          <p:cNvPicPr/>
          <p:nvPr/>
        </p:nvPicPr>
        <p:blipFill>
          <a:blip r:embed="rId1"/>
          <a:stretch/>
        </p:blipFill>
        <p:spPr>
          <a:xfrm>
            <a:off x="6643800" y="5000760"/>
            <a:ext cx="20271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99680" y="213840"/>
            <a:ext cx="818676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ал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риває коронку зуба зверху.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тин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ований під емаллю й утворює більшу частину коронки, шийки і кореня, що занурений у ясна.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мент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риває шийку і корінь зуба. Пульпа заповнює порожнину зуба. У пульпу через канал кореня входять кровоносні та лімфатичні судини, нерви. За рахунок пульпи відбувається ріст та живлення зу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857760" y="2538360"/>
            <a:ext cx="5286240" cy="431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liliya\Мои документы\презинтація\394544128.gif"/>
          <p:cNvPicPr/>
          <p:nvPr/>
        </p:nvPicPr>
        <p:blipFill>
          <a:blip r:embed="rId2"/>
          <a:stretch/>
        </p:blipFill>
        <p:spPr>
          <a:xfrm>
            <a:off x="857160" y="3500280"/>
            <a:ext cx="1785960" cy="239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429080" y="356760"/>
            <a:ext cx="4500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ші, так звані молочні зуби, з'являються приблизно у 6 місяців, а в 10-12 років змінюються на постійні. Остання пара зубів – зуби мудрості – виростають до 25 рокі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liliya\Мои документы\презинтація\10.gif"/>
          <p:cNvPicPr/>
          <p:nvPr/>
        </p:nvPicPr>
        <p:blipFill>
          <a:blip r:embed="rId1"/>
          <a:stretch/>
        </p:blipFill>
        <p:spPr>
          <a:xfrm>
            <a:off x="5572080" y="3000240"/>
            <a:ext cx="2857680" cy="3543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4357440" cy="342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357200" y="500040"/>
            <a:ext cx="2357640" cy="23576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1f497d"/>
                </a:solidFill>
                <a:latin typeface="Calibri"/>
              </a:rPr>
              <a:t>Захворювання зубів. Профілактика та лікування.</a:t>
            </a:r>
            <a:endParaRPr b="0" lang="en-US" sz="29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36435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поширенішою хворобою зубів є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ієс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ін виникає внаслідок руйнування емалі з утворенням порожнин у стінці зуба. Важливу роль у розвиткові карієсу відіграє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крофлора порожнини рота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окрема стрептококова. Розвитку карієсу сприяють також нестача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тамінів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собливо групи В), солей кальцію, фосфору, фтор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214960" y="1143000"/>
            <a:ext cx="3583080" cy="535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Documents and Settings\liliya\Мои документы\презинтація\tooth_sparkling.gif"/>
          <p:cNvPicPr/>
          <p:nvPr/>
        </p:nvPicPr>
        <p:blipFill>
          <a:blip r:embed="rId2"/>
          <a:stretch/>
        </p:blipFill>
        <p:spPr>
          <a:xfrm>
            <a:off x="3786120" y="2928960"/>
            <a:ext cx="1357560" cy="1643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143680" y="214200"/>
            <a:ext cx="371448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ілактика карієсу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нці і перед сном чистити зуб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ісля їжі порожнину рота прополіскувати теплою водо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озкушувати занадто твердої їж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живати відразу після занадто холодної їжі гарячої, і навпа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року проходити медичне обстеження у стоматолог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єчасно лікувати хворі зуб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заболевания пищеварительной системы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2571840" cy="355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liliya\Мои документы\презинтація\697340939.gif"/>
          <p:cNvPicPr/>
          <p:nvPr/>
        </p:nvPicPr>
        <p:blipFill>
          <a:blip r:embed="rId2"/>
          <a:stretch/>
        </p:blipFill>
        <p:spPr>
          <a:xfrm>
            <a:off x="2928960" y="928800"/>
            <a:ext cx="2303280" cy="1798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3143160" y="3214800"/>
            <a:ext cx="1879560" cy="1928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214200" y="4143240"/>
            <a:ext cx="2819520" cy="228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Гра “ Біологічна мозаїка “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1285560"/>
            <a:ext cx="8400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інчіть фраз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ожен зуб утворений коронкою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еред слинних залоз виділяють три пари великих, що називаються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Центр слиновиділення знаходиться в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До складу слини входять ферменти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Фермент амілаза діє на речовину: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E:\550822778.gif"/>
          <p:cNvPicPr/>
          <p:nvPr/>
        </p:nvPicPr>
        <p:blipFill>
          <a:blip r:embed="rId1"/>
          <a:stretch/>
        </p:blipFill>
        <p:spPr>
          <a:xfrm>
            <a:off x="7000920" y="3000240"/>
            <a:ext cx="1471680" cy="1285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000160" y="1000080"/>
            <a:ext cx="6858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ий матеріал, який надходить у завод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ь довгий ряд цехів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яких він піддається відомій механічній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 головним чином  хімічній обробці й через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і ворота переводиться в магазин ті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П. Павлов</a:t>
            </a:r>
            <a:r>
              <a:rPr b="0" i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E:\412876003.gif"/>
          <p:cNvPicPr/>
          <p:nvPr/>
        </p:nvPicPr>
        <p:blipFill>
          <a:blip r:embed="rId1"/>
          <a:stretch/>
        </p:blipFill>
        <p:spPr>
          <a:xfrm>
            <a:off x="214200" y="4143240"/>
            <a:ext cx="2643480" cy="2500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План уроку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таке травлення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таке фермент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а будова травної системи? Функції тавної систе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досліджують функції органів травлення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лення в ротовій порожнині. Будова зуба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ворювання зубів. Профілактика та ліку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E:\175287017.gif"/>
          <p:cNvPicPr/>
          <p:nvPr/>
        </p:nvPicPr>
        <p:blipFill>
          <a:blip r:embed="rId1"/>
          <a:stretch/>
        </p:blipFill>
        <p:spPr>
          <a:xfrm>
            <a:off x="357120" y="3429000"/>
            <a:ext cx="153684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E:\256424807.gif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35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Травлення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Це процес розщеплення складних органічних речовин ( білків, жирів, вуглеводів) на прості , які можуть всмоктуватись в кров та засвоюватись організм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Травл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Прямая со стрелкой 4"/>
          <p:cNvCxnSpPr/>
          <p:nvPr/>
        </p:nvCxnSpPr>
        <p:spPr>
          <a:xfrm flipH="1">
            <a:off x="3214440" y="856800"/>
            <a:ext cx="1072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6"/>
          <p:cNvCxnSpPr/>
          <p:nvPr/>
        </p:nvCxnSpPr>
        <p:spPr>
          <a:xfrm>
            <a:off x="4857480" y="856800"/>
            <a:ext cx="114372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xtBox 7"/>
          <p:cNvSpPr/>
          <p:nvPr/>
        </p:nvSpPr>
        <p:spPr>
          <a:xfrm>
            <a:off x="785880" y="1643040"/>
            <a:ext cx="28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орожнин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 відбувається в ШК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5143680" y="1571760"/>
            <a:ext cx="311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истінко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проходить в клітині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 час пристінкового травлення складові їжі потрапляють у кліти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 остаточно розщеплюю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0"/>
          <p:cNvCxnSpPr/>
          <p:nvPr/>
        </p:nvCxnSpPr>
        <p:spPr>
          <a:xfrm flipH="1">
            <a:off x="928800" y="2428560"/>
            <a:ext cx="6433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12"/>
          <p:cNvCxnSpPr/>
          <p:nvPr/>
        </p:nvCxnSpPr>
        <p:spPr>
          <a:xfrm>
            <a:off x="2499840" y="2428920"/>
            <a:ext cx="3072600" cy="2000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TextBox 13"/>
          <p:cNvSpPr/>
          <p:nvPr/>
        </p:nvSpPr>
        <p:spPr>
          <a:xfrm>
            <a:off x="524520" y="3286080"/>
            <a:ext cx="398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цес механічної обробки їж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 пережовув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воложе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еремішування з травними со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бряканн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чинення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5"/>
          <p:cNvSpPr/>
          <p:nvPr/>
        </p:nvSpPr>
        <p:spPr>
          <a:xfrm>
            <a:off x="5572080" y="4500720"/>
            <a:ext cx="3357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цес хімічної обробки їж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етап : ротова порожн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 етап : шлун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 етап: кишеч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статочно білки , жири і вуглеводи розщеплюються у кишечн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Ферменти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ід лат. Ферментум – закваска) це біологічно – активні речовини, білкової природи, здатні прискорювати біохімічні реа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творюються ферменти у клітинах травних залоз, які  їх виділяють в складі слини і в травних соках , таких як : шлункового; підшлункового; кишков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Властивості ферментів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400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Спеціфічність дії – розщеплює речовини тільки певної групи і нерозщеплює інш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Ферменти діють тільки в певному середовищі ( кисле або луж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Найбільш активно ферменти діють при температурі тіла , а за температури 70 – 100 вони руйнують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 Невелика кількість ферменту може розщепити ВЕЛИКУ кількість органічної речови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1f497d"/>
                </a:solidFill>
                <a:latin typeface="Calibri"/>
              </a:rPr>
              <a:t>Склад слини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вода 9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муцин ( сли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 лізоцим – фермент, що руйнує лболонки бактеріальних кліт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іони 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активують фер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5.амілаза – фермент , що розщеплює крохма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6.фосфати і гідрокарбонати – підтримують рн 6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10:02:31Z</dcterms:created>
  <dc:creator>liliya</dc:creator>
  <dc:description/>
  <dc:language>en-US</dc:language>
  <cp:lastModifiedBy>АСЕР</cp:lastModifiedBy>
  <dcterms:modified xsi:type="dcterms:W3CDTF">2015-12-14T20:40:08Z</dcterms:modified>
  <cp:revision>50</cp:revision>
  <dc:subject/>
  <dc:title>Травлення в ротовій порожнині</dc:title>
</cp:coreProperties>
</file>