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399-EF76-4D59-B5D5-34253BC5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AC5-5FC0-4686-AF9E-2770B59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266-1D07-4E18-BE90-741BBB3E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D96-B7FC-4A80-B5C6-8A3BCAB2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F4133-0C58-4C32-B581-59E0ECD7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39942-3F65-4AD8-A893-604C3BFE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AB07B-66E7-4A09-8D16-440BE180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6C9D4-92EC-4233-B4DA-62DFF78C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7EC76-B207-4395-958F-F4895238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793A-9BC1-42DD-ABDD-9FE608F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BE90E-AF3C-4077-871C-9D56B61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66F-D200-45CC-A9B5-E330309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A5266-9A52-490C-9B1D-0BC2628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D573F-B3F4-4D42-A145-C6EABF3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109D2-EA9C-421F-BA35-51DF354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8B6AE-F22C-410A-9EE2-F4CD346A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B6A5-C132-4CE8-ADCD-CF7DBB40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CBB-EE5C-497F-B664-09659EC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680-6569-4E47-8C5E-66204AA0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487-68C7-4C3D-8E1F-4560AE31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84F-7D15-45BF-AB35-A61E9E6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0E4-8F21-4021-8EC3-4A39950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222-1C50-43CB-BCDE-4A04EAFE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147-DE87-485F-881F-8666DB62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598-5538-4A86-A22C-D5BD6E4CD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5EAB-3AB8-44F1-8F94-B978D8E46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ма: Функц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ія. Квадратний тричле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84120"/>
            <a:ext cx="6400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Tahoma"/>
              </a:rPr>
              <a:t>Узагальнення і систематизація матеріалу, вивченого у 8 клас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Круглая лента лицом вверх 1"/>
          <p:cNvSpPr/>
          <p:nvPr/>
        </p:nvSpPr>
        <p:spPr>
          <a:xfrm>
            <a:off x="1285920" y="571680"/>
            <a:ext cx="6715080" cy="857160"/>
          </a:xfrm>
          <a:custGeom>
            <a:avLst/>
            <a:gdLst>
              <a:gd name="textAreaLeft" fmla="*/ 1678680 w 6715080"/>
              <a:gd name="textAreaRight" fmla="*/ 5036400 w 6715080"/>
              <a:gd name="textAreaTop" fmla="*/ 25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214800" y="6429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Monotype Corsiva"/>
              </a:rPr>
              <a:t>Храм Зевс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000080" y="2000160"/>
            <a:ext cx="65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1)Відповідь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.   </a:t>
            </a:r>
            <a:r>
              <a:rPr b="0" i="1" lang="uk-UA" sz="1800" spc="-1" strike="noStrike">
                <a:solidFill>
                  <a:srgbClr val="ffffff"/>
                </a:solidFill>
                <a:latin typeface="Calibri"/>
              </a:rPr>
              <a:t>х-3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2)Відповідь.  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5х – 1</a:t>
            </a: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3)Відповідь.  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6у+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r>
              <a:rPr b="0" i="1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4)Відповідь.  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1/х+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5)Відповідь.  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а-2/3а+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5" descr="zevs1.jpg"/>
          <p:cNvPicPr/>
          <p:nvPr/>
        </p:nvPicPr>
        <p:blipFill>
          <a:blip r:embed="rId2"/>
          <a:stretch/>
        </p:blipFill>
        <p:spPr>
          <a:xfrm>
            <a:off x="571680" y="1285920"/>
            <a:ext cx="8180280" cy="5072040"/>
          </a:xfrm>
          <a:prstGeom prst="rect">
            <a:avLst/>
          </a:prstGeom>
          <a:ln w="0">
            <a:noFill/>
          </a:ln>
        </p:spPr>
      </p:pic>
      <p:sp>
        <p:nvSpPr>
          <p:cNvPr id="110" name="Круглая лента лицом вверх 3"/>
          <p:cNvSpPr/>
          <p:nvPr/>
        </p:nvSpPr>
        <p:spPr>
          <a:xfrm>
            <a:off x="1214280" y="214200"/>
            <a:ext cx="7000920" cy="857520"/>
          </a:xfrm>
          <a:custGeom>
            <a:avLst/>
            <a:gdLst>
              <a:gd name="textAreaLeft" fmla="*/ 1750320 w 7000920"/>
              <a:gd name="textAreaRight" fmla="*/ 5250960 w 7000920"/>
              <a:gd name="textAreaTop" fmla="*/ 25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3214800" y="2858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10199"/>
                </a:solidFill>
                <a:latin typeface="Monotype Corsiva"/>
              </a:rPr>
              <a:t>Храм Зевс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022640" y="477036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Monotype Corsiva"/>
              </a:rPr>
              <a:t>Висота</a:t>
            </a: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 17 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Круглая лента лицом вверх 3"/>
          <p:cNvSpPr/>
          <p:nvPr/>
        </p:nvSpPr>
        <p:spPr>
          <a:xfrm>
            <a:off x="714240" y="1714680"/>
            <a:ext cx="7572600" cy="2571480"/>
          </a:xfrm>
          <a:custGeom>
            <a:avLst/>
            <a:gdLst>
              <a:gd name="textAreaLeft" fmla="*/ 1893240 w 7572600"/>
              <a:gd name="textAreaRight" fmla="*/ 5679720 w 7572600"/>
              <a:gd name="textAreaTop" fmla="*/ 75960 h 2571480"/>
              <a:gd name="textAreaBottom" fmla="*/ 1928880 h 2571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857680" y="214308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С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28400" y="1714680"/>
            <a:ext cx="80722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 u="sng">
                <a:solidFill>
                  <a:srgbClr val="ffffff"/>
                </a:solidFill>
                <a:uFillTx/>
                <a:latin typeface="Tahoma"/>
              </a:rPr>
              <a:t>Команда «Керкес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-2х + 15 = (х-1)</a:t>
            </a:r>
            <a:r>
              <a:rPr b="0" lang="uk-UA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+14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uk-UA" sz="3000" spc="-1" strike="noStrike" baseline="-25000">
                <a:solidFill>
                  <a:srgbClr val="ffffff"/>
                </a:solidFill>
                <a:latin typeface="Tahoma"/>
              </a:rPr>
              <a:t>найм.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 =14, якщох=1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Tahoma"/>
              </a:rPr>
              <a:t>Команда «Титанік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4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+25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=(х-2)</a:t>
            </a:r>
            <a:r>
              <a:rPr b="0" lang="uk-UA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+21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Tahoma"/>
              </a:rPr>
              <a:t>найм.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=21, якщо х= 2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Tahoma"/>
              </a:rPr>
              <a:t>Команда «Константія»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 +6х+8 = (х+3)</a:t>
            </a:r>
            <a:r>
              <a:rPr b="0" lang="uk-UA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uk-UA" sz="3000" spc="-1" strike="noStrike" baseline="-25000">
                <a:solidFill>
                  <a:srgbClr val="ffffff"/>
                </a:solidFill>
                <a:latin typeface="Tahoma"/>
              </a:rPr>
              <a:t>найм.</a:t>
            </a: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= -1, якщо х= -3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Горизонтальный свиток 3"/>
          <p:cNvSpPr/>
          <p:nvPr/>
        </p:nvSpPr>
        <p:spPr>
          <a:xfrm>
            <a:off x="1000080" y="214200"/>
            <a:ext cx="6786720" cy="128592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692360" y="6206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10199"/>
                </a:solidFill>
                <a:latin typeface="Monotype Corsiva"/>
              </a:rPr>
              <a:t>Храм Артемід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7" descr="art1.jpg"/>
          <p:cNvPicPr/>
          <p:nvPr/>
        </p:nvPicPr>
        <p:blipFill>
          <a:blip r:embed="rId2"/>
          <a:stretch/>
        </p:blipFill>
        <p:spPr>
          <a:xfrm rot="20409600">
            <a:off x="433440" y="1582200"/>
            <a:ext cx="4438440" cy="3329280"/>
          </a:xfrm>
          <a:prstGeom prst="rect">
            <a:avLst/>
          </a:prstGeom>
          <a:ln w="0">
            <a:noFill/>
          </a:ln>
        </p:spPr>
      </p:pic>
      <p:sp>
        <p:nvSpPr>
          <p:cNvPr id="119" name="Лента лицом вниз 3"/>
          <p:cNvSpPr/>
          <p:nvPr/>
        </p:nvSpPr>
        <p:spPr>
          <a:xfrm>
            <a:off x="500040" y="285840"/>
            <a:ext cx="7643880" cy="1000080"/>
          </a:xfrm>
          <a:custGeom>
            <a:avLst/>
            <a:gdLst>
              <a:gd name="textAreaLeft" fmla="*/ 1910880 w 7643880"/>
              <a:gd name="textAreaRight" fmla="*/ 5733000 w 7643880"/>
              <a:gd name="textAreaTop" fmla="*/ 16668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643120" y="57168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10199"/>
                </a:solidFill>
                <a:latin typeface="Monotype Corsiva"/>
              </a:rPr>
              <a:t>Храм</a:t>
            </a:r>
            <a:r>
              <a:rPr b="0" lang="uk-UA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uk-UA" sz="3200" spc="-1" strike="noStrike">
                <a:solidFill>
                  <a:srgbClr val="010199"/>
                </a:solidFill>
                <a:latin typeface="Monotype Corsiva"/>
              </a:rPr>
              <a:t>Артемід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Рисунок 8" descr="artemida1.jpg"/>
          <p:cNvPicPr/>
          <p:nvPr/>
        </p:nvPicPr>
        <p:blipFill>
          <a:blip r:embed="rId3"/>
          <a:stretch/>
        </p:blipFill>
        <p:spPr>
          <a:xfrm rot="761400">
            <a:off x="3689280" y="2519280"/>
            <a:ext cx="5121360" cy="3605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714240" y="5643720"/>
            <a:ext cx="69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поруді було 36 колон висотою 18 м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рашених рельєфами майже в людський зріст. У головному залі стояла статуя Артеміди висотою 15 м, оздоблена золотом і коштовним каміння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Monotype Corsiva"/>
              </a:rPr>
              <a:t>Мавзолей у Галікарнас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Содержимое 3" descr="mavzol1.jpg"/>
          <p:cNvPicPr/>
          <p:nvPr/>
        </p:nvPicPr>
        <p:blipFill>
          <a:blip r:embed="rId2"/>
          <a:stretch/>
        </p:blipFill>
        <p:spPr>
          <a:xfrm>
            <a:off x="142920" y="1071720"/>
            <a:ext cx="7358040" cy="5209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5867280" y="714240"/>
            <a:ext cx="291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елетенському мармуровому п'єдесталі стояв храм, оточений 36 колонами, на яких тримався дах у формі 24-ступінчастої піраміди. Простір між колонами було пишно оздоблено скульптурами. Вершину піраміди вінчала скульптурна композиція, яка зображала Мавсола з Артемісією в колісниці, запряженій четвіркою кон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Горизонтальный свиток 1"/>
          <p:cNvSpPr/>
          <p:nvPr/>
        </p:nvSpPr>
        <p:spPr>
          <a:xfrm>
            <a:off x="1000080" y="357120"/>
            <a:ext cx="6858000" cy="192888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1643040" y="10000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Колос Родоськ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643120"/>
            <a:ext cx="63579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повідь. 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uk-UA" sz="5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-2, х</a:t>
            </a:r>
            <a:r>
              <a:rPr b="1" lang="uk-UA" sz="5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7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5" descr="kol1.jpg"/>
          <p:cNvPicPr/>
          <p:nvPr/>
        </p:nvPicPr>
        <p:blipFill>
          <a:blip r:embed="rId2"/>
          <a:stretch/>
        </p:blipFill>
        <p:spPr>
          <a:xfrm>
            <a:off x="428760" y="285840"/>
            <a:ext cx="3714480" cy="6191280"/>
          </a:xfrm>
          <a:prstGeom prst="rect">
            <a:avLst/>
          </a:prstGeom>
          <a:ln w="0">
            <a:noFill/>
          </a:ln>
        </p:spPr>
      </p:pic>
      <p:sp>
        <p:nvSpPr>
          <p:cNvPr id="130" name="Горизонтальный свиток 3"/>
          <p:cNvSpPr/>
          <p:nvPr/>
        </p:nvSpPr>
        <p:spPr>
          <a:xfrm>
            <a:off x="4786200" y="142920"/>
            <a:ext cx="3857760" cy="121428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500720" y="4287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Колос Родоськи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788000" y="1273320"/>
            <a:ext cx="40669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Статуя бога заввишки 35 м височі­ла на вході до гавані Родосу. її було видно із сусідніх островів. Створення бронзового гіганта тривало близько 12 років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Лента лицом вниз 5"/>
          <p:cNvSpPr/>
          <p:nvPr/>
        </p:nvSpPr>
        <p:spPr>
          <a:xfrm>
            <a:off x="500040" y="428760"/>
            <a:ext cx="8143920" cy="7142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11880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357280" y="500040"/>
            <a:ext cx="41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10199"/>
                </a:solidFill>
                <a:latin typeface="Monotype Corsiva"/>
              </a:rPr>
              <a:t>Александрійський мая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250920" y="13413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«Керкес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Рисунок 11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2857680" cy="2071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3"/>
          <p:cNvSpPr/>
          <p:nvPr/>
        </p:nvSpPr>
        <p:spPr>
          <a:xfrm>
            <a:off x="142920" y="4143240"/>
            <a:ext cx="257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і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і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ь: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графіком функції є пряма у=2х-1, на якій виколото точку (-2; -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357720" y="15001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«Титанік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Рисунок 15" descr=""/>
          <p:cNvPicPr/>
          <p:nvPr/>
        </p:nvPicPr>
        <p:blipFill>
          <a:blip r:embed="rId3"/>
          <a:stretch/>
        </p:blipFill>
        <p:spPr>
          <a:xfrm>
            <a:off x="3286080" y="2143080"/>
            <a:ext cx="1785960" cy="1857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6"/>
          <p:cNvSpPr/>
          <p:nvPr/>
        </p:nvSpPr>
        <p:spPr>
          <a:xfrm>
            <a:off x="3357720" y="4357800"/>
            <a:ext cx="185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Графіком функції є пряма </a:t>
            </a:r>
            <a:r>
              <a:rPr b="0" i="1" lang="uk-UA" sz="18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i="1" lang="uk-UA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на якій виколото точку (3; 9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072120" y="16430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«Константія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Рисунок 18" descr=""/>
          <p:cNvPicPr/>
          <p:nvPr/>
        </p:nvPicPr>
        <p:blipFill>
          <a:blip r:embed="rId4"/>
          <a:stretch/>
        </p:blipFill>
        <p:spPr>
          <a:xfrm>
            <a:off x="6286680" y="2214720"/>
            <a:ext cx="178560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9"/>
          <p:cNvSpPr/>
          <p:nvPr/>
        </p:nvSpPr>
        <p:spPr>
          <a:xfrm>
            <a:off x="6215040" y="4572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Графіком функції є пряма  </a:t>
            </a:r>
            <a:r>
              <a:rPr b="0" i="1" lang="uk-UA" sz="18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= Зх +1,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на якій виколото точку (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-1; -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6" descr="faros1.jpg"/>
          <p:cNvPicPr/>
          <p:nvPr/>
        </p:nvPicPr>
        <p:blipFill>
          <a:blip r:embed="rId2"/>
          <a:stretch/>
        </p:blipFill>
        <p:spPr>
          <a:xfrm>
            <a:off x="357120" y="1357200"/>
            <a:ext cx="3614760" cy="4786560"/>
          </a:xfrm>
          <a:prstGeom prst="rect">
            <a:avLst/>
          </a:prstGeom>
          <a:ln w="0">
            <a:noFill/>
          </a:ln>
        </p:spPr>
      </p:pic>
      <p:sp>
        <p:nvSpPr>
          <p:cNvPr id="145" name="Круглая лента лицом вверх 3"/>
          <p:cNvSpPr/>
          <p:nvPr/>
        </p:nvSpPr>
        <p:spPr>
          <a:xfrm>
            <a:off x="500040" y="357120"/>
            <a:ext cx="7715160" cy="785880"/>
          </a:xfrm>
          <a:custGeom>
            <a:avLst/>
            <a:gdLst>
              <a:gd name="textAreaLeft" fmla="*/ 1928880 w 7715160"/>
              <a:gd name="textAreaRight" fmla="*/ 5786640 w 7715160"/>
              <a:gd name="textAreaTop" fmla="*/ 2304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268360" y="33336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10199"/>
                </a:solidFill>
                <a:latin typeface="Monotype Corsiva"/>
              </a:rPr>
              <a:t>Александрійський мая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Рисунок 7" descr="faros2.jpg"/>
          <p:cNvPicPr/>
          <p:nvPr/>
        </p:nvPicPr>
        <p:blipFill>
          <a:blip r:embed="rId3"/>
          <a:stretch/>
        </p:blipFill>
        <p:spPr>
          <a:xfrm>
            <a:off x="4786200" y="1214280"/>
            <a:ext cx="3643560" cy="2710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"/>
          <p:cNvSpPr/>
          <p:nvPr/>
        </p:nvSpPr>
        <p:spPr>
          <a:xfrm>
            <a:off x="4065480" y="3860640"/>
            <a:ext cx="5078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ній поверх триярусної 120-метрової башти мав 4 грані, зорієнтовані на північ, схід, захід та південь, 8 граней другого ярусу було зорієнтовано в напрямку 8 головних вітрі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як складався з трьох поверхів, на третьому поверсі знаходився ліхтар, увінчаний куполом зі статуєю Посейдона висотою приблизно 8 м. Складна система металевих дзеркал підсилювала світло вогню, який запалювали на вершині споруд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88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Monotype Corsiva"/>
              </a:rPr>
              <a:t>Мета: розвивати інтелектуальні і творчі здібності у процесі узагальнення матеріалу, розширити кругозір, виховувати естетичне сприйняття навколишнього світ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misskmeddv.jpg"/>
          <p:cNvPicPr/>
          <p:nvPr/>
        </p:nvPicPr>
        <p:blipFill>
          <a:blip r:embed="rId2"/>
          <a:stretch/>
        </p:blipFill>
        <p:spPr>
          <a:xfrm rot="911400">
            <a:off x="3429000" y="582120"/>
            <a:ext cx="5132520" cy="5132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714240" y="571680"/>
            <a:ext cx="692964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О, переможці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В цій тяжкій борні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Ви зберегли азарт алгебраїч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Вас зупинить ніякі перепони не змогл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Ви винахідливі у ситуації критичні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Прийміть вітання, переможці, щирі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Живімо з алгеброю в злагоді і мирі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Нехай кмітливість вам допомагає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Monotype Corsiva"/>
              </a:rPr>
              <a:t>Алгебраїчні таємниці кожен з вас пізнає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8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4791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00120" y="2462040"/>
            <a:ext cx="640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А.Г. Мерзляк, В.Б. Полонський, М.С. Якір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Повторити матеріал п. 7 – 8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ahoma"/>
              </a:rPr>
              <a:t>Розв’язати впр.277, 273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500040" y="50004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Monotype Corsiva"/>
              </a:rPr>
              <a:t>Немає значення, що шукаєш, важливо, що знаходиш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4643280" y="4643280"/>
            <a:ext cx="37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Monotype Corsiva"/>
              </a:rPr>
              <a:t>Блез Паска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wondermap.jpg"/>
          <p:cNvPicPr/>
          <p:nvPr/>
        </p:nvPicPr>
        <p:blipFill>
          <a:blip r:embed="rId2"/>
          <a:stretch/>
        </p:blipFill>
        <p:spPr>
          <a:xfrm>
            <a:off x="714240" y="642960"/>
            <a:ext cx="792972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28920" y="42876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пустка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428840" y="128592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кес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643200" y="3500280"/>
            <a:ext cx="17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анік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072120" y="1143000"/>
            <a:ext cx="192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нтія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Box 2" descr=""/>
          <p:cNvPicPr/>
          <p:nvPr/>
        </p:nvPicPr>
        <p:blipFill>
          <a:blip r:embed="rId2"/>
          <a:stretch/>
        </p:blipFill>
        <p:spPr>
          <a:xfrm>
            <a:off x="706320" y="1298520"/>
            <a:ext cx="7583760" cy="5327640"/>
          </a:xfrm>
          <a:prstGeom prst="rect">
            <a:avLst/>
          </a:prstGeom>
          <a:ln w="0">
            <a:noFill/>
          </a:ln>
        </p:spPr>
      </p:pic>
      <p:sp>
        <p:nvSpPr>
          <p:cNvPr id="93" name="Лента лицом вниз 3"/>
          <p:cNvSpPr/>
          <p:nvPr/>
        </p:nvSpPr>
        <p:spPr>
          <a:xfrm>
            <a:off x="428760" y="142920"/>
            <a:ext cx="8286480" cy="1112760"/>
          </a:xfrm>
          <a:custGeom>
            <a:avLst/>
            <a:gdLst>
              <a:gd name="textAreaLeft" fmla="*/ 2071440 w 8286480"/>
              <a:gd name="textAreaRight" fmla="*/ 6215040 w 8286480"/>
              <a:gd name="textAreaTop" fmla="*/ 18540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79646"/>
          </a:solidFill>
          <a:ln w="3816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857680" y="42876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раміда Хеопс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pir2.jpg"/>
          <p:cNvPicPr/>
          <p:nvPr/>
        </p:nvPicPr>
        <p:blipFill>
          <a:blip r:embed="rId2"/>
          <a:stretch/>
        </p:blipFill>
        <p:spPr>
          <a:xfrm>
            <a:off x="214200" y="249120"/>
            <a:ext cx="8629920" cy="6473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85880" y="542916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2d050"/>
                </a:solidFill>
                <a:latin typeface="Calibri"/>
              </a:rPr>
              <a:t>початкова висота була 146,5 м (нині вона зменшилася до 137 м), довжина основи 230 м, площа більше 5 га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Овальная выноска 5"/>
          <p:cNvSpPr/>
          <p:nvPr/>
        </p:nvSpPr>
        <p:spPr>
          <a:xfrm>
            <a:off x="428760" y="428760"/>
            <a:ext cx="2786040" cy="1214280"/>
          </a:xfrm>
          <a:prstGeom prst="wedgeEllipseCallout">
            <a:avLst>
              <a:gd name="adj1" fmla="val -56490"/>
              <a:gd name="adj2" fmla="val 60638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85880" y="8571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10199"/>
                </a:solidFill>
                <a:latin typeface="Calibri"/>
              </a:rPr>
              <a:t>Піраміда Хеопс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Лента лицом вниз 1"/>
          <p:cNvSpPr/>
          <p:nvPr/>
        </p:nvSpPr>
        <p:spPr>
          <a:xfrm>
            <a:off x="1285920" y="214200"/>
            <a:ext cx="7215120" cy="1143000"/>
          </a:xfrm>
          <a:custGeom>
            <a:avLst/>
            <a:gdLst>
              <a:gd name="textAreaLeft" fmla="*/ 1803600 w 7215120"/>
              <a:gd name="textAreaRight" fmla="*/ 5411520 w 7215120"/>
              <a:gd name="textAreaTop" fmla="*/ 19044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214800" y="50004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Висячі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сади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Семірамід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TextBox 3" descr=""/>
          <p:cNvPicPr/>
          <p:nvPr/>
        </p:nvPicPr>
        <p:blipFill>
          <a:blip r:embed="rId2"/>
          <a:stretch/>
        </p:blipFill>
        <p:spPr>
          <a:xfrm>
            <a:off x="633240" y="1968480"/>
            <a:ext cx="8017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5" descr="sad3.jpg"/>
          <p:cNvPicPr/>
          <p:nvPr/>
        </p:nvPicPr>
        <p:blipFill>
          <a:blip r:embed="rId2"/>
          <a:stretch/>
        </p:blipFill>
        <p:spPr>
          <a:xfrm>
            <a:off x="285840" y="214200"/>
            <a:ext cx="524484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Двойная волна 3"/>
          <p:cNvSpPr/>
          <p:nvPr/>
        </p:nvSpPr>
        <p:spPr>
          <a:xfrm>
            <a:off x="5429160" y="142920"/>
            <a:ext cx="3000600" cy="914400"/>
          </a:xfrm>
          <a:custGeom>
            <a:avLst/>
            <a:gdLst>
              <a:gd name="textAreaLeft" fmla="*/ 0 w 3000600"/>
              <a:gd name="textAreaRight" fmla="*/ 3000960 w 30006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500800" y="2142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«Висячі сади»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Семірамід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724360" y="1484280"/>
            <a:ext cx="3214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Monotype Corsiva"/>
              </a:rPr>
              <a:t>Сади було споруджено під час правління царя Навуходоносора близько 600 р. до н.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Monotype Corsiva"/>
              </a:rPr>
              <a:t>«Висячі сади» Семіраміди було названо на честь Медійської цариці Семіраміди, дружини царя Навуходоносо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35:23Z</dcterms:created>
  <dc:creator>Таня</dc:creator>
  <dc:description/>
  <dc:language>en-US</dc:language>
  <cp:lastModifiedBy>Директор</cp:lastModifiedBy>
  <dcterms:modified xsi:type="dcterms:W3CDTF">2010-03-15T12:36:50Z</dcterms:modified>
  <cp:revision>12</cp:revision>
  <dc:subject/>
  <dc:title>Тема: Функція. Квадратний тричлен.</dc:title>
</cp:coreProperties>
</file>