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954-CDBF-478B-A0E3-053810FA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BA6-5F11-4C97-AE53-A05BDA47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5CA-9C30-4D66-BD5E-6576642C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438-6478-4767-8FD6-CD5B7A86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223A-59CA-49E4-A613-F937B5C9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9340-F1C3-4982-82CA-3F38B992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61CA-9DC9-422C-B21F-1B136CBB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D614-E419-4536-BD48-609E900C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4B1C-45EB-4849-9D66-34394D30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C16E-CA6A-4863-BCCA-F397AE34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3243-75BF-4F51-9284-A9848C50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1F5-E0ED-4163-9268-1C41BA4D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9B01-AB31-4447-879E-BCF45A84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B467-083C-4055-845F-F81A44CF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E92C-BCB3-4C7B-99E9-89A6D97C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5593-7299-412E-A16C-260CCD3A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6327-3A19-4BDA-B1C5-9127364B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A0C-15E2-4A12-9085-E38CBF1C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000-1168-43AF-B3B4-86945D61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D7D-C3B4-4D9E-99A8-DC14CE8A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EA2-2691-4605-B3F1-DD168143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DC8-1B3C-4827-AC29-D5604A6E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890-C234-4D2D-8B38-F3AC6ADE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C9D-4685-4AD8-BC27-F1751E6E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861-12D1-4219-A239-9AC104F82BE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8F2D-1A18-45B6-9875-D5E4D4D088F7}" type="slidenum">
              <a:rPr b="0" lang="ru-RU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2998080"/>
            <a:ext cx="87138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24a8"/>
                </a:solidFill>
                <a:latin typeface="Arial"/>
                <a:ea typeface="Arial"/>
              </a:rPr>
              <a:t>1) Формування стратегічних цілей діяльності підприєм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24a8"/>
                </a:solidFill>
                <a:latin typeface="Arial"/>
                <a:ea typeface="Arial"/>
              </a:rPr>
              <a:t>2) Аналіз середовища та ринкових чинник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24a8"/>
                </a:solidFill>
                <a:latin typeface="Arial"/>
                <a:ea typeface="Arial"/>
              </a:rPr>
              <a:t>(попиту, пропозиції, рівня конкуренції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24a8"/>
                </a:solidFill>
                <a:latin typeface="Arial"/>
                <a:ea typeface="Arial"/>
              </a:rPr>
              <a:t>3) Вибір генеральної стратегії й аналі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24a8"/>
                </a:solidFill>
                <a:latin typeface="Arial"/>
                <a:ea typeface="Arial"/>
              </a:rPr>
              <a:t>стратегічних альтернати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24a8"/>
                </a:solidFill>
                <a:latin typeface="Arial"/>
                <a:ea typeface="Arial"/>
              </a:rPr>
              <a:t>4) Оцінка підприємницького потенціалу і перспектив розвитку фір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24a8"/>
                </a:solidFill>
                <a:latin typeface="Arial"/>
                <a:ea typeface="Arial"/>
              </a:rPr>
              <a:t>їх адекватності цілям діяльності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24a8"/>
                </a:solidFill>
                <a:latin typeface="Arial"/>
                <a:ea typeface="Arial"/>
              </a:rPr>
              <a:t>5) Розробка ресурсних і функціональн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24a8"/>
                </a:solidFill>
                <a:latin typeface="Arial"/>
                <a:ea typeface="Arial"/>
              </a:rPr>
              <a:t>субстратегій підприєм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24a8"/>
                </a:solidFill>
                <a:latin typeface="Arial"/>
                <a:ea typeface="Arial"/>
              </a:rPr>
              <a:t>6) Практична реалізація пла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24a8"/>
                </a:solidFill>
                <a:latin typeface="Arial"/>
                <a:ea typeface="Arial"/>
              </a:rPr>
              <a:t>контроль і оцінка соціально – економічних результат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404640"/>
            <a:ext cx="8353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4a24a8"/>
                  </a:solidFill>
                  <a:miter/>
                </a:ln>
                <a:solidFill>
                  <a:srgbClr val="4bb7b7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тапи стратегічного</a:t>
            </a:r>
            <a:endParaRPr b="0" lang="en-US" sz="1800" spc="1" strike="noStrike">
              <a:ln w="12600">
                <a:solidFill>
                  <a:srgbClr val="4a24a8"/>
                </a:solidFill>
                <a:miter/>
              </a:ln>
              <a:solidFill>
                <a:srgbClr val="4bb7b7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4a24a8"/>
                  </a:solidFill>
                  <a:miter/>
                </a:ln>
                <a:solidFill>
                  <a:srgbClr val="4bb7b7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анування: </a:t>
            </a:r>
            <a:endParaRPr b="0" lang="en-US" sz="1800" spc="1" strike="noStrike">
              <a:ln w="12600">
                <a:solidFill>
                  <a:srgbClr val="4a24a8"/>
                </a:solidFill>
                <a:miter/>
              </a:ln>
              <a:solidFill>
                <a:srgbClr val="4bb7b7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ccff"/>
                </a:solidFill>
                <a:latin typeface="Tahoma"/>
              </a:rPr>
              <a:t>Бізнес - концепція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рахуйте ключові технології, концепції і стратегії, які є основою вашого бізнес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99ccff"/>
                </a:solidFill>
                <a:latin typeface="Tahoma"/>
              </a:rPr>
              <a:t>Конкуренція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ишіть ситуацію з конкурен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малюйте конкурентну перевагу вашої компанії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ccff"/>
                </a:solidFill>
                <a:latin typeface="Tahoma"/>
              </a:rPr>
              <a:t>Цілі та завдання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ишіть цілі компанії на п'ятирічну перспектив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кажіть конкретні, вимірні завдання, які необхідно виконати для досягнення цих ці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Вкажіть завдання, пов'язані з долею участі на рин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Вкажіть завдання, пов'язані з доходами і рентабельністю компанії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ccff"/>
                </a:solidFill>
                <a:latin typeface="Tahoma"/>
              </a:rPr>
              <a:t>Фінансовий план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явіть загальний фінансовий план, що визначає вашу модель фінансування і цінову політи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лан має включати прогнозовані річні продажі і доходи на наступні три ро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Використовується кілька слайдів для докладного висвітлення цієї те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ccff"/>
                </a:solidFill>
                <a:latin typeface="Tahoma"/>
              </a:rPr>
              <a:t>Вимоги по ресурсах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кажіть вимоги по наступних ресурсі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он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хні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інанс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зподі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кл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уг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ccff"/>
                </a:solidFill>
                <a:latin typeface="Tahoma"/>
              </a:rPr>
              <a:t>Ризики і доходи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кажіть ризики запропонованого проекту, а також способи їх усунен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кажіть прогнозовані доходи, особливо якщо ви шукаєте джерело фінансуван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ccff"/>
                </a:solidFill>
                <a:latin typeface="Tahoma"/>
              </a:rPr>
              <a:t>Основні питання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роткострокова перспект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кажіть ключові рішення і проблеми, що відносяться до короткостроковій перспектив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начте наслідки відстрочки прийняття необхідних ріше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вгострокова перспект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кажіть проблеми, що відносяться до довгостроковій перспектив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начте наслідки відстрочки прийняття необхідних ріше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кщо ви шукаєте джерело фінансування, докладно опишіть проблеми, для вирішення яких потрібні фінансові ресурс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050560" y="2781000"/>
            <a:ext cx="7620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лан маркетинг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лан виробництва;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лан кадрового забезпеченн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інансовий план і страхування ризику;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імідж організації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16000" y="404640"/>
            <a:ext cx="7497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cc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ими розділами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cc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cc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тегічного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cc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cc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ану є: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cc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871280" y="2565000"/>
            <a:ext cx="72723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аналіз результатів підприємницької діяльност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розробка заходів щодо підвищення підприємницького успіх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вивчення ринку і формування портфелю замовника, укладання уго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обґрунтування окремих розділів план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розгляд проекту плану радою трудового колектив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доведення техніко-економічних показників до внутрішньофірмових підрозділі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08000" y="333360"/>
            <a:ext cx="6858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4bb7b7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тапи розробк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4bb7b7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4bb7b7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ктичного план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4bb7b7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908000" y="2636640"/>
            <a:ext cx="6840720" cy="40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лан підвищення технічного рівня виробницт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лан маркетингу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лан виробницт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лан матеріально-технічного забезпеченн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лан по праці і зарплаті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лан по капітальному будівництву і інвестиційних ресурса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лан соціального розвитку колективу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лан охорони навколишнього середовищ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лан по собівартості, прибутку, рентабельності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 u="sng">
                <a:solidFill>
                  <a:srgbClr val="ffffff"/>
                </a:solidFill>
                <a:uFillTx/>
                <a:latin typeface="Times New Roman"/>
              </a:rPr>
              <a:t>фінансовий пла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19280" y="549360"/>
            <a:ext cx="68580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4bb7b7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ими розділами 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4bb7b7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4bb7b7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ктичног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4bb7b7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4bb7b7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ану є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4bb7b7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08000" y="2133360"/>
            <a:ext cx="518148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4bb7b7"/>
                </a:solidFill>
                <a:latin typeface="Tahoma"/>
              </a:rPr>
              <a:t>Назва організації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73392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ізнес-пла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8730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ccff"/>
                </a:solidFill>
                <a:latin typeface="Tahoma"/>
              </a:rPr>
              <a:t>Обгрунтування задачі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сно опишіть довгострокові завдання, що стоять перед вашою організаціє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ідберіть правильні слова, щоб визначити напрямок розвитку організації, але постарайтеся виразити свою думку в максимально стислій фор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ccff"/>
                </a:solidFill>
                <a:latin typeface="Tahoma"/>
              </a:rPr>
              <a:t>Команда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.І.Б. керівника компанії і ключових менеджері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ідомте про минулі досягнення співробітників, щоб продемонструвати, що це успішні фахівці у своїй галуз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кажіть, скільки років становить ваш загальний досвід роботи в даній галуз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ccff"/>
                </a:solidFill>
                <a:latin typeface="Tahoma"/>
              </a:rPr>
              <a:t>Відомості про ринок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ротко опишіть ваш ринок збуту - сьогодні, в минулому і в майбутньо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 Розгляньте зміни, що стосуються частки участі на ринку, лідерства, компаній, змін кон'юнктури ринку, витрат, цін  та конкуренції, що є запорукою успіху вашого підприєм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ccff"/>
                </a:solidFill>
                <a:latin typeface="Tahoma"/>
              </a:rPr>
              <a:t>Мо</a:t>
            </a:r>
            <a:r>
              <a:rPr b="0" lang="uk-UA" sz="3800" spc="-1" strike="noStrike">
                <a:solidFill>
                  <a:srgbClr val="99ccff"/>
                </a:solidFill>
                <a:latin typeface="Tahoma"/>
              </a:rPr>
              <a:t>жливості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кажіть проблеми та потенційні можлив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ишіть проблеми споживача і визначте характер продукту/послуги, який може бути запропонований для вирішення цих пробл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6:54:05Z</dcterms:created>
  <dc:creator>Дом</dc:creator>
  <dc:description/>
  <cp:keywords/>
  <dc:language>en-US</dc:language>
  <cp:lastModifiedBy>Юля</cp:lastModifiedBy>
  <dcterms:modified xsi:type="dcterms:W3CDTF">2012-10-17T04:58:54Z</dcterms:modified>
  <cp:revision>8</cp:revision>
  <dc:subject/>
  <dc:title>Назва організац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5101049</vt:lpwstr>
  </property>
</Properties>
</file>