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189-636B-4AF9-A905-6863CF9B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C1C-C31A-46B0-84DD-BE553AE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1EB-B872-4E51-A480-C9246668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312-A620-4967-BF5F-9DF595D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B7B-7420-4969-9283-4548A8D8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DAE-F325-41C7-8532-01E38D49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8FB-62C2-42CF-A85B-12561AF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02E-5D5F-459D-B50E-2DBE6AE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40F-FD4E-4F32-BB1E-187A9EA3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910-EB1B-4430-A1A3-3A4CC53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5EC-C94A-4BE6-AD47-D1C6205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0DC-53DE-4BC8-9650-4C06396E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144-97A7-450A-81F5-05B401E85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asterschool.dp.ua/mova-zhestiv/kuty-i-trykutnyky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8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71800" y="100836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333399"/>
                </a:solidFill>
                <a:latin typeface="Bookman Old Style"/>
              </a:rPr>
              <a:t>Невербаль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Bookman Old Style"/>
              </a:rPr>
              <a:t>комунікація</a:t>
            </a:r>
            <a:r>
              <a:rPr b="0" i="1" lang="uk-UA" sz="44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4860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у: формування навичок невербальної комунікації, інтерпретації невербальних сигналів в спілкува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12534850244252" descr="Мова жестів - Нога на ногу"/>
          <p:cNvPicPr/>
          <p:nvPr/>
        </p:nvPicPr>
        <p:blipFill>
          <a:blip r:embed="rId2"/>
          <a:stretch/>
        </p:blipFill>
        <p:spPr>
          <a:xfrm>
            <a:off x="4114800" y="304920"/>
            <a:ext cx="5029200" cy="6972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1597680"/>
            <a:ext cx="287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утрішня незгода  з точкою зору протилежної стор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12534850244253" descr="Мова жестів - Нога на ногу"/>
          <p:cNvPicPr/>
          <p:nvPr/>
        </p:nvPicPr>
        <p:blipFill>
          <a:blip r:embed="rId2"/>
          <a:stretch/>
        </p:blipFill>
        <p:spPr>
          <a:xfrm>
            <a:off x="4267080" y="990720"/>
            <a:ext cx="4876920" cy="63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16396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 ознака твердої, упертої людини, до якої потрібний спеціальний підхід для досягнення спільної 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12534850246260" descr="Мова жестів - Руки на грудях"/>
          <p:cNvPicPr/>
          <p:nvPr/>
        </p:nvPicPr>
        <p:blipFill>
          <a:blip r:embed="rId2"/>
          <a:stretch/>
        </p:blipFill>
        <p:spPr>
          <a:xfrm>
            <a:off x="4132440" y="990720"/>
            <a:ext cx="5011560" cy="6134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46376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, по суті, спроба відгородитися від загрози, що насувається, або небажаних обставин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02" name="12534850246261" descr="Мова жестів - Руки на грудях"/>
          <p:cNvPicPr/>
          <p:nvPr/>
        </p:nvPicPr>
        <p:blipFill>
          <a:blip r:embed="rId2"/>
          <a:stretch/>
        </p:blipFill>
        <p:spPr>
          <a:xfrm>
            <a:off x="4038480" y="1219320"/>
            <a:ext cx="5105520" cy="636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1874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нервований, критично-настроєний с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12534850246262" descr="Мова жестів - Руки на грудях"/>
          <p:cNvPicPr/>
          <p:nvPr/>
        </p:nvPicPr>
        <p:blipFill>
          <a:blip r:embed="rId2"/>
          <a:stretch/>
        </p:blipFill>
        <p:spPr>
          <a:xfrm>
            <a:off x="4270320" y="609480"/>
            <a:ext cx="4873680" cy="6820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17827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роба сховатися від несприятливої ситу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12" name="12534850246264" descr="Мова жестів - Руки на грудях"/>
          <p:cNvPicPr/>
          <p:nvPr/>
        </p:nvPicPr>
        <p:blipFill>
          <a:blip r:embed="rId2"/>
          <a:stretch/>
        </p:blipFill>
        <p:spPr>
          <a:xfrm>
            <a:off x="3886200" y="990720"/>
            <a:ext cx="5257800" cy="6553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2087280"/>
            <a:ext cx="33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Людина має свою точку зору і в ній впевн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88620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22086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ритична оці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38280" y="780120"/>
            <a:ext cx="598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готувати інформаційне повідомленн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«Значення жестів у різних країн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38320" y="3580920"/>
            <a:ext cx="30481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2880" y="1065960"/>
            <a:ext cx="552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cc"/>
                </a:solidFill>
                <a:latin typeface="Arial"/>
              </a:rPr>
              <a:t>Дякую за уваг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cc"/>
                </a:solidFill>
                <a:latin typeface="Arial"/>
              </a:rPr>
              <a:t>і вашу активність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82944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99"/>
                </a:solidFill>
                <a:latin typeface="Arial"/>
              </a:rPr>
              <a:t>Посмішка нічого не коштує, але багато дає. Вона збагачує тих, хто її отримує, не збіднюючи при цьому тих, хто її дарує. Вона триває мить, а в пам'яті залишається деколи назавжди. Вона створює щастя в будинку, породжує атмосферу доброзичливості і служить паролем для друз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9999"/>
                </a:solidFill>
                <a:latin typeface="Arial"/>
              </a:rPr>
              <a:t>Дейл Карнег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33520" y="609480"/>
          <a:ext cx="8076960" cy="541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129708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демонструвати же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терпретувати жест, передбачити можливий результат спілкування з використанням певного же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 виконання даного завдання - 7 х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 закінченню виконання завдання оберіть тих, хто буде презентувати результати роботи вашої гру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5440" y="152280"/>
            <a:ext cx="57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cc"/>
                </a:solidFill>
                <a:latin typeface="Arial"/>
              </a:rPr>
              <a:t>Завдання для групов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18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44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63" name="12534850244800" descr="Мова жестів - Кути і Трикутник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28600"/>
            <a:ext cx="5486400" cy="7238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13402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вербальне запрошення до третьої людини приєднатися до них, вставши на місце цієї третьої крап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12534850245206" descr="Мова жестів - Обман Брехня Сумнів - жести"/>
          <p:cNvPicPr/>
          <p:nvPr/>
        </p:nvPicPr>
        <p:blipFill>
          <a:blip r:embed="rId2"/>
          <a:stretch/>
        </p:blipFill>
        <p:spPr>
          <a:xfrm>
            <a:off x="3505320" y="1066680"/>
            <a:ext cx="5638680" cy="635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3708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утрішня потреба в схваленні і підтрим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12534850245204" descr="Мова жестів - Обман Брехня Сумнів - жести"/>
          <p:cNvPicPr/>
          <p:nvPr/>
        </p:nvPicPr>
        <p:blipFill>
          <a:blip r:embed="rId2"/>
          <a:stretch/>
        </p:blipFill>
        <p:spPr>
          <a:xfrm>
            <a:off x="4419720" y="914400"/>
            <a:ext cx="472428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249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й жест говорить про сумнів і невпевненість людини, яка говорить: “Я не впевнений, що я з вами згоден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77" name="12534850244250" descr="Мова жестів - Нога на ногу"/>
          <p:cNvPicPr/>
          <p:nvPr/>
        </p:nvPicPr>
        <p:blipFill>
          <a:blip r:embed="rId2"/>
          <a:stretch/>
        </p:blipFill>
        <p:spPr>
          <a:xfrm>
            <a:off x="3886200" y="990720"/>
            <a:ext cx="5257800" cy="632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15217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гативне або оборонне відношення лю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ни до того, що відбуває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12534850244251" descr="Мова жестів - Нога на ногу"/>
          <p:cNvPicPr/>
          <p:nvPr/>
        </p:nvPicPr>
        <p:blipFill>
          <a:blip r:embed="rId2"/>
          <a:stretch/>
        </p:blipFill>
        <p:spPr>
          <a:xfrm>
            <a:off x="0" y="68580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1266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боювання ідей, неприйняття т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що гов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2T09:35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