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6.png" ContentType="image/png"/>
  <Override PartName="/ppt/media/image3.gif" ContentType="image/gif"/>
  <Override PartName="/ppt/media/image17.jpeg" ContentType="image/jpeg"/>
  <Override PartName="/ppt/media/image15.jpeg" ContentType="image/jpeg"/>
  <Override PartName="/ppt/media/image24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5.png" ContentType="image/png"/>
  <Override PartName="/ppt/media/image36.png" ContentType="image/png"/>
  <Override PartName="/ppt/media/image37.wmf" ContentType="image/x-wmf"/>
  <Override PartName="/ppt/media/image38.gif" ContentType="image/gif"/>
  <Override PartName="/ppt/media/image39.wmf" ContentType="image/x-wmf"/>
  <Override PartName="/ppt/media/chimes.wav" ContentType="audio/x-wav"/>
  <Override PartName="/ppt/media/image29.png" ContentType="image/png"/>
  <Override PartName="/ppt/media/image40.png" ContentType="image/png"/>
  <Override PartName="/ppt/media/image6.jpeg" ContentType="image/jpeg"/>
  <Override PartName="/ppt/media/image9.png" ContentType="image/png"/>
  <Override PartName="/ppt/media/image28.png" ContentType="image/png"/>
  <Override PartName="/ppt/media/image7.jpeg" ContentType="image/jpeg"/>
  <Override PartName="/ppt/media/image5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4.gif" ContentType="image/gif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E18-710B-4AD1-8088-B882686CE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E62-1E5A-4C44-8C8C-AC8F4D2ED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орема Пифаг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уть истины вся в том, что нам она – навечно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гда хоть раз в прозрении её увидим свет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теорема Пифагора через столько ле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ля нас, как для него, бесспорна, безупречна 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Отрывок из стихотворения А. Шамис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4D09-15DB-4EE7-B35B-5FD902B4A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Задача из учебника «Арифметика» Леонтия Магницкого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onotype Corsiva"/>
              </a:rPr>
              <a:t>Случися некому человеку к стене лестницу прибрати, стены же тоя высота есть 117 стоп. И обреете лестницу долготью 125 стоп.  И ведати хочет, колико стоп сея лестницы нижний конец от стены отстояти имат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onotype Corsiva"/>
              </a:rPr>
              <a:t>Ответ: 44 стоп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C228-40C8-4730-B246-B0EC98BEA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индийского математик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ека Бхасха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На берегу реки рос тополь одинок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Вдруг ветра порыв его ствол надлом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Бедный тополь упал. И угол пря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С теченьем реки его ствол составлял.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Запомни теперь, что в этом месте р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В четыре лишь фута была ши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Верхушка склонилась у края ре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Осталось три фута всего от ство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Прошу тебя, скоро теперь мне ска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У тополя как велика высот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5 ф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2D1-5AFF-4AFA-A919-90EFFFE04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дача из китайск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атематики в девяти книг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меется водоем со стороной в 1 чжан = 10 чи. В центре его растет камыш, который выступает над водой на 1 чи. Если потянуть камыш к берегу, то он как раз коснётся его. Спрашивается: какова глубина воды и какова длина кам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D38B-D9EC-4E95-BFEB-C5E1947AF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уществует замечательное соотношение между гипотенузой и катетами прямоугольного треугольника, справедливость которого была доказана древнегреческим философом и математиком Пифагором (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. до н.э.). Но изучение вавилонских клинописных таблиц и древних китайских рукописей показало, что это утверждение было известно задолго до Пифагора. Заслуга же Пифагора состояла в том, что он открыл доказательство этой теор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7EE-8028-49BE-BD26-955C23D2A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cc00"/>
                </a:solidFill>
                <a:latin typeface="Monotype Corsiva"/>
              </a:rPr>
              <a:t>Цель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теорему Пифагора и теорему, обратную теореме Пифаг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применение данных теорем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41A-9ED1-4865-9D20-3B4836D32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агают, что во времена Пифагора теорема звучала по-другому: "Площадь квадрата, построенного на гипотенузе прямоугольного треугольника, равна сумме площадей квадратов, построенных на его катетах". Действительно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лощадь квадрата, построенного на гипотенузе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лощади квадратов, построенных на катетах (рис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C20-2013-4574-AD44-E0A63E0F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28C-1D37-435A-A69E-E1FD6D3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FE9-D19F-48FB-B386-2EB3F9B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5F3-515F-4844-A25B-4A6CFF3F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47FB7-2C81-4A40-8A67-77DFEBFE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25D95-D6FF-498F-8A23-664342A4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9096-B468-4659-8956-A530E693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DAB1-B157-4556-9C81-7807234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CF31E-8CE2-451D-8931-542F413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59BA3-A92B-4B56-908C-2CB8AE82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73A16-BEA7-4818-A193-1180C45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399-8C14-47C5-9181-593D03A3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52C2-F5B4-4623-81BE-448F957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B0966-0D61-44F7-8708-675D2B4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4E801-8CA0-42E8-98CB-45314AB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398D-A484-459D-B278-8547F75A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B5C2B-BAF9-44F4-BD69-47832D46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F429-B16B-4829-A679-6CDB409B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6BD4-CAE2-4B41-B0B2-0CBCA3A3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788B-8E56-44D8-A945-998194DD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5F8D-21B4-40AE-9B4A-B30D0276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62D8-D7C7-48B2-9FDB-85A75C9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8F6-3D8A-4AE8-92BA-3330734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5440-1F31-4625-ACF5-DE45D67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1D64-A234-4D93-B1EA-830204C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80D5-3100-4D24-84A0-43DE7D1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1201-5C27-4D58-AD35-4169E44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1B7F-EF0C-430A-8D9D-B09D0628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BBA9-ED15-430C-B759-0A9CCDBF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7A39-B97C-4F82-9893-C7FAB718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9E5-B804-48CE-9D75-44E075F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3F7-214D-40AE-B8C3-EC5DF78C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D99-F5B1-4C3B-82F3-18357BF8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385-50A2-4814-91FC-7557BB8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1AE-18DD-4BF3-B15F-09BF327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51E-D468-4533-960A-FA26AAB4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63800" y="6531120"/>
            <a:ext cx="3384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b8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b800"/>
                </a:solidFill>
                <a:latin typeface="Times New Roman"/>
              </a:rPr>
              <a:t>МОУ &lt;Средняя общеобразовательная школа №15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3E8C-2931-48A2-A009-5130351F6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A6C-BDF9-4CCC-AAD5-C552F6DE8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6"/>
          </p:nvPr>
        </p:nvSpPr>
        <p:spPr>
          <a:xfrm>
            <a:off x="2863800" y="6531120"/>
            <a:ext cx="3384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b8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b800"/>
                </a:solidFill>
                <a:latin typeface="Times New Roman"/>
              </a:rPr>
              <a:t>МОУ &lt;Средняя общеобразовательная школа №15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231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23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3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234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4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FED-63AF-4C5E-9E7A-9041214CCF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.xml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557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Теорема Піфагор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04292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Знайти невідомі елементи в трикутни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116000" y="45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619280" y="1676520"/>
            <a:ext cx="6667560" cy="3339360"/>
            <a:chOff x="1619280" y="1676520"/>
            <a:chExt cx="6667560" cy="3339360"/>
          </a:xfrm>
        </p:grpSpPr>
        <p:sp>
          <p:nvSpPr>
            <p:cNvPr id="340" name="AutoShape 5"/>
            <p:cNvSpPr/>
            <p:nvPr/>
          </p:nvSpPr>
          <p:spPr>
            <a:xfrm flipV="1" rot="10800000">
              <a:off x="1619280" y="2133720"/>
              <a:ext cx="5184720" cy="273528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>
              <a:off x="6877080" y="1676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dff"/>
                  </a:solidFill>
                  <a:latin typeface="Comic Sans MS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6877080" y="45561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dff"/>
                  </a:solidFill>
                  <a:latin typeface="Comic Sans MS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Text Box 9"/>
            <p:cNvSpPr/>
            <p:nvPr/>
          </p:nvSpPr>
          <p:spPr>
            <a:xfrm>
              <a:off x="7207200" y="323856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4" name="Text Box 10"/>
          <p:cNvSpPr/>
          <p:nvPr/>
        </p:nvSpPr>
        <p:spPr>
          <a:xfrm>
            <a:off x="3635280" y="278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2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5940360" y="2637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6443640" y="458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6443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Знайти невідому сторону трикут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Группа 3"/>
          <p:cNvGrpSpPr/>
          <p:nvPr/>
        </p:nvGrpSpPr>
        <p:grpSpPr>
          <a:xfrm>
            <a:off x="755640" y="2565360"/>
            <a:ext cx="4968720" cy="3332160"/>
            <a:chOff x="755640" y="2565360"/>
            <a:chExt cx="4968720" cy="3332160"/>
          </a:xfrm>
        </p:grpSpPr>
        <p:sp>
          <p:nvSpPr>
            <p:cNvPr id="350" name="AutoShape 4"/>
            <p:cNvSpPr/>
            <p:nvPr/>
          </p:nvSpPr>
          <p:spPr>
            <a:xfrm>
              <a:off x="1403280" y="2565360"/>
              <a:ext cx="4321080" cy="2664000"/>
            </a:xfrm>
            <a:prstGeom prst="rtTriangle">
              <a:avLst/>
            </a:prstGeom>
            <a:solidFill>
              <a:srgbClr val="ffe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WordArt 5"/>
            <p:cNvSpPr txBox="1"/>
            <p:nvPr/>
          </p:nvSpPr>
          <p:spPr>
            <a:xfrm>
              <a:off x="755640" y="3573360"/>
              <a:ext cx="401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  <p:sp>
          <p:nvSpPr>
            <p:cNvPr id="352" name="WordArt 6"/>
            <p:cNvSpPr txBox="1"/>
            <p:nvPr/>
          </p:nvSpPr>
          <p:spPr>
            <a:xfrm>
              <a:off x="3203640" y="5373720"/>
              <a:ext cx="43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  <p:sp>
          <p:nvSpPr>
            <p:cNvPr id="353" name="WordArt 7"/>
            <p:cNvSpPr txBox="1"/>
            <p:nvPr/>
          </p:nvSpPr>
          <p:spPr>
            <a:xfrm>
              <a:off x="3708360" y="3284280"/>
              <a:ext cx="5760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Georgia"/>
                </a:rPr>
                <a:t>х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  <a:ea typeface="Georgia"/>
              </a:endParaRPr>
            </a:p>
          </p:txBody>
        </p:sp>
        <p:sp>
          <p:nvSpPr>
            <p:cNvPr id="354" name="Line 8"/>
            <p:cNvSpPr/>
            <p:nvPr/>
          </p:nvSpPr>
          <p:spPr>
            <a:xfrm>
              <a:off x="1403280" y="49420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 flipV="1">
              <a:off x="1763640" y="49420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Египетський трикутни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4754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емлеміри Стародавнь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Єгипту для побудови прямого кута використовува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тузку, розділену вузлами на 12 рівних части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6" descr="res984426C9-A100-43B0-808A-A3FE8B46DBF2"/>
          <p:cNvPicPr/>
          <p:nvPr/>
        </p:nvPicPr>
        <p:blipFill>
          <a:blip r:embed="rId1"/>
          <a:stretch/>
        </p:blipFill>
        <p:spPr>
          <a:xfrm>
            <a:off x="5070600" y="1865160"/>
            <a:ext cx="3378240" cy="37036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4932360" y="1628640"/>
            <a:ext cx="42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9" descr="Теорема Пифагора"/>
          <p:cNvPicPr/>
          <p:nvPr/>
        </p:nvPicPr>
        <p:blipFill>
          <a:blip r:embed="rId2"/>
          <a:stretch/>
        </p:blipFill>
        <p:spPr>
          <a:xfrm>
            <a:off x="520560" y="3716280"/>
            <a:ext cx="393876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5851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Визначт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687240" y="191628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Georgia"/>
              </a:rPr>
              <a:t>Який  трикутник  являеться прямокутни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13 м; 5 м; 12 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2) 0,6 дм; 0,8 дм; 1,2 д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79280" y="1413000"/>
            <a:ext cx="518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кріплення щогли потрібно встановити 4 троса. Один кінець кожного троса повинен кріпитися на висоті 12 м, інший на землі на відстані 5 м від щогли.  Чи вистачить 50 м троса для кріплення щогли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Picture 2" descr="Мачта"/>
          <p:cNvPicPr/>
          <p:nvPr/>
        </p:nvPicPr>
        <p:blipFill>
          <a:blip r:embed="rId1"/>
          <a:stretch/>
        </p:blipFill>
        <p:spPr>
          <a:xfrm>
            <a:off x="5219640" y="1413000"/>
            <a:ext cx="3097440" cy="4124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book17"/>
          <p:cNvPicPr/>
          <p:nvPr/>
        </p:nvPicPr>
        <p:blipFill>
          <a:blip r:embed="rId2"/>
          <a:stretch/>
        </p:blipFill>
        <p:spPr>
          <a:xfrm>
            <a:off x="468360" y="115920"/>
            <a:ext cx="165744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2330640" y="609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Відповідь: Не вистачи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Monotype Corsiva"/>
              </a:rPr>
              <a:t>Завдання з підручника </a:t>
            </a:r>
            <a:br>
              <a:rPr sz="4200"/>
            </a:br>
            <a:r>
              <a:rPr b="1" lang="ru-RU" sz="4200" spc="-1" strike="noStrike">
                <a:solidFill>
                  <a:srgbClr val="7030a0"/>
                </a:solidFill>
                <a:latin typeface="Monotype Corsiva"/>
              </a:rPr>
              <a:t>«Арифметика» Леонтія  Магницького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Picture 4" descr="Рисунок21_resize"/>
          <p:cNvPicPr/>
          <p:nvPr/>
        </p:nvPicPr>
        <p:blipFill>
          <a:blip r:embed="rId1"/>
          <a:srcRect l="0" t="380" r="882" b="0"/>
          <a:stretch/>
        </p:blipFill>
        <p:spPr>
          <a:xfrm>
            <a:off x="826920" y="1916280"/>
            <a:ext cx="3156120" cy="381636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  <p:sp>
        <p:nvSpPr>
          <p:cNvPr id="370" name="Rectangle 5"/>
          <p:cNvSpPr/>
          <p:nvPr/>
        </p:nvSpPr>
        <p:spPr>
          <a:xfrm>
            <a:off x="3995640" y="2565360"/>
            <a:ext cx="4392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38" descr="image007"/>
          <p:cNvPicPr/>
          <p:nvPr/>
        </p:nvPicPr>
        <p:blipFill>
          <a:blip r:embed="rId2"/>
          <a:stretch/>
        </p:blipFill>
        <p:spPr>
          <a:xfrm>
            <a:off x="179280" y="33480"/>
            <a:ext cx="660600" cy="8632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3548160" y="59864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Відповідь: 44 сто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Прямоугольник 1"/>
          <p:cNvSpPr/>
          <p:nvPr/>
        </p:nvSpPr>
        <p:spPr>
          <a:xfrm>
            <a:off x="4002120" y="2205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лучися некому человеку к стене лестницу прибрати, стены же тоя высота есть 117 стоп. И обреете лестницу долготью 125 стоп.  И ведати хочет, колико стоп сея лестницы нижний конец от стены отстояти им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Monotype Corsiva"/>
              </a:rPr>
              <a:t>Завдання індійського математика XII століття Бхаскара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Picture 4" descr="Рисунок19_resize"/>
          <p:cNvPicPr/>
          <p:nvPr/>
        </p:nvPicPr>
        <p:blipFill>
          <a:blip r:embed="rId1"/>
          <a:srcRect l="504" t="357" r="1008" b="715"/>
          <a:stretch/>
        </p:blipFill>
        <p:spPr>
          <a:xfrm>
            <a:off x="5148360" y="1773360"/>
            <a:ext cx="3170160" cy="352872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  <p:sp>
        <p:nvSpPr>
          <p:cNvPr id="376" name="Rectangle 5"/>
          <p:cNvSpPr/>
          <p:nvPr/>
        </p:nvSpPr>
        <p:spPr>
          <a:xfrm>
            <a:off x="179280" y="1700280"/>
            <a:ext cx="489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берегу реки рос тополь одинок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друг ветра порыв его ствол надлома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дный тополь упал. И угол прям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теченьем реки его ствол составлял.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омни теперь, что в этом месте р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четыре лишь фута была шир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рхушка склонилась у края ре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талось три фута всего от ствол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шу тебя, скоро теперь мне скаж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тополя как велика высота?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7" name="Picture 38" descr="image007"/>
          <p:cNvPicPr/>
          <p:nvPr/>
        </p:nvPicPr>
        <p:blipFill>
          <a:blip r:embed="rId2"/>
          <a:stretch/>
        </p:blipFill>
        <p:spPr>
          <a:xfrm>
            <a:off x="250920" y="692280"/>
            <a:ext cx="660240" cy="8636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5"/>
          <p:cNvSpPr/>
          <p:nvPr/>
        </p:nvSpPr>
        <p:spPr>
          <a:xfrm>
            <a:off x="2700360" y="5805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Відповідь: 8 футі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3892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Завдання з китайської «Математики в дев'яти книга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4" descr="Рисунок20_resize"/>
          <p:cNvPicPr/>
          <p:nvPr/>
        </p:nvPicPr>
        <p:blipFill>
          <a:blip r:embed="rId1">
            <a:lum contrast="18000"/>
          </a:blip>
          <a:srcRect l="0" t="567" r="0" b="0"/>
          <a:stretch/>
        </p:blipFill>
        <p:spPr>
          <a:xfrm>
            <a:off x="179280" y="1628640"/>
            <a:ext cx="4280040" cy="345600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  <p:sp>
        <p:nvSpPr>
          <p:cNvPr id="381" name="Rectangle 5"/>
          <p:cNvSpPr/>
          <p:nvPr/>
        </p:nvSpPr>
        <p:spPr>
          <a:xfrm>
            <a:off x="4643280" y="1484280"/>
            <a:ext cx="396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ется водоем со стороной в 1 чжан = 10 чи. В центре его растет камыш, который выступает над водой на 1 чи. Если потянуть камыш к берегу, то он как раз коснётся его. Спрашивается: какова глубина воды и какова длина камыш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Picture 38" descr="image007"/>
          <p:cNvPicPr/>
          <p:nvPr/>
        </p:nvPicPr>
        <p:blipFill>
          <a:blip r:embed="rId2"/>
          <a:stretch/>
        </p:blipFill>
        <p:spPr>
          <a:xfrm>
            <a:off x="179280" y="260280"/>
            <a:ext cx="660600" cy="863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2195640" y="5661000"/>
            <a:ext cx="35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      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Глибина води 12 ч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Довжина очерету 13 ч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7058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Задача про бамбук  із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давньокитайського трактату «Чжоу-гу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79280" y="1628280"/>
            <a:ext cx="450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ется бамбук высот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1 чжан. Вершину его с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нули так, что она касает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я земли на расстоя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 чи от корня. Какова вы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та бамбука после сгиба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чжан=10 ч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7" name="Picture 10" descr="res77FBE612-0A01-000A-0127-D19D20301F31"/>
          <p:cNvPicPr/>
          <p:nvPr/>
        </p:nvPicPr>
        <p:blipFill>
          <a:blip r:embed="rId1"/>
          <a:stretch/>
        </p:blipFill>
        <p:spPr>
          <a:xfrm>
            <a:off x="4859280" y="1413000"/>
            <a:ext cx="3326040" cy="43923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sp>
        <p:nvSpPr>
          <p:cNvPr id="388" name="Text Box 12"/>
          <p:cNvSpPr/>
          <p:nvPr/>
        </p:nvSpPr>
        <p:spPr>
          <a:xfrm>
            <a:off x="1332000" y="6093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             </a:t>
            </a: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Відповідь: 4,55 ч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38" descr="image007"/>
          <p:cNvPicPr/>
          <p:nvPr/>
        </p:nvPicPr>
        <p:blipFill>
          <a:blip r:embed="rId2"/>
          <a:stretch/>
        </p:blipFill>
        <p:spPr>
          <a:xfrm>
            <a:off x="0" y="0"/>
            <a:ext cx="660240" cy="86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Піфагор Самоськи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133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Існує чудове співвідношення між гіпотенузою і катетами прямокутного трикутника, справедливість якого була доведена давньогрецьким філософом і математиком Піфагором (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. До н.е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Picture 5" descr="Рисунок4"/>
          <p:cNvPicPr/>
          <p:nvPr/>
        </p:nvPicPr>
        <p:blipFill>
          <a:blip r:embed="rId1"/>
          <a:stretch/>
        </p:blipFill>
        <p:spPr>
          <a:xfrm>
            <a:off x="4859280" y="1628640"/>
            <a:ext cx="3287880" cy="365760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10"/>
          <p:cNvSpPr/>
          <p:nvPr/>
        </p:nvSpPr>
        <p:spPr>
          <a:xfrm>
            <a:off x="214200" y="857160"/>
            <a:ext cx="4572000" cy="3786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Геометрія володіє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багатьма скарба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дин з них – ц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теорема Піфагор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785880" y="4429080"/>
            <a:ext cx="3384360" cy="863640"/>
            <a:chOff x="785880" y="4429080"/>
            <a:chExt cx="3384360" cy="863640"/>
          </a:xfrm>
        </p:grpSpPr>
        <p:sp>
          <p:nvSpPr>
            <p:cNvPr id="294" name="AutoShape 14"/>
            <p:cNvSpPr/>
            <p:nvPr/>
          </p:nvSpPr>
          <p:spPr>
            <a:xfrm>
              <a:off x="785880" y="4429080"/>
              <a:ext cx="3384360" cy="863640"/>
            </a:xfrm>
            <a:custGeom>
              <a:avLst/>
              <a:gdLst>
                <a:gd name="textAreaLeft" fmla="*/ 529920 w 3384360"/>
                <a:gd name="textAreaRight" fmla="*/ 2854440 w 3384360"/>
                <a:gd name="textAreaTop" fmla="*/ 216000 h 863640"/>
                <a:gd name="textAreaBottom" fmla="*/ 814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621244"/>
                  <a:lnTo>
                    <a:pt x="3384" y="20375"/>
                  </a:lnTo>
                  <a:arcTo wR="21600" hR="20153" stAng="6683712" swAng="-2567424"/>
                  <a:lnTo>
                    <a:pt x="18216" y="17675"/>
                  </a:lnTo>
                  <a:arcTo wR="21600" hR="20153" stAng="4116288" swAng="-62124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095882"/>
                  <a:lnTo>
                    <a:pt x="15516" y="4914"/>
                  </a:lnTo>
                  <a:arcTo wR="21600" hR="20153" stAng="4590926" swAng="1618148"/>
                  <a:lnTo>
                    <a:pt x="6084" y="2214"/>
                  </a:lnTo>
                  <a:arcTo wR="21600" hR="20153" stAng="6209074" swAng="1095882"/>
                  <a:lnTo>
                    <a:pt x="2700" y="9329"/>
                  </a:lnTo>
                  <a:close/>
                </a:path>
                <a:path fill="none" w="21600" h="21600">
                  <a:moveTo>
                    <a:pt x="6084" y="4914"/>
                  </a:moveTo>
                  <a:arcTo wR="21600" hR="20153" stAng="6209074" swAng="474638"/>
                  <a:lnTo>
                    <a:pt x="6084" y="2214"/>
                  </a:lnTo>
                </a:path>
                <a:path fill="none" w="21600" h="21600">
                  <a:moveTo>
                    <a:pt x="15516" y="4914"/>
                  </a:moveTo>
                  <a:arcTo wR="21600" hR="20153" stAng="4590926" swAng="-474638"/>
                  <a:lnTo>
                    <a:pt x="15516" y="2214"/>
                  </a:lnTo>
                </a:path>
                <a:path fill="none" w="21600" h="21600">
                  <a:moveTo>
                    <a:pt x="3384" y="17675"/>
                  </a:moveTo>
                  <a:lnTo>
                    <a:pt x="3384" y="4175"/>
                  </a:lnTo>
                </a:path>
                <a:path fill="none" w="21600" h="21600">
                  <a:moveTo>
                    <a:pt x="18216" y="17675"/>
                  </a:moveTo>
                  <a:lnTo>
                    <a:pt x="18216" y="417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1362960" y="471636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Йоганн Кеплер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96" name="Picture 16" descr="74ee23b2c956cc722e96600845ccc445[1]"/>
          <p:cNvPicPr/>
          <p:nvPr/>
        </p:nvPicPr>
        <p:blipFill>
          <a:blip r:embed="rId2"/>
          <a:stretch/>
        </p:blipFill>
        <p:spPr>
          <a:xfrm>
            <a:off x="6286680" y="5500800"/>
            <a:ext cx="1366560" cy="1171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4857840" y="571680"/>
            <a:ext cx="3382920" cy="42210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2"/>
          <p:cNvSpPr/>
          <p:nvPr/>
        </p:nvSpPr>
        <p:spPr>
          <a:xfrm>
            <a:off x="4857840" y="4792680"/>
            <a:ext cx="31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іфагор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вньогрець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чений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. до н.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1160" y="-448920"/>
            <a:ext cx="864216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умка - понад усе між людь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найди собі вірного друга, маючи його, ти можеш обійтися без бог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Живи з людьми так, щоб твої друзі не стали недругами, а недруги стали друз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окидаючись вранці, запитай себе: «Що я повинен зробити?», а, засинаючи ввечері, запитай: «Що я зробив?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ганяйся за щастям: воно завжди знаходиться в тобі самом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оби лише те, що згодом не затьмарить тебе і не примусить каяти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роби ніколи того, чого не знаєш, але навчися всього, що потрібно зна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нехтуй здоров'ям свого тіл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вчися жити просто і без розкоші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ерез ваги не крокуй - уникай  жадібності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сідай на хлібну міру - не живи празд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Або мовчи, або говори те, що цінніше мовчанн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 закривай очі, коли хочеш спати, не розібравшись всіх своїх вчинків за д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 битим шляхом не ходи - слід не думкам юрби, а думкам небагатьох розуміюч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69832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Піфагорові зако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5" name="Picture 2" descr="37r3"/>
          <p:cNvPicPr/>
          <p:nvPr/>
        </p:nvPicPr>
        <p:blipFill>
          <a:blip r:embed="rId1"/>
          <a:stretch/>
        </p:blipFill>
        <p:spPr>
          <a:xfrm>
            <a:off x="250920" y="98280"/>
            <a:ext cx="718920" cy="68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264960"/>
            <a:ext cx="769284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Пентагра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340000" y="2401920"/>
            <a:ext cx="571968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ефістофель: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і, важкувато вийти мені тепер,     Тут дещо заважає мені трохи: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рівний знак у вашого порог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Фауст:</a:t>
            </a: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и не пентаграма ль цьому виною? Але як же, біс, пробрався ти за мною?  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Яким шляхом в халепу попався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Мефістофель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зволили її ви погано накреслит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І проміжок в куточку залишився,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ам, біля дверей, - і я вільно міг вскочити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Picture 10" descr="image42"/>
          <p:cNvPicPr/>
          <p:nvPr/>
        </p:nvPicPr>
        <p:blipFill>
          <a:blip r:embed="rId1"/>
          <a:stretch/>
        </p:blipFill>
        <p:spPr>
          <a:xfrm>
            <a:off x="108000" y="2637000"/>
            <a:ext cx="2490840" cy="23698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1"/>
          <p:cNvSpPr/>
          <p:nvPr/>
        </p:nvSpPr>
        <p:spPr>
          <a:xfrm>
            <a:off x="395280" y="981000"/>
            <a:ext cx="763272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ловним піфагорейський розпізнавальним знаком був символ здоров'я - пентаграма або пифагорейская зірка. Вона являє собою зірчастий п'ятикутник, утворений діагоналями правильного п'ятикутника. Намальована пентаграма була таємним знаком, за яким піфагорійці дізнавалися один одного. У середні століття вважалося, що пентаграма "охороняє" від "нечистої сили"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Нижний колонтитул 4"/>
          <p:cNvSpPr/>
          <p:nvPr/>
        </p:nvSpPr>
        <p:spPr>
          <a:xfrm>
            <a:off x="2863800" y="6531120"/>
            <a:ext cx="338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80" y="395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о теоремі Піфагора його учні складали віршики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а зразок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971640" y="1125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«</a:t>
            </a: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Піфагороі штани у всі сторони рівні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1547640" y="177336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також малювали такі шаржі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rcRect l="848" t="18854" r="43606" b="0"/>
          <a:stretch/>
        </p:blipFill>
        <p:spPr>
          <a:xfrm>
            <a:off x="566640" y="2362320"/>
            <a:ext cx="4680000" cy="403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">
            <a:hlinkClick r:id="rId2" action="ppaction://hlinksldjump"/>
          </p:cNvPr>
          <p:cNvPicPr/>
          <p:nvPr/>
        </p:nvPicPr>
        <p:blipFill>
          <a:blip r:embed="rId3"/>
          <a:srcRect l="66728" t="18732" r="3500" b="1557"/>
          <a:stretch/>
        </p:blipFill>
        <p:spPr>
          <a:xfrm>
            <a:off x="5905440" y="2276640"/>
            <a:ext cx="237672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7"/>
          <p:cNvSpPr/>
          <p:nvPr/>
        </p:nvSpPr>
        <p:spPr>
          <a:xfrm>
            <a:off x="460440" y="260280"/>
            <a:ext cx="792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Доведення теореми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 перебільшення можна сказати, що це найвідоміша теорема геометрії, бо про неї знає переважна більшість населення планет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ча довести її здатна лише дуже незначна його части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26920" y="400536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387360" y="206064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ведення теореми вважалося в колах учнів середніх століть дуже важким і називало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4038480" y="1941480"/>
            <a:ext cx="4249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Dons asinorum”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ослиный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ост»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б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elefuga”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«бегство убогих»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1240" y="6075360"/>
            <a:ext cx="730404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раз відомо близько 150 доведення теореми Піфаго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6486480" y="3706920"/>
            <a:ext cx="1859040" cy="47847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1"/>
          <p:cNvSpPr/>
          <p:nvPr/>
        </p:nvSpPr>
        <p:spPr>
          <a:xfrm>
            <a:off x="395280" y="37162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деяких списках «Начал» Евкліда теорема Піфагора називалася теоремою Німфи, «теорема - метелик», мабуть через схожість креслення з метеликом, оскільки словом «німфа» греки називали метеликів. Німфами греки називали ще і наречених, а також деяких боги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Застосування теореми Піфаго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32288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6247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В будівництві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11600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3297960" y="736920"/>
            <a:ext cx="2305080" cy="2869920"/>
            <a:chOff x="3297960" y="736920"/>
            <a:chExt cx="2305080" cy="2869920"/>
          </a:xfrm>
        </p:grpSpPr>
        <p:grpSp>
          <p:nvGrpSpPr>
            <p:cNvPr id="418" name="Group 38"/>
            <p:cNvGrpSpPr/>
            <p:nvPr/>
          </p:nvGrpSpPr>
          <p:grpSpPr>
            <a:xfrm>
              <a:off x="3297960" y="736920"/>
              <a:ext cx="2305080" cy="2869920"/>
              <a:chOff x="3297960" y="736920"/>
              <a:chExt cx="2305080" cy="2869920"/>
            </a:xfrm>
          </p:grpSpPr>
          <p:grpSp>
            <p:nvGrpSpPr>
              <p:cNvPr id="419" name="Group 34"/>
              <p:cNvGrpSpPr/>
              <p:nvPr/>
            </p:nvGrpSpPr>
            <p:grpSpPr>
              <a:xfrm>
                <a:off x="3297960" y="736920"/>
                <a:ext cx="2305080" cy="2869920"/>
                <a:chOff x="3297960" y="736920"/>
                <a:chExt cx="2305080" cy="2869920"/>
              </a:xfrm>
            </p:grpSpPr>
            <p:grpSp>
              <p:nvGrpSpPr>
                <p:cNvPr id="420" name="Group 29"/>
                <p:cNvGrpSpPr/>
                <p:nvPr/>
              </p:nvGrpSpPr>
              <p:grpSpPr>
                <a:xfrm>
                  <a:off x="4232520" y="1203480"/>
                  <a:ext cx="1148040" cy="1549440"/>
                  <a:chOff x="4232520" y="1203480"/>
                  <a:chExt cx="1148040" cy="1549440"/>
                </a:xfrm>
              </p:grpSpPr>
              <p:sp>
                <p:nvSpPr>
                  <p:cNvPr id="421" name="Arc 30"/>
                  <p:cNvSpPr/>
                  <p:nvPr/>
                </p:nvSpPr>
                <p:spPr>
                  <a:xfrm flipV="1" rot="9047400">
                    <a:off x="4348800" y="1333800"/>
                    <a:ext cx="706320" cy="660960"/>
                  </a:xfrm>
                  <a:custGeom>
                    <a:avLst/>
                    <a:gdLst>
                      <a:gd name="textAreaLeft" fmla="*/ 0 w 706320"/>
                      <a:gd name="textAreaRight" fmla="*/ 706680 w 706320"/>
                      <a:gd name="textAreaTop" fmla="*/ 360 h 660960"/>
                      <a:gd name="textAreaBottom" fmla="*/ 661680 h 6609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2" name="Arc 31"/>
                  <p:cNvSpPr/>
                  <p:nvPr/>
                </p:nvSpPr>
                <p:spPr>
                  <a:xfrm flipV="1" rot="17346600">
                    <a:off x="4507560" y="1439640"/>
                    <a:ext cx="879480" cy="612000"/>
                  </a:xfrm>
                  <a:custGeom>
                    <a:avLst/>
                    <a:gdLst>
                      <a:gd name="textAreaLeft" fmla="*/ 0 w 879480"/>
                      <a:gd name="textAreaRight" fmla="*/ 879840 w 879480"/>
                      <a:gd name="textAreaTop" fmla="*/ 360 h 612000"/>
                      <a:gd name="textAreaBottom" fmla="*/ 612720 h 6120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3" name="Rectangle 32"/>
                  <p:cNvSpPr/>
                  <p:nvPr/>
                </p:nvSpPr>
                <p:spPr>
                  <a:xfrm>
                    <a:off x="4471920" y="1750680"/>
                    <a:ext cx="342720" cy="1002240"/>
                  </a:xfrm>
                  <a:prstGeom prst="rect">
                    <a:avLst/>
                  </a:prstGeom>
                  <a:solidFill>
                    <a:srgbClr val="ffe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4" name="Rectangle 33"/>
                  <p:cNvSpPr/>
                  <p:nvPr/>
                </p:nvSpPr>
                <p:spPr>
                  <a:xfrm>
                    <a:off x="4815000" y="1750680"/>
                    <a:ext cx="342360" cy="1002240"/>
                  </a:xfrm>
                  <a:prstGeom prst="rect">
                    <a:avLst/>
                  </a:prstGeom>
                  <a:solidFill>
                    <a:srgbClr val="ffe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5" name="Group 28"/>
                <p:cNvGrpSpPr/>
                <p:nvPr/>
              </p:nvGrpSpPr>
              <p:grpSpPr>
                <a:xfrm>
                  <a:off x="3533040" y="1193400"/>
                  <a:ext cx="1148040" cy="1549440"/>
                  <a:chOff x="3533040" y="1193400"/>
                  <a:chExt cx="1148040" cy="1549440"/>
                </a:xfrm>
              </p:grpSpPr>
              <p:sp>
                <p:nvSpPr>
                  <p:cNvPr id="426" name="Arc 18"/>
                  <p:cNvSpPr/>
                  <p:nvPr/>
                </p:nvSpPr>
                <p:spPr>
                  <a:xfrm flipV="1" rot="9047400">
                    <a:off x="3649320" y="1323720"/>
                    <a:ext cx="706320" cy="660960"/>
                  </a:xfrm>
                  <a:custGeom>
                    <a:avLst/>
                    <a:gdLst>
                      <a:gd name="textAreaLeft" fmla="*/ 0 w 706320"/>
                      <a:gd name="textAreaRight" fmla="*/ 706680 w 706320"/>
                      <a:gd name="textAreaTop" fmla="*/ 360 h 660960"/>
                      <a:gd name="textAreaBottom" fmla="*/ 661680 h 6609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7" name="Arc 19"/>
                  <p:cNvSpPr/>
                  <p:nvPr/>
                </p:nvSpPr>
                <p:spPr>
                  <a:xfrm flipV="1" rot="17346600">
                    <a:off x="3808080" y="1429560"/>
                    <a:ext cx="879480" cy="612000"/>
                  </a:xfrm>
                  <a:custGeom>
                    <a:avLst/>
                    <a:gdLst>
                      <a:gd name="textAreaLeft" fmla="*/ 0 w 879480"/>
                      <a:gd name="textAreaRight" fmla="*/ 879840 w 879480"/>
                      <a:gd name="textAreaTop" fmla="*/ 360 h 612000"/>
                      <a:gd name="textAreaBottom" fmla="*/ 612720 h 6120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8" name="Rectangle 20"/>
                  <p:cNvSpPr/>
                  <p:nvPr/>
                </p:nvSpPr>
                <p:spPr>
                  <a:xfrm>
                    <a:off x="3772440" y="1740600"/>
                    <a:ext cx="342720" cy="1002240"/>
                  </a:xfrm>
                  <a:prstGeom prst="rect">
                    <a:avLst/>
                  </a:prstGeom>
                  <a:solidFill>
                    <a:srgbClr val="ffe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9" name="Rectangle 21"/>
                  <p:cNvSpPr/>
                  <p:nvPr/>
                </p:nvSpPr>
                <p:spPr>
                  <a:xfrm>
                    <a:off x="4115520" y="1740600"/>
                    <a:ext cx="342360" cy="1002240"/>
                  </a:xfrm>
                  <a:prstGeom prst="rect">
                    <a:avLst/>
                  </a:prstGeom>
                  <a:solidFill>
                    <a:srgbClr val="ffe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0" name="Group 15"/>
                <p:cNvGrpSpPr/>
                <p:nvPr/>
              </p:nvGrpSpPr>
              <p:grpSpPr>
                <a:xfrm>
                  <a:off x="3297960" y="736920"/>
                  <a:ext cx="2305080" cy="2869920"/>
                  <a:chOff x="3297960" y="736920"/>
                  <a:chExt cx="2305080" cy="2869920"/>
                </a:xfrm>
              </p:grpSpPr>
              <p:grpSp>
                <p:nvGrpSpPr>
                  <p:cNvPr id="431" name="Group 14"/>
                  <p:cNvGrpSpPr/>
                  <p:nvPr/>
                </p:nvGrpSpPr>
                <p:grpSpPr>
                  <a:xfrm>
                    <a:off x="3297960" y="736920"/>
                    <a:ext cx="2305080" cy="1976040"/>
                    <a:chOff x="3297960" y="736920"/>
                    <a:chExt cx="2305080" cy="1976040"/>
                  </a:xfrm>
                </p:grpSpPr>
                <p:sp>
                  <p:nvSpPr>
                    <p:cNvPr id="432" name="Arc 11"/>
                    <p:cNvSpPr/>
                    <p:nvPr/>
                  </p:nvSpPr>
                  <p:spPr>
                    <a:xfrm flipV="1" rot="9047400">
                      <a:off x="3511440" y="988560"/>
                      <a:ext cx="1352880" cy="1228680"/>
                    </a:xfrm>
                    <a:custGeom>
                      <a:avLst/>
                      <a:gdLst>
                        <a:gd name="textAreaLeft" fmla="*/ 0 w 1352880"/>
                        <a:gd name="textAreaRight" fmla="*/ 1353240 w 1352880"/>
                        <a:gd name="textAreaTop" fmla="*/ -360 h 1228680"/>
                        <a:gd name="textAreaBottom" fmla="*/ 1228680 h 12286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3" name="Arc 12"/>
                    <p:cNvSpPr/>
                    <p:nvPr/>
                  </p:nvSpPr>
                  <p:spPr>
                    <a:xfrm flipV="1" rot="17346600">
                      <a:off x="3920760" y="1102680"/>
                      <a:ext cx="1637640" cy="1260360"/>
                    </a:xfrm>
                    <a:custGeom>
                      <a:avLst/>
                      <a:gdLst>
                        <a:gd name="textAreaLeft" fmla="*/ 0 w 1637640"/>
                        <a:gd name="textAreaRight" fmla="*/ 1638000 w 1637640"/>
                        <a:gd name="textAreaTop" fmla="*/ -360 h 1260360"/>
                        <a:gd name="textAreaBottom" fmla="*/ 1260360 h 126036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434" name="Rectangle 7"/>
                  <p:cNvSpPr/>
                  <p:nvPr/>
                </p:nvSpPr>
                <p:spPr>
                  <a:xfrm>
                    <a:off x="3758040" y="1739880"/>
                    <a:ext cx="706680" cy="1866960"/>
                  </a:xfrm>
                  <a:prstGeom prst="rect">
                    <a:avLst/>
                  </a:prstGeom>
                  <a:solidFill>
                    <a:srgbClr val="ffe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5" name="Rectangle 8"/>
                  <p:cNvSpPr/>
                  <p:nvPr/>
                </p:nvSpPr>
                <p:spPr>
                  <a:xfrm>
                    <a:off x="4464720" y="1739880"/>
                    <a:ext cx="706320" cy="1866960"/>
                  </a:xfrm>
                  <a:prstGeom prst="rect">
                    <a:avLst/>
                  </a:prstGeom>
                  <a:solidFill>
                    <a:srgbClr val="ffef66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436" name="Oval 35"/>
              <p:cNvSpPr/>
              <p:nvPr/>
            </p:nvSpPr>
            <p:spPr>
              <a:xfrm>
                <a:off x="4147560" y="824040"/>
                <a:ext cx="656280" cy="546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Line 36"/>
              <p:cNvSpPr/>
              <p:nvPr/>
            </p:nvSpPr>
            <p:spPr>
              <a:xfrm flipV="1">
                <a:off x="3763800" y="896400"/>
                <a:ext cx="9586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Line 37"/>
              <p:cNvSpPr/>
              <p:nvPr/>
            </p:nvSpPr>
            <p:spPr>
              <a:xfrm flipH="1" flipV="1">
                <a:off x="4217400" y="914040"/>
                <a:ext cx="95868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9" name="Object 39"/>
                <p:cNvSpPr txBox="1"/>
                <p:nvPr/>
              </p:nvSpPr>
              <p:spPr>
                <a:xfrm>
                  <a:off x="4520520" y="1962720"/>
                  <a:ext cx="606240" cy="50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Object 40"/>
                <p:cNvSpPr txBox="1"/>
                <p:nvPr/>
              </p:nvSpPr>
              <p:spPr>
                <a:xfrm>
                  <a:off x="3813840" y="1962720"/>
                  <a:ext cx="60624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AutoShape 41"/>
            <p:cNvSpPr/>
            <p:nvPr/>
          </p:nvSpPr>
          <p:spPr>
            <a:xfrm rot="16045200">
              <a:off x="3980160" y="1518120"/>
              <a:ext cx="272880" cy="706320"/>
            </a:xfrm>
            <a:custGeom>
              <a:avLst/>
              <a:gdLst>
                <a:gd name="textAreaLeft" fmla="*/ 174240 w 272880"/>
                <a:gd name="textAreaRight" fmla="*/ 272880 w 272880"/>
                <a:gd name="textAreaTop" fmla="*/ 18360 h 706320"/>
                <a:gd name="textAreaBottom" fmla="*/ 68796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AutoShape 42"/>
            <p:cNvSpPr/>
            <p:nvPr/>
          </p:nvSpPr>
          <p:spPr>
            <a:xfrm rot="16200000">
              <a:off x="4686840" y="1518120"/>
              <a:ext cx="272880" cy="706320"/>
            </a:xfrm>
            <a:custGeom>
              <a:avLst/>
              <a:gdLst>
                <a:gd name="textAreaLeft" fmla="*/ 174240 w 272880"/>
                <a:gd name="textAreaRight" fmla="*/ 272880 w 272880"/>
                <a:gd name="textAreaTop" fmla="*/ 18360 h 706320"/>
                <a:gd name="textAreaBottom" fmla="*/ 68796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43" name="Picture 31" descr=""/>
          <p:cNvPicPr/>
          <p:nvPr/>
        </p:nvPicPr>
        <p:blipFill>
          <a:blip r:embed="rId1"/>
          <a:stretch/>
        </p:blipFill>
        <p:spPr>
          <a:xfrm>
            <a:off x="6012000" y="633240"/>
            <a:ext cx="2089080" cy="32720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32"/>
          <p:cNvSpPr/>
          <p:nvPr/>
        </p:nvSpPr>
        <p:spPr>
          <a:xfrm>
            <a:off x="2627280" y="765000"/>
            <a:ext cx="360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341280" y="1263600"/>
            <a:ext cx="264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будівлях готичного і ромaнского стилю верхні частини вікон розчленовуються кам'яними ребрами, які не тільки відіграють роль орнаменту, але і сприяють міцності вікон. На малюнку представлений простий приклад такого вікна в готичному  та романському стил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6" name="Picture 4" descr="http://penza.fio.ru/personal/57/3/8/images/rom.jpg"/>
          <p:cNvPicPr/>
          <p:nvPr/>
        </p:nvPicPr>
        <p:blipFill>
          <a:blip r:embed="rId2"/>
          <a:stretch/>
        </p:blipFill>
        <p:spPr>
          <a:xfrm>
            <a:off x="6083280" y="4081320"/>
            <a:ext cx="2233800" cy="267192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5"/>
          <p:cNvGrpSpPr/>
          <p:nvPr/>
        </p:nvGrpSpPr>
        <p:grpSpPr>
          <a:xfrm>
            <a:off x="3097080" y="4635360"/>
            <a:ext cx="2627280" cy="1825560"/>
            <a:chOff x="3097080" y="4635360"/>
            <a:chExt cx="2627280" cy="1825560"/>
          </a:xfrm>
        </p:grpSpPr>
        <p:grpSp>
          <p:nvGrpSpPr>
            <p:cNvPr id="448" name="Group 6"/>
            <p:cNvGrpSpPr/>
            <p:nvPr/>
          </p:nvGrpSpPr>
          <p:grpSpPr>
            <a:xfrm>
              <a:off x="3097080" y="4654440"/>
              <a:ext cx="2627280" cy="1806480"/>
              <a:chOff x="3097080" y="4654440"/>
              <a:chExt cx="2627280" cy="1806480"/>
            </a:xfrm>
          </p:grpSpPr>
          <p:sp>
            <p:nvSpPr>
              <p:cNvPr id="449" name="Oval 7"/>
              <p:cNvSpPr/>
              <p:nvPr/>
            </p:nvSpPr>
            <p:spPr>
              <a:xfrm>
                <a:off x="3447000" y="4654440"/>
                <a:ext cx="1986480" cy="1735560"/>
              </a:xfrm>
              <a:prstGeom prst="ellipse">
                <a:avLst/>
              </a:prstGeom>
              <a:solidFill>
                <a:srgbClr val="ffe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" name="Oval 8"/>
              <p:cNvSpPr/>
              <p:nvPr/>
            </p:nvSpPr>
            <p:spPr>
              <a:xfrm>
                <a:off x="3447000" y="5082840"/>
                <a:ext cx="993960" cy="867240"/>
              </a:xfrm>
              <a:prstGeom prst="ellipse">
                <a:avLst/>
              </a:prstGeom>
              <a:solidFill>
                <a:srgbClr val="ffe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" name="Oval 9"/>
              <p:cNvSpPr/>
              <p:nvPr/>
            </p:nvSpPr>
            <p:spPr>
              <a:xfrm>
                <a:off x="4440960" y="5082840"/>
                <a:ext cx="993600" cy="867240"/>
              </a:xfrm>
              <a:prstGeom prst="ellipse">
                <a:avLst/>
              </a:prstGeom>
              <a:solidFill>
                <a:srgbClr val="ffe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Rectangle 10"/>
              <p:cNvSpPr/>
              <p:nvPr/>
            </p:nvSpPr>
            <p:spPr>
              <a:xfrm>
                <a:off x="3097080" y="5491080"/>
                <a:ext cx="2627280" cy="969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Oval 11"/>
              <p:cNvSpPr/>
              <p:nvPr/>
            </p:nvSpPr>
            <p:spPr>
              <a:xfrm>
                <a:off x="4089600" y="4654440"/>
                <a:ext cx="702720" cy="560880"/>
              </a:xfrm>
              <a:prstGeom prst="ellipse">
                <a:avLst/>
              </a:prstGeom>
              <a:solidFill>
                <a:srgbClr val="ffe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4" name="Line 12"/>
            <p:cNvSpPr/>
            <p:nvPr/>
          </p:nvSpPr>
          <p:spPr>
            <a:xfrm flipV="1">
              <a:off x="4448160" y="4635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448160" y="4912560"/>
              <a:ext cx="517680" cy="578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3447000" y="5491440"/>
              <a:ext cx="1985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AutoShape 15"/>
            <p:cNvSpPr/>
            <p:nvPr/>
          </p:nvSpPr>
          <p:spPr>
            <a:xfrm rot="16200000">
              <a:off x="4101120" y="5304600"/>
              <a:ext cx="152640" cy="5259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3320 h 525960"/>
                <a:gd name="textAreaBottom" fmla="*/ 512640 h 52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86"/>
                    <a:pt x="10800" y="1772"/>
                  </a:cubicBezTo>
                  <a:lnTo>
                    <a:pt x="10800" y="9028"/>
                  </a:lnTo>
                  <a:cubicBezTo>
                    <a:pt x="10800" y="9914"/>
                    <a:pt x="5400" y="10800"/>
                    <a:pt x="0" y="10800"/>
                  </a:cubicBezTo>
                  <a:cubicBezTo>
                    <a:pt x="5400" y="10800"/>
                    <a:pt x="10800" y="11686"/>
                    <a:pt x="10800" y="12572"/>
                  </a:cubicBezTo>
                  <a:lnTo>
                    <a:pt x="10800" y="19828"/>
                  </a:lnTo>
                  <a:cubicBezTo>
                    <a:pt x="10800" y="2071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AutoShape 16"/>
            <p:cNvSpPr/>
            <p:nvPr/>
          </p:nvSpPr>
          <p:spPr>
            <a:xfrm rot="16200000">
              <a:off x="4855680" y="5076360"/>
              <a:ext cx="152640" cy="982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200 h 982800"/>
                <a:gd name="textAreaBottom" fmla="*/ 95760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86"/>
                    <a:pt x="10800" y="1772"/>
                  </a:cubicBezTo>
                  <a:lnTo>
                    <a:pt x="10800" y="9028"/>
                  </a:lnTo>
                  <a:cubicBezTo>
                    <a:pt x="10800" y="9914"/>
                    <a:pt x="5400" y="10800"/>
                    <a:pt x="0" y="10800"/>
                  </a:cubicBezTo>
                  <a:cubicBezTo>
                    <a:pt x="5400" y="10800"/>
                    <a:pt x="10800" y="11686"/>
                    <a:pt x="10800" y="12572"/>
                  </a:cubicBezTo>
                  <a:lnTo>
                    <a:pt x="10800" y="19828"/>
                  </a:lnTo>
                  <a:cubicBezTo>
                    <a:pt x="10800" y="2071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AutoShape 17"/>
            <p:cNvSpPr/>
            <p:nvPr/>
          </p:nvSpPr>
          <p:spPr>
            <a:xfrm rot="10656600">
              <a:off x="4440240" y="4653720"/>
              <a:ext cx="80280" cy="255240"/>
            </a:xfrm>
            <a:custGeom>
              <a:avLst/>
              <a:gdLst>
                <a:gd name="textAreaLeft" fmla="*/ 51480 w 80280"/>
                <a:gd name="textAreaRight" fmla="*/ 80640 w 80280"/>
                <a:gd name="textAreaTop" fmla="*/ 6480 h 255240"/>
                <a:gd name="textAreaBottom" fmla="*/ 24876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86"/>
                    <a:pt x="10800" y="1772"/>
                  </a:cubicBezTo>
                  <a:lnTo>
                    <a:pt x="10800" y="9014"/>
                  </a:lnTo>
                  <a:cubicBezTo>
                    <a:pt x="10800" y="9900"/>
                    <a:pt x="5400" y="10786"/>
                    <a:pt x="0" y="10786"/>
                  </a:cubicBezTo>
                  <a:cubicBezTo>
                    <a:pt x="5400" y="10786"/>
                    <a:pt x="10800" y="11672"/>
                    <a:pt x="10800" y="12558"/>
                  </a:cubicBezTo>
                  <a:lnTo>
                    <a:pt x="10800" y="19828"/>
                  </a:lnTo>
                  <a:cubicBezTo>
                    <a:pt x="10800" y="2071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Object 18"/>
                <p:cNvSpPr txBox="1"/>
                <p:nvPr/>
              </p:nvSpPr>
              <p:spPr>
                <a:xfrm>
                  <a:off x="4710600" y="5590080"/>
                  <a:ext cx="52596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Object 19"/>
                <p:cNvSpPr txBox="1"/>
                <p:nvPr/>
              </p:nvSpPr>
              <p:spPr>
                <a:xfrm>
                  <a:off x="3922920" y="5590080"/>
                  <a:ext cx="4870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Text Box 20"/>
            <p:cNvSpPr/>
            <p:nvPr/>
          </p:nvSpPr>
          <p:spPr>
            <a:xfrm>
              <a:off x="4402440" y="468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Text Box 21"/>
            <p:cNvSpPr/>
            <p:nvPr/>
          </p:nvSpPr>
          <p:spPr>
            <a:xfrm>
              <a:off x="5001120" y="6243480"/>
              <a:ext cx="95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522360" y="1197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495c"/>
                </a:solidFill>
                <a:latin typeface="Times New Roman"/>
              </a:rPr>
              <a:t>При будівництві будинків і котеджів часто постає питання про довжину крокв (стропил) для даху, якщо вже виготовлені бал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Прямоугольник 5"/>
          <p:cNvSpPr/>
          <p:nvPr/>
        </p:nvSpPr>
        <p:spPr>
          <a:xfrm>
            <a:off x="2500200" y="4071960"/>
            <a:ext cx="31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Заголовок 1"/>
          <p:cNvSpPr/>
          <p:nvPr/>
        </p:nvSpPr>
        <p:spPr>
          <a:xfrm>
            <a:off x="1332000" y="404640"/>
            <a:ext cx="63849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ш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7" name="Group 17"/>
          <p:cNvGrpSpPr/>
          <p:nvPr/>
        </p:nvGrpSpPr>
        <p:grpSpPr>
          <a:xfrm>
            <a:off x="60120" y="2205000"/>
            <a:ext cx="4241520" cy="1699200"/>
            <a:chOff x="60120" y="2205000"/>
            <a:chExt cx="4241520" cy="1699200"/>
          </a:xfrm>
        </p:grpSpPr>
        <p:grpSp>
          <p:nvGrpSpPr>
            <p:cNvPr id="468" name="Group 11"/>
            <p:cNvGrpSpPr/>
            <p:nvPr/>
          </p:nvGrpSpPr>
          <p:grpSpPr>
            <a:xfrm>
              <a:off x="428760" y="2463120"/>
              <a:ext cx="3648960" cy="928800"/>
              <a:chOff x="428760" y="2463120"/>
              <a:chExt cx="3648960" cy="928800"/>
            </a:xfrm>
          </p:grpSpPr>
          <p:sp>
            <p:nvSpPr>
              <p:cNvPr id="469" name="AutoShape 9"/>
              <p:cNvSpPr/>
              <p:nvPr/>
            </p:nvSpPr>
            <p:spPr>
              <a:xfrm>
                <a:off x="2531160" y="2823840"/>
                <a:ext cx="1546560" cy="567720"/>
              </a:xfrm>
              <a:prstGeom prst="rtTriangle">
                <a:avLst/>
              </a:prstGeom>
              <a:solidFill>
                <a:srgbClr val="ffe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AutoShape 10"/>
              <p:cNvSpPr/>
              <p:nvPr/>
            </p:nvSpPr>
            <p:spPr>
              <a:xfrm rot="16200000">
                <a:off x="1016280" y="1875240"/>
                <a:ext cx="928800" cy="2104200"/>
              </a:xfrm>
              <a:prstGeom prst="rtTriangle">
                <a:avLst/>
              </a:prstGeom>
              <a:solidFill>
                <a:srgbClr val="ffe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1" name="Text Box 12"/>
            <p:cNvSpPr/>
            <p:nvPr/>
          </p:nvSpPr>
          <p:spPr>
            <a:xfrm>
              <a:off x="60120" y="319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2346480" y="3444480"/>
              <a:ext cx="3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2488680" y="2566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Text Box 15"/>
            <p:cNvSpPr/>
            <p:nvPr/>
          </p:nvSpPr>
          <p:spPr>
            <a:xfrm>
              <a:off x="2120760" y="220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3954240" y="3341160"/>
              <a:ext cx="3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4643280" y="2214720"/>
            <a:ext cx="3865680" cy="26017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"/>
          <p:cNvPicPr/>
          <p:nvPr/>
        </p:nvPicPr>
        <p:blipFill>
          <a:blip r:embed="rId2"/>
          <a:stretch/>
        </p:blipFill>
        <p:spPr>
          <a:xfrm>
            <a:off x="441360" y="3933720"/>
            <a:ext cx="3708360" cy="236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5"/>
          <p:cNvSpPr/>
          <p:nvPr/>
        </p:nvSpPr>
        <p:spPr>
          <a:xfrm>
            <a:off x="755640" y="1052640"/>
            <a:ext cx="83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</a:rPr>
              <a:t>Блискавковідвід захищає від блискавки всі предмети, відстань яких від його заснування не перевищує його подвоєною висоти.Необхідно визначити оптимальне положення блискавковідводу на двосхилих дахах, що забезпечує найменшу його доступну висо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Заголовок 1"/>
          <p:cNvSpPr/>
          <p:nvPr/>
        </p:nvSpPr>
        <p:spPr>
          <a:xfrm>
            <a:off x="611280" y="189000"/>
            <a:ext cx="4176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07520" y="3013200"/>
            <a:ext cx="36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озв’язок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а теоремою Піфаг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1" name="Group 27"/>
          <p:cNvGrpSpPr/>
          <p:nvPr/>
        </p:nvGrpSpPr>
        <p:grpSpPr>
          <a:xfrm>
            <a:off x="196200" y="3645000"/>
            <a:ext cx="3051720" cy="2014200"/>
            <a:chOff x="196200" y="3645000"/>
            <a:chExt cx="3051720" cy="2014200"/>
          </a:xfrm>
        </p:grpSpPr>
        <p:sp>
          <p:nvSpPr>
            <p:cNvPr id="482" name="Rectangle 14"/>
            <p:cNvSpPr/>
            <p:nvPr/>
          </p:nvSpPr>
          <p:spPr>
            <a:xfrm>
              <a:off x="493560" y="4086720"/>
              <a:ext cx="2704680" cy="1572480"/>
            </a:xfrm>
            <a:prstGeom prst="rect">
              <a:avLst/>
            </a:prstGeom>
            <a:solidFill>
              <a:srgbClr val="ffe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Line 15"/>
            <p:cNvSpPr/>
            <p:nvPr/>
          </p:nvSpPr>
          <p:spPr>
            <a:xfrm>
              <a:off x="493560" y="4086720"/>
              <a:ext cx="2754360" cy="157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16"/>
            <p:cNvSpPr/>
            <p:nvPr/>
          </p:nvSpPr>
          <p:spPr>
            <a:xfrm>
              <a:off x="493560" y="4872240"/>
              <a:ext cx="270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Line 17"/>
            <p:cNvSpPr/>
            <p:nvPr/>
          </p:nvSpPr>
          <p:spPr>
            <a:xfrm>
              <a:off x="1845360" y="4086720"/>
              <a:ext cx="0" cy="157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Text Box 18"/>
            <p:cNvSpPr/>
            <p:nvPr/>
          </p:nvSpPr>
          <p:spPr>
            <a:xfrm>
              <a:off x="1148400" y="36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Text Box 19"/>
            <p:cNvSpPr/>
            <p:nvPr/>
          </p:nvSpPr>
          <p:spPr>
            <a:xfrm>
              <a:off x="196200" y="469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1161360" y="4151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9" name="Заголовок 1"/>
          <p:cNvSpPr/>
          <p:nvPr/>
        </p:nvSpPr>
        <p:spPr>
          <a:xfrm>
            <a:off x="584280" y="438120"/>
            <a:ext cx="532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искавковідві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5405400" y="3013200"/>
            <a:ext cx="3738600" cy="307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1" name="Object 28"/>
              <p:cNvSpPr txBox="1"/>
              <p:nvPr/>
            </p:nvSpPr>
            <p:spPr>
              <a:xfrm>
                <a:off x="3195720" y="5340240"/>
                <a:ext cx="25509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≥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1"/>
          <p:cNvSpPr/>
          <p:nvPr/>
        </p:nvSpPr>
        <p:spPr>
          <a:xfrm>
            <a:off x="684360" y="1700280"/>
            <a:ext cx="6191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40"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e56"/>
                </a:solidFill>
                <a:latin typeface="Arial"/>
              </a:rPr>
              <a:t>В кінці дев'ятнадцятого століттявисловлювалися різноманітніприпущення про існуваннямешканців Марса подібних людині, це стало наслідком відкриттів  італійського астронома Скіапарелл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Заголовок 1"/>
          <p:cNvSpPr/>
          <p:nvPr/>
        </p:nvSpPr>
        <p:spPr>
          <a:xfrm>
            <a:off x="3708360" y="476280"/>
            <a:ext cx="4176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трономі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92360" cy="136836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179280" y="3645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(Скіпареллі відкрив на Марсі канали, які довгий час вважалися штучними) . Природно, що питання про те, чи можна за допомогою світлових сигналів спілкуватися з цими гіпотетичними істотам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викликав жваву дискусі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Picture 8" descr=""/>
          <p:cNvPicPr/>
          <p:nvPr/>
        </p:nvPicPr>
        <p:blipFill>
          <a:blip r:embed="rId2"/>
          <a:srcRect l="51316" t="0" r="0" b="0"/>
          <a:stretch/>
        </p:blipFill>
        <p:spPr>
          <a:xfrm>
            <a:off x="6977160" y="1341360"/>
            <a:ext cx="181584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1"/>
          <p:cNvSpPr/>
          <p:nvPr/>
        </p:nvSpPr>
        <p:spPr>
          <a:xfrm>
            <a:off x="684360" y="4724280"/>
            <a:ext cx="7561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40"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e56"/>
                </a:solidFill>
                <a:latin typeface="Arial"/>
              </a:rPr>
              <a:t>Ця премія все ще чекає щасливця.  Жартома, хоча і не зовсім безпідставно, було вирішено передати мешканцям Марса сигнал у вигляді теореми Піфаго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611280" y="404640"/>
            <a:ext cx="41767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трономі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1"/>
          <a:srcRect l="4805" t="0" r="11632" b="0"/>
          <a:stretch/>
        </p:blipFill>
        <p:spPr>
          <a:xfrm>
            <a:off x="4500720" y="1197000"/>
            <a:ext cx="4392360" cy="30639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755640" y="1557360"/>
            <a:ext cx="338472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Паризької академією наук була навіть встановлена ​​премія в 100000 франків тому, хто перший встановить зв'язок з якимось мешканцем іншого небесного тіла</a:t>
            </a:r>
            <a:r>
              <a:rPr b="1" lang="en-US" sz="2400" spc="-1" strike="noStrike">
                <a:solidFill>
                  <a:srgbClr val="003e5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Мета уро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539640" y="428400"/>
            <a:ext cx="698508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кріпити  вміння  приміняти теорему Піфагор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озгляд рішення різних  стародавніх задач на застосування теореми Піфагор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озширення пізнання учнів про життя великого математика Піфагора, про знамениту теорему Піфагор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чити використовувати отримані знання на практиці і в повсякденному житті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озвивати  логічне мислення, пізнавальної активності учні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иховання стійкого інтересу до вивчення предмета геометрії, розуміння ролі геометрії у вирішенні практичних завдань, що виникають в оточуючому нас світі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4572000" y="4292640"/>
            <a:ext cx="1919160" cy="20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1"/>
          <p:cNvSpPr/>
          <p:nvPr/>
        </p:nvSpPr>
        <p:spPr>
          <a:xfrm>
            <a:off x="2195640" y="1057320"/>
            <a:ext cx="57610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40"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e56"/>
                </a:solidFill>
                <a:latin typeface="Arial"/>
              </a:rPr>
              <a:t>Невідомо, як це зробити,  але для всіх очевидно, що математичний факт, що виражався теоремою Піфагора має місце всюди і тому схожі на нас мешканці іншого світу повинні зрозуміти такий сигна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3041640" y="404640"/>
            <a:ext cx="41767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трономі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Текст 2"/>
          <p:cNvSpPr/>
          <p:nvPr/>
        </p:nvSpPr>
        <p:spPr>
          <a:xfrm>
            <a:off x="309600" y="3452760"/>
            <a:ext cx="604836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7640"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На малюнку показані точки </a:t>
            </a:r>
            <a:r>
              <a:rPr b="1" lang="en-US" sz="2400" spc="-1" strike="noStrike">
                <a:solidFill>
                  <a:srgbClr val="003e56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і </a:t>
            </a:r>
            <a:r>
              <a:rPr b="1" lang="en-US" sz="2400" spc="-1" strike="noStrike">
                <a:solidFill>
                  <a:srgbClr val="003e56"/>
                </a:solidFill>
                <a:latin typeface="Arial"/>
              </a:rPr>
              <a:t>B </a:t>
            </a: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і шлях світлового променя від </a:t>
            </a:r>
            <a:r>
              <a:rPr b="1" lang="en-US" sz="2400" spc="-1" strike="noStrike">
                <a:solidFill>
                  <a:srgbClr val="003e56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до </a:t>
            </a:r>
            <a:r>
              <a:rPr b="1" lang="en-US" sz="2400" spc="-1" strike="noStrike">
                <a:solidFill>
                  <a:srgbClr val="003e56"/>
                </a:solidFill>
                <a:latin typeface="Arial"/>
              </a:rPr>
              <a:t>B </a:t>
            </a: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і назад. Шлях світлового променя показаний стрілками  (світловий промінь - прям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640"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Який шлях він промінь?Оскільки світло йде туди і назад однаковий шлях, запитаємо:чому дорівнює відстань між точкам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640"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4" name="Group 16"/>
          <p:cNvGrpSpPr/>
          <p:nvPr/>
        </p:nvGrpSpPr>
        <p:grpSpPr>
          <a:xfrm>
            <a:off x="6519600" y="3499560"/>
            <a:ext cx="2111760" cy="3164400"/>
            <a:chOff x="6519600" y="3499560"/>
            <a:chExt cx="2111760" cy="3164400"/>
          </a:xfrm>
        </p:grpSpPr>
        <p:cxnSp>
          <p:nvCxnSpPr>
            <p:cNvPr id="505" name="Прямая со стрелкой 10"/>
            <p:cNvCxnSpPr/>
            <p:nvPr/>
          </p:nvCxnSpPr>
          <p:spPr>
            <a:xfrm flipV="1">
              <a:off x="7236000" y="3499560"/>
              <a:ext cx="2160" cy="280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06" name="Прямая со стрелкой 11"/>
            <p:cNvCxnSpPr/>
            <p:nvPr/>
          </p:nvCxnSpPr>
          <p:spPr>
            <a:xfrm flipV="1">
              <a:off x="6875280" y="6021000"/>
              <a:ext cx="175644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7" name="Блок-схема: узел 13"/>
            <p:cNvSpPr/>
            <p:nvPr/>
          </p:nvSpPr>
          <p:spPr>
            <a:xfrm>
              <a:off x="7093080" y="5877000"/>
              <a:ext cx="287280" cy="28872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bcb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Блок-схема: узел 14"/>
            <p:cNvSpPr/>
            <p:nvPr/>
          </p:nvSpPr>
          <p:spPr>
            <a:xfrm>
              <a:off x="7077240" y="4005360"/>
              <a:ext cx="287280" cy="28728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bcb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TextBox 15"/>
            <p:cNvSpPr/>
            <p:nvPr/>
          </p:nvSpPr>
          <p:spPr>
            <a:xfrm>
              <a:off x="6519600" y="6021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Прямоугольник 16"/>
            <p:cNvSpPr/>
            <p:nvPr/>
          </p:nvSpPr>
          <p:spPr>
            <a:xfrm>
              <a:off x="6590880" y="38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14"/>
            <p:cNvSpPr/>
            <p:nvPr/>
          </p:nvSpPr>
          <p:spPr>
            <a:xfrm flipV="1">
              <a:off x="7164360" y="4076640"/>
              <a:ext cx="0" cy="1944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15"/>
            <p:cNvSpPr/>
            <p:nvPr/>
          </p:nvSpPr>
          <p:spPr>
            <a:xfrm>
              <a:off x="7308720" y="4149720"/>
              <a:ext cx="0" cy="187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13" name="Picture 28" descr=""/>
          <p:cNvPicPr/>
          <p:nvPr/>
        </p:nvPicPr>
        <p:blipFill>
          <a:blip r:embed="rId1"/>
          <a:srcRect l="0" t="0" r="35286" b="0"/>
          <a:stretch/>
        </p:blipFill>
        <p:spPr>
          <a:xfrm>
            <a:off x="-6480" y="155520"/>
            <a:ext cx="18972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Заголовок 1"/>
          <p:cNvSpPr/>
          <p:nvPr/>
        </p:nvSpPr>
        <p:spPr>
          <a:xfrm>
            <a:off x="1547640" y="549360"/>
            <a:ext cx="7417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більний зв'яз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395280" y="11635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e56"/>
                </a:solidFill>
                <a:latin typeface="Arial"/>
              </a:rPr>
              <a:t>Яку найбільшу висоту повинна мати антена мобільного оператора, щоб передачу можна було приймати в радіусі R = 200 км? (Радіус Землі дорівнює 6380 к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692360" y="274320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ішення: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хай АВ = х,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C = R = 200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м,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C = R = 6380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м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В = ОА + АВ = ОВ 6380 + х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икористовуючи теорему Піфагора,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тримаємо 2,3 к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ідповідь: 2,3 к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10"/>
          <p:cNvSpPr/>
          <p:nvPr/>
        </p:nvSpPr>
        <p:spPr>
          <a:xfrm>
            <a:off x="5940360" y="3859200"/>
            <a:ext cx="2590920" cy="2521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7236000" y="4435200"/>
            <a:ext cx="107928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12"/>
          <p:cNvSpPr/>
          <p:nvPr/>
        </p:nvSpPr>
        <p:spPr>
          <a:xfrm flipH="1" flipV="1">
            <a:off x="7451280" y="3284280"/>
            <a:ext cx="86364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7236000" y="3284640"/>
            <a:ext cx="21564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6805800" y="4724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6877800" y="3427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8246160" y="4003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752544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7598520" y="472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63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7814160" y="342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7093080" y="3211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6805800" y="4724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6445800" y="400536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63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Rectangle 27"/>
          <p:cNvSpPr/>
          <p:nvPr/>
        </p:nvSpPr>
        <p:spPr>
          <a:xfrm rot="3535200">
            <a:off x="7992360" y="4285080"/>
            <a:ext cx="21600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1449360"/>
            <a:ext cx="89884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Monotype Corsiva"/>
              </a:rPr>
              <a:t>   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Домашнє завдання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Піфагорова головоломка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8000" y="1989000"/>
            <a:ext cx="4395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Із семи частин квадрата скласти знову квадрат, прямокутник, трикутник, трапецію. Квадрат розрізається та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E, F, K, L - середини сторін квадрат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О - центр квадрат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ОМ  EF, NF  EF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3" name="Picture 8" descr="Рисунок22_resiz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0" y="1844640"/>
            <a:ext cx="3749760" cy="3713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5" descr="BOY"/>
          <p:cNvPicPr/>
          <p:nvPr/>
        </p:nvPicPr>
        <p:blipFill>
          <a:blip r:embed="rId2"/>
          <a:stretch/>
        </p:blipFill>
        <p:spPr>
          <a:xfrm>
            <a:off x="0" y="-243000"/>
            <a:ext cx="1817640" cy="216072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1"/>
          <p:cNvSpPr/>
          <p:nvPr/>
        </p:nvSpPr>
        <p:spPr>
          <a:xfrm>
            <a:off x="2790720" y="44370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Прямоугольник 6"/>
          <p:cNvSpPr/>
          <p:nvPr/>
        </p:nvSpPr>
        <p:spPr>
          <a:xfrm>
            <a:off x="1471320" y="44370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7" descr=""/>
          <p:cNvPicPr/>
          <p:nvPr/>
        </p:nvPicPr>
        <p:blipFill>
          <a:blip r:embed="rId1"/>
          <a:stretch/>
        </p:blipFill>
        <p:spPr>
          <a:xfrm>
            <a:off x="706320" y="811080"/>
            <a:ext cx="6151680" cy="944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3817800" cy="2820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1" descr=""/>
          <p:cNvPicPr/>
          <p:nvPr/>
        </p:nvPicPr>
        <p:blipFill>
          <a:blip r:embed="rId3"/>
          <a:stretch/>
        </p:blipFill>
        <p:spPr>
          <a:xfrm>
            <a:off x="4643280" y="2571840"/>
            <a:ext cx="3294360" cy="2573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1"/>
          <p:cNvSpPr/>
          <p:nvPr/>
        </p:nvSpPr>
        <p:spPr>
          <a:xfrm>
            <a:off x="1892520" y="189000"/>
            <a:ext cx="40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Підсумок  уро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Прямоугольник 2"/>
          <p:cNvSpPr/>
          <p:nvPr/>
        </p:nvSpPr>
        <p:spPr>
          <a:xfrm>
            <a:off x="539640" y="1773360"/>
            <a:ext cx="6336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орема Піфагора здавна широко застосовувалася в різних галузях науки, техніки і в практичному  житті. Про неї писали у своїх творах римський архітектор та інженер Вітрувій, грецький письменник-мораліст Плутарх, математик v століття Прокл та інш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1160" y="555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І ЗАКІНЧИТИ УРОК Я Б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ХОТІЛА СЛОВАМИ ПІФАГО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92144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mic Sans MS"/>
              </a:rPr>
              <a:t>«Как хорошо, когда благоденствие человека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mic Sans MS"/>
              </a:rPr>
              <a:t>основано на законах разума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4000" spc="-1" strike="noStrike">
                <a:solidFill>
                  <a:srgbClr val="002060"/>
                </a:solidFill>
                <a:latin typeface="Comic Sans MS"/>
              </a:rPr>
              <a:t>Будьте розсудливим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Прямоугольник 9"/>
          <p:cNvSpPr/>
          <p:nvPr/>
        </p:nvSpPr>
        <p:spPr>
          <a:xfrm>
            <a:off x="893880" y="1916280"/>
            <a:ext cx="6918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5" name="Picture 4" descr="J0236227"/>
          <p:cNvPicPr/>
          <p:nvPr/>
        </p:nvPicPr>
        <p:blipFill>
          <a:blip r:embed="rId1"/>
          <a:stretch/>
        </p:blipFill>
        <p:spPr>
          <a:xfrm>
            <a:off x="250920" y="0"/>
            <a:ext cx="1285920" cy="175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6D1-F9CF-4316-AB17-26AB82A8AB6C}" type="datetime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Номер слайда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B73-7465-445B-86DC-6ABA75CD0EA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4" descr="74"/>
          <p:cNvPicPr/>
          <p:nvPr/>
        </p:nvPicPr>
        <p:blipFill>
          <a:blip r:embed="rId1"/>
          <a:stretch/>
        </p:blipFill>
        <p:spPr>
          <a:xfrm>
            <a:off x="2236680" y="1628640"/>
            <a:ext cx="4670640" cy="4330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6"/>
          <p:cNvSpPr/>
          <p:nvPr/>
        </p:nvSpPr>
        <p:spPr>
          <a:xfrm>
            <a:off x="5076720" y="1557360"/>
            <a:ext cx="2521080" cy="1368360"/>
          </a:xfrm>
          <a:prstGeom prst="wedgeEllipse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Box 7"/>
          <p:cNvSpPr/>
          <p:nvPr/>
        </p:nvSpPr>
        <p:spPr>
          <a:xfrm>
            <a:off x="5508720" y="198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  <a:ea typeface="Arial"/>
              </a:rPr>
              <a:t>До побачення!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Прямоугольник 8" descr=""/>
          <p:cNvPicPr/>
          <p:nvPr/>
        </p:nvPicPr>
        <p:blipFill>
          <a:blip r:embed="rId2"/>
          <a:stretch/>
        </p:blipFill>
        <p:spPr>
          <a:xfrm>
            <a:off x="469800" y="2730600"/>
            <a:ext cx="8180640" cy="189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Дайте означення теореми Пі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Группа 3"/>
          <p:cNvGrpSpPr/>
          <p:nvPr/>
        </p:nvGrpSpPr>
        <p:grpSpPr>
          <a:xfrm>
            <a:off x="1619280" y="2565360"/>
            <a:ext cx="3384360" cy="3311640"/>
            <a:chOff x="1619280" y="2565360"/>
            <a:chExt cx="3384360" cy="3311640"/>
          </a:xfrm>
        </p:grpSpPr>
        <p:sp>
          <p:nvSpPr>
            <p:cNvPr id="304" name="AutoShape 5"/>
            <p:cNvSpPr/>
            <p:nvPr/>
          </p:nvSpPr>
          <p:spPr>
            <a:xfrm>
              <a:off x="1946520" y="2565360"/>
              <a:ext cx="3057120" cy="2800440"/>
            </a:xfrm>
            <a:prstGeom prst="rtTriangle">
              <a:avLst/>
            </a:prstGeom>
            <a:solidFill>
              <a:srgbClr val="ffef66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WordArt 6"/>
            <p:cNvSpPr txBox="1"/>
            <p:nvPr/>
          </p:nvSpPr>
          <p:spPr>
            <a:xfrm>
              <a:off x="1619280" y="3790800"/>
              <a:ext cx="187560" cy="31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06" name="WordArt 7"/>
            <p:cNvSpPr txBox="1"/>
            <p:nvPr/>
          </p:nvSpPr>
          <p:spPr>
            <a:xfrm>
              <a:off x="3475080" y="5541480"/>
              <a:ext cx="21636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07" name="WordArt 8"/>
            <p:cNvSpPr txBox="1"/>
            <p:nvPr/>
          </p:nvSpPr>
          <p:spPr>
            <a:xfrm>
              <a:off x="3694320" y="3528360"/>
              <a:ext cx="18756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Объект 8"/>
              <p:cNvSpPr txBox="1"/>
              <p:nvPr/>
            </p:nvSpPr>
            <p:spPr>
              <a:xfrm>
                <a:off x="4932360" y="2637000"/>
                <a:ext cx="2941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Стародавне формулювання теореми Піфаго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53290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пускають, що в часи Піфагора теорема звучала по-іншому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«Площа квадрата, побудованого на гіпотенузі прямокутного трикутника, дорівнює сумі площ квадратів, побудованих на його катетах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ійсно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лоща квадрата, побудованого на гіпотенузі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і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лощі квадратів, побудованих на катет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24360" y="1828800"/>
            <a:ext cx="2657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6" descr="Прямоугольный треугольник, теорема Пифагора"/>
          <p:cNvPicPr/>
          <p:nvPr/>
        </p:nvPicPr>
        <p:blipFill>
          <a:blip r:embed="rId1"/>
          <a:stretch/>
        </p:blipFill>
        <p:spPr>
          <a:xfrm>
            <a:off x="5867280" y="1844640"/>
            <a:ext cx="2494080" cy="352908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Сформолюйте теорему, обернену до теореми Пі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39640" y="1989000"/>
            <a:ext cx="7848720" cy="374508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кщо сума квадратів двох сторін трикут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рівнює квадрату третьої сторон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 такий трикутник прямокут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900000" y="47628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Знайдіть невідом</a:t>
            </a:r>
            <a:r>
              <a:rPr b="0" lang="uk-UA" sz="2400" spc="-1" strike="noStrike">
                <a:solidFill>
                  <a:srgbClr val="703dff"/>
                </a:solidFill>
                <a:latin typeface="Comic Sans MS"/>
              </a:rPr>
              <a:t>і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торони прямокутного трикутника, якщо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і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його катети, а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-гіпотену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42920" y="2205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00000" y="2133720"/>
          <a:ext cx="6720120" cy="3382920"/>
        </p:xfrm>
        <a:graphic>
          <a:graphicData uri="http://schemas.openxmlformats.org/drawingml/2006/table">
            <a:tbl>
              <a:tblPr/>
              <a:tblGrid>
                <a:gridCol w="1679760"/>
                <a:gridCol w="1681200"/>
                <a:gridCol w="1679400"/>
                <a:gridCol w="1679760"/>
              </a:tblGrid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39"/>
          <p:cNvSpPr/>
          <p:nvPr/>
        </p:nvSpPr>
        <p:spPr>
          <a:xfrm>
            <a:off x="3635280" y="299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41"/>
          <p:cNvSpPr/>
          <p:nvPr/>
        </p:nvSpPr>
        <p:spPr>
          <a:xfrm>
            <a:off x="615636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2"/>
          <p:cNvSpPr/>
          <p:nvPr/>
        </p:nvSpPr>
        <p:spPr>
          <a:xfrm>
            <a:off x="5005440" y="429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43"/>
          <p:cNvSpPr/>
          <p:nvPr/>
        </p:nvSpPr>
        <p:spPr>
          <a:xfrm>
            <a:off x="6443640" y="49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52280"/>
            <a:ext cx="62974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Розв'язати задач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BCD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– ромб,       АС = 12 см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D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= 16 с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най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" name="Группа 4"/>
          <p:cNvGrpSpPr/>
          <p:nvPr/>
        </p:nvGrpSpPr>
        <p:grpSpPr>
          <a:xfrm>
            <a:off x="684360" y="1773360"/>
            <a:ext cx="3419280" cy="4319640"/>
            <a:chOff x="684360" y="1773360"/>
            <a:chExt cx="3419280" cy="4319640"/>
          </a:xfrm>
        </p:grpSpPr>
        <p:sp>
          <p:nvSpPr>
            <p:cNvPr id="325" name="AutoShape 4"/>
            <p:cNvSpPr/>
            <p:nvPr/>
          </p:nvSpPr>
          <p:spPr>
            <a:xfrm>
              <a:off x="1332000" y="2060640"/>
              <a:ext cx="2303280" cy="3745080"/>
            </a:xfrm>
            <a:prstGeom prst="diamond">
              <a:avLst/>
            </a:prstGeom>
            <a:solidFill>
              <a:srgbClr val="ffef66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2484360" y="2060640"/>
              <a:ext cx="0" cy="37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Line 6"/>
            <p:cNvSpPr/>
            <p:nvPr/>
          </p:nvSpPr>
          <p:spPr>
            <a:xfrm>
              <a:off x="1332000" y="39340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484360" y="3716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700360" y="371664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WordArt 9"/>
            <p:cNvSpPr txBox="1"/>
            <p:nvPr/>
          </p:nvSpPr>
          <p:spPr>
            <a:xfrm>
              <a:off x="684360" y="3789360"/>
              <a:ext cx="41400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A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  <p:sp>
          <p:nvSpPr>
            <p:cNvPr id="331" name="WordArt 10"/>
            <p:cNvSpPr txBox="1"/>
            <p:nvPr/>
          </p:nvSpPr>
          <p:spPr>
            <a:xfrm>
              <a:off x="1979640" y="1773360"/>
              <a:ext cx="34272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B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  <p:sp>
          <p:nvSpPr>
            <p:cNvPr id="332" name="WordArt 11"/>
            <p:cNvSpPr txBox="1"/>
            <p:nvPr/>
          </p:nvSpPr>
          <p:spPr>
            <a:xfrm>
              <a:off x="3780000" y="3789360"/>
              <a:ext cx="32364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C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  <p:sp>
          <p:nvSpPr>
            <p:cNvPr id="333" name="WordArt 12"/>
            <p:cNvSpPr txBox="1"/>
            <p:nvPr/>
          </p:nvSpPr>
          <p:spPr>
            <a:xfrm>
              <a:off x="2700360" y="5734440"/>
              <a:ext cx="38088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D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  <p:sp>
          <p:nvSpPr>
            <p:cNvPr id="334" name="WordArt 13"/>
            <p:cNvSpPr txBox="1"/>
            <p:nvPr/>
          </p:nvSpPr>
          <p:spPr>
            <a:xfrm>
              <a:off x="2124000" y="3429000"/>
              <a:ext cx="28728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Georgia"/>
                </a:rPr>
                <a:t>O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  <a:ea typeface="Georgia"/>
              </a:endParaRPr>
            </a:p>
          </p:txBody>
        </p:sp>
      </p:grp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360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Розв'язати задачу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6" name="Picture 43" descr="Рисунок18_resize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882800"/>
            <a:ext cx="5902200" cy="39942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8:00:20Z</dcterms:created>
  <dc:creator>Комп</dc:creator>
  <dc:description/>
  <dc:language>en-US</dc:language>
  <cp:lastModifiedBy>Tatyana</cp:lastModifiedBy>
  <dcterms:modified xsi:type="dcterms:W3CDTF">2013-03-28T10:42:30Z</dcterms:modified>
  <cp:revision>102</cp:revision>
  <dc:subject/>
  <dc:title>Теорема Пифагора</dc:title>
</cp:coreProperties>
</file>