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E71-5DBA-41D8-9D63-BD781D48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A10-2064-4382-BA5C-37B3B55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7A9-D789-4D34-A744-3D24A638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0E3-1199-4243-9A48-69B5FE69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A37-52AF-4C8D-92D5-AE652802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F2EB-1CA8-4EA0-9A45-2A4A5345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ED4-4FE4-48E6-AD7B-2B94E43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AEC-3108-4DE6-9A6E-D2BE218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80D-1EC8-4AA8-9FA7-0952566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0C03-8683-4580-B181-95F3EEB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B915-7D35-4D5B-AE48-5C3384F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E4B-0ADE-4844-A5B2-CC11100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793C-BA6D-4300-A08F-DE38219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83DA-C307-4FA0-AF35-4E4402F4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0759-11BC-4112-A701-EDE37F4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778-64AA-481D-BB35-070B036F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9BB3-9C58-4760-92DA-EE46F4DD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782-951C-4B58-8294-85BB0110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B58-99B4-42ED-92D1-A8FFEE06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3AF-9E9E-4A6B-865B-8BF134F4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2EB-5536-4B7B-8BA6-0F913F1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CE7-295D-41EC-9CE0-F03AAC0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C5A-D87A-40E0-8E76-7820F08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45B-1268-4ED6-AAD3-F64F263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6B5-C449-4ABD-BF65-3E12E879B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56F-3D85-4E4C-9B99-5E8AD99352C9}" type="slidenum">
              <a:rPr b="0" lang="uk-U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192800" y="5229360"/>
            <a:ext cx="195120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6"/>
          <p:cNvSpPr/>
          <p:nvPr/>
        </p:nvSpPr>
        <p:spPr>
          <a:xfrm>
            <a:off x="395280" y="3141720"/>
            <a:ext cx="8064360" cy="2232000"/>
          </a:xfrm>
          <a:custGeom>
            <a:avLst/>
            <a:gdLst>
              <a:gd name="textAreaLeft" fmla="*/ 2031840 w 8064360"/>
              <a:gd name="textAreaRight" fmla="*/ 6032520 w 8064360"/>
              <a:gd name="textAreaTop" fmla="*/ 489600 h 2232000"/>
              <a:gd name="textAreaBottom" fmla="*/ 2167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6861"/>
                </a:moveTo>
                <a:arcTo wR="21600" hR="20153" stAng="7304956" swAng="-984164"/>
                <a:lnTo>
                  <a:pt x="5442" y="20970"/>
                </a:lnTo>
                <a:arcTo wR="21600" hR="20153" stAng="6320792" swAng="-1841585"/>
                <a:lnTo>
                  <a:pt x="16158" y="18931"/>
                </a:lnTo>
                <a:arcTo wR="21600" hR="20153" stAng="4479208" swAng="-984164"/>
                <a:lnTo>
                  <a:pt x="18900" y="9660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50740"/>
                <a:lnTo>
                  <a:pt x="13458" y="4586"/>
                </a:lnTo>
                <a:arcTo wR="21600" hR="20153" stAng="4945784" swAng="908433"/>
                <a:lnTo>
                  <a:pt x="8142" y="2547"/>
                </a:lnTo>
                <a:arcTo wR="21600" hR="20153" stAng="5854216" swAng="1450740"/>
                <a:lnTo>
                  <a:pt x="2700" y="9660"/>
                </a:lnTo>
                <a:close/>
              </a:path>
              <a:path fill="none" w="21600" h="21600">
                <a:moveTo>
                  <a:pt x="8142" y="4586"/>
                </a:moveTo>
                <a:arcTo wR="21600" hR="20153" stAng="5854216" swAng="466576"/>
                <a:lnTo>
                  <a:pt x="8142" y="2547"/>
                </a:lnTo>
              </a:path>
              <a:path fill="none" w="21600" h="21600">
                <a:moveTo>
                  <a:pt x="13458" y="4586"/>
                </a:moveTo>
                <a:arcTo wR="21600" hR="20153" stAng="4945784" swAng="-466576"/>
                <a:lnTo>
                  <a:pt x="13458" y="2547"/>
                </a:lnTo>
              </a:path>
              <a:path fill="none" w="21600" h="21600">
                <a:moveTo>
                  <a:pt x="5442" y="18931"/>
                </a:moveTo>
                <a:lnTo>
                  <a:pt x="5442" y="4109"/>
                </a:lnTo>
              </a:path>
              <a:path fill="none" w="21600" h="21600">
                <a:moveTo>
                  <a:pt x="16158" y="18931"/>
                </a:moveTo>
                <a:lnTo>
                  <a:pt x="16158" y="4109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i="1" lang="uk-UA" sz="4000" spc="-1" strike="noStrike">
                <a:solidFill>
                  <a:srgbClr val="006600"/>
                </a:solidFill>
                <a:latin typeface="Georgia"/>
              </a:rPr>
              <a:t>Розкладання многочленів на множники способом винесення спільного множника за ду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3492360" y="5734080"/>
            <a:ext cx="23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484360" y="3500280"/>
            <a:ext cx="38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ОШ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-II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т. с.Щитин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рінчук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Людмила Володимирівна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404640"/>
            <a:ext cx="864216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група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I</a:t>
            </a:r>
            <a:r>
              <a:rPr b="0" lang="uk-UA" sz="3200" spc="-1" strike="noStrike">
                <a:solidFill>
                  <a:srgbClr val="000000"/>
                </a:solidFill>
                <a:latin typeface="Angsana New"/>
              </a:rPr>
              <a:t> груп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Angsana New"/>
              </a:rPr>
              <a:t> група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класти на множники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числити значення виразу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,63х+2,63у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у=0,84; х= 0,16     якщо х=11,3            якщо х=4,2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172872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656000" cy="71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0" y="4076640"/>
                <a:ext cx="298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57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800360" cy="64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348000" y="4076640"/>
                <a:ext cx="2782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11960" y="2781360"/>
                <a:ext cx="1792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421320" y="3389400"/>
                <a:ext cx="1702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72360" y="4076640"/>
                <a:ext cx="2771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51280" y="5516640"/>
                <a:ext cx="1903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,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5516640"/>
                <a:ext cx="1903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овести,що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00360" y="836640"/>
                <a:ext cx="352908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59280" y="4005360"/>
                <a:ext cx="25002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8" name="Picture 22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809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RCTR027"/>
          <p:cNvPicPr/>
          <p:nvPr/>
        </p:nvPicPr>
        <p:blipFill>
          <a:blip r:embed="rId1"/>
          <a:stretch/>
        </p:blipFill>
        <p:spPr>
          <a:xfrm>
            <a:off x="0" y="0"/>
            <a:ext cx="1182600" cy="2060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RCTR068"/>
          <p:cNvPicPr/>
          <p:nvPr/>
        </p:nvPicPr>
        <p:blipFill>
          <a:blip r:embed="rId2"/>
          <a:stretch/>
        </p:blipFill>
        <p:spPr>
          <a:xfrm>
            <a:off x="7186680" y="4869000"/>
            <a:ext cx="1957320" cy="1989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4"/>
          <p:cNvSpPr/>
          <p:nvPr/>
        </p:nvSpPr>
        <p:spPr>
          <a:xfrm>
            <a:off x="2340000" y="0"/>
            <a:ext cx="6553080" cy="1152360"/>
          </a:xfrm>
          <a:prstGeom prst="wedgeRoundRectCallout">
            <a:avLst>
              <a:gd name="adj1" fmla="val -69430"/>
              <a:gd name="adj2" fmla="val 5648"/>
              <a:gd name="adj3" fmla="val 1666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Georgia"/>
              </a:rPr>
              <a:t>Підсумок уроку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Georgia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619280" y="1341360"/>
            <a:ext cx="6840360" cy="1150920"/>
          </a:xfrm>
          <a:prstGeom prst="wedgeRoundRectCallout">
            <a:avLst>
              <a:gd name="adj1" fmla="val 42944"/>
              <a:gd name="adj2" fmla="val 263518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озкласти многочлен на множники – це означає 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79280" y="2924280"/>
            <a:ext cx="7524720" cy="10094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Georgia"/>
              </a:rPr>
              <a:t>На сьогоднішньому уроці ми дізнались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Georgia"/>
              </a:rPr>
              <a:t>про один із способів розкладання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Georgia"/>
              </a:rPr>
              <a:t>многочлена на множники,а саме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24000" y="4149720"/>
            <a:ext cx="6769080" cy="1370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Найбільше мені сподобалось…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79280" y="0"/>
            <a:ext cx="7524720" cy="6669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бажання вам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дицію чудову мав Наум: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іх школяриків він наставляв на ум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І в знак пошани, за роботу вашу,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хочу розділити мудру кашу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 хто її у класі скуштував,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й однокласників, як друзів шанував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І однок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ласник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разом кашу їли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 горе, й радість порівну ділили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І я як вчитель теж її поїм.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й вам щастить! І дякую усі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Домашнє  завдан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rot="10800000">
            <a:off x="539640" y="1773000"/>
            <a:ext cx="7561440" cy="4176720"/>
          </a:xfrm>
          <a:prstGeom prst="cloudCallout">
            <a:avLst>
              <a:gd name="adj1" fmla="val -27685"/>
              <a:gd name="adj2" fmla="val 205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працювати §14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озвязати №519, №520,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521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1116000" y="5950080"/>
            <a:ext cx="698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і  за 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2"/>
          <p:cNvSpPr/>
          <p:nvPr/>
        </p:nvSpPr>
        <p:spPr>
          <a:xfrm>
            <a:off x="0" y="333360"/>
            <a:ext cx="9144000" cy="604836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Мета уроку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вчальна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: сформувати поняття розкладання многочлена на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ножники; сформувати вм</a:t>
            </a: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ня розкладати многочлена на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ножники способом винесення спільного множника за дужки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Розвивальна:</a:t>
            </a: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 активізувати пізнавальну діяльність учнів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Формувати вміння вибирати і використовувати необхідну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інформацію для розвязування задач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Виховна:</a:t>
            </a: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 виховувати позитивне ставлення до навчання,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00"/>
                </a:solidFill>
                <a:latin typeface="Arial"/>
              </a:rPr>
              <a:t>Старанність, дисциплінованіст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2"/>
          <p:cNvSpPr/>
          <p:nvPr/>
        </p:nvSpPr>
        <p:spPr>
          <a:xfrm>
            <a:off x="0" y="476280"/>
            <a:ext cx="9144000" cy="604836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299268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596160"/>
            <a:ext cx="5905440" cy="51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«НАУМ НАВЕДЕ НА УМ»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народі 14 грудня вшановували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рока Наума – покровителя розуму,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нь і доброчинства.</a:t>
            </a:r>
            <a:r>
              <a:rPr b="0" lang="uk-UA" sz="1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 Наума свято відзначав,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вали до навчання школярі,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їм святий завжди допомагав.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ж сподіваюсь, що не лишить він і нас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рання врожаєм заколосяться.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юбов і розуміння зайдуть в клас,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всі знання в житті вам знадоблятьс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12"/>
          <p:cNvSpPr/>
          <p:nvPr/>
        </p:nvSpPr>
        <p:spPr>
          <a:xfrm>
            <a:off x="0" y="476280"/>
            <a:ext cx="9144000" cy="604836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6199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Усний рахунок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00000" y="1628640"/>
                <a:ext cx="237672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÷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140360" y="1844640"/>
                <a:ext cx="3168360" cy="26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900000" y="189000"/>
            <a:ext cx="7417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Book Antiqua"/>
              </a:rPr>
              <a:t>1. Знайти цей спільний множник;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Book Antiqua"/>
              </a:rPr>
              <a:t>2. Винести його за дужки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476360" y="2205000"/>
            <a:ext cx="7201080" cy="1152720"/>
          </a:xfrm>
          <a:prstGeom prst="wedgeRoundRectCallout">
            <a:avLst>
              <a:gd name="adj1" fmla="val -42944"/>
              <a:gd name="adj2" fmla="val 5426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Щоб розкласти многочлен на множники, винесенням спільного множника за дужки, потрібно: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3" marL="1536120" indent="-219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4" name="Group 44"/>
          <p:cNvGrpSpPr/>
          <p:nvPr/>
        </p:nvGrpSpPr>
        <p:grpSpPr>
          <a:xfrm>
            <a:off x="3419640" y="3500280"/>
            <a:ext cx="5326920" cy="1512720"/>
            <a:chOff x="3419640" y="3500280"/>
            <a:chExt cx="5326920" cy="1512720"/>
          </a:xfrm>
        </p:grpSpPr>
        <p:sp>
          <p:nvSpPr>
            <p:cNvPr id="105" name="AutoShape 45"/>
            <p:cNvSpPr/>
            <p:nvPr/>
          </p:nvSpPr>
          <p:spPr>
            <a:xfrm>
              <a:off x="4388040" y="3500280"/>
              <a:ext cx="4358520" cy="15127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ах+ау=а(х+у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3419640" y="378360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Text Box 47"/>
            <p:cNvSpPr/>
            <p:nvPr/>
          </p:nvSpPr>
          <p:spPr>
            <a:xfrm>
              <a:off x="4509360" y="3827880"/>
              <a:ext cx="411984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08" name="Group 44"/>
          <p:cNvGrpSpPr/>
          <p:nvPr/>
        </p:nvGrpSpPr>
        <p:grpSpPr>
          <a:xfrm>
            <a:off x="3348000" y="5589720"/>
            <a:ext cx="5400000" cy="1001160"/>
            <a:chOff x="3348000" y="5589720"/>
            <a:chExt cx="5400000" cy="1001160"/>
          </a:xfrm>
        </p:grpSpPr>
        <p:sp>
          <p:nvSpPr>
            <p:cNvPr id="109" name="AutoShape 45"/>
            <p:cNvSpPr/>
            <p:nvPr/>
          </p:nvSpPr>
          <p:spPr>
            <a:xfrm>
              <a:off x="4329720" y="5589720"/>
              <a:ext cx="4418280" cy="100116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(в-с)+х(в-с)=(в-с)(а+х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3348000" y="5775480"/>
              <a:ext cx="98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1" name="Text Box 47"/>
            <p:cNvSpPr/>
            <p:nvPr/>
          </p:nvSpPr>
          <p:spPr>
            <a:xfrm>
              <a:off x="4452480" y="5808600"/>
              <a:ext cx="4176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12" name="Picture 11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3357720"/>
            <a:ext cx="2268360" cy="32907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4"/>
          <p:cNvGrpSpPr/>
          <p:nvPr/>
        </p:nvGrpSpPr>
        <p:grpSpPr>
          <a:xfrm>
            <a:off x="2700360" y="4508640"/>
            <a:ext cx="6155640" cy="936000"/>
            <a:chOff x="2700360" y="4508640"/>
            <a:chExt cx="6155640" cy="936000"/>
          </a:xfrm>
        </p:grpSpPr>
        <p:sp>
          <p:nvSpPr>
            <p:cNvPr id="114" name="AutoShape 45"/>
            <p:cNvSpPr/>
            <p:nvPr/>
          </p:nvSpPr>
          <p:spPr>
            <a:xfrm>
              <a:off x="3819600" y="4508640"/>
              <a:ext cx="5036400" cy="93600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5х+5у=5(х+у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5" name="Text Box 46"/>
            <p:cNvSpPr/>
            <p:nvPr/>
          </p:nvSpPr>
          <p:spPr>
            <a:xfrm>
              <a:off x="2700360" y="4683960"/>
              <a:ext cx="11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6" name="Text Box 47"/>
            <p:cNvSpPr/>
            <p:nvPr/>
          </p:nvSpPr>
          <p:spPr>
            <a:xfrm>
              <a:off x="3959640" y="4713480"/>
              <a:ext cx="4760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9720" y="1933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Алгоритм розкладання многочлена на множники винесенням за дужки</a:t>
            </a: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спільного множник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3809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Arial"/>
              </a:rPr>
              <a:t>Знаходимо спільний числовий множник для коефіцієнтів  (якщо цілі числа, то шукаємо НСД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Arial"/>
              </a:rPr>
              <a:t>2. Виносимо за дужки змінну з меншим показ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821120" y="18082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12а</a:t>
            </a:r>
            <a:r>
              <a:rPr b="1" i="1" lang="uk-UA" sz="4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 + 8а</a:t>
            </a:r>
            <a:r>
              <a:rPr b="1" i="1" lang="en-US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37920" y="28828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СД(12;8) = 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871880" y="458136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= 4а</a:t>
            </a:r>
            <a:r>
              <a:rPr b="1" i="1" lang="uk-UA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 (3а + 2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uk-UA" sz="40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0" y="272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3366ff"/>
                </a:solidFill>
                <a:uFillTx/>
                <a:latin typeface="Arial"/>
              </a:rPr>
              <a:t>Естаф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268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група                      2 група                        3група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4000" y="1844640"/>
                <a:ext cx="21603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419640" y="1844640"/>
                <a:ext cx="201600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732720" y="1773360"/>
                <a:ext cx="208728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916360" y="4032360"/>
            <a:ext cx="273672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Застосування розкладання многочлена на множники способом винесення спільного множника за ду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1)Обчислити значення ви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,3х+12,3у,  якщо х=0,23; у=0,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) Довести,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3)Розв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00360" y="3500280"/>
                <a:ext cx="2735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4797360"/>
                <a:ext cx="2376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4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74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26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404640"/>
            <a:ext cx="8642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апередодні дня святого пророка Наума батьки відвідували вчителя (дяка) і домовлялися про плату (зазвичай це було забезпеченням дровами на зиму, салом та ковбасами на Різдво, допомога в полі під час сівби чи жнив). Увечері до новоспеченого учня приходив хрещений батько з букварем. Посеред хати ставили діжку, застеляли її кожухом, і гість підстригав хрещеника, щоб «добре в голову йшла наука». Роблячи перший підстриг, він казав – «Батюшка Наум, виведи синка на ум». Потім сідали за стіл і завчали напам’ять кілька літер. Школяр вечеряв пшонянкою, бо «треба чимало каші з’їсти, щоб опанувати науку». Відіславши дитину до школи, батьки йшли до церкви і ставили свічку перед образом пророка Наума, висловлюючи йому пошану і сподіваючись, що святий наведе малого на розум. Про самого Наума відомо, що він був монахом-просвітителем, який мандрував селами, безкоштовно навчав дітей азбуці. Збереглися його заповіді: «Не можна їсти під час навчання, бо заїси вивчене. Якщо кінчив читати, то закрий книжку, бо вивчене забудеться». Тому за народними переказами Наум – покровитель розуму, знань і навчання. Про це мовлять і прислів'я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9:12:55Z</dcterms:created>
  <dc:creator>Ленчик</dc:creator>
  <dc:description/>
  <dc:language>en-US</dc:language>
  <cp:lastModifiedBy>Admin</cp:lastModifiedBy>
  <dcterms:modified xsi:type="dcterms:W3CDTF">2015-11-11T15:28:20Z</dcterms:modified>
  <cp:revision>40</cp:revision>
  <dc:subject/>
  <dc:title>Розв’язування логарифмічних рівнянь.</dc:title>
</cp:coreProperties>
</file>