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D3BD-6B35-4FFA-817E-5A86834D29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70F4-8B67-452F-88C1-6CB00A8E0B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ACEF-AF24-41D2-9CA3-8EB3B495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4707-30C5-4312-8C01-8395F035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1AAD-5AE6-455E-B4DA-86905231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F431-B223-4437-BA0E-E3297715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CA4A-5127-4823-AB77-9C6F2F84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BF98-B58F-4E13-9488-EDECE6EA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79FE-44DD-461B-9CAC-73B0856C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72B4-5436-42D6-9E35-B8C2C176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FED8-331E-4AD0-BBE4-B98FF53F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FB26-122F-401B-AE9D-B0BE95FE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CBC0-5412-4D17-90EF-45C8E9AD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6CC-030C-41B3-B4E7-E2DF4A57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ABFA-F28A-48AE-B8B5-62F3DE05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70C4-2375-4EC9-B6B3-D910226E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9D43-2902-4187-ADC0-984AFC0C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C112-CBFB-4BF6-AA28-E22629FE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03F0-6EEC-461A-ACA2-88E9A3FD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4281D-EFD8-431C-B948-CC9137E4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4D64D-2173-44D8-BAFC-136B2C1B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6E001-608A-4885-8F01-59764F9E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701A3-FEFB-43ED-9C36-D1802B0E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BA73B-04C1-46D9-A7D0-5BC4C5EA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82B9-AB5B-461E-BC9B-27B17D04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1C026-20DD-4529-A4C0-E4213B5D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CF663-3A28-459A-91CC-2D6E0CEB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3E067-E2CD-40AB-88F7-16569FA1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430C0-64D8-472F-905A-405F83A0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291E7-5867-4E65-8704-53F19FBA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9EBB9-22A4-4423-9B5A-707D6F84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D82D3-DD75-4416-A838-9A605A59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2E19B-5489-4D8D-AD71-85BE89C9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6C107-64D6-4D63-B6AD-9C7ED75F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E2E12-765F-4169-873C-B8E0D414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362F-701A-4385-A0D2-9EBAC570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DA903-424D-4D0B-83A1-4E23264C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1ABF8-12F0-4266-8759-B2564A8A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F6663-7B4C-475E-8688-B96A7E16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74ADD-5EBB-412E-9E45-970C7A51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525EE-0415-4A72-8092-93178C80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26A01-4BE6-4677-A860-9D9B2F51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58FAE-BFE9-40BB-9BD8-8AF8050C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E8F6C-F957-40BD-AD97-841266DB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0F097-184F-4EFA-BC73-E9974485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1C55-D95B-4489-9307-DAC16F10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A12F-80D3-4059-8FDD-BB38BA19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021-789D-4393-8608-ACAA2B6F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5F1F-1BE4-4592-ABFF-23185A01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D006-7DE2-4122-BABF-4B020679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75ED-1B67-4C97-9C99-7C25F24028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22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8810-E181-42E9-B842-B973988003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99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0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1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3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5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5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940E-615E-4659-AC41-0F5011C042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0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0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419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8BE4-5768-4EBC-8B80-8C88064EAD7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ecff"/>
                </a:solidFill>
                <a:latin typeface="Arial"/>
              </a:rPr>
              <a:t>Сніжинка Кох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9640" y="27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1 ЕТАП ПОБУДОВИ СНІЖИНК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5" name="AutoShape 4"/>
          <p:cNvSpPr/>
          <p:nvPr/>
        </p:nvSpPr>
        <p:spPr>
          <a:xfrm>
            <a:off x="1619280" y="1413000"/>
            <a:ext cx="5688000" cy="468144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2 ЕТАП ПОБУДОВИ СНІЖИНК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7" name="AutoShape 3"/>
          <p:cNvSpPr/>
          <p:nvPr/>
        </p:nvSpPr>
        <p:spPr>
          <a:xfrm>
            <a:off x="1619280" y="1125360"/>
            <a:ext cx="4753080" cy="410400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AutoShape 4"/>
          <p:cNvSpPr/>
          <p:nvPr/>
        </p:nvSpPr>
        <p:spPr>
          <a:xfrm rot="10800000">
            <a:off x="1476360" y="2420640"/>
            <a:ext cx="4967280" cy="40338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5"/>
          <p:cNvSpPr/>
          <p:nvPr/>
        </p:nvSpPr>
        <p:spPr>
          <a:xfrm>
            <a:off x="6588000" y="2565360"/>
            <a:ext cx="230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жну сторону трикутника розділити на три рівні частини і на середній частині побудувати рівносторонній трикут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3 ЕТАП ПОБУДОВИ СНІЖИНК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1" name="AutoShape 3"/>
          <p:cNvSpPr/>
          <p:nvPr/>
        </p:nvSpPr>
        <p:spPr>
          <a:xfrm>
            <a:off x="1619280" y="1125360"/>
            <a:ext cx="4753080" cy="410400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AutoShape 4"/>
          <p:cNvSpPr/>
          <p:nvPr/>
        </p:nvSpPr>
        <p:spPr>
          <a:xfrm rot="10800000">
            <a:off x="1476360" y="2420640"/>
            <a:ext cx="4967280" cy="40338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6588000" y="2593800"/>
            <a:ext cx="230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жну сторону трикутника розділити на три рівні частини і на середній частині побудувати рівносторонній трикут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AutoShape 6"/>
          <p:cNvSpPr/>
          <p:nvPr/>
        </p:nvSpPr>
        <p:spPr>
          <a:xfrm rot="18083400">
            <a:off x="3058920" y="1196640"/>
            <a:ext cx="1584360" cy="129528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AutoShape 7"/>
          <p:cNvSpPr/>
          <p:nvPr/>
        </p:nvSpPr>
        <p:spPr>
          <a:xfrm rot="10664400">
            <a:off x="1546920" y="4292640"/>
            <a:ext cx="1584360" cy="12952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AutoShape 8"/>
          <p:cNvSpPr/>
          <p:nvPr/>
        </p:nvSpPr>
        <p:spPr>
          <a:xfrm>
            <a:off x="4716360" y="2060640"/>
            <a:ext cx="1584360" cy="129528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AutoShape 9"/>
          <p:cNvSpPr/>
          <p:nvPr/>
        </p:nvSpPr>
        <p:spPr>
          <a:xfrm rot="18257400">
            <a:off x="4571640" y="3933360"/>
            <a:ext cx="1584360" cy="1295640"/>
          </a:xfrm>
          <a:prstGeom prst="triangle">
            <a:avLst>
              <a:gd name="adj" fmla="val 40685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AutoShape 10"/>
          <p:cNvSpPr/>
          <p:nvPr/>
        </p:nvSpPr>
        <p:spPr>
          <a:xfrm>
            <a:off x="3203640" y="4724280"/>
            <a:ext cx="1584360" cy="129564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AutoShape 11"/>
          <p:cNvSpPr/>
          <p:nvPr/>
        </p:nvSpPr>
        <p:spPr>
          <a:xfrm>
            <a:off x="1692360" y="2060640"/>
            <a:ext cx="1584360" cy="129528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4 ЕТАП ПОБУДОВИ СНІЖИНК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AutoShape 3"/>
          <p:cNvSpPr/>
          <p:nvPr/>
        </p:nvSpPr>
        <p:spPr>
          <a:xfrm>
            <a:off x="1619280" y="1125360"/>
            <a:ext cx="4753080" cy="410400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AutoShape 4"/>
          <p:cNvSpPr/>
          <p:nvPr/>
        </p:nvSpPr>
        <p:spPr>
          <a:xfrm rot="10800000">
            <a:off x="1476360" y="2420640"/>
            <a:ext cx="4967280" cy="40338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6588000" y="2565360"/>
            <a:ext cx="230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жну сторону трикутника розділити на три рівні частини і на середній частині побудувати рівносторонній трикут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AutoShape 6"/>
          <p:cNvSpPr/>
          <p:nvPr/>
        </p:nvSpPr>
        <p:spPr>
          <a:xfrm rot="18083400">
            <a:off x="3058920" y="1196640"/>
            <a:ext cx="1584360" cy="129528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AutoShape 7"/>
          <p:cNvSpPr/>
          <p:nvPr/>
        </p:nvSpPr>
        <p:spPr>
          <a:xfrm rot="10664400">
            <a:off x="1546920" y="4292640"/>
            <a:ext cx="1584360" cy="12952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AutoShape 8"/>
          <p:cNvSpPr/>
          <p:nvPr/>
        </p:nvSpPr>
        <p:spPr>
          <a:xfrm>
            <a:off x="4716360" y="2060640"/>
            <a:ext cx="1584360" cy="129528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AutoShape 9"/>
          <p:cNvSpPr/>
          <p:nvPr/>
        </p:nvSpPr>
        <p:spPr>
          <a:xfrm rot="18257400">
            <a:off x="4571640" y="3933360"/>
            <a:ext cx="1584360" cy="1295640"/>
          </a:xfrm>
          <a:prstGeom prst="triangle">
            <a:avLst>
              <a:gd name="adj" fmla="val 40685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AutoShape 10"/>
          <p:cNvSpPr/>
          <p:nvPr/>
        </p:nvSpPr>
        <p:spPr>
          <a:xfrm>
            <a:off x="3203640" y="4724280"/>
            <a:ext cx="1584360" cy="129564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AutoShape 11"/>
          <p:cNvSpPr/>
          <p:nvPr/>
        </p:nvSpPr>
        <p:spPr>
          <a:xfrm>
            <a:off x="1476360" y="1989000"/>
            <a:ext cx="1584360" cy="129564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AutoShape 12"/>
          <p:cNvSpPr/>
          <p:nvPr/>
        </p:nvSpPr>
        <p:spPr>
          <a:xfrm rot="18036600">
            <a:off x="3743280" y="1162080"/>
            <a:ext cx="432000" cy="358560"/>
          </a:xfrm>
          <a:prstGeom prst="triangle">
            <a:avLst>
              <a:gd name="adj" fmla="val 50000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AutoShape 13"/>
          <p:cNvSpPr/>
          <p:nvPr/>
        </p:nvSpPr>
        <p:spPr>
          <a:xfrm>
            <a:off x="4356000" y="1413000"/>
            <a:ext cx="432000" cy="35856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AutoShape 14"/>
          <p:cNvSpPr/>
          <p:nvPr/>
        </p:nvSpPr>
        <p:spPr>
          <a:xfrm>
            <a:off x="3348000" y="1413000"/>
            <a:ext cx="432000" cy="358560"/>
          </a:xfrm>
          <a:prstGeom prst="triangle">
            <a:avLst>
              <a:gd name="adj" fmla="val 50000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AutoShape 15"/>
          <p:cNvSpPr/>
          <p:nvPr/>
        </p:nvSpPr>
        <p:spPr>
          <a:xfrm rot="3792000">
            <a:off x="2089080" y="2019240"/>
            <a:ext cx="431640" cy="365040"/>
          </a:xfrm>
          <a:prstGeom prst="triangle">
            <a:avLst>
              <a:gd name="adj" fmla="val 50000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AutoShape 16"/>
          <p:cNvSpPr/>
          <p:nvPr/>
        </p:nvSpPr>
        <p:spPr>
          <a:xfrm>
            <a:off x="1476360" y="2276640"/>
            <a:ext cx="431640" cy="358560"/>
          </a:xfrm>
          <a:prstGeom prst="triangle">
            <a:avLst>
              <a:gd name="adj" fmla="val 50000"/>
            </a:avLst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AutoShape 17"/>
          <p:cNvSpPr/>
          <p:nvPr/>
        </p:nvSpPr>
        <p:spPr>
          <a:xfrm rot="18963600">
            <a:off x="1476000" y="2923920"/>
            <a:ext cx="431640" cy="358560"/>
          </a:xfrm>
          <a:prstGeom prst="triangle">
            <a:avLst>
              <a:gd name="adj" fmla="val 50000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AutoShape 18"/>
          <p:cNvSpPr/>
          <p:nvPr/>
        </p:nvSpPr>
        <p:spPr>
          <a:xfrm rot="17969400">
            <a:off x="5256360" y="2096640"/>
            <a:ext cx="431640" cy="358920"/>
          </a:xfrm>
          <a:prstGeom prst="triangle">
            <a:avLst>
              <a:gd name="adj" fmla="val 50000"/>
            </a:avLst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AutoShape 19"/>
          <p:cNvSpPr/>
          <p:nvPr/>
        </p:nvSpPr>
        <p:spPr>
          <a:xfrm rot="14703600">
            <a:off x="5926680" y="2365920"/>
            <a:ext cx="425520" cy="398520"/>
          </a:xfrm>
          <a:prstGeom prst="triangle">
            <a:avLst>
              <a:gd name="adj" fmla="val 50000"/>
            </a:avLst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AutoShape 20"/>
          <p:cNvSpPr/>
          <p:nvPr/>
        </p:nvSpPr>
        <p:spPr>
          <a:xfrm rot="18556800">
            <a:off x="5830560" y="2960280"/>
            <a:ext cx="431640" cy="358920"/>
          </a:xfrm>
          <a:prstGeom prst="triangle">
            <a:avLst>
              <a:gd name="adj" fmla="val 50000"/>
            </a:avLst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AutoShape 21"/>
          <p:cNvSpPr/>
          <p:nvPr/>
        </p:nvSpPr>
        <p:spPr>
          <a:xfrm>
            <a:off x="5796000" y="4149720"/>
            <a:ext cx="504720" cy="358920"/>
          </a:xfrm>
          <a:prstGeom prst="triangle">
            <a:avLst>
              <a:gd name="adj" fmla="val 50000"/>
            </a:avLst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AutoShape 22"/>
          <p:cNvSpPr/>
          <p:nvPr/>
        </p:nvSpPr>
        <p:spPr>
          <a:xfrm rot="18357600">
            <a:off x="5867640" y="4869360"/>
            <a:ext cx="503280" cy="358920"/>
          </a:xfrm>
          <a:prstGeom prst="triangle">
            <a:avLst>
              <a:gd name="adj" fmla="val 30514"/>
            </a:avLst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AutoShape 23"/>
          <p:cNvSpPr/>
          <p:nvPr/>
        </p:nvSpPr>
        <p:spPr>
          <a:xfrm rot="14347200">
            <a:off x="5182920" y="5194080"/>
            <a:ext cx="432000" cy="358920"/>
          </a:xfrm>
          <a:prstGeom prst="triangle">
            <a:avLst>
              <a:gd name="adj" fmla="val 50000"/>
            </a:avLst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AutoShape 24"/>
          <p:cNvSpPr/>
          <p:nvPr/>
        </p:nvSpPr>
        <p:spPr>
          <a:xfrm>
            <a:off x="1547640" y="4221000"/>
            <a:ext cx="432000" cy="358920"/>
          </a:xfrm>
          <a:prstGeom prst="triangle">
            <a:avLst>
              <a:gd name="adj" fmla="val 50000"/>
            </a:avLst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AutoShape 25"/>
          <p:cNvSpPr/>
          <p:nvPr/>
        </p:nvSpPr>
        <p:spPr>
          <a:xfrm rot="3543000">
            <a:off x="1655640" y="4905360"/>
            <a:ext cx="431640" cy="358560"/>
          </a:xfrm>
          <a:prstGeom prst="triangle">
            <a:avLst>
              <a:gd name="adj" fmla="val 50000"/>
            </a:avLst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AutoShape 26"/>
          <p:cNvSpPr/>
          <p:nvPr/>
        </p:nvSpPr>
        <p:spPr>
          <a:xfrm rot="14388600">
            <a:off x="2087280" y="5194080"/>
            <a:ext cx="432000" cy="358920"/>
          </a:xfrm>
          <a:prstGeom prst="triangle">
            <a:avLst>
              <a:gd name="adj" fmla="val 50000"/>
            </a:avLst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27"/>
          <p:cNvSpPr/>
          <p:nvPr/>
        </p:nvSpPr>
        <p:spPr>
          <a:xfrm rot="18405600">
            <a:off x="3166920" y="5697720"/>
            <a:ext cx="432000" cy="358560"/>
          </a:xfrm>
          <a:prstGeom prst="triangle">
            <a:avLst>
              <a:gd name="adj" fmla="val 50000"/>
            </a:avLst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AutoShape 28"/>
          <p:cNvSpPr/>
          <p:nvPr/>
        </p:nvSpPr>
        <p:spPr>
          <a:xfrm rot="3505200">
            <a:off x="4397040" y="5707080"/>
            <a:ext cx="446040" cy="335160"/>
          </a:xfrm>
          <a:prstGeom prst="triangle">
            <a:avLst>
              <a:gd name="adj" fmla="val 50000"/>
            </a:avLst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AutoShape 29"/>
          <p:cNvSpPr/>
          <p:nvPr/>
        </p:nvSpPr>
        <p:spPr>
          <a:xfrm rot="6992400">
            <a:off x="3814200" y="6057720"/>
            <a:ext cx="432000" cy="358920"/>
          </a:xfrm>
          <a:prstGeom prst="triangle">
            <a:avLst>
              <a:gd name="adj" fmla="val 50000"/>
            </a:avLst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1:26:53Z</dcterms:created>
  <dc:creator>tester</dc:creator>
  <dc:description/>
  <dc:language>en-US</dc:language>
  <cp:lastModifiedBy>9087</cp:lastModifiedBy>
  <dcterms:modified xsi:type="dcterms:W3CDTF">2012-01-19T15:26:44Z</dcterms:modified>
  <cp:revision>9</cp:revision>
  <dc:subject/>
  <dc:title>Снежинка Коха</dc:title>
</cp:coreProperties>
</file>