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3BB-C848-4C97-9A5E-5E4A72D2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1DC-A861-4E0A-84C8-37A0FA0B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38326-6A72-4818-A60E-7F90B932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CFDD1-41F2-4286-80EA-CF582BBA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9B989-7C65-481B-8E24-9A7B2F35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869AB-4885-4901-BA20-C290E8A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E4D2D-E390-4EAA-8042-9BC8156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DA473-76E6-451C-9EF5-9221F871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880D2-FFB4-45D4-BC52-AFCA951D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48146-4B26-4178-8C47-A98850C9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F2901-535C-49A6-903A-7FAB2489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923C4-65BC-4375-97A4-20EE4E5F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174-F3CF-496F-A84A-930C5A0F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6191F-37A4-494D-B5FD-D1F6A2E2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58327-2936-4286-A43A-05534F0A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CB957-D57F-4441-998B-FD62D893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C80D7-2FFC-442A-854D-D7DD20D2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DF3A7-1D2D-4FB0-988A-3B064A20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E77C5-554C-4BDB-89A3-D6ADD0C3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FACE1-CD16-478D-9B81-BCEAE579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C8576-D46F-4FF4-B892-FF02834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BC59B-4744-43C7-8F18-E43217CC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9DDC3-4B7A-4FAA-B22E-3ABB6B33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DA7-7096-4BFE-A945-F2029863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EA353-4797-49A7-8D38-C57BBBC7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46CEA-3FA0-4B55-BF49-69CCA445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D4309-67FA-4A02-9D9C-0F065144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1CCB5-E510-45C6-B65A-22CB2527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4E634-EC60-46A6-AD5A-9A69633A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02600-9563-48BC-A805-7172ADEB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221BD-F40A-4AF7-BCD1-1453C274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279BD-07FA-4DA6-8F4E-08B97284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7C0FD-C97D-410E-B934-83B2B80D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D6356-1A44-4D99-9061-046F873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58A7-7E03-4AAF-B535-21A03F6B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DADF0-3651-4488-922A-4D99F26C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27415-C5EA-4995-A5BB-C9676983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ACC0F-48A0-41F7-9479-DCF5C25D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7DD4A-1AFF-4084-B682-AD2AEA33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13B93-880D-4583-B6C8-6700F446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8C5EC-1144-427B-BAE4-A9369BB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32615-FD0A-4A05-98FD-C455CB2B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FDC2A-4E5E-4F8A-9314-8425727E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B1F75-F70D-4144-A9D4-B2F93E32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B013C-DED8-407B-8B2B-C2304FEB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4283-0CBE-47C5-A318-73D90DA5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BBC3B-EF84-41E2-867B-B4E0F44F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7E7D6-5886-463D-844F-36403F4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0F730-75FA-45A0-BB93-EDFE8CF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415EF-6D29-43F2-8CC9-25A88BF7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D5E0D-59E1-4402-91BF-2AA0418B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99B65-B2C0-41D7-BFEA-4B370EFE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D2BAA-2378-4BD4-90E0-650F59D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64A21-3E91-4A32-A785-5BE89309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7C35A-AC94-488B-9727-07305BAE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C8BB1-2FDA-471C-AA87-BDFFCDEC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56E-DF3E-47EA-80AC-6264FE0E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2092F-A617-45E9-A989-78FBAA38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43B11-CA07-48A9-8293-28CD326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655D1-FC8E-49C4-B5C4-F6C28372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97619-85D0-4CDA-A0BB-7116D627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A6C3C-5897-4C61-A729-1CF45104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7A9F8-1B2E-4B06-A63C-7A2B7724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D9450-346F-4982-B3BE-69974324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D15-4C7A-4C17-961D-C744583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4D77-D089-46A1-B509-267E3648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64CC-E5ED-4B99-9117-5B8B334D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7EEE-8819-4721-B6CA-B73E1C33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85F-1B87-48CC-8724-5B7E524F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BDB8-7879-4F98-A0F4-ECA3864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7A3-D254-4B33-8965-E251F85E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CCDD-54A9-4DEE-8C50-BC675338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0E75-3A63-46DA-9B1E-54BAA22D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3E13-E613-47F1-9467-FFE0A586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8BC5-DEDD-4914-A29E-21D9A2EE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0219-FBD6-4AE4-9300-808E19D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8ED2-50B3-457A-AE38-3A6DCF59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D9A4-AB47-4B04-9BE8-D725F064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7326-1FCA-490A-A137-5277A562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1CE-37AB-47A0-86F3-E65E2FF9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08F8-8011-4D10-AEC0-8B58CFD5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998A-2BBA-4CD8-9D11-49707D0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04E7-662F-4297-9DDD-E35F62CA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9CF1-AE08-4CC4-92DC-B3DD8B7D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C699-3003-4E33-BFC3-96CB9C8C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B194-A5A6-4B41-AA72-416BAC0C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7624-A2E1-43F9-9460-788A7333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FF72-C060-468D-B4DC-CE0295E0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ADE4-E512-468E-9B31-FC66E7C3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CDF8-5884-4327-ADFA-C8B78DFE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EAC-2849-438D-BE30-639D8CEB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E5181-3BA4-45BB-9294-E607EBAB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F6CF-308B-41A4-A4A7-7C127003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1031B-B7E3-4038-9CE3-39F7BA0C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6903-4AE2-42D1-9C71-5C889BBC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7E7C-FE1A-4AFE-A0F2-D8CEC19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C81A-BA8F-45C3-85AC-E56BD5C0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3186D-C026-4D9D-B130-1331E537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1A07-06B4-477C-8A0F-198B821B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626F-7C4C-49BF-91A3-4BFBC542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A11D0-6136-44D4-B2B3-124160C1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E58-6DAF-4E03-ADCA-680366CF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5EFEC-64B4-4D6E-A958-2AE14F07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23566-298E-47A0-AC0D-7B1EA107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2232-9D23-4374-94E8-169CB107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6537-5751-4EBC-959A-CDDF5A51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D9664-BAB2-4619-A1E4-B1F43BFF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38859-1E03-419A-983B-340999FF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212A-A1E6-4E13-B4FA-C73C714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71A15-0165-4E5E-BE65-34D0B4B8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1702-D23A-4343-ADCC-44FCB421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BEE8-F5ED-403D-84DE-53056C49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CEB-9775-4AD2-9903-E17A07EC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2C51D-0874-47F5-8445-5EAAB2EE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68C26-8399-4E95-9112-BBE21A3D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8111E-0DA6-4F3C-B167-D884015E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A6A0-84D2-4E9F-9A2E-942C2399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8AC04-6E7B-46EF-9170-7BECA618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31E4-6A99-49CA-870F-90B61B11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E939A-7721-4455-AAB5-823B207B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815D-A866-4784-A9CD-AAFCE9C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9C7A4-195F-4D83-9C14-EB94139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FF23B-7D8E-4A16-8127-5157EE59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DAA-D2E1-4F91-BF5D-E5611BAB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C420-1511-459E-8C07-893249C7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FA7E-9E86-4DF2-BB7D-8C2D9859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7E84B-DE38-4F13-A853-0FC3AC5E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2854F-6A75-43D5-9B55-D73B7B13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ED1BD-1EBE-4FF9-A438-9F46F28F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0709D-437B-42A9-8D7B-3CE443B4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CF8AE-C4B2-4314-AF66-B942EFD2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E50D7-3817-4184-AF40-90AD4AAF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52C76-A162-4965-8E26-6020CAA2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D8CF0-1D93-4BBD-A2E9-D91D42B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CF6-0032-44BC-852E-D466F686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F8CF3-30FC-434B-9D79-8F323FD5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3580E-0EAF-4B8E-9EC7-F9E39CED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7CED-3990-4288-B13A-FE73CCF7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6CF19-6AF4-4184-9C9E-E5E2DF10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40EB0-EBBF-4FC9-B7DE-352C5793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65141-ABAC-480E-9DA0-1BD35B4A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6802B-B3E2-4402-8611-5AFA25D3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16D9E-D462-4014-B663-27BED7F7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896EE-53A0-4E30-97D8-0712E8FE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DD6A3-10FB-4BAB-B24D-DA9CCFC4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45B-5097-47CD-8BC8-86199301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9D6D2-D06C-4DC8-B000-31A79930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E1BC-FA08-4264-A375-C997F8F9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91C5D-9211-49A9-A258-851B708B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57057-1722-47E7-8266-4401F67A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E8C3C-9C77-4C5A-ADB8-D916A6C8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410A1-4496-4807-90C2-1E29C4FC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1C352-E1EC-463D-A1ED-DFBA2C90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8D5B5-0926-4CE9-9D2C-36F6EC2B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5A075-0BEE-4254-AC43-3FB32902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08BBD-9F6E-4800-8976-4395C0B3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7ACE-419C-45AD-A7CA-D4EC9A034E3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FEE1-6A40-4F75-80C5-62601248AE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44B9-837D-407C-9F1C-1DFF84B37CD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66FB-5C9B-4AAD-89B8-6B6ABF5C71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F432-8B58-49D3-98F3-CB9B17E777C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ADA1-3FD4-4B79-9D30-B2BA1DF669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ED77-0D6A-4171-B6B4-EAF10E869C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D554-FAD6-462F-92D4-627909E00B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2D7F-E6FA-4FA5-ACD8-009FA5323DB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5C5A-9FB4-4431-95E1-45EF46B8FB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4BBF-8BF5-4E0E-8D4C-8A928644391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3458-59A2-4A78-9F65-CCEB408837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F72-509C-4313-BD3D-F21875E283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5B6D-7393-4746-A4A9-9DF9EF2FB0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860C-9B9A-4D3F-AC9E-F24690FF79D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279E-478C-4922-8900-1666F815A5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8F70-2668-483D-91A9-A6759A14B10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F337-639D-445F-9919-0391948201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C0EA-F99A-4FCA-9156-36B05D19DB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E72E-0EE8-4A8E-BDAC-C10940FB56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E91-77D6-49FC-9EC3-53A59717B9B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91E5-0CD1-4CF5-9137-8B0B7255EA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C3FF-0EA1-4B86-B941-E69CF9C31C3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6F7-4CCF-4689-A1CC-70A1DB8C55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D27A-83AF-4DB6-8409-4E410FCCF9A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A708-8BD9-4805-B1C2-3AC776DC93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715240" cy="6572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з української мов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 використанням тематичного навч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«Способи дієслів»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6-Б  клас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“ Фільми”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увала: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Романович І.В.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учитель української мови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та літератури,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спеціаліс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Рисунок 1" descr=""/>
          <p:cNvPicPr/>
          <p:nvPr/>
        </p:nvPicPr>
        <p:blipFill>
          <a:blip r:embed="rId1"/>
          <a:stretch/>
        </p:blipFill>
        <p:spPr>
          <a:xfrm>
            <a:off x="-4680" y="-4680"/>
            <a:ext cx="8947080" cy="68691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2"/>
          <p:cNvSpPr/>
          <p:nvPr/>
        </p:nvSpPr>
        <p:spPr>
          <a:xfrm>
            <a:off x="1071720" y="17859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742b9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742b9"/>
                </a:solidFill>
                <a:latin typeface="Times New Roman"/>
              </a:rPr>
              <a:t>ФІЛЬ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трелка вправо с вырезом 3"/>
          <p:cNvSpPr/>
          <p:nvPr/>
        </p:nvSpPr>
        <p:spPr>
          <a:xfrm rot="1717800">
            <a:off x="6140520" y="2539800"/>
            <a:ext cx="1928880" cy="1071360"/>
          </a:xfrm>
          <a:custGeom>
            <a:avLst/>
            <a:gdLst>
              <a:gd name="textAreaLeft" fmla="*/ 267840 w 1928880"/>
              <a:gd name="textAreaRight" fmla="*/ 1661040 w 1928880"/>
              <a:gd name="textAreaTop" fmla="*/ 267840 h 1071360"/>
              <a:gd name="textAreaBottom" fmla="*/ 8035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00" y="5400"/>
                </a:ln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15600" y="16200"/>
                </a:lnTo>
                <a:lnTo>
                  <a:pt x="0" y="16200"/>
                </a:lnTo>
                <a:lnTo>
                  <a:pt x="30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Стрелка вправо с вырезом 4"/>
          <p:cNvSpPr/>
          <p:nvPr/>
        </p:nvSpPr>
        <p:spPr>
          <a:xfrm rot="4012200">
            <a:off x="4516200" y="3583080"/>
            <a:ext cx="1930320" cy="1000080"/>
          </a:xfrm>
          <a:custGeom>
            <a:avLst/>
            <a:gdLst>
              <a:gd name="textAreaLeft" fmla="*/ 249840 w 1930320"/>
              <a:gd name="textAreaRight" fmla="*/ 1680480 w 193032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009" y="5400"/>
                </a:lnTo>
                <a:lnTo>
                  <a:pt x="16009" y="0"/>
                </a:lnTo>
                <a:lnTo>
                  <a:pt x="21600" y="10800"/>
                </a:lnTo>
                <a:lnTo>
                  <a:pt x="16009" y="21600"/>
                </a:lnTo>
                <a:lnTo>
                  <a:pt x="16009" y="16200"/>
                </a:lnTo>
                <a:lnTo>
                  <a:pt x="0" y="16200"/>
                </a:lnTo>
                <a:lnTo>
                  <a:pt x="279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трелка вправо с вырезом 5"/>
          <p:cNvSpPr/>
          <p:nvPr/>
        </p:nvSpPr>
        <p:spPr>
          <a:xfrm rot="6780600">
            <a:off x="2282400" y="3595680"/>
            <a:ext cx="1928880" cy="960480"/>
          </a:xfrm>
          <a:custGeom>
            <a:avLst/>
            <a:gdLst>
              <a:gd name="textAreaLeft" fmla="*/ 240120 w 1928880"/>
              <a:gd name="textAreaRight" fmla="*/ 1688760 w 1928880"/>
              <a:gd name="textAreaTop" fmla="*/ 240120 h 960480"/>
              <a:gd name="textAreaBottom" fmla="*/ 720360 h 960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22" y="5400"/>
                </a:lnTo>
                <a:lnTo>
                  <a:pt x="16222" y="0"/>
                </a:lnTo>
                <a:lnTo>
                  <a:pt x="21600" y="10800"/>
                </a:lnTo>
                <a:lnTo>
                  <a:pt x="16222" y="21600"/>
                </a:lnTo>
                <a:lnTo>
                  <a:pt x="16222" y="16200"/>
                </a:lnTo>
                <a:lnTo>
                  <a:pt x="0" y="16200"/>
                </a:lnTo>
                <a:lnTo>
                  <a:pt x="268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трелка вправо с вырезом 6"/>
          <p:cNvSpPr/>
          <p:nvPr/>
        </p:nvSpPr>
        <p:spPr>
          <a:xfrm rot="8847600">
            <a:off x="667800" y="2803680"/>
            <a:ext cx="1928880" cy="922320"/>
          </a:xfrm>
          <a:custGeom>
            <a:avLst/>
            <a:gdLst>
              <a:gd name="textAreaLeft" fmla="*/ 230400 w 1928880"/>
              <a:gd name="textAreaRight" fmla="*/ 1698480 w 1928880"/>
              <a:gd name="textAreaTop" fmla="*/ 230400 h 922320"/>
              <a:gd name="textAreaBottom" fmla="*/ 691920 h 922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35" y="5400"/>
                </a:ln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16435" y="16200"/>
                </a:lnTo>
                <a:lnTo>
                  <a:pt x="0" y="16200"/>
                </a:lnTo>
                <a:lnTo>
                  <a:pt x="258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Рисунок 1" descr=""/>
          <p:cNvPicPr/>
          <p:nvPr/>
        </p:nvPicPr>
        <p:blipFill>
          <a:blip r:embed="rId1"/>
          <a:stretch/>
        </p:blipFill>
        <p:spPr>
          <a:xfrm>
            <a:off x="-144360" y="-144360"/>
            <a:ext cx="9489960" cy="70088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"/>
          <p:cNvSpPr/>
          <p:nvPr/>
        </p:nvSpPr>
        <p:spPr>
          <a:xfrm>
            <a:off x="357120" y="785880"/>
            <a:ext cx="87868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742b9"/>
                </a:solidFill>
                <a:latin typeface="Times New Roman"/>
              </a:rPr>
              <a:t>Творче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раз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інорежисер-  керує зйомками , керував би, керу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перато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ценарис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мпози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стюмер                      Гример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Рисунок 1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"/>
          <p:cNvPicPr/>
          <p:nvPr/>
        </p:nvPicPr>
        <p:blipFill>
          <a:blip r:embed="rId2"/>
          <a:stretch/>
        </p:blipFill>
        <p:spPr>
          <a:xfrm>
            <a:off x="1357200" y="1214280"/>
            <a:ext cx="6072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Рисунок 1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567" name="TextBox 2"/>
          <p:cNvSpPr/>
          <p:nvPr/>
        </p:nvSpPr>
        <p:spPr>
          <a:xfrm>
            <a:off x="285840" y="928800"/>
            <a:ext cx="8572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42b9"/>
                </a:solidFill>
                <a:latin typeface="Times New Roman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&amp;51-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42b9"/>
                </a:solidFill>
                <a:latin typeface="Times New Roman"/>
              </a:rPr>
              <a:t>Право вибор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.Написати розповідь   про   улюблений твір  у художньому стилі. Визначити способи вжитих дієсл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Скласти  твір- мініатюру «Яку роль я хотів би зіграти у кіно » . Визначити способи вжитих дієслі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Рисунок 1" descr=""/>
          <p:cNvPicPr/>
          <p:nvPr/>
        </p:nvPicPr>
        <p:blipFill>
          <a:blip r:embed="rId1"/>
          <a:stretch/>
        </p:blipFill>
        <p:spPr>
          <a:xfrm>
            <a:off x="-108000" y="-27000"/>
            <a:ext cx="9293400" cy="68691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2"/>
          <p:cNvSpPr/>
          <p:nvPr/>
        </p:nvSpPr>
        <p:spPr>
          <a:xfrm>
            <a:off x="928800" y="2071800"/>
            <a:ext cx="76579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742b9"/>
                </a:solidFill>
                <a:latin typeface="Times New Roman"/>
              </a:rPr>
              <a:t>Дякую за урок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овження буде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Рисунок 1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294840" cy="6869160"/>
          </a:xfrm>
          <a:prstGeom prst="rect">
            <a:avLst/>
          </a:prstGeom>
          <a:ln w="0">
            <a:noFill/>
          </a:ln>
        </p:spPr>
      </p:pic>
      <p:sp>
        <p:nvSpPr>
          <p:cNvPr id="535" name="TextBox 2"/>
          <p:cNvSpPr/>
          <p:nvPr/>
        </p:nvSpPr>
        <p:spPr>
          <a:xfrm>
            <a:off x="1143000" y="1785960"/>
            <a:ext cx="69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742b9"/>
                </a:solidFill>
                <a:latin typeface="Times New Roman"/>
              </a:rPr>
              <a:t>Урок української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742b9"/>
                </a:solidFill>
                <a:latin typeface="Times New Roman"/>
              </a:rPr>
              <a:t>мови у 6-б клас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6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7027920"/>
          </a:xfrm>
          <a:prstGeom prst="rect">
            <a:avLst/>
          </a:prstGeom>
          <a:ln w="0">
            <a:noFill/>
          </a:ln>
        </p:spPr>
      </p:pic>
      <p:sp>
        <p:nvSpPr>
          <p:cNvPr id="537" name="TextBox 7"/>
          <p:cNvSpPr/>
          <p:nvPr/>
        </p:nvSpPr>
        <p:spPr>
          <a:xfrm>
            <a:off x="500040" y="1285920"/>
            <a:ext cx="814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742b9"/>
                </a:solidFill>
                <a:latin typeface="Calibri"/>
              </a:rPr>
              <a:t>---------, що  життя  – кін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42b9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742b9"/>
                </a:solidFill>
                <a:latin typeface="Calibri"/>
              </a:rPr>
              <a:t>В котрім усі  ------- певні ролі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6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7027920"/>
          </a:xfrm>
          <a:prstGeom prst="rect">
            <a:avLst/>
          </a:prstGeom>
          <a:ln w="0">
            <a:noFill/>
          </a:ln>
        </p:spPr>
      </p:pic>
      <p:sp>
        <p:nvSpPr>
          <p:cNvPr id="539" name="TextBox 7"/>
          <p:cNvSpPr/>
          <p:nvPr/>
        </p:nvSpPr>
        <p:spPr>
          <a:xfrm>
            <a:off x="428760" y="1357200"/>
            <a:ext cx="8143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742b9"/>
                </a:solidFill>
                <a:latin typeface="Calibri"/>
              </a:rPr>
              <a:t>Способи дієслі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Рисунок 3" descr=""/>
          <p:cNvPicPr/>
          <p:nvPr/>
        </p:nvPicPr>
        <p:blipFill>
          <a:blip r:embed="rId2"/>
          <a:stretch/>
        </p:blipFill>
        <p:spPr>
          <a:xfrm>
            <a:off x="5857920" y="3214800"/>
            <a:ext cx="28004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Рисунок 6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70279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7"/>
          <p:cNvSpPr/>
          <p:nvPr/>
        </p:nvSpPr>
        <p:spPr>
          <a:xfrm>
            <a:off x="500040" y="128592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714240" y="1143000"/>
            <a:ext cx="76438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42b9"/>
                </a:solidFill>
                <a:latin typeface="Times New Roman"/>
              </a:rPr>
              <a:t>Розподільний диктант - тиша  «Обери  дієвідмін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азав, кричати,приїхала, лежати, любив, спала.,червонів, пишеться,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ра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Рисунок 2" descr=""/>
          <p:cNvPicPr/>
          <p:nvPr/>
        </p:nvPicPr>
        <p:blipFill>
          <a:blip r:embed="rId1"/>
          <a:stretch/>
        </p:blipFill>
        <p:spPr>
          <a:xfrm>
            <a:off x="-41400" y="-193680"/>
            <a:ext cx="9191880" cy="705816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1" descr=""/>
          <p:cNvPicPr/>
          <p:nvPr/>
        </p:nvPicPr>
        <p:blipFill>
          <a:blip r:embed="rId2"/>
          <a:srcRect l="0" t="8748" r="0" b="25002"/>
          <a:stretch/>
        </p:blipFill>
        <p:spPr>
          <a:xfrm>
            <a:off x="0" y="1143000"/>
            <a:ext cx="9144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1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948360"/>
          </a:xfrm>
          <a:prstGeom prst="rect">
            <a:avLst/>
          </a:prstGeom>
          <a:ln w="0">
            <a:noFill/>
          </a:ln>
        </p:spPr>
      </p:pic>
      <p:sp>
        <p:nvSpPr>
          <p:cNvPr id="547" name="TextBox 4"/>
          <p:cNvSpPr/>
          <p:nvPr/>
        </p:nvSpPr>
        <p:spPr>
          <a:xfrm>
            <a:off x="642960" y="1071720"/>
            <a:ext cx="792972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742b9"/>
                </a:solidFill>
                <a:latin typeface="Calibri"/>
              </a:rPr>
              <a:t>Аліса повертається в країну чудес. Яскравий світ зовсім потьмянів під чарами    злобної  Червоної  королеви. І тільки Аліса  впоралася  б із підступною завойовницею і повернула б престол істинній   правительці  країни чудес- Білій королеві. Але от лихо. Аліса  нічого не пам’ятає.Їй все здається сном. Алісо, зупинись, допоможи Білій королеві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42960" y="4643280"/>
          <a:ext cx="7643880" cy="1416240"/>
        </p:xfrm>
        <a:graphic>
          <a:graphicData uri="http://schemas.openxmlformats.org/drawingml/2006/table">
            <a:tbl>
              <a:tblPr/>
              <a:tblGrid>
                <a:gridCol w="2548080"/>
                <a:gridCol w="2547720"/>
                <a:gridCol w="2548080"/>
              </a:tblGrid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ьна 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жана, можлива 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нукання до д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Рисунок 1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367920" cy="68691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3"/>
          <p:cNvSpPr/>
          <p:nvPr/>
        </p:nvSpPr>
        <p:spPr>
          <a:xfrm>
            <a:off x="357120" y="1143000"/>
            <a:ext cx="8572680" cy="3751560"/>
          </a:xfrm>
          <a:prstGeom prst="rect">
            <a:avLst/>
          </a:prstGeom>
          <a:solidFill>
            <a:srgbClr val="c5d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742b9"/>
                </a:solidFill>
                <a:latin typeface="Calibri"/>
              </a:rPr>
              <a:t>Способи дієслі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742b9"/>
                </a:solidFill>
                <a:latin typeface="Calibri"/>
              </a:rPr>
              <a:t>дійсний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6000" spc="-1" strike="noStrike">
                <a:solidFill>
                  <a:srgbClr val="0742b9"/>
                </a:solidFill>
                <a:latin typeface="Calibri"/>
              </a:rPr>
              <a:t>умовний наказов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трелка вниз 6"/>
          <p:cNvSpPr/>
          <p:nvPr/>
        </p:nvSpPr>
        <p:spPr>
          <a:xfrm rot="3328800">
            <a:off x="1678320" y="1933920"/>
            <a:ext cx="928800" cy="1416240"/>
          </a:xfrm>
          <a:prstGeom prst="downArrow">
            <a:avLst>
              <a:gd name="adj1" fmla="val 50000"/>
              <a:gd name="adj2" fmla="val 5838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трелка вниз 7"/>
          <p:cNvSpPr/>
          <p:nvPr/>
        </p:nvSpPr>
        <p:spPr>
          <a:xfrm>
            <a:off x="4071960" y="2357280"/>
            <a:ext cx="928800" cy="14288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трелка вниз 8"/>
          <p:cNvSpPr/>
          <p:nvPr/>
        </p:nvSpPr>
        <p:spPr>
          <a:xfrm rot="19125000">
            <a:off x="6382800" y="2025360"/>
            <a:ext cx="928800" cy="1342800"/>
          </a:xfrm>
          <a:prstGeom prst="downArrow">
            <a:avLst>
              <a:gd name="adj1" fmla="val 50000"/>
              <a:gd name="adj2" fmla="val 4995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Рисунок 1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3"/>
          <p:cNvSpPr/>
          <p:nvPr/>
        </p:nvSpPr>
        <p:spPr>
          <a:xfrm>
            <a:off x="500040" y="1000080"/>
            <a:ext cx="728676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42b9"/>
                </a:solidFill>
                <a:latin typeface="Times New Roman"/>
              </a:rPr>
              <a:t>Гра «Хто швидш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творити від поданих дієслів теперішнього часу  форму наказового спосо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ереглядати, знати, малювати, розвивати ,раді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16:46:00Z</dcterms:created>
  <dc:creator>Admin</dc:creator>
  <dc:description/>
  <cp:keywords/>
  <dc:language>en-US</dc:language>
  <cp:lastModifiedBy>User</cp:lastModifiedBy>
  <cp:lastPrinted>1899-12-30T00:00:00Z</cp:lastPrinted>
  <dcterms:modified xsi:type="dcterms:W3CDTF">2017-10-07T14:16:54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32</vt:lpwstr>
  </property>
</Properties>
</file>