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77F-018B-4EA5-844C-7CA8B5DA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BFA-B8FD-45A5-AE1D-AAAF38E0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E14-9554-4D4D-A78A-6F1E3F0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E3B-2B9B-4D58-B4DA-01C582AF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D53-0FF8-49B5-B15E-5D88E41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435-6B4D-4287-8AFE-BA84DC3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CFF-4F67-416A-8888-95900DD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9AB-BB0F-4349-975B-2746D4A7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893-B1CA-4F63-B0FC-CD882C7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439-24AB-4C6C-97EF-826435D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27C-CD41-4EC3-9B43-E37E070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930-8E3E-4256-AF4B-6A86A29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347-DE4B-4EF6-B176-C5BC6B55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026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52200" y="265572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зка про золоту сок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18908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2349360"/>
            <a:ext cx="76327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аїнські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рівні  казки    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58520" y="907920"/>
            <a:ext cx="45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00ff"/>
                </a:solidFill>
                <a:latin typeface="Arial"/>
              </a:rPr>
              <a:t>САМОПЕРЕВІ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3280" y="2943360"/>
            <a:ext cx="10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26920" y="981000"/>
            <a:ext cx="741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ИПТОГРА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3391920" y="3665520"/>
            <a:ext cx="310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                  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                              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                                        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                                  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1657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851280" y="4365720"/>
            <a:ext cx="216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941720"/>
            <a:ext cx="936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788000" y="3933360"/>
            <a:ext cx="792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067280" y="3933720"/>
            <a:ext cx="151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4437000"/>
            <a:ext cx="2017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4000" y="5445000"/>
            <a:ext cx="208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924360" y="4941360"/>
            <a:ext cx="2303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21281400">
            <a:off x="477720" y="2779560"/>
            <a:ext cx="8423280" cy="22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ІЗКУЛЬТХВИЛ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80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7984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2637000"/>
            <a:ext cx="4967640" cy="35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КРА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ГІРКА ПРАВ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НІЖ СОЛОДКА БРЕХ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1281400">
            <a:off x="611280" y="1773000"/>
            <a:ext cx="8423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є завданн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20680" y="3493440"/>
            <a:ext cx="762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 Соняшник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иразно читати казку, відповідати на запит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Барвінок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думати продовженн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Перший народний музей Т.Г.Шевченка &quot;Тарасова світлиця&quot;"/>
          <p:cNvPicPr/>
          <p:nvPr/>
        </p:nvPicPr>
        <p:blipFill>
          <a:blip r:embed="rId1"/>
          <a:stretch/>
        </p:blipFill>
        <p:spPr>
          <a:xfrm>
            <a:off x="108000" y="1341360"/>
            <a:ext cx="8856720" cy="551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4560" y="333360"/>
            <a:ext cx="70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Українська хата - світлиц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1440" y="620640"/>
            <a:ext cx="48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9999"/>
                </a:solidFill>
                <a:latin typeface="Arial"/>
              </a:rPr>
              <a:t>Поділ на груп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1654200" cy="16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2349360"/>
            <a:ext cx="1884240" cy="1652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48720" y="4149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оня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4160" y="40766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барві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3500280"/>
            <a:ext cx="3744720" cy="28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2421000"/>
            <a:ext cx="66960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633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О К И Р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42040" y="1403280"/>
            <a:ext cx="480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рочитайте назву каз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викинувши літери,щ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повторюю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508640"/>
            <a:ext cx="75610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ЗННОЛОННТННА             ННСННОННКННИР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8:03:39Z</dcterms:created>
  <dc:creator>Admin</dc:creator>
  <dc:description/>
  <dc:language>en-US</dc:language>
  <cp:lastModifiedBy>Admin</cp:lastModifiedBy>
  <dcterms:modified xsi:type="dcterms:W3CDTF">2014-11-27T13:11:57Z</dcterms:modified>
  <cp:revision>5</cp:revision>
  <dc:subject/>
  <dc:title>Слайд 1</dc:title>
</cp:coreProperties>
</file>