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637-8C02-43D6-BCBD-AD7EC79D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1E2-6521-4287-BE7F-36167B33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525-4F22-4A5B-80F3-BF75B641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B71-ED1C-4A94-A328-0FAA756C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62A2-455B-4282-9EA2-5C60B58C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163C-1FEC-4F95-9653-1E361C53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CB47-BB66-413F-8303-9325A34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6ED-46E4-4BA0-8A5C-6BEAB379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1553-892F-4A46-A394-B1E2D50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A28C-F635-455B-B0C7-1474004D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D4B4-4837-44F8-866A-45679D7D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764F-61B0-48D8-BD2D-F4AE5EF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22B8-4D75-4854-B02A-594F990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FBF-FB8C-4FF3-9B25-1C7AEC47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110-BF0D-4520-BF75-20881756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B1D2-8996-42B8-A582-054E5309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157F-4709-4028-BA41-D93CE37D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259-E5D4-4418-907F-6BA7533A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9598-9AC0-4920-9818-A53F408C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EFE-9B9B-4F8A-A2FD-55B07C90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360-B7F7-44A0-8609-BC77D14E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5FC3-2859-47B7-918C-DFF99F22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100-06A8-42CB-8741-19207256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4D7-A738-4C3B-881C-04FFA1F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305E-4CB3-4874-8BC4-643DC02A14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3145-CD08-4EDE-AB0A-F815B9931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соніфікація – образний вислів, у якому ознаки людини переносяться на неживий предмет чи явище (олюднення), наприклад : танцюють сніжинки, спить камі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беріть ключове слово, яке б відображало ваше враження від поезії «За сонцем хмаронька пливе» та складіть сенк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. Домашнє завданн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.Обо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зковий мінімум : вивчити поезію нап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. Практичний рівень : вивчити поняття персоніфікація і вміти наводити прикла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3.Творчий рівень : використовуючи терміни з теорії літератури, складіть письмово образний малюнок приро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60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716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3344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ма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: Картини навколишнього світу,  природи в поезіях Т.Шевченка – інша, художня реальність, створена уявою митця  за допомогою засобів образної мови. «За сонцем хмаронька пливе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асоби образної мови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пі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це слово чи словосполучення, завдяки особливій ​​функції в тексті, допомагає слову набути нового значення або смислового відтінку, підкреслює характерну рису, визначальну якість певного предмету або явища, збагачує мову новим емоційним сенсом, додає до тексту певної мальовничості, насиченост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́фор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— один із основних тропів поетичного мовлення. У метафорі певні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та словосполучення розкривають сутність одних явищ та предметів через інші за схожістю чи контрастністю 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рівнянн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— троп, який полягає у зіставленні одного предмета з іншим для того, щоб глибше розкрити, яскравіше змалювати й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 група – добирає епітети до картин Т.Шевче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І група – добирає метафори до картин живої прир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ІІ група – добирає спільні порівняння, які стосуються картин письменника та живої природ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ку ви уявили картин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кажіть про свої відчуття, викликані цією поезіє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пишіть словесно, яким ви уявляєте поета, коли він пише цей вірш? Який в нього вираз обличчя, стан душі, емоції, почутт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 за образ дарує нам світло і раді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 чим протиставляється сонце у вірші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явіть,  що ви  стали хмаркою. Ваші д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які дії хмари у поезії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йдіть їх у тексті і відтворіть  у таблиці, яка у вас на пар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 ще явища природи виступають у поезії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а їх роль? Відтворіть теж їх дії у таблиц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19:46:25Z</dcterms:created>
  <dc:creator>Admin</dc:creator>
  <dc:description/>
  <dc:language>en-US</dc:language>
  <cp:lastModifiedBy>Admin</cp:lastModifiedBy>
  <dcterms:modified xsi:type="dcterms:W3CDTF">2014-01-17T16:30:00Z</dcterms:modified>
  <cp:revision>3</cp:revision>
  <dc:subject/>
  <dc:title>Слайд 1</dc:title>
</cp:coreProperties>
</file>