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wmf" ContentType="image/x-wmf"/>
  <Override PartName="/ppt/media/image14.png" ContentType="image/png"/>
  <Override PartName="/ppt/media/image13.jpeg" ContentType="image/jpeg"/>
  <Override PartName="/ppt/media/image8.jpeg" ContentType="image/jpeg"/>
  <Override PartName="/ppt/media/image11.jpeg" ContentType="image/jpeg"/>
  <Override PartName="/ppt/media/image21.gif" ContentType="image/gif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7.wmf" ContentType="image/x-wmf"/>
  <Override PartName="/ppt/media/image20.jpeg" ContentType="image/jpeg"/>
  <Override PartName="/ppt/media/image1.jpeg" ContentType="image/jpeg"/>
  <Override PartName="/ppt/media/image6.wmf" ContentType="image/x-wmf"/>
  <Override PartName="/ppt/media/image19.jpeg" ContentType="image/jpeg"/>
  <Override PartName="/ppt/media/image2.png" ContentType="image/png"/>
  <Override PartName="/ppt/media/image4.jpeg" ContentType="image/jpe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AFF-A728-468C-936F-FA481395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312-1A09-4F0F-961D-117EA603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0C6-7750-4D4C-A21C-5B08B1DA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A56-80E1-45FF-9609-B9A8D458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CD2-40A4-4715-AAB2-12F0845C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ECA8-2264-4DDA-9789-7AE4317C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EB1-2E91-4D1D-8746-E9E0E087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A54-9DD4-4E87-B926-BF73E1BF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6C0-1D7A-4EA8-83BE-B820064E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FEB-80AD-453C-B208-5044A2FA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3F1-583A-4591-96E2-FD4814C7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924-6D61-4B81-B3ED-CAEF825B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1414-EC90-415E-8AE5-F1F268E96B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.ua/url?sa=i&amp;rct=j&amp;q=&#1089;&#1084;&#1072;&#1081;&#1083;&#1080;&#1082;&#1080;+&#1072;&#1085;&#1080;&#1084;&#1072;&#1094;&#1080;&#1103;&amp;source=images&amp;cd=&amp;docid=CVJ6sQmW1mWtEM&amp;tbnid=DzXyM7UyBJpNrM:&amp;ved=&amp;url=http%3A%2F%2Fsmiles-orlov.narod.ru%2F&amp;ei=HolAUejZHYPYPPykgZgM&amp;psig=AFQjCNGaVkIQsU6UTz_084okeEm7Wce26g&amp;ust=1363270302866674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ANd9GcTIgwwQ08OrDRkbyhIWjzTi131OhqRKvq1jKPq4wEsOJe3jX06F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sun">
            <a:hlinkClick r:id="rId2"/>
          </p:cNvPr>
          <p:cNvPicPr/>
          <p:nvPr/>
        </p:nvPicPr>
        <p:blipFill>
          <a:blip r:embed="rId3"/>
          <a:stretch/>
        </p:blipFill>
        <p:spPr>
          <a:xfrm rot="21023400">
            <a:off x="0" y="1752480"/>
            <a:ext cx="4572000" cy="43880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0"/>
          <p:cNvSpPr/>
          <p:nvPr/>
        </p:nvSpPr>
        <p:spPr>
          <a:xfrm>
            <a:off x="-471960" y="990720"/>
            <a:ext cx="905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«Посміхнися 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і він посміхнеться тобі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a965e8eab7c3"/>
          <p:cNvPicPr/>
          <p:nvPr/>
        </p:nvPicPr>
        <p:blipFill>
          <a:blip r:embed="rId4"/>
          <a:stretch/>
        </p:blipFill>
        <p:spPr>
          <a:xfrm>
            <a:off x="6172200" y="4229280"/>
            <a:ext cx="2695680" cy="2628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background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457200" y="144360"/>
            <a:ext cx="800244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Опрацювавши ситуаці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значт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Учасни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Конфліктну ситуаці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Інцид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Час виконання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2 хвил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background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3277440" y="502200"/>
            <a:ext cx="33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Типи конфлікт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85800" y="147852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нутрішньоособистісн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866920" y="147852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іжособистісн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685800" y="297072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ішньогрупов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5790960" y="297072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іжгрупов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ackground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2289240" y="456480"/>
            <a:ext cx="55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ичини виникнення конфлік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0000" y="1526400"/>
            <a:ext cx="82076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нструкція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ознайомитися з причинами виникнення конфлікт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їх особливостями та скласти по 1 ситуації на кожну з опрацьованих в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ичин конфлікт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Час виконанн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 3 хвили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background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304280" y="227160"/>
            <a:ext cx="654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и виникнення конфліктів в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кти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00200" y="914400"/>
          <a:ext cx="6629400" cy="4449600"/>
        </p:xfrm>
        <a:graphic>
          <a:graphicData uri="http://schemas.openxmlformats.org/drawingml/2006/table">
            <a:tbl>
              <a:tblPr/>
              <a:tblGrid>
                <a:gridCol w="1782720"/>
                <a:gridCol w="2743200"/>
                <a:gridCol w="2103480"/>
              </a:tblGrid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і причини виникнення конфлі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 причин виникнення конфлі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лікт ро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іткнення різних соціальних ролей, які виконуються однією людиною або декількома людьми (групам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лікт бажа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іткнення кількох бажань, інтересів у свідомості однієї людини або декількох людей з приводу того самого баж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лікт норм поведі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іткнення цінностей, норм поведінки, життєвого досвіду при взаємодії та спілкуванні люд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83"/>
          <p:cNvSpPr/>
          <p:nvPr/>
        </p:nvSpPr>
        <p:spPr>
          <a:xfrm>
            <a:off x="0" y="548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background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203640" y="5641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«Малюнок на двох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80880" y="1418760"/>
            <a:ext cx="81536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нструкція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у вас є один аркуш паперу на дво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 моєю командою ви починаєте малювати усе, що замане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 своїй половинці аркуш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Єдина умова – не можна перемовлятис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На це вам відводиться 3х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2013.03.26 07.01.45 620921fc067bca.mp3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4925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background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457200" y="338400"/>
            <a:ext cx="729612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нтерпретація малюнкі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якщо збережена нейтральна смуга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- людина уникає контактів, не бажає пускати на «свою територію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якщо наявні домальовування елементів у малюнку іншого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– людина перевіряє контакт (з тобою можна поговорити?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якщо спільний малюнок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– такі люди отримують насолоду від самого процесу взаємодії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захоплення території: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той, хто зробив це, активний, наві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гресивний, йому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властивий авторитетний стиль спілкування, який може призвести до порушення контактів, до конфлік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background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996840" y="1515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cc"/>
                </a:solidFill>
                <a:latin typeface="Arial"/>
              </a:rPr>
              <a:t>П’ять типових форм поведінки людей у конфліктній ситуаці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57200" y="79128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Уникнення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(прагнення вийти з конфліктної ситуації, не вирішуючи її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евіз: “Моя хата скраю, нічого не знаю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%D0%A0%D0%B0%D0%BA-300x237"/>
          <p:cNvPicPr/>
          <p:nvPr/>
        </p:nvPicPr>
        <p:blipFill>
          <a:blip r:embed="rId2"/>
          <a:stretch/>
        </p:blipFill>
        <p:spPr>
          <a:xfrm>
            <a:off x="7010280" y="533520"/>
            <a:ext cx="1866960" cy="1474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%D0%90%D0%BA%D1%83%D0%BB%D0%B0"/>
          <p:cNvPicPr/>
          <p:nvPr/>
        </p:nvPicPr>
        <p:blipFill>
          <a:blip r:embed="rId3"/>
          <a:stretch/>
        </p:blipFill>
        <p:spPr>
          <a:xfrm>
            <a:off x="6781680" y="1752480"/>
            <a:ext cx="1752840" cy="16239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1"/>
          <p:cNvSpPr/>
          <p:nvPr/>
        </p:nvSpPr>
        <p:spPr>
          <a:xfrm>
            <a:off x="219240" y="1827720"/>
            <a:ext cx="65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Суперництво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(конкуренція або відкрита бородьба за свої інтерес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завзяте відстоювання своєї позиції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евіз: “Усе тільки мені, а ви обійдетесь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43280" y="3199680"/>
            <a:ext cx="57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Компроміс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(урегулювання розбіжностей через взаємні дії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евіз: “Ти - мені, я - тоб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383559933"/>
          <p:cNvPicPr/>
          <p:nvPr/>
        </p:nvPicPr>
        <p:blipFill>
          <a:blip r:embed="rId4"/>
          <a:stretch/>
        </p:blipFill>
        <p:spPr>
          <a:xfrm>
            <a:off x="6019920" y="2971800"/>
            <a:ext cx="1771560" cy="12002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5"/>
          <p:cNvSpPr/>
          <p:nvPr/>
        </p:nvSpPr>
        <p:spPr>
          <a:xfrm>
            <a:off x="-6480" y="4266360"/>
            <a:ext cx="64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Пристосування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(зміна своєї позиції, згладжування супереч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на шкоду своїм інтереса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евіз: “Друзі, живімо дружно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-8280" y="5425920"/>
            <a:ext cx="58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Співпраця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(спільне вироблення вирішення, що задовольня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інтереси всіх сторін)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евіз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“Одна голова добре, і дві – краще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8" descr="koala%5B1%5D"/>
          <p:cNvPicPr/>
          <p:nvPr/>
        </p:nvPicPr>
        <p:blipFill>
          <a:blip r:embed="rId5"/>
          <a:stretch/>
        </p:blipFill>
        <p:spPr>
          <a:xfrm>
            <a:off x="6781680" y="4114800"/>
            <a:ext cx="1933560" cy="1365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Bankoboev"/>
          <p:cNvPicPr/>
          <p:nvPr/>
        </p:nvPicPr>
        <p:blipFill>
          <a:blip r:embed="rId6"/>
          <a:stretch/>
        </p:blipFill>
        <p:spPr>
          <a:xfrm>
            <a:off x="6248520" y="5334120"/>
            <a:ext cx="1904760" cy="1271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834480" y="427680"/>
            <a:ext cx="51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Шукати істину слід у собі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2373120" y="1981440"/>
            <a:ext cx="580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00cc"/>
                </a:solidFill>
                <a:latin typeface="Times New Roman"/>
              </a:rPr>
              <a:t>«Якщо хочеш змінити світ навколо себ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9900cc"/>
                </a:solidFill>
                <a:latin typeface="Times New Roman"/>
              </a:rPr>
              <a:t>почни з себ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mz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4800600" y="38862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Шукати істину слід у соб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609480" y="11430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cc"/>
                </a:solidFill>
                <a:latin typeface="Arial"/>
              </a:rPr>
              <a:t>«Якщо хочеш змінити світ навколо себ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00cc"/>
                </a:solidFill>
                <a:latin typeface="Arial"/>
              </a:rPr>
              <a:t>почни з себ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610920" y="1142640"/>
            <a:ext cx="474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Arial"/>
              </a:rPr>
              <a:t>Дякую вам за уваг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Arial"/>
              </a:rPr>
              <a:t>та вашу активність</a:t>
            </a:r>
            <a:r>
              <a:rPr b="1" i="1" lang="uk-UA" sz="3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2" descr="785498bd2751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3"/>
          <p:cNvSpPr/>
          <p:nvPr/>
        </p:nvSpPr>
        <p:spPr>
          <a:xfrm>
            <a:off x="4191120" y="380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00cc"/>
                </a:solidFill>
                <a:latin typeface="Arial"/>
              </a:rPr>
              <a:t>Дякую за уваг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00cc"/>
                </a:solidFill>
                <a:latin typeface="Arial"/>
              </a:rPr>
              <a:t>та вашу активн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2055648-7024b2c054201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6"/>
          <p:cNvGraphicFramePr/>
          <p:nvPr/>
        </p:nvGraphicFramePr>
        <p:xfrm>
          <a:off x="838080" y="762120"/>
          <a:ext cx="7010640" cy="464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762120"/>
                    <a:ext cx="70106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2055648-7024b2c054201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Object 6"/>
          <p:cNvGraphicFramePr/>
          <p:nvPr/>
        </p:nvGraphicFramePr>
        <p:xfrm>
          <a:off x="533520" y="762120"/>
          <a:ext cx="7848360" cy="425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762120"/>
                    <a:ext cx="784836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2055648-7024b2c054201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Object 6"/>
          <p:cNvGraphicFramePr/>
          <p:nvPr/>
        </p:nvGraphicFramePr>
        <p:xfrm>
          <a:off x="1247760" y="2214720"/>
          <a:ext cx="6648480" cy="329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47760" y="2214720"/>
                    <a:ext cx="664848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640319599770009472"/>
          <p:cNvPicPr/>
          <p:nvPr/>
        </p:nvPicPr>
        <p:blipFill>
          <a:blip r:embed="rId1"/>
          <a:stretch/>
        </p:blipFill>
        <p:spPr>
          <a:xfrm>
            <a:off x="5524560" y="2819520"/>
            <a:ext cx="3619440" cy="3809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2055648-7024b2c05420109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Object 10"/>
          <p:cNvGraphicFramePr/>
          <p:nvPr/>
        </p:nvGraphicFramePr>
        <p:xfrm>
          <a:off x="1168560" y="1600200"/>
          <a:ext cx="6806880" cy="4525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8560" y="1600200"/>
                    <a:ext cx="68068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055648-7024b2c054201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1912320" y="1142640"/>
            <a:ext cx="52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42, 1%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важають, що варто демонструва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вій емоційний ст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753200" y="2361600"/>
            <a:ext cx="64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63,1%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чуваються не комфортно поряд з людино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яка вільно демонструє свої емо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210544576"/>
          <p:cNvPicPr/>
          <p:nvPr/>
        </p:nvPicPr>
        <p:blipFill>
          <a:blip r:embed="rId2"/>
          <a:stretch/>
        </p:blipFill>
        <p:spPr>
          <a:xfrm>
            <a:off x="838080" y="3429000"/>
            <a:ext cx="403884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TGKvw7v9J2ov5O0y7tcR8hSoFpbtrt4-eVzKgnjL7kWQyFKgIhj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685440" y="1749960"/>
            <a:ext cx="700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Жити – значить мати пробле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рішувати їх – значить рости інтелектуально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ж. П. Гілфорд, псих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background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2745360" y="1065960"/>
            <a:ext cx="44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Конфлікт у спілкуван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83320" y="2133720"/>
            <a:ext cx="8858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ета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ознайомити дітей з поняттям «конфлікт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рмами поведінки людей у конфлікт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значити основні причини виникнення конфліктних ситуаці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ивати увагу, логічне мислення, виховувати бажання до самовдосконаленн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агнення пізнання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primer-fon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2589120" y="762120"/>
            <a:ext cx="44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Конфлікт у спілкуван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"/>
          <p:cNvSpPr/>
          <p:nvPr/>
        </p:nvSpPr>
        <p:spPr>
          <a:xfrm>
            <a:off x="281160" y="2274840"/>
            <a:ext cx="771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ета: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знайомити дітей 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няттям «конфлікт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формами поведінки людей у конфлікті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значити основні причини виникнення конфліктних ситуацій, розвивати увагу, логічне мислення, виховувати бажання до самовдосконалення, прагнення пізнання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нфлікт (від лат. Conflictus ) — ситуація, в якій кожна зі сторін намагається зайняти позицію несумісну з інтересами іншої стор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(зіткнення або боротьба, ворожі стосунк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ackground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1219320" y="990720"/>
            <a:ext cx="76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онфлікт (від лат. Conflictus) — ситуація, в якій кожна зі сторін намагається зайняти позицію несумісну з інтересами іншої стор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27T02:18:4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