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7.jpeg" ContentType="image/jpeg"/>
  <Override PartName="/ppt/media/image27.png" ContentType="image/png"/>
  <Override PartName="/ppt/media/image25.jpeg" ContentType="image/jpeg"/>
  <Override PartName="/ppt/media/image32.png" ContentType="image/png"/>
  <Override PartName="/ppt/media/image8.wmf" ContentType="image/x-wmf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13.jpeg" ContentType="image/jpeg"/>
  <Override PartName="/ppt/media/image33.png" ContentType="image/png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35.png" ContentType="image/png"/>
  <Override PartName="/ppt/media/image36.wmf" ContentType="image/x-wmf"/>
  <Override PartName="/ppt/media/image16.png" ContentType="image/png"/>
  <Override PartName="/ppt/media/image4.wmf" ContentType="image/x-wmf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86D-2F98-4C1C-AB84-327C3D31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963-16DA-46A6-813D-FDBDD0D0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084C0-E2C2-48AA-B181-B0C88FD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21049-EF56-4B17-995F-C7D3391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743F7-FCAA-48B7-BAEF-7F01E52D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6F151-2C59-4728-9421-DBE82B3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9CF18-2864-4EA5-AFB4-31F5AE8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F5F20-BD42-4DAE-BA9D-F058C5E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8E5D4-6DEB-4EC3-AD70-2B2DE48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2226C-BFCD-4303-9309-0F2BFF45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90DC4-FE90-48BD-B949-3598A181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260FC-8455-4A70-9195-D8F65800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798-F9DF-4554-90BE-B4A9BA65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C20C9-08A5-43EC-94C9-50D5CE5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5C92A-ADEA-400F-B12C-54F7329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C2476-87E8-4C00-9487-326B96F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269F9-3186-4A80-9D82-4C24C378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2427F-380D-469A-812C-A2D8C6D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285CF-697E-4362-A13A-20C3B44F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3F18B-E698-448E-96E6-8E3DB11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6416-8F89-495D-8348-2B29F0E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F3DE8-9DBC-4729-9AC5-597888C2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A6771-32F5-430F-8998-7926C752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AFB-B141-47F3-8B32-2579187C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09331-591C-44D5-B6D4-9A1691C6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AFFB-8C76-46B6-A85A-17527433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9F958-7DF4-4B98-BC9A-4879FB03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54F5D-E917-4652-BE61-51335E7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06E65-92D6-47AD-83F2-598F44E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212C9-43AF-4FD7-9756-BCE63AAC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DFD59-6FB7-411B-9A8F-916E4D91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BFF7-C48D-41CC-BB82-BDF4B46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93503-19BE-4625-A6E1-6060147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438BE-35FA-4B9C-A3D2-24C5E1B7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D4B4-F395-4E81-AC87-E5574432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DE970-48D7-4066-827F-77B74954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CF805-7C5F-4959-BAA6-BB2198A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C404D-ABE0-40AD-9044-A1DC4F9B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2830C-B293-4A37-95D0-36932EC5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DA989-227A-4F8C-B3F1-43D01C23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0D621-C082-43A9-85F8-DF9233E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DC562-1C6D-4D08-94A9-FD5D084C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F1AA7-5CC5-43BA-99B2-A5E2A70A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9754F-BD63-43F1-AE3F-48E58B22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789B2-BE55-4A5F-8788-62800A9E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B331-B32E-45F7-8E0F-C2815C33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9C8BD-598F-4DC4-82D1-2037413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656AA-2525-437D-8230-6DAD809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39784-A76E-4435-B00C-C490EAB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EAA10-B25B-454F-AA52-390B802A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B9869-0180-4402-A81B-63189C1C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F332-AFEA-49DA-846E-E27E66BD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B5C7-4689-406C-88B2-5659CFB4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9078-BA35-4B15-8B2B-4D44F8D9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0839-58F6-4A18-859D-E24BECDE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E2DA-077B-4369-8954-BE7BD3A6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C9E-AFC0-43ED-89EF-E8BDACE9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A325-878C-40CD-9C69-87B76A33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6815-A9A6-4E83-8963-4035E68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47C-81C1-4E3F-879C-6F8B047A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E323-6990-40C1-A513-7345535D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3DAB-6896-4E10-ABB8-937593E7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A809-78B4-4DD8-A7E5-155DC41E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A40E-3AA9-4CAF-994E-89A2AD5F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D137-B723-41A1-A9A6-522DB4E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8965-493E-439E-95AB-3D0A812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0CC9-8D79-4511-B392-C6D22D6D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38C-E773-4DD7-BB3F-696850E1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F8F1-E002-43C3-8D32-AE3205A2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9BBE-7694-4116-8537-10771F6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CC5A-BA3C-45E1-BC0A-DE2B9CE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A48A-E960-43D7-A588-38D2C30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A6AE-86BD-44FB-9391-5B66832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2002-495F-4A8A-A347-11DF7AE5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74C5-CD33-42EF-B996-2A411439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C53E-E63C-4F2C-B883-462A1C1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87CE-596F-433B-AB36-45B5738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2867-8D9D-469D-92AA-1225284D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A35-D7CA-4581-AB05-C2291A3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66C4-0A3A-4759-89CD-904A04AD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A154-CB01-426C-8404-8FD6A62F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4EC99-2A26-4767-BC9D-05D5E39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AD06-478F-4C5C-A72B-AB9E237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6F4C-5C90-44DB-B735-890A0AC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B467-824E-4488-A754-E4B79CD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DD3D-DC54-4D48-9D7C-3A88F7AE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2780-1A72-4F2C-919E-E63AF109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A3D2-78F2-4601-A8AB-BA905862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210E-5963-4CCC-BD8F-425BAEC6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ADA-5FBE-4F66-B238-8D0ADCFE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C2A2-D964-4EF9-842E-5BACDDD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08E1-FEAD-4F65-B292-22ACF8EA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4219-D905-4C31-8A59-54AA941F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A8E2-14D9-4921-A160-AEA5397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DB70-5A03-4BF0-9C1E-882AE817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A32AD-6111-4D60-8111-214AAFE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16D9-AC51-44AD-AD02-53ED8FC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ECAB-EA29-4D86-B501-12FF38E9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0646-DCED-4801-93C8-62C16F93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1B510-45D0-4F30-8E32-893F2A76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AA2-0406-4485-8B0A-08EB3F71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5B32-3BFE-44D8-988C-882F662D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20BF-377D-48E7-804F-5E63470A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29C0-6F7C-4851-8C5D-1D0A7F2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ED322-9C58-4532-B53B-F1B53D7E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6F67-1BDB-4E10-9683-20BD97D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C315-488E-4ED6-A947-2C5BBBE6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44F4-29ED-486B-B479-AC66AF60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1252-3768-4F96-ABC8-DA62E92F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6438D-72B1-461A-B66D-C126016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5A467-C2B0-4FDA-9743-807168B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766-23AF-45FB-9439-6134D90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ACA9-7A9A-4AF5-A800-50DC8A7D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057B5-E71E-4C69-82D2-F5CCB791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3F89-9339-4558-BC22-2C79AD2D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C340-BD92-4999-A0DF-4DE12C0C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E245A-BCDE-4632-84AF-25D51F67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17810-673F-49BC-BAE8-B7DA1A31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04143-B72B-400F-B903-FD0EE0F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BBB3D-57E2-4FD0-A51C-159B9F76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9F2B-76D8-4751-9C7F-983B9668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01E0F-FBF8-4A1E-AAB1-E212DEB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F17-1554-42FD-81BA-FA90B5F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A494-AAB5-47D0-8425-DD50ED5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F008F-1B8B-487A-BB05-6FA2169E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B42AD-01ED-46B8-826A-910CD043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3AD8-80F7-4C98-AE6B-378EB45C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B974-27A0-468E-8E00-230752BB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5A752-5B70-4681-8BC2-9C47B089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E5844-B5F3-4813-AD32-5A1BA81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53CE-E3F8-43FC-A42B-93EA7551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75611-0296-44CE-8462-90CD94AF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0619-03D5-4A97-B177-3D5AA43D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576-1189-48AD-B1EE-071D07C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1661-003A-4779-9968-42AE5761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6A97-4B57-4110-8C9B-DCFCA42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C20B-3B73-4ABE-9C75-AEB0D17C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5003A-A144-45C9-A668-467E3A8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21E6-2E2F-4CE7-A38C-0A7013D6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BCBA0-1B23-4F98-B882-75A84C4F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3D9D7-9EFF-4310-B139-297CEDCE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3AB8F-E1C0-4645-BF70-540B8D7E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B484E-FC0C-40FA-A27F-37B0DA30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48675-9212-4A4B-8F2E-EF43040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83FC-2C33-4B6C-B7F3-ED05B6748E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6EC2-DBC4-45FA-BFDB-5E0CED563F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BEC4-50C5-4BB4-8EB4-36A6AEC3D2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8EFA-B5F6-4E91-9B13-8C05417F4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8871"/>
                </a:gs>
                <a:gs pos="50000">
                  <a:srgbClr val="00cc99"/>
                </a:gs>
                <a:gs pos="100000">
                  <a:srgbClr val="0088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8871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588073"/>
                </a:gs>
                <a:gs pos="100000">
                  <a:srgbClr val="008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7888-9D0F-4404-A879-B467AB9D79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00D5-44B4-4788-BF31-B885CD4510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5794-201C-4D0E-AFBB-ED8E60C5D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3190-734B-4A3D-83BC-28074B38E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25D1-EBD4-442E-86DB-EFFF66FBE6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7C30-59EE-4BC9-A020-36484723A4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FB2C-DA73-496F-9357-53F3A82F2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78A7-3AFB-49E3-B218-BB1DCD3A8D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99640" y="3068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214200" y="428760"/>
            <a:ext cx="878688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Гра з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інформатик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196666"/>
                </a:solidFill>
                <a:latin typeface="Tahoma"/>
              </a:rPr>
              <a:t>«</a:t>
            </a:r>
            <a:r>
              <a:rPr b="1" lang="uk-UA" sz="6600" spc="-1" strike="noStrike">
                <a:solidFill>
                  <a:srgbClr val="486768"/>
                </a:solidFill>
                <a:latin typeface="Tahoma"/>
              </a:rPr>
              <a:t>Показуха</a:t>
            </a:r>
            <a:r>
              <a:rPr b="1" lang="ru-RU" sz="6200" spc="-1" strike="noStrike">
                <a:solidFill>
                  <a:srgbClr val="196666"/>
                </a:solidFill>
                <a:latin typeface="Tahoma"/>
              </a:rPr>
              <a:t>»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6286680" y="500040"/>
            <a:ext cx="210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3. Назвіть пристрій введення інформації, розташований на вашому робочому місці.</a:t>
            </a:r>
            <a:br>
              <a:rPr sz="3200"/>
            </a:br>
            <a:endParaRPr b="1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4. Скільки байтам  дорівнює 10 Кб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5. Яка ємність С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D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ROM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6. Що таке роздільна здатність екрану?</a:t>
            </a:r>
            <a:br>
              <a:rPr sz="3600"/>
            </a:b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7. Інша назва жорсткого диск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8. Призначення клавіші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Enter</a:t>
            </a: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9. Як називається диск, з якого можна завантажити ОС комп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ютера?</a:t>
            </a:r>
            <a:br>
              <a:rPr sz="3200"/>
            </a:br>
            <a:endParaRPr b="1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10. Які розширення мають виконувані файл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1. Маніпулятор, який використовується в комп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ютерних ігр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2. Мінімальна одиниця кодування.</a:t>
            </a:r>
            <a:br>
              <a:rPr sz="3600"/>
            </a:b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3. Алфавіт якої системи числення складається лише з двох цифр: 0 та 1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4. Програма, яка дає змогу опрацьовувати тек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7818480" cy="5214960"/>
          </a:xfrm>
          <a:prstGeom prst="rect">
            <a:avLst/>
          </a:prstGeom>
          <a:solidFill>
            <a:srgbClr val="008871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ff"/>
                </a:solidFill>
                <a:latin typeface="Tahoma"/>
              </a:rPr>
              <a:t>2 конкурс</a:t>
            </a:r>
            <a:r>
              <a:rPr b="1" lang="uk-UA" sz="6600" spc="-1" strike="noStrike">
                <a:solidFill>
                  <a:srgbClr val="dddddd"/>
                </a:solidFill>
                <a:latin typeface="Tahoma"/>
              </a:rPr>
              <a:t>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66"/>
                </a:solidFill>
                <a:latin typeface="Tahoma"/>
              </a:rPr>
              <a:t>«Лови помилку»</a:t>
            </a:r>
            <a:endParaRPr b="1" lang="en-US" sz="66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/>
          <p:cNvSpPr/>
          <p:nvPr/>
        </p:nvSpPr>
        <p:spPr>
          <a:xfrm>
            <a:off x="684360" y="1484280"/>
            <a:ext cx="6767280" cy="453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Tahoma"/>
              </a:rPr>
              <a:t>Командам показую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Tahoma"/>
              </a:rPr>
              <a:t>групи слів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Tahoma"/>
              </a:rPr>
              <a:t>а вони швидк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Tahoma"/>
              </a:rPr>
              <a:t>повинні знайти зайве</a:t>
            </a:r>
            <a:r>
              <a:rPr b="0" lang="uk-UA" sz="3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5"/>
          <p:cNvSpPr/>
          <p:nvPr/>
        </p:nvSpPr>
        <p:spPr>
          <a:xfrm>
            <a:off x="395280" y="981000"/>
            <a:ext cx="3313080" cy="158760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моніто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AutoShape 6"/>
          <p:cNvSpPr/>
          <p:nvPr/>
        </p:nvSpPr>
        <p:spPr>
          <a:xfrm>
            <a:off x="2484360" y="2349360"/>
            <a:ext cx="3527640" cy="158616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колонки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AutoShape 69"/>
          <p:cNvSpPr/>
          <p:nvPr/>
        </p:nvSpPr>
        <p:spPr>
          <a:xfrm>
            <a:off x="5148360" y="3860640"/>
            <a:ext cx="3384360" cy="177336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скан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3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5"/>
          <p:cNvSpPr/>
          <p:nvPr/>
        </p:nvSpPr>
        <p:spPr>
          <a:xfrm>
            <a:off x="395280" y="549360"/>
            <a:ext cx="3097080" cy="201924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Пан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інструмент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2627280" y="1989000"/>
            <a:ext cx="3311640" cy="20908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рядок меню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AutoShape 69"/>
          <p:cNvSpPr/>
          <p:nvPr/>
        </p:nvSpPr>
        <p:spPr>
          <a:xfrm>
            <a:off x="5148360" y="3500280"/>
            <a:ext cx="2952720" cy="213372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панель завдань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5"/>
          <p:cNvSpPr/>
          <p:nvPr/>
        </p:nvSpPr>
        <p:spPr>
          <a:xfrm>
            <a:off x="395280" y="1125360"/>
            <a:ext cx="2808360" cy="144324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диск</a:t>
            </a: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484360" y="2492280"/>
            <a:ext cx="3081240" cy="144324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дискета</a:t>
            </a: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AutoShape 69"/>
          <p:cNvSpPr/>
          <p:nvPr/>
        </p:nvSpPr>
        <p:spPr>
          <a:xfrm>
            <a:off x="5148360" y="3933720"/>
            <a:ext cx="2808360" cy="17002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веб-камера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5"/>
          <p:cNvSpPr/>
          <p:nvPr/>
        </p:nvSpPr>
        <p:spPr>
          <a:xfrm>
            <a:off x="395280" y="692280"/>
            <a:ext cx="3240000" cy="187632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клавіатура</a:t>
            </a: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2484360" y="2276640"/>
            <a:ext cx="3311640" cy="194436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миша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AutoShape 69"/>
          <p:cNvSpPr/>
          <p:nvPr/>
        </p:nvSpPr>
        <p:spPr>
          <a:xfrm>
            <a:off x="5003640" y="3716280"/>
            <a:ext cx="3168720" cy="206064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принтер</a:t>
            </a: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543800" cy="3838680"/>
          </a:xfrm>
          <a:prstGeom prst="rect">
            <a:avLst/>
          </a:prstGeom>
          <a:solidFill>
            <a:srgbClr val="008871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1 тур </a:t>
            </a:r>
            <a:br>
              <a:rPr sz="8000"/>
            </a:br>
            <a:br>
              <a:rPr sz="8000"/>
            </a:br>
            <a:r>
              <a:rPr b="1" lang="uk-UA" sz="8000" spc="-1" strike="noStrike">
                <a:solidFill>
                  <a:srgbClr val="dddddd"/>
                </a:solidFill>
                <a:latin typeface="Tahoma"/>
              </a:rPr>
              <a:t>“Бліц”</a:t>
            </a:r>
            <a:r>
              <a:rPr b="1" lang="ru-RU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5"/>
          <p:cNvSpPr/>
          <p:nvPr/>
        </p:nvSpPr>
        <p:spPr>
          <a:xfrm>
            <a:off x="395280" y="692280"/>
            <a:ext cx="3240000" cy="187632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папка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2484360" y="2276640"/>
            <a:ext cx="3311640" cy="194436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кноп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AutoShape 69"/>
          <p:cNvSpPr/>
          <p:nvPr/>
        </p:nvSpPr>
        <p:spPr>
          <a:xfrm>
            <a:off x="5003640" y="3716280"/>
            <a:ext cx="3168720" cy="206064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ярл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5"/>
          <p:cNvSpPr/>
          <p:nvPr/>
        </p:nvSpPr>
        <p:spPr>
          <a:xfrm>
            <a:off x="395280" y="692280"/>
            <a:ext cx="3240000" cy="187632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копіюва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2484360" y="2276640"/>
            <a:ext cx="3311640" cy="194436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вигля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AutoShape 69"/>
          <p:cNvSpPr/>
          <p:nvPr/>
        </p:nvSpPr>
        <p:spPr>
          <a:xfrm>
            <a:off x="5003640" y="3716280"/>
            <a:ext cx="3168720" cy="206064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встави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256040" y="979560"/>
            <a:ext cx="673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81240"/>
                <a:tab algn="ctr" pos="341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66"/>
                </a:solidFill>
                <a:latin typeface="Tahoma"/>
              </a:rPr>
              <a:t>3 кокурс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181240"/>
                <a:tab algn="ctr" pos="341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181240"/>
                <a:tab algn="ctr" pos="341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181240"/>
                <a:tab algn="ctr" pos="341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uk-UA" sz="7200" spc="-1" strike="noStrike">
                <a:solidFill>
                  <a:srgbClr val="ff0066"/>
                </a:solidFill>
                <a:latin typeface="Tahoma"/>
              </a:rPr>
              <a:t>Малювалки”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1"/>
          <p:cNvSpPr txBox="1"/>
          <p:nvPr/>
        </p:nvSpPr>
        <p:spPr>
          <a:xfrm>
            <a:off x="179280" y="304920"/>
            <a:ext cx="878544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43434"/>
                </a:solid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43434"/>
              </a:solidFill>
              <a:latin typeface="Arial"/>
              <a:ea typeface="Arial"/>
            </a:endParaRPr>
          </a:p>
        </p:txBody>
      </p:sp>
      <p:sp>
        <p:nvSpPr>
          <p:cNvPr id="601" name="AutoShape 28">
            <a:hlinkClick r:id="rId1" action="ppaction://hlinksldjump"/>
          </p:cNvPr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684360" y="1053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uk-UA" sz="3600" spc="-1" strike="noStrike">
                <a:solidFill>
                  <a:srgbClr val="0000ff"/>
                </a:solidFill>
                <a:latin typeface="Tahoma"/>
              </a:rPr>
              <a:t>Учасникам гри доведеться намалювати пісні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ahoma"/>
              </a:rPr>
              <a:t>Правила такі: один учасник отримує назв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ahoma"/>
              </a:rPr>
              <a:t>пісень та малює на дошці її назву або зміс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47293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Мій телефон 911”</a:t>
            </a: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604" name="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967120" cy="3097080"/>
          </a:xfrm>
          <a:prstGeom prst="rect">
            <a:avLst/>
          </a:prstGeom>
          <a:ln w="0">
            <a:noFill/>
          </a:ln>
        </p:spPr>
      </p:pic>
      <p:pic>
        <p:nvPicPr>
          <p:cNvPr id="605" name="5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2952720" cy="29397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64000" y="5229360"/>
            <a:ext cx="47289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Жили у бабуси два весел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ых гуся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150640" y="1267560"/>
            <a:ext cx="484704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ff"/>
                </a:solidFill>
                <a:latin typeface="Tahoma"/>
              </a:rPr>
              <a:t>4 конкурс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uk-UA" sz="8000" spc="-1" strike="noStrike">
                <a:solidFill>
                  <a:srgbClr val="0000ff"/>
                </a:solidFill>
                <a:latin typeface="Tahoma"/>
              </a:rPr>
              <a:t>Ерудит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86920" y="981000"/>
            <a:ext cx="77835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Клавіатура, модем, дискета, байт, принтер, вінчестер, плотер, гігабайт, біт, сканер, процесор, форматування, інформатика, мегагерц, Інтернет.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84160" cy="1079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716400" y="189000"/>
            <a:ext cx="652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Tahoma"/>
              </a:rPr>
              <a:t>Слова для кросворд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WordArt 21"/>
          <p:cNvSpPr txBox="1"/>
          <p:nvPr/>
        </p:nvSpPr>
        <p:spPr>
          <a:xfrm>
            <a:off x="179280" y="304920"/>
            <a:ext cx="878544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243434"/>
                </a:solid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243434"/>
              </a:solidFill>
              <a:latin typeface="Arial"/>
              <a:ea typeface="Arial"/>
            </a:endParaRPr>
          </a:p>
        </p:txBody>
      </p:sp>
      <p:sp>
        <p:nvSpPr>
          <p:cNvPr id="612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46040" y="691200"/>
            <a:ext cx="80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0066"/>
                </a:solidFill>
                <a:latin typeface="Tahoma"/>
              </a:rPr>
              <a:t>Гра з вболівальника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rcRect l="0" t="5711" r="0" b="5711"/>
          <a:stretch/>
        </p:blipFill>
        <p:spPr>
          <a:xfrm>
            <a:off x="1908000" y="2276640"/>
            <a:ext cx="51818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2"/>
          <p:cNvSpPr/>
          <p:nvPr/>
        </p:nvSpPr>
        <p:spPr>
          <a:xfrm>
            <a:off x="500040" y="157176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Скромный серый колобок,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Длинный тонкий проводок,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Ну а на коробке -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Две или три кнопки.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В зоопарке есть зайчишка,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У компьютера  есть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МЫШК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8" name="Picture 4" descr="Мышь(mouse)1"/>
          <p:cNvPicPr/>
          <p:nvPr/>
        </p:nvPicPr>
        <p:blipFill>
          <a:blip r:embed="rId2"/>
          <a:stretch/>
        </p:blipFill>
        <p:spPr>
          <a:xfrm>
            <a:off x="6215040" y="1857240"/>
            <a:ext cx="2695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2"/>
          <p:cNvSpPr/>
          <p:nvPr/>
        </p:nvSpPr>
        <p:spPr>
          <a:xfrm>
            <a:off x="500040" y="1619280"/>
            <a:ext cx="757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Словно смелый капитан!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А на нем -  горит экран.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Яркой радугой он дышит,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И на нем компьютер пишет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И рисует без запинки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Всевозможные картинки.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Наверху машины всей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Размещае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Д И С П Л Е 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2" name="Picture 2" descr="Картинка 2 из 6752"/>
          <p:cNvPicPr/>
          <p:nvPr/>
        </p:nvPicPr>
        <p:blipFill>
          <a:blip r:embed="rId2"/>
          <a:stretch/>
        </p:blipFill>
        <p:spPr>
          <a:xfrm>
            <a:off x="5662440" y="1214280"/>
            <a:ext cx="32529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8"/>
          <p:cNvSpPr txBox="1"/>
          <p:nvPr/>
        </p:nvSpPr>
        <p:spPr>
          <a:xfrm>
            <a:off x="250920" y="11592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571680" y="476280"/>
            <a:ext cx="7961040" cy="48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486768"/>
                </a:solidFill>
                <a:latin typeface="Tahoma"/>
              </a:rPr>
              <a:t>За 1 хвилину вам потрібн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768"/>
                </a:solidFill>
                <a:latin typeface="Tahoma"/>
              </a:rPr>
              <a:t>правильно відповіст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768"/>
                </a:solidFill>
                <a:latin typeface="Tahoma"/>
              </a:rPr>
              <a:t>на якомога більшу кількіс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768"/>
                </a:solidFill>
                <a:latin typeface="Tahoma"/>
              </a:rPr>
              <a:t>запитан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768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2411280" y="4797360"/>
            <a:ext cx="38894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2"/>
          <p:cNvSpPr/>
          <p:nvPr/>
        </p:nvSpPr>
        <p:spPr>
          <a:xfrm>
            <a:off x="500040" y="157176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Около дисплея - главный блок: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Там бежит электроток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К самым важным микросхемам.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Этот блок зовут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С И С Т Е М Н Ы М</a:t>
            </a: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4" descr="Картинка 3 из 870"/>
          <p:cNvPicPr/>
          <p:nvPr/>
        </p:nvPicPr>
        <p:blipFill>
          <a:blip r:embed="rId2"/>
          <a:stretch/>
        </p:blipFill>
        <p:spPr>
          <a:xfrm>
            <a:off x="5072040" y="3214800"/>
            <a:ext cx="2643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142920" y="1500120"/>
            <a:ext cx="757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о клавишам прыг да скок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Бе-ре-ги но-го-ток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Раз-два и готово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Отстукали слово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от где пальцам физкульту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Это вот -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 Л А В И А Т У Р 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Picture 2" descr="Картинка 9 из 48661"/>
          <p:cNvPicPr/>
          <p:nvPr/>
        </p:nvPicPr>
        <p:blipFill>
          <a:blip r:embed="rId2"/>
          <a:stretch/>
        </p:blipFill>
        <p:spPr>
          <a:xfrm>
            <a:off x="5605560" y="1643040"/>
            <a:ext cx="3538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2"/>
          <p:cNvSpPr/>
          <p:nvPr/>
        </p:nvSpPr>
        <p:spPr>
          <a:xfrm>
            <a:off x="500040" y="157176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В ней записаны програм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И для мамы, и для папы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В упаковке, как конфет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Быстро верти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Д И С К Е Т 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4" name="Picture 2" descr="Картинка 2 из 649"/>
          <p:cNvPicPr/>
          <p:nvPr/>
        </p:nvPicPr>
        <p:blipFill>
          <a:blip r:embed="rId2"/>
          <a:stretch/>
        </p:blipFill>
        <p:spPr>
          <a:xfrm>
            <a:off x="6000840" y="1214280"/>
            <a:ext cx="22636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2"/>
          <p:cNvSpPr/>
          <p:nvPr/>
        </p:nvSpPr>
        <p:spPr>
          <a:xfrm>
            <a:off x="500040" y="1571760"/>
            <a:ext cx="5143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И компьютеры пор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Говорят между собо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Но для этого од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Им штуковина нуж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К телефону подключил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Сообщение получил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Вещь, известная не всем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Называе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М О Д Е 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8" name="Picture 2" descr="Картинка 14 из 2458"/>
          <p:cNvPicPr/>
          <p:nvPr/>
        </p:nvPicPr>
        <p:blipFill>
          <a:blip r:embed="rId2"/>
          <a:stretch/>
        </p:blipFill>
        <p:spPr>
          <a:xfrm>
            <a:off x="4973760" y="1214280"/>
            <a:ext cx="3527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2"/>
          <p:cNvSpPr/>
          <p:nvPr/>
        </p:nvSpPr>
        <p:spPr>
          <a:xfrm>
            <a:off x="500040" y="1571760"/>
            <a:ext cx="5857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Для чего же этот ящик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Он в себя бумагу тащи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И сейчас же буквы, точ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Запятые - строчка к строчке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Напечатает картин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Ловкий маст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Струйный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П Р И Н Т Е 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5" descr="sp"/>
          <p:cNvPicPr/>
          <p:nvPr/>
        </p:nvPicPr>
        <p:blipFill>
          <a:blip r:embed="rId2"/>
          <a:stretch/>
        </p:blipFill>
        <p:spPr>
          <a:xfrm>
            <a:off x="5934240" y="1500120"/>
            <a:ext cx="2950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3"/>
          <p:cNvSpPr/>
          <p:nvPr/>
        </p:nvSpPr>
        <p:spPr>
          <a:xfrm>
            <a:off x="500040" y="157176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А теперь, друзья, загадка!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Что такое: рукоятка,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Кнопки две, курок и хвостик?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Ну конечно, это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Д Ж О Й С Т И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Picture 8" descr="13023-48"/>
          <p:cNvPicPr/>
          <p:nvPr/>
        </p:nvPicPr>
        <p:blipFill>
          <a:blip r:embed="rId2"/>
          <a:stretch/>
        </p:blipFill>
        <p:spPr>
          <a:xfrm>
            <a:off x="6715080" y="1857240"/>
            <a:ext cx="20192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86960" y="1404360"/>
            <a:ext cx="7570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66"/>
                </a:solidFill>
                <a:latin typeface="Tahoma"/>
              </a:rPr>
              <a:t>5 конкурс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uk-UA" sz="8000" spc="-1" strike="noStrike">
                <a:solidFill>
                  <a:srgbClr val="ff0066"/>
                </a:solidFill>
                <a:latin typeface="Tahoma"/>
              </a:rPr>
              <a:t>Хто кращий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209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ристрої введення інформації”</a:t>
            </a:r>
            <a:br>
              <a:rPr sz="3600"/>
            </a:b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Назвіть основні пристрої введення інформації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Для чого потрібен скроллер на миші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Які різновиди миші ви знаєте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Призначення клавіші </a:t>
            </a:r>
            <a:r>
              <a:rPr b="0" lang="en-US" sz="2200" spc="-1" strike="noStrike">
                <a:solidFill>
                  <a:srgbClr val="660066"/>
                </a:solidFill>
                <a:latin typeface="Tahoma"/>
              </a:rPr>
              <a:t>Caps Lock</a:t>
            </a: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Назвіть функціональні клавіші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Яка клавіша призначена для копіювання поточного вигляду екрана у буфер обміну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Як вмикається мала цифрова клавіатура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Який пристрій використовують для введення графічної інформації з паперу в комп</a:t>
            </a:r>
            <a:r>
              <a:rPr b="0" lang="ru-RU" sz="2200" spc="-1" strike="noStrike">
                <a:solidFill>
                  <a:srgbClr val="660066"/>
                </a:solidFill>
                <a:latin typeface="Tahoma"/>
              </a:rPr>
              <a:t>’</a:t>
            </a: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ютер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Які види сканерів ви знаєте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660066"/>
                </a:solidFill>
                <a:latin typeface="Tahoma"/>
              </a:rPr>
              <a:t>У яких одиницях вимірюється роздільна здатність сканера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425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Пристрої виведення інформації”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Назвіть основні пристрої для виведення інформації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У яких одиницях вимірюється розмір екрана монітора по діагонал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 поділяються монітори за принципами дії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Наведіть приклад роздільної здатності екрану моніт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Назвіть клавішу переходу на початок ряд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і види принтерів ви знає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До яких портів зазвичай підключаються принтер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Назвіть принтер з найвищою швидкістю та якістю дру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Для чого потрібен плоттер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Пристрій для відтворення зву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Операційна система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Windows XP</a:t>
            </a: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”</a:t>
            </a:r>
            <a:endParaRPr b="1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Контейнер для зберігання файл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Основне вікно в інтерфейсі операційної систе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Що відкриває кнопка ПУС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Каталог, який не міститься в жодному іншому каталоз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Назвіть три операції, які входять до буферу обмі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Комбінація клавіш для переходу між відкритими вікн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Суфікс, відокремлений від імені файлу крапк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Системна папка для видалених файл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Розширення форматованого текс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Де відображається час, м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. Назвіть пристрій ПК, що виконує програму.</a:t>
            </a:r>
            <a:br>
              <a:rPr sz="3600"/>
            </a:b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2. Згідно з двійковим кодуванням скільки байт займає в пам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яті 1 симво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3. Які основні пристрої комп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ютера?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209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Носії інформації”</a:t>
            </a:r>
            <a:br>
              <a:rPr sz="4000"/>
            </a:br>
            <a:endParaRPr b="1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а найменша одиниця кодування інформації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Назвіть одиниці подання даних у порядку зростан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ий обсяг має нова чиста дискет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а різниця між дисками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D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R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 та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D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RW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ий обсяг нового чистого лазерного дис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ий обсяг нового одностороннього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DVD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Який обсяг нового двостороннього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DVD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Пристрій призначений для читання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D</a:t>
            </a: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 диск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По яких концентричних колах відбувається запис на дис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Tahoma"/>
              </a:rPr>
              <a:t>Найменша фізична ділянка поверхні диска, на яку можна записати дан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66"/>
                </a:solidFill>
                <a:latin typeface="Tahoma"/>
              </a:rPr>
              <a:t>6 конкурс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uk-UA" sz="6000" spc="-1" strike="noStrike">
                <a:solidFill>
                  <a:srgbClr val="ff0066"/>
                </a:solidFill>
                <a:latin typeface="Tahoma"/>
              </a:rPr>
              <a:t>«Назвіть елемент»</a:t>
            </a:r>
            <a:endParaRPr b="1" lang="en-US" sz="60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Рисунок 1" descr=""/>
          <p:cNvPicPr/>
          <p:nvPr/>
        </p:nvPicPr>
        <p:blipFill>
          <a:blip r:embed="rId1"/>
          <a:srcRect l="3490" t="2355" r="42921" b="95065"/>
          <a:stretch/>
        </p:blipFill>
        <p:spPr>
          <a:xfrm>
            <a:off x="785880" y="1143000"/>
            <a:ext cx="8072280" cy="500040"/>
          </a:xfrm>
          <a:prstGeom prst="rect">
            <a:avLst/>
          </a:prstGeom>
          <a:ln w="0">
            <a:noFill/>
          </a:ln>
        </p:spPr>
      </p:pic>
      <p:pic>
        <p:nvPicPr>
          <p:cNvPr id="658" name="Рисунок 2" descr=""/>
          <p:cNvPicPr/>
          <p:nvPr/>
        </p:nvPicPr>
        <p:blipFill>
          <a:blip r:embed="rId2"/>
          <a:srcRect l="12551" t="-103" r="9103" b="98272"/>
          <a:stretch/>
        </p:blipFill>
        <p:spPr>
          <a:xfrm>
            <a:off x="785880" y="2071800"/>
            <a:ext cx="8143920" cy="857160"/>
          </a:xfrm>
          <a:prstGeom prst="rect">
            <a:avLst/>
          </a:prstGeom>
          <a:ln w="0">
            <a:noFill/>
          </a:ln>
        </p:spPr>
      </p:pic>
      <p:pic>
        <p:nvPicPr>
          <p:cNvPr id="659" name="Рисунок 3" descr=""/>
          <p:cNvPicPr/>
          <p:nvPr/>
        </p:nvPicPr>
        <p:blipFill>
          <a:blip r:embed="rId3"/>
          <a:srcRect l="0" t="5703" r="46446" b="88901"/>
          <a:stretch/>
        </p:blipFill>
        <p:spPr>
          <a:xfrm>
            <a:off x="785880" y="3214800"/>
            <a:ext cx="7929360" cy="714240"/>
          </a:xfrm>
          <a:prstGeom prst="rect">
            <a:avLst/>
          </a:prstGeom>
          <a:ln w="0">
            <a:noFill/>
          </a:ln>
        </p:spPr>
      </p:pic>
      <p:sp>
        <p:nvSpPr>
          <p:cNvPr id="660" name="Прямоугольник 4"/>
          <p:cNvSpPr/>
          <p:nvPr/>
        </p:nvSpPr>
        <p:spPr>
          <a:xfrm>
            <a:off x="518400" y="142920"/>
            <a:ext cx="719892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Як називається цей елемент вік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1" name="Рисунок 1" descr=""/>
          <p:cNvPicPr/>
          <p:nvPr/>
        </p:nvPicPr>
        <p:blipFill>
          <a:blip r:embed="rId4"/>
          <a:srcRect l="0" t="97021" r="0" b="0"/>
          <a:stretch/>
        </p:blipFill>
        <p:spPr>
          <a:xfrm>
            <a:off x="857160" y="4429080"/>
            <a:ext cx="8286840" cy="571680"/>
          </a:xfrm>
          <a:prstGeom prst="rect">
            <a:avLst/>
          </a:prstGeom>
          <a:ln w="0">
            <a:noFill/>
          </a:ln>
        </p:spPr>
      </p:pic>
      <p:pic>
        <p:nvPicPr>
          <p:cNvPr id="662" name="Рисунок 6" descr=""/>
          <p:cNvPicPr/>
          <p:nvPr/>
        </p:nvPicPr>
        <p:blipFill>
          <a:blip r:embed="rId5"/>
          <a:srcRect l="0" t="94892" r="0" b="2886"/>
          <a:stretch/>
        </p:blipFill>
        <p:spPr>
          <a:xfrm>
            <a:off x="642960" y="5715000"/>
            <a:ext cx="8358120" cy="571680"/>
          </a:xfrm>
          <a:prstGeom prst="rect">
            <a:avLst/>
          </a:prstGeom>
          <a:ln w="0">
            <a:noFill/>
          </a:ln>
        </p:spPr>
      </p:pic>
      <p:pic>
        <p:nvPicPr>
          <p:cNvPr id="663" name="Прямоугольник 7" descr=""/>
          <p:cNvPicPr/>
          <p:nvPr/>
        </p:nvPicPr>
        <p:blipFill>
          <a:blip r:embed="rId6"/>
          <a:stretch/>
        </p:blipFill>
        <p:spPr>
          <a:xfrm>
            <a:off x="-255600" y="530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664" name="Прямоугольник 8" descr=""/>
          <p:cNvPicPr/>
          <p:nvPr/>
        </p:nvPicPr>
        <p:blipFill>
          <a:blip r:embed="rId7"/>
          <a:stretch/>
        </p:blipFill>
        <p:spPr>
          <a:xfrm>
            <a:off x="-255600" y="424332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665" name="Прямоугольник 9" descr=""/>
          <p:cNvPicPr/>
          <p:nvPr/>
        </p:nvPicPr>
        <p:blipFill>
          <a:blip r:embed="rId8"/>
          <a:stretch/>
        </p:blipFill>
        <p:spPr>
          <a:xfrm>
            <a:off x="-291960" y="302904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666" name="Прямоугольник 10" descr=""/>
          <p:cNvPicPr/>
          <p:nvPr/>
        </p:nvPicPr>
        <p:blipFill>
          <a:blip r:embed="rId9"/>
          <a:stretch/>
        </p:blipFill>
        <p:spPr>
          <a:xfrm>
            <a:off x="-255600" y="181620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667" name="Прямоугольник 11" descr=""/>
          <p:cNvPicPr/>
          <p:nvPr/>
        </p:nvPicPr>
        <p:blipFill>
          <a:blip r:embed="rId10"/>
          <a:stretch/>
        </p:blipFill>
        <p:spPr>
          <a:xfrm>
            <a:off x="-328680" y="5389560"/>
            <a:ext cx="12985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Рисунок 1" descr=""/>
          <p:cNvPicPr/>
          <p:nvPr/>
        </p:nvPicPr>
        <p:blipFill>
          <a:blip r:embed="rId1"/>
          <a:srcRect l="3490" t="2355" r="42921" b="95065"/>
          <a:stretch/>
        </p:blipFill>
        <p:spPr>
          <a:xfrm>
            <a:off x="785880" y="1143000"/>
            <a:ext cx="4429080" cy="500040"/>
          </a:xfrm>
          <a:prstGeom prst="rect">
            <a:avLst/>
          </a:prstGeom>
          <a:ln w="0">
            <a:noFill/>
          </a:ln>
        </p:spPr>
      </p:pic>
      <p:pic>
        <p:nvPicPr>
          <p:cNvPr id="669" name="Рисунок 2" descr=""/>
          <p:cNvPicPr/>
          <p:nvPr/>
        </p:nvPicPr>
        <p:blipFill>
          <a:blip r:embed="rId2"/>
          <a:srcRect l="12551" t="-103" r="9103" b="98272"/>
          <a:stretch/>
        </p:blipFill>
        <p:spPr>
          <a:xfrm>
            <a:off x="714240" y="2071800"/>
            <a:ext cx="4500720" cy="857160"/>
          </a:xfrm>
          <a:prstGeom prst="rect">
            <a:avLst/>
          </a:prstGeom>
          <a:ln w="0">
            <a:noFill/>
          </a:ln>
        </p:spPr>
      </p:pic>
      <p:pic>
        <p:nvPicPr>
          <p:cNvPr id="670" name="Рисунок 3" descr=""/>
          <p:cNvPicPr/>
          <p:nvPr/>
        </p:nvPicPr>
        <p:blipFill>
          <a:blip r:embed="rId3"/>
          <a:srcRect l="0" t="5703" r="46446" b="88901"/>
          <a:stretch/>
        </p:blipFill>
        <p:spPr>
          <a:xfrm>
            <a:off x="857160" y="3214800"/>
            <a:ext cx="4429080" cy="714240"/>
          </a:xfrm>
          <a:prstGeom prst="rect">
            <a:avLst/>
          </a:prstGeom>
          <a:ln w="0">
            <a:noFill/>
          </a:ln>
        </p:spPr>
      </p:pic>
      <p:sp>
        <p:nvSpPr>
          <p:cNvPr id="671" name="Прямоугольник 4"/>
          <p:cNvSpPr/>
          <p:nvPr/>
        </p:nvSpPr>
        <p:spPr>
          <a:xfrm>
            <a:off x="1205280" y="142920"/>
            <a:ext cx="415836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Правильні відповід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Рисунок 1" descr=""/>
          <p:cNvPicPr/>
          <p:nvPr/>
        </p:nvPicPr>
        <p:blipFill>
          <a:blip r:embed="rId4"/>
          <a:srcRect l="0" t="97021" r="0" b="0"/>
          <a:stretch/>
        </p:blipFill>
        <p:spPr>
          <a:xfrm>
            <a:off x="857160" y="4429080"/>
            <a:ext cx="4429080" cy="571680"/>
          </a:xfrm>
          <a:prstGeom prst="rect">
            <a:avLst/>
          </a:prstGeom>
          <a:ln w="0">
            <a:noFill/>
          </a:ln>
        </p:spPr>
      </p:pic>
      <p:pic>
        <p:nvPicPr>
          <p:cNvPr id="673" name="Рисунок 6" descr=""/>
          <p:cNvPicPr/>
          <p:nvPr/>
        </p:nvPicPr>
        <p:blipFill>
          <a:blip r:embed="rId5"/>
          <a:srcRect l="0" t="94892" r="0" b="2886"/>
          <a:stretch/>
        </p:blipFill>
        <p:spPr>
          <a:xfrm>
            <a:off x="642960" y="5715000"/>
            <a:ext cx="4643280" cy="571680"/>
          </a:xfrm>
          <a:prstGeom prst="rect">
            <a:avLst/>
          </a:prstGeom>
          <a:ln w="0">
            <a:noFill/>
          </a:ln>
        </p:spPr>
      </p:pic>
      <p:pic>
        <p:nvPicPr>
          <p:cNvPr id="674" name="Прямоугольник 7" descr=""/>
          <p:cNvPicPr/>
          <p:nvPr/>
        </p:nvPicPr>
        <p:blipFill>
          <a:blip r:embed="rId6"/>
          <a:stretch/>
        </p:blipFill>
        <p:spPr>
          <a:xfrm>
            <a:off x="-255600" y="530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675" name="Прямоугольник 8" descr=""/>
          <p:cNvPicPr/>
          <p:nvPr/>
        </p:nvPicPr>
        <p:blipFill>
          <a:blip r:embed="rId7"/>
          <a:stretch/>
        </p:blipFill>
        <p:spPr>
          <a:xfrm>
            <a:off x="-255600" y="424332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676" name="Прямоугольник 9" descr=""/>
          <p:cNvPicPr/>
          <p:nvPr/>
        </p:nvPicPr>
        <p:blipFill>
          <a:blip r:embed="rId8"/>
          <a:stretch/>
        </p:blipFill>
        <p:spPr>
          <a:xfrm>
            <a:off x="-291960" y="302904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677" name="Прямоугольник 10" descr=""/>
          <p:cNvPicPr/>
          <p:nvPr/>
        </p:nvPicPr>
        <p:blipFill>
          <a:blip r:embed="rId9"/>
          <a:stretch/>
        </p:blipFill>
        <p:spPr>
          <a:xfrm>
            <a:off x="-255600" y="181620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678" name="Прямоугольник 11" descr=""/>
          <p:cNvPicPr/>
          <p:nvPr/>
        </p:nvPicPr>
        <p:blipFill>
          <a:blip r:embed="rId10"/>
          <a:stretch/>
        </p:blipFill>
        <p:spPr>
          <a:xfrm>
            <a:off x="-328680" y="5389560"/>
            <a:ext cx="1298520" cy="1127160"/>
          </a:xfrm>
          <a:prstGeom prst="rect">
            <a:avLst/>
          </a:prstGeom>
          <a:ln w="0">
            <a:noFill/>
          </a:ln>
        </p:spPr>
      </p:pic>
      <p:sp>
        <p:nvSpPr>
          <p:cNvPr id="679" name="Прямоугольник 12"/>
          <p:cNvSpPr/>
          <p:nvPr/>
        </p:nvSpPr>
        <p:spPr>
          <a:xfrm>
            <a:off x="5376240" y="928800"/>
            <a:ext cx="349704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Строка основ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               </a:t>
            </a: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Прямоугольник 13"/>
          <p:cNvSpPr/>
          <p:nvPr/>
        </p:nvSpPr>
        <p:spPr>
          <a:xfrm>
            <a:off x="5631120" y="2000160"/>
            <a:ext cx="319680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Поло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прокру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Прямоугольник 14"/>
          <p:cNvSpPr/>
          <p:nvPr/>
        </p:nvSpPr>
        <p:spPr>
          <a:xfrm>
            <a:off x="5640840" y="3071880"/>
            <a:ext cx="323496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Пан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инстр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Прямоугольник 15"/>
          <p:cNvSpPr/>
          <p:nvPr/>
        </p:nvSpPr>
        <p:spPr>
          <a:xfrm>
            <a:off x="5645160" y="5857920"/>
            <a:ext cx="34862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Прямоугольник 16"/>
          <p:cNvSpPr/>
          <p:nvPr/>
        </p:nvSpPr>
        <p:spPr>
          <a:xfrm>
            <a:off x="5927400" y="4500720"/>
            <a:ext cx="27410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3434"/>
                </a:solidFill>
                <a:latin typeface="Tahoma"/>
              </a:rPr>
              <a:t>Панель зад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550440" y="1404360"/>
            <a:ext cx="8043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66"/>
                </a:solidFill>
                <a:latin typeface="Tahoma"/>
              </a:rPr>
              <a:t>7 конкурс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66"/>
                </a:solidFill>
                <a:latin typeface="Tahoma"/>
              </a:rPr>
              <a:t>«Вірю-невірю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01880" y="1125000"/>
            <a:ext cx="891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Чи вірите ви, що перший 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світі повністю електронн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комп’ютер ENIAC мав розмі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- 30 м. в довжину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ahoma"/>
              </a:rPr>
              <a:t>об’єм - 85 м3; вага - 30 тонн.</a:t>
            </a:r>
            <a:r>
              <a:rPr b="0" lang="uk-UA" sz="4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4"/>
          <p:cNvSpPr/>
          <p:nvPr/>
        </p:nvSpPr>
        <p:spPr>
          <a:xfrm>
            <a:off x="3829320" y="4797360"/>
            <a:ext cx="3181320" cy="4597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так, це дійсно так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04040" y="763560"/>
            <a:ext cx="902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Чи вірите ви, що перши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й 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світі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програм</a:t>
            </a: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і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ст</a:t>
            </a: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 – жін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Валентина Терешк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4"/>
          <p:cNvSpPr/>
          <p:nvPr/>
        </p:nvSpPr>
        <p:spPr>
          <a:xfrm>
            <a:off x="2760840" y="4149720"/>
            <a:ext cx="5717520" cy="19227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ні, Валентина Терешков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пер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ша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 ж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і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н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к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а-космонав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а 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перший п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рограм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і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ст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 – теж жін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але Ада Лавлейс, дочка видат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письменника Джорджа Байрона</a:t>
            </a:r>
            <a:r>
              <a:rPr b="0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53080" y="405720"/>
            <a:ext cx="869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чи вірите ви, що комп’ютерна програ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для запису дисків («прожига»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Nero Burning ROM отрим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свою назву невипадково. Цей каламбу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в перекладі означа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«Нерон, жгущий Рим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який нагадує про римс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імператора Неро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Йому приписували підпал, який приві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Tahoma"/>
              </a:rPr>
              <a:t>до Великого римського пожа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Прямоугольник 4"/>
          <p:cNvSpPr/>
          <p:nvPr/>
        </p:nvSpPr>
        <p:spPr>
          <a:xfrm>
            <a:off x="4626000" y="5300640"/>
            <a:ext cx="3260520" cy="4597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uk-UA" sz="2400" spc="-1" strike="noStrike">
                <a:solidFill>
                  <a:srgbClr val="660066"/>
                </a:solidFill>
                <a:latin typeface="Tahoma"/>
              </a:rPr>
              <a:t>так, це дійсно так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6280" y="493920"/>
            <a:ext cx="917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только на русском  и армянском яз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ыках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знак @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зывают собач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В других язык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х чаще всего @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обезьянкой или улиткой, встречаются и так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экзотические варианты как штрудель (на иврите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ельдь под маринадом (в чешском и словацком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лунное ухо (в казахском) 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Прямоугольник 4"/>
          <p:cNvSpPr/>
          <p:nvPr/>
        </p:nvSpPr>
        <p:spPr>
          <a:xfrm>
            <a:off x="2799720" y="4149720"/>
            <a:ext cx="430776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(Так, це д</a:t>
            </a:r>
            <a:r>
              <a:rPr b="1" i="1" lang="uk-UA" sz="3200" spc="-1" strike="noStrike">
                <a:solidFill>
                  <a:srgbClr val="660066"/>
                </a:solidFill>
                <a:latin typeface="Tahoma"/>
              </a:rPr>
              <a:t>ій</a:t>
            </a: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сно та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5560" y="398880"/>
            <a:ext cx="91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компютери «McIntosh» компанії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App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отримали свою назву від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сорту яблук «Макинтош», само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популярного в Північній Америці.</a:t>
            </a:r>
            <a:r>
              <a:rPr b="0" lang="uk-UA" sz="3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Прямоугольник 4"/>
          <p:cNvSpPr/>
          <p:nvPr/>
        </p:nvSpPr>
        <p:spPr>
          <a:xfrm>
            <a:off x="2810880" y="4149720"/>
            <a:ext cx="4865400" cy="119124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Tahoma"/>
              </a:rPr>
              <a:t>(так,це дісно так - це був улюблен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Tahoma"/>
              </a:rPr>
              <a:t>сорт яблук Джефа Раскі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Tahoma"/>
              </a:rPr>
              <a:t>який був керівником проекту Macintos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4. Назвіть пристрій виведення інформації, розташований на робочому місці учня.</a:t>
            </a:r>
            <a:br>
              <a:rPr sz="3200"/>
            </a:br>
            <a:endParaRPr b="1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5. Скільком байтам дорівнює 2 Кб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6. Назвіть стандартний пристрій введенн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96480" y="797400"/>
            <a:ext cx="903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Перший принтер був розробле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Віктором Михайловичем Глушкови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у 1989році у м. Києв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Прямоугольник 4"/>
          <p:cNvSpPr/>
          <p:nvPr/>
        </p:nvSpPr>
        <p:spPr>
          <a:xfrm>
            <a:off x="2812680" y="4149720"/>
            <a:ext cx="4231440" cy="9169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Tahoma"/>
              </a:rPr>
              <a:t>(Ні, перший принтер бу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Tahoma"/>
              </a:rPr>
              <a:t>розроблений Чарльзом Беббідж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Tahoma"/>
              </a:rPr>
              <a:t>у 1835році в Англії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005920" y="1404360"/>
            <a:ext cx="51354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66"/>
                </a:solidFill>
                <a:latin typeface="Tahoma"/>
              </a:rPr>
              <a:t>8 конкурс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66"/>
                </a:solidFill>
                <a:latin typeface="Tahoma"/>
              </a:rPr>
              <a:t>«Ребуси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Прямоугольник 1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042160" cy="4916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 txBox="1"/>
          <p:nvPr/>
        </p:nvSpPr>
        <p:spPr>
          <a:xfrm>
            <a:off x="611280" y="189000"/>
            <a:ext cx="79214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ладіть з поданих наборів букв слова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язані з інформатико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Прямоугольник 1" descr=""/>
          <p:cNvPicPr/>
          <p:nvPr/>
        </p:nvPicPr>
        <p:blipFill>
          <a:blip r:embed="rId1"/>
          <a:stretch/>
        </p:blipFill>
        <p:spPr>
          <a:xfrm>
            <a:off x="66600" y="890640"/>
            <a:ext cx="4316400" cy="5132160"/>
          </a:xfrm>
          <a:prstGeom prst="rect">
            <a:avLst/>
          </a:prstGeom>
          <a:ln w="0">
            <a:noFill/>
          </a:ln>
        </p:spPr>
      </p:pic>
      <p:pic>
        <p:nvPicPr>
          <p:cNvPr id="701" name="Прямоугольник 2" descr=""/>
          <p:cNvPicPr/>
          <p:nvPr/>
        </p:nvPicPr>
        <p:blipFill>
          <a:blip r:embed="rId2"/>
          <a:stretch/>
        </p:blipFill>
        <p:spPr>
          <a:xfrm>
            <a:off x="4280040" y="890640"/>
            <a:ext cx="4321080" cy="5132160"/>
          </a:xfrm>
          <a:prstGeom prst="rect">
            <a:avLst/>
          </a:prstGeom>
          <a:ln w="0">
            <a:noFill/>
          </a:ln>
        </p:spPr>
      </p:pic>
      <p:sp>
        <p:nvSpPr>
          <p:cNvPr id="702" name="Прямоугольник 4"/>
          <p:cNvSpPr/>
          <p:nvPr/>
        </p:nvSpPr>
        <p:spPr>
          <a:xfrm>
            <a:off x="2205360" y="214200"/>
            <a:ext cx="415836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3434"/>
                </a:solidFill>
                <a:latin typeface="Tahoma"/>
              </a:rPr>
              <a:t>Правильні відповід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83480" y="1404360"/>
            <a:ext cx="81802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66"/>
                </a:solidFill>
                <a:latin typeface="Tahoma"/>
              </a:rPr>
              <a:t>9 конкурс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66"/>
                </a:solidFill>
                <a:latin typeface="Tahoma"/>
              </a:rPr>
              <a:t>«Хто швидше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979640" y="256680"/>
            <a:ext cx="4535640" cy="60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Tahoma"/>
              </a:rPr>
              <a:t>Картки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1000байт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300Кб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1Мб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2байти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10Тб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Tahoma"/>
              </a:rPr>
              <a:t>40бі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1" lang="uk-UA" sz="4400" spc="-1" strike="noStrike">
                <a:solidFill>
                  <a:srgbClr val="660066"/>
                </a:solidFill>
                <a:latin typeface="Tahoma"/>
              </a:rPr>
              <a:t>Показалки”. 10 конкурс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1" lang="uk-UA" sz="4400" spc="-1" strike="noStrike">
                <a:solidFill>
                  <a:srgbClr val="660066"/>
                </a:solidFill>
                <a:latin typeface="Tahoma"/>
              </a:rPr>
              <a:t>Показалки”. 10 конкурс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Дисп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Флеш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Миш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Дисков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Пам’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Пап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Навушн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Принтер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5003640" y="1773360"/>
            <a:ext cx="33847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Клавіа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Д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Мікроф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Кош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Вік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Ноутб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Скан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Коврик для мишки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5" descr=""/>
          <p:cNvPicPr/>
          <p:nvPr/>
        </p:nvPicPr>
        <p:blipFill>
          <a:blip r:embed="rId1"/>
          <a:stretch/>
        </p:blipFill>
        <p:spPr>
          <a:xfrm>
            <a:off x="3214800" y="3714840"/>
            <a:ext cx="2571480" cy="2789280"/>
          </a:xfrm>
          <a:prstGeom prst="rect">
            <a:avLst/>
          </a:prstGeom>
          <a:ln w="0">
            <a:noFill/>
          </a:ln>
        </p:spPr>
      </p:pic>
      <p:sp>
        <p:nvSpPr>
          <p:cNvPr id="710" name="Прямоугольник 3"/>
          <p:cNvSpPr/>
          <p:nvPr/>
        </p:nvSpPr>
        <p:spPr>
          <a:xfrm>
            <a:off x="344160" y="189000"/>
            <a:ext cx="8401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Підведемо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підсумкии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0" lang="ru-RU" sz="8800" spc="-1" strike="noStrike">
                <a:solidFill>
                  <a:srgbClr val="ff0000"/>
                </a:solidFill>
                <a:latin typeface="Tahoma"/>
              </a:rPr>
              <a:t>гри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7. Як називається послідовна сукупність з восьми 0 та 1?</a:t>
            </a:r>
            <a:br>
              <a:rPr sz="3600"/>
            </a:b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Tahoma"/>
              </a:rPr>
              <a:t>8. Як називається гнучка пластина, вкрита магнітним шаром, що використовується для                  збереження інформації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9. Як називається область даних на диску, що має ім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0. Назвіть пристрій для введення графічної інформації. </a:t>
            </a:r>
            <a:br>
              <a:rPr sz="3600"/>
            </a:b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1. Призначення клавіші 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Esc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4292640"/>
            <a:ext cx="77835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2. Що таке швидкодія процесор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3. Які існують типи внутрішньої  пам’яті?</a:t>
            </a:r>
            <a:br>
              <a:rPr sz="3600"/>
            </a:br>
            <a:endParaRPr b="1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14.</a:t>
            </a:r>
            <a:r>
              <a:rPr b="1" i="1" lang="uk-UA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Яке розширення має неформатований тек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6443640" y="4149720"/>
            <a:ext cx="17287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832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ahoma"/>
              </a:rPr>
              <a:t>Запитання другій команді</a:t>
            </a:r>
            <a:br>
              <a:rPr sz="4000"/>
            </a:br>
            <a:endParaRPr b="1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2060640"/>
            <a:ext cx="81360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Тип принтера, який виконує найякісніший та найшвидкий дру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244520" y="2552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468360" y="4076640"/>
            <a:ext cx="81360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2. Скільки біт займає в пам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яті комп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’</a:t>
            </a:r>
            <a:r>
              <a:rPr b="1" lang="uk-UA" sz="3600" spc="-1" strike="noStrike">
                <a:solidFill>
                  <a:srgbClr val="ff0066"/>
                </a:solidFill>
                <a:latin typeface="Tahoma"/>
              </a:rPr>
              <a:t>ютера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1 симво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59:18Z</dcterms:created>
  <dc:creator>Yuya</dc:creator>
  <dc:description/>
  <dc:language>en-US</dc:language>
  <cp:lastModifiedBy>Admin</cp:lastModifiedBy>
  <dcterms:modified xsi:type="dcterms:W3CDTF">2012-11-14T16:48:33Z</dcterms:modified>
  <cp:revision>148</cp:revision>
  <dc:subject/>
  <dc:title> Математическая игра</dc:title>
</cp:coreProperties>
</file>