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D3F2-2ABB-4729-91CF-5B9E2183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9D4-3D87-43D9-A65B-DB26A0D2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5049-646A-4478-9F0B-CE5E85C9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12D-5763-40C9-9690-BDD405EC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1D52-A4A1-470D-B1B4-C5F01625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F626-DC11-406F-98C0-4A0B4770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EB72-6540-4410-97D3-4AA8586E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F82D-5D6D-4AB9-B6CB-2765B764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3685-E47B-4D69-BABC-D9173BA2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483D-2817-461D-A2E8-FB7AEAF5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5FC2-D4DE-42C8-9174-EF68D81E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D1CE-B2EF-458C-B1E7-FBDE7E39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05B6-111D-441B-B0AD-80C8726A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711F-4F2A-4679-BFD9-10653BB2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B441-6239-42E7-9638-B0F6E151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618F-9ED5-4E11-AFA1-3B5C5070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AD1E-64C9-43C7-A3BE-5FAB1417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40B2-EF26-465A-8236-60B02BFC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887-3BE2-4EA6-8DD1-CA9AEAE8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F212-731A-4426-BD1C-7013169C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BF6F-A838-4A7D-97C8-CD5A6CB9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3A3A-26A6-4E90-BC61-A6798884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A9FA-E6E3-437F-866F-2444284A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71BA-549F-4B25-922E-7C0E2376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3E8C-A8D2-4CE7-9976-E5CCB2BCDD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0683-C148-40D0-A2C8-7D70EAAF43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990000"/>
                </a:solidFill>
                <a:latin typeface="Comic Sans MS"/>
              </a:rPr>
              <a:t>Десяткові дроб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18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00"/>
                </a:solidFill>
                <a:latin typeface="Comic Sans MS"/>
              </a:rPr>
              <a:t>Жукова Ірина Борисівна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00"/>
                </a:solidFill>
                <a:latin typeface="Comic Sans MS"/>
              </a:rPr>
              <a:t>вчитель математики Шандрівського НВК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8000"/>
                </a:solidFill>
                <a:latin typeface="Comic Sans MS"/>
              </a:rPr>
              <a:t>Множення</a:t>
            </a:r>
            <a:br>
              <a:rPr sz="4000"/>
            </a:br>
            <a:r>
              <a:rPr b="1" lang="uk-UA" sz="4000" spc="-1" strike="noStrike">
                <a:solidFill>
                  <a:srgbClr val="008000"/>
                </a:solidFill>
                <a:latin typeface="Comic Sans MS"/>
              </a:rPr>
              <a:t>десяткових дробі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696080" cy="5111640"/>
          </a:xfrm>
          <a:prstGeom prst="rect">
            <a:avLst/>
          </a:prstGeom>
          <a:solidFill>
            <a:srgbClr val="ffccff">
              <a:alpha val="59000"/>
            </a:srgbClr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00"/>
                </a:solidFill>
                <a:latin typeface="Comic Sans MS"/>
              </a:rPr>
              <a:t>Щоб помножити десятковий дріб на 10,100,100 іт.д., треба в цьому дробі перенести кому вправо на 1,2,3 і т.д. цифр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Comic Sans MS"/>
              </a:rPr>
              <a:t>Щоб поділити десятковий дріб на 10, 100, 1000 і т.д., треба в цьому дробі перенести кому вліво на 1,2,3 і т.д. цифр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5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omic Sans MS"/>
              </a:rPr>
              <a:t>Щоб помножити десятковий дріб на 0,1; 0,01;0,001 і т.д., достатньо в цьому дробі перенести кому вліво відповідно на 1,2,3, і т. д.циф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69608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3600" spc="-1" strike="noStrike">
                <a:solidFill>
                  <a:srgbClr val="0000ff"/>
                </a:solidFill>
                <a:latin typeface="Comic Sans MS"/>
              </a:rPr>
              <a:t>а * в = в* а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–переставна властиві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8000"/>
                </a:solidFill>
                <a:latin typeface="Comic Sans MS"/>
              </a:rPr>
              <a:t>(ав)с =а(вс)-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сполуч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4400" spc="-1" strike="noStrike">
                <a:solidFill>
                  <a:srgbClr val="cc0066"/>
                </a:solidFill>
                <a:latin typeface="Comic Sans MS"/>
              </a:rPr>
              <a:t>а( в + с) = ав + ас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-розподіль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Comic Sans MS"/>
              </a:rPr>
              <a:t>Усне обчисленн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72080" cy="4289400"/>
          </a:xfrm>
          <a:prstGeom prst="rect">
            <a:avLst/>
          </a:prstGeom>
          <a:solidFill>
            <a:srgbClr val="ccffff">
              <a:alpha val="3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66"/>
                </a:solidFill>
                <a:latin typeface="Comic Sans MS"/>
              </a:rPr>
              <a:t>0,9 *2;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9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66"/>
                </a:solidFill>
                <a:latin typeface="Comic Sans MS"/>
              </a:rPr>
              <a:t>0,25* 4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9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66"/>
                </a:solidFill>
                <a:latin typeface="Comic Sans MS"/>
              </a:rPr>
              <a:t>3,1* 3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9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uk-UA" sz="3600" spc="-1" strike="noStrike">
                <a:solidFill>
                  <a:srgbClr val="cc0066"/>
                </a:solidFill>
                <a:latin typeface="Comic Sans MS"/>
              </a:rPr>
              <a:t>0,2* 5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9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66"/>
                </a:solidFill>
                <a:latin typeface="Comic Sans MS"/>
              </a:rPr>
              <a:t>1,6 *2;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9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66"/>
                </a:solidFill>
                <a:latin typeface="Comic Sans MS"/>
              </a:rPr>
              <a:t>2,1* 10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9800" y="1125360"/>
            <a:ext cx="3771720" cy="4361040"/>
          </a:xfrm>
          <a:prstGeom prst="rect">
            <a:avLst/>
          </a:prstGeom>
          <a:solidFill>
            <a:srgbClr val="00ff00">
              <a:alpha val="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00"/>
                </a:solidFill>
                <a:latin typeface="Comic Sans MS"/>
              </a:rPr>
              <a:t>0,42* 100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9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00"/>
                </a:solidFill>
                <a:latin typeface="Comic Sans MS"/>
              </a:rPr>
              <a:t>0,3* 0,9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9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00"/>
                </a:solidFill>
                <a:latin typeface="Comic Sans MS"/>
              </a:rPr>
              <a:t>1,25 *0,08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9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00"/>
                </a:solidFill>
                <a:latin typeface="Comic Sans MS"/>
              </a:rPr>
              <a:t>1,7 * 0,3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9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00"/>
                </a:solidFill>
                <a:latin typeface="Comic Sans MS"/>
              </a:rPr>
              <a:t>2,5 * 0,04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9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00"/>
                </a:solidFill>
                <a:latin typeface="Comic Sans MS"/>
              </a:rPr>
              <a:t>1,6 * 0,1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0000"/>
                </a:solidFill>
                <a:latin typeface="Comic Sans MS"/>
              </a:rPr>
              <a:t>Заповнити таблиц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79280" y="2421000"/>
          <a:ext cx="8640720" cy="2448000"/>
        </p:xfrm>
        <a:graphic>
          <a:graphicData uri="http://schemas.openxmlformats.org/drawingml/2006/table">
            <a:tbl>
              <a:tblPr/>
              <a:tblGrid>
                <a:gridCol w="1297080"/>
                <a:gridCol w="401760"/>
                <a:gridCol w="893520"/>
                <a:gridCol w="1079640"/>
                <a:gridCol w="865080"/>
                <a:gridCol w="1150920"/>
                <a:gridCol w="1297080"/>
                <a:gridCol w="165564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0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0,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0,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0,0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0,0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3,6: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8000"/>
                </a:solidFill>
                <a:latin typeface="Comic Sans MS"/>
              </a:rPr>
              <a:t>Поповніть ланцюжок обчислен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11" descr="40B6FBBA"/>
          <p:cNvPicPr/>
          <p:nvPr/>
        </p:nvPicPr>
        <p:blipFill>
          <a:blip r:embed="rId1"/>
          <a:srcRect l="40322" t="42624" r="16897" b="46353"/>
          <a:stretch/>
        </p:blipFill>
        <p:spPr>
          <a:xfrm>
            <a:off x="395280" y="2062080"/>
            <a:ext cx="7989840" cy="3529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420C6BD8"/>
          <p:cNvPicPr/>
          <p:nvPr/>
        </p:nvPicPr>
        <p:blipFill>
          <a:blip r:embed="rId1"/>
          <a:srcRect l="39476" t="61342" r="2631" b="7043"/>
          <a:stretch/>
        </p:blipFill>
        <p:spPr>
          <a:xfrm>
            <a:off x="395280" y="260280"/>
            <a:ext cx="8242200" cy="6370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Comic Sans MS"/>
              </a:rPr>
              <a:t>Читання та запис</a:t>
            </a:r>
            <a:br>
              <a:rPr sz="4400"/>
            </a:br>
            <a:r>
              <a:rPr b="1" lang="uk-UA" sz="4400" spc="-1" strike="noStrike">
                <a:solidFill>
                  <a:srgbClr val="0000ff"/>
                </a:solidFill>
                <a:latin typeface="Comic Sans MS"/>
              </a:rPr>
              <a:t>десяткових дробі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9900"/>
                </a:solidFill>
                <a:latin typeface="Comic Sans MS"/>
              </a:rPr>
              <a:t>1 М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11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9900"/>
                </a:solidFill>
                <a:latin typeface="Comic Sans MS"/>
              </a:rPr>
              <a:t>1 КО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11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9900"/>
                </a:solidFill>
                <a:latin typeface="Comic Sans MS"/>
              </a:rPr>
              <a:t>1 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1 / 10 С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1 / 100 ГР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1 / 1000 К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3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3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3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Запис десяткових дробі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5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ff"/>
                </a:solidFill>
                <a:latin typeface="Comic Sans MS"/>
              </a:rPr>
              <a:t>1/ 10 = 0,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15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ff"/>
                </a:solidFill>
                <a:latin typeface="Comic Sans MS"/>
              </a:rPr>
              <a:t>1/ 100 = 0,0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15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ff"/>
                </a:solidFill>
                <a:latin typeface="Comic Sans MS"/>
              </a:rPr>
              <a:t>1/ 1000 = 0,00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15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ff"/>
                </a:solidFill>
                <a:latin typeface="Comic Sans MS"/>
              </a:rPr>
              <a:t>1/ 10000 =0,000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Запис десяткових дробі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uk-UA" sz="3200" spc="-1" strike="noStrike">
                <a:solidFill>
                  <a:srgbClr val="00b200"/>
                </a:solidFill>
                <a:latin typeface="Comic Sans MS"/>
              </a:rPr>
              <a:t>Десятковий дрі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Ціла частина   дробова части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2800" spc="-1" strike="noStrike">
                <a:solidFill>
                  <a:srgbClr val="990000"/>
                </a:solidFill>
                <a:latin typeface="Comic Sans MS"/>
              </a:rPr>
              <a:t>56, 1274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uk-UA" sz="2800" spc="-1" strike="noStrike">
                <a:solidFill>
                  <a:srgbClr val="009900"/>
                </a:solidFill>
                <a:latin typeface="Comic Sans MS"/>
              </a:rPr>
              <a:t>56 цілих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00ff"/>
                </a:solidFill>
                <a:latin typeface="Comic Sans MS"/>
              </a:rPr>
              <a:t>1274 десятитисячни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6"/>
          <p:cNvSpPr/>
          <p:nvPr/>
        </p:nvSpPr>
        <p:spPr>
          <a:xfrm flipH="1" flipV="1">
            <a:off x="971280" y="2707920"/>
            <a:ext cx="215640" cy="86364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7"/>
          <p:cNvSpPr/>
          <p:nvPr/>
        </p:nvSpPr>
        <p:spPr>
          <a:xfrm flipV="1">
            <a:off x="1908000" y="2637000"/>
            <a:ext cx="865440" cy="79200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Тренувальні вправ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Comic Sans MS"/>
              </a:rPr>
              <a:t>Прочита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Comic Sans MS"/>
              </a:rPr>
              <a:t>А) 1,5; 12,345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Comic Sans MS"/>
              </a:rPr>
              <a:t>102,18;4,5605; 0,01253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cc33"/>
                </a:solidFill>
                <a:latin typeface="Comic Sans MS"/>
              </a:rPr>
              <a:t>В)0,043; 2,005; 15,1;133,00001; 4,230047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omic Sans MS"/>
              </a:rPr>
              <a:t>Записати у вигляді десяткових дробів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8000"/>
                </a:solidFill>
                <a:latin typeface="Comic Sans MS"/>
              </a:rPr>
              <a:t>15/100; 3/1000;</a:t>
            </a:r>
            <a:r>
              <a:rPr b="1" lang="uk-UA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90033"/>
                </a:solidFill>
                <a:latin typeface="Comic Sans MS"/>
              </a:rPr>
              <a:t>703/</a:t>
            </a:r>
            <a:r>
              <a:rPr b="1" lang="en-US" sz="4000" spc="-1" strike="noStrike">
                <a:solidFill>
                  <a:srgbClr val="990033"/>
                </a:solidFill>
                <a:latin typeface="Comic Sans MS"/>
              </a:rPr>
              <a:t>1000=</a:t>
            </a:r>
            <a:r>
              <a:rPr b="1" lang="uk-UA" sz="4000" spc="-1" strike="noStrike">
                <a:solidFill>
                  <a:srgbClr val="990033"/>
                </a:solidFill>
                <a:latin typeface="Comic Sans MS"/>
              </a:rPr>
              <a:t> ; 5/100=0,……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0066"/>
                </a:solidFill>
                <a:latin typeface="Comic Sans MS"/>
              </a:rPr>
              <a:t>Записати десяткові дроби у порядку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omic Sans MS"/>
              </a:rPr>
              <a:t>Зростан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omic Sans MS"/>
              </a:rPr>
              <a:t>1,5; 12,345; 0,15; 1,234; 7,45; 12,355;  12,346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omic Sans MS"/>
              </a:rPr>
              <a:t>Спадан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96633"/>
                </a:solidFill>
                <a:latin typeface="Comic Sans MS"/>
              </a:rPr>
              <a:t>78,098; 46,387; 5,2; 52; 7,81; 4,638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0033"/>
                </a:solidFill>
                <a:latin typeface="Comic Sans MS"/>
              </a:rPr>
              <a:t>Додавання десяткових дробі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8" descr="21AAA0A2"/>
          <p:cNvPicPr/>
          <p:nvPr/>
        </p:nvPicPr>
        <p:blipFill>
          <a:blip r:embed="rId1"/>
          <a:srcRect l="66442" t="20308" r="18618" b="73965"/>
          <a:stretch/>
        </p:blipFill>
        <p:spPr>
          <a:xfrm>
            <a:off x="684360" y="1916280"/>
            <a:ext cx="4103640" cy="259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21AAA0A2"/>
          <p:cNvPicPr/>
          <p:nvPr/>
        </p:nvPicPr>
        <p:blipFill>
          <a:blip r:embed="rId2"/>
          <a:srcRect l="66442" t="30499" r="18618" b="62869"/>
          <a:stretch/>
        </p:blipFill>
        <p:spPr>
          <a:xfrm>
            <a:off x="5148360" y="1844640"/>
            <a:ext cx="2952720" cy="1800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21AAA0A2"/>
          <p:cNvPicPr/>
          <p:nvPr/>
        </p:nvPicPr>
        <p:blipFill>
          <a:blip r:embed="rId3"/>
          <a:srcRect l="66442" t="41809" r="18618" b="52775"/>
          <a:stretch/>
        </p:blipFill>
        <p:spPr>
          <a:xfrm>
            <a:off x="5148360" y="3933720"/>
            <a:ext cx="3095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0066"/>
                </a:solidFill>
                <a:latin typeface="Comic Sans MS"/>
              </a:rPr>
              <a:t>Запис при додаванні та відніманні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3,27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+4,82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8,099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   </a:t>
            </a:r>
            <a:r>
              <a:rPr b="0" lang="uk-UA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uk-UA" sz="4000" spc="-1" strike="noStrike">
                <a:solidFill>
                  <a:srgbClr val="008000"/>
                </a:solidFill>
                <a:latin typeface="Comic Sans MS"/>
              </a:rPr>
              <a:t>5,48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uk-UA" sz="4000" spc="-1" strike="noStrike">
                <a:solidFill>
                  <a:srgbClr val="008000"/>
                </a:solidFill>
                <a:latin typeface="Comic Sans MS"/>
              </a:rPr>
              <a:t>3,97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8000"/>
                </a:solidFill>
                <a:latin typeface="Comic Sans MS"/>
              </a:rPr>
              <a:t>   </a:t>
            </a:r>
            <a:r>
              <a:rPr b="1" lang="uk-UA" sz="4000" spc="-1" strike="noStrike">
                <a:solidFill>
                  <a:srgbClr val="008000"/>
                </a:solidFill>
                <a:latin typeface="Comic Sans MS"/>
              </a:rPr>
              <a:t>1,51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7"/>
          <p:cNvSpPr/>
          <p:nvPr/>
        </p:nvSpPr>
        <p:spPr>
          <a:xfrm>
            <a:off x="1332000" y="3429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5364000" y="3213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solidFill>
            <a:srgbClr val="ffccff">
              <a:alpha val="33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Тренувальні вправ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3772080" cy="4218120"/>
          </a:xfrm>
          <a:prstGeom prst="rect">
            <a:avLst/>
          </a:prstGeom>
          <a:solidFill>
            <a:srgbClr val="ccffff">
              <a:alpha val="23000"/>
            </a:srgbClr>
          </a:solidFill>
          <a:ln w="9360">
            <a:solidFill>
              <a:srgbClr val="99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Comic Sans MS"/>
              </a:rPr>
              <a:t>0,2+3; 0,6+5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Comic Sans MS"/>
              </a:rPr>
              <a:t>0,29+0; 0,4+0,1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Comic Sans MS"/>
              </a:rPr>
              <a:t>0,2+0,7; 0,6+0,4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Comic Sans MS"/>
              </a:rPr>
              <a:t>1,2+0,3; 0,48+0,12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Comic Sans MS"/>
              </a:rPr>
              <a:t>0,7+1,1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09800" y="1267920"/>
            <a:ext cx="4282920" cy="421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omic Sans MS"/>
              </a:rPr>
              <a:t>0,8-0,1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Comic Sans MS"/>
              </a:rPr>
              <a:t>0,7-0,5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omic Sans MS"/>
              </a:rPr>
              <a:t>2,75-2,7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omic Sans MS"/>
              </a:rPr>
              <a:t>3,48-3,4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omic Sans MS"/>
              </a:rPr>
              <a:t>8-0,5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Comic Sans MS"/>
              </a:rPr>
              <a:t>12-0,1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omic Sans MS"/>
              </a:rPr>
              <a:t>3+ Х =3,5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omic Sans MS"/>
              </a:rPr>
              <a:t>4,6-Х=2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omic Sans MS"/>
              </a:rPr>
              <a:t>Х- 2,8=2,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19:09Z</dcterms:created>
  <dc:creator>user</dc:creator>
  <dc:description/>
  <dc:language>en-US</dc:language>
  <cp:lastModifiedBy>User</cp:lastModifiedBy>
  <dcterms:modified xsi:type="dcterms:W3CDTF">2017-10-11T15:59:18Z</dcterms:modified>
  <cp:revision>11</cp:revision>
  <dc:subject/>
  <dc:title>Десяткові дроби</dc:title>
</cp:coreProperties>
</file>