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5A4-0259-4AA3-8746-F6B53753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678-BD5F-43B0-A690-1CCEAB3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792-BC8A-489C-BB6B-C4B6DD33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B5A-40CC-4071-86C7-332801DC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030-217B-4776-A7DE-F8418A7C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C5C5-CA46-4442-896B-AF85500C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9E2-9FBB-47B1-BA17-7CAB458D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40AD-387D-4092-B8F4-9DED283A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C085-687A-47CF-BB29-B1CC82E3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CAA6-362E-44D8-BDFF-2AACB174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1A0C-0BBA-497E-806D-69F2645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9D7-A1D8-401B-95AF-7A714A3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E34-7462-48D5-A1A8-ABFD544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AF04-D5C1-4370-8713-CB3DFDE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A1B9-9B1B-4389-A9B2-154A26C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25C0-E67C-4D68-97BC-DE009DE2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F4C-E876-463C-9A6E-CFF32253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DF4-4C02-4B5A-8CFD-3965F36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216-959D-46D5-8CEF-EA3FA0DC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431-F948-498C-83AE-F347788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56C-36DE-4106-987D-F738892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B8C-89F3-45AD-8D67-7787FB1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0C0-EF5F-4F4C-813C-FAE27CC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A11-25CA-4021-B6D6-EB3BFD6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216E-7304-49C2-B122-584AB67F64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296D-2446-4F27-9245-829D93C88B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66"/>
                </a:solidFill>
                <a:latin typeface="Times New Roman"/>
              </a:rPr>
              <a:t>Звичайні дроби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Arial"/>
              </a:rPr>
              <a:t>Жукова Ірина Борисі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Arial"/>
              </a:rPr>
              <a:t>вчитель математики Шандрівського НВ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743360" y="37576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З овочевої бази у три магазини відправили 560 ц картоплі. У перший магазин завез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3/ 8 усієї картоплі, у другий – 4/7 решти. Скільки центнерів картоплі завезли у третій магазин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Arial"/>
              </a:rPr>
              <a:t>У саду росло 120 яблунь, а груш – на 1/ 3 менше. Скільки дерев росло в са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Сума чотирьох чисел дорівнює 624. Перше число дорівнює 3/ 8 усієї суми, друге – 5/13 решти, третє число утричі більше від четвертого. Знайдіть усі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0000"/>
                </a:solidFill>
                <a:latin typeface="Times New Roman"/>
              </a:rPr>
              <a:t>Риска дроб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значає ділення цілого на кілька рівних ча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8/ 4 =2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12/ 4 =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20/ 4 =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00ff"/>
                </a:solidFill>
                <a:latin typeface="Times New Roman"/>
              </a:rPr>
              <a:t>Знайти дріб від числ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2/3 від 9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¾ від 36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5/6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ід 12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¼ від 24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½ від 100;</a:t>
            </a: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0000"/>
                </a:solidFill>
                <a:latin typeface="Times New Roman"/>
              </a:rPr>
              <a:t>Знайти число за його дробом, якщ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1/9 дорівнює 90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2/3 дорівнює 6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Arial"/>
              </a:rPr>
              <a:t>3/7 дорівнює 2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6:54:10Z</dcterms:created>
  <dc:creator>user</dc:creator>
  <dc:description/>
  <dc:language>en-US</dc:language>
  <cp:lastModifiedBy>User</cp:lastModifiedBy>
  <dcterms:modified xsi:type="dcterms:W3CDTF">2017-10-11T16:07:01Z</dcterms:modified>
  <cp:revision>6</cp:revision>
  <dc:subject/>
  <dc:title>Звичайні дроби</dc:title>
</cp:coreProperties>
</file>