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8F6-4CDC-4E0F-9D30-D010D781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33D-0148-4BC1-A298-51D63882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32F-AAC7-4F24-8662-F1AF66ED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C53-E3DF-48A6-BC5A-6350CC92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B5EF-0870-4DC3-A2A8-184724BE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D1F2-30B1-4729-B035-7E99A7C0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2B2-0B96-45AF-B9B5-6804774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3722-8CB0-4235-B7EC-C028704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932-FD75-40E5-A332-55ABF9B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F2B9-47BB-4F1A-9D94-36680B5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C357-84D7-4756-AB5E-A6C793A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27F-F848-42E2-9114-605CDEC6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15D-B636-479E-BCFB-060A196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DB1B-E7AE-4EC6-BF41-B5ED951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DE79-B497-42B2-BE7F-7C49061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A6B-B993-42A1-B78A-B45E341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5BD8-93BB-4BBD-AB6F-64D7ACE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7A8-A479-4E6E-A8C7-92FB9B9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C44-6AFA-42D4-AF16-FCB3D97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B8A-3F43-4539-8606-2932CC43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5AA-5FC7-4FDF-9834-5A95F15B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AF9-F797-4251-B57B-3FC3FD9A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0B2-9A61-4A48-9807-F9F6BE0C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BBE-E291-4FB5-A469-39BF08D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6200"/>
              <a:gd name="textAreaBottom" fmla="*/ 2086560 h 20862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0DA5-1E59-4EE2-80D5-A4AD4B6C86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8440"/>
              <a:gd name="textAreaBottom" fmla="*/ 2098800 h 209844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F21D-6432-4C6A-A96D-10B341153F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201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c0000"/>
                </a:solidFill>
                <a:latin typeface="Comic Sans MS"/>
              </a:rPr>
              <a:t>Вирази ,формул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717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928880" y="4429080"/>
            <a:ext cx="6400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Жукова Ірина Борисівн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вчитель математики Шандрівського НВ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Знайти периметр трикут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Comic Sans MS"/>
              </a:rPr>
              <a:t>12 см; 13 см; 15 с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Comic Sans MS"/>
              </a:rPr>
              <a:t>Рівностороннього із стороною 8 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Comic Sans MS"/>
              </a:rPr>
              <a:t>Рівнобедренного з основою 9 дм і бічною стороною 4 д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Числові ви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Comic Sans MS"/>
              </a:rPr>
              <a:t>21 + ( 21 + 15 ) = 5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                     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Значення  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i="1" lang="uk-UA" sz="3600" spc="-1" strike="noStrike">
                <a:solidFill>
                  <a:srgbClr val="cc0000"/>
                </a:solidFill>
                <a:latin typeface="Comic Sans MS"/>
              </a:rPr>
              <a:t>виразі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Comic Sans MS"/>
              </a:rPr>
              <a:t>21 + 21 * 3 = 8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4"/>
          <p:cNvSpPr/>
          <p:nvPr/>
        </p:nvSpPr>
        <p:spPr>
          <a:xfrm flipH="1" flipV="1">
            <a:off x="5293800" y="2204640"/>
            <a:ext cx="1365480" cy="1079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5"/>
          <p:cNvSpPr/>
          <p:nvPr/>
        </p:nvSpPr>
        <p:spPr>
          <a:xfrm flipH="1">
            <a:off x="4571640" y="3716280"/>
            <a:ext cx="2087640" cy="1152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c0000"/>
                </a:solidFill>
                <a:latin typeface="Comic Sans MS"/>
              </a:rPr>
              <a:t>Буквені вираз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8000"/>
                </a:solidFill>
                <a:latin typeface="Comic Sans MS"/>
              </a:rPr>
              <a:t>а +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8000"/>
                </a:solidFill>
                <a:latin typeface="Comic Sans MS"/>
              </a:rPr>
              <a:t>12*а*в =12а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8000"/>
                </a:solidFill>
                <a:latin typeface="Comic Sans MS"/>
              </a:rPr>
              <a:t>4*а = 4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V*t =v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3*b*c =3b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5</a:t>
            </a:r>
            <a:r>
              <a:rPr b="1" i="1" lang="uk-UA" sz="3600" spc="-1" strike="noStrike">
                <a:solidFill>
                  <a:srgbClr val="008000"/>
                </a:solidFill>
                <a:latin typeface="Comic Sans MS"/>
              </a:rPr>
              <a:t>ху + 2:а -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cc0000"/>
                </a:solidFill>
                <a:latin typeface="Comic Sans MS"/>
              </a:rPr>
              <a:t>формул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S = v t    </a:t>
            </a:r>
            <a:r>
              <a:rPr b="1" lang="uk-UA" sz="4000" spc="-1" strike="noStrike">
                <a:solidFill>
                  <a:srgbClr val="ff33cc"/>
                </a:solidFill>
                <a:latin typeface="Comic Sans MS"/>
              </a:rPr>
              <a:t>        шляху</a:t>
            </a: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P = 4 a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          периметр     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квадра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P = 2a + 2b</a:t>
            </a:r>
            <a:r>
              <a:rPr b="1" lang="uk-UA" sz="4000" spc="-1" strike="noStrike">
                <a:solidFill>
                  <a:srgbClr val="0070c0"/>
                </a:solidFill>
                <a:latin typeface="Comic Sans MS"/>
              </a:rPr>
              <a:t>  периметр  </a:t>
            </a:r>
            <a:r>
              <a:rPr b="1" lang="uk-UA" sz="4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1" lang="uk-UA" sz="4000" spc="-1" strike="noStrike">
                <a:solidFill>
                  <a:srgbClr val="0070c0"/>
                </a:solidFill>
                <a:latin typeface="Comic Sans MS"/>
              </a:rPr>
              <a:t>         прямокут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0000"/>
                </a:solidFill>
                <a:latin typeface="Comic Sans MS"/>
              </a:rPr>
              <a:t>Знайти значення вираз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00"/>
                </a:solidFill>
                <a:latin typeface="Comic Sans MS"/>
              </a:rPr>
              <a:t>37 + х, якщо х = 13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С + 20, якщо с = 58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omic Sans MS"/>
              </a:rPr>
              <a:t>110 – а – в, якщо а = 10, в =20;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66"/>
                </a:solidFill>
                <a:latin typeface="Comic Sans MS"/>
              </a:rPr>
              <a:t>Прочитати вираз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2ху; 4а +7; 31 – ав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Х + 12; 14 : а – 7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00"/>
                </a:solidFill>
                <a:latin typeface="Comic Sans MS"/>
              </a:rPr>
              <a:t>Якщо х = 5, то чому дорівнює значення виразу:  </a:t>
            </a:r>
            <a:r>
              <a:rPr b="1" lang="uk-UA" sz="4000" spc="-1" strike="noStrike">
                <a:solidFill>
                  <a:srgbClr val="703dff"/>
                </a:solidFill>
                <a:latin typeface="Comic Sans MS"/>
              </a:rPr>
              <a:t>10 : х;</a:t>
            </a:r>
            <a:r>
              <a:rPr b="1" lang="uk-UA" sz="40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1" lang="uk-UA" sz="4000" spc="-1" strike="noStrike">
                <a:solidFill>
                  <a:srgbClr val="006600"/>
                </a:solidFill>
                <a:latin typeface="Comic Sans MS"/>
              </a:rPr>
              <a:t>2х + 7</a:t>
            </a:r>
            <a:r>
              <a:rPr b="1" lang="uk-UA" sz="4000" spc="-1" strike="noStrike">
                <a:solidFill>
                  <a:srgbClr val="990000"/>
                </a:solidFill>
                <a:latin typeface="Comic Sans MS"/>
              </a:rPr>
              <a:t>;          </a:t>
            </a:r>
            <a:r>
              <a:rPr b="1" lang="uk-UA" sz="4000" spc="-1" strike="noStrike">
                <a:solidFill>
                  <a:srgbClr val="ff33cc"/>
                </a:solidFill>
                <a:latin typeface="Comic Sans MS"/>
              </a:rPr>
              <a:t>3х + 15 – 5</a:t>
            </a:r>
            <a:r>
              <a:rPr b="1" lang="uk-UA" sz="40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7:54:38Z</dcterms:created>
  <dc:creator>user</dc:creator>
  <dc:description/>
  <dc:language>en-US</dc:language>
  <cp:lastModifiedBy>User</cp:lastModifiedBy>
  <dcterms:modified xsi:type="dcterms:W3CDTF">2017-10-11T16:03:43Z</dcterms:modified>
  <cp:revision>10</cp:revision>
  <dc:subject/>
  <dc:title>Усні вправи</dc:title>
</cp:coreProperties>
</file>