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423-05C9-4613-B3D3-A385FF7A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0F7-5230-4068-9846-0C5C3B02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ECB-221A-43C9-9A6E-1E6317A4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B78-57B9-4DFA-8A8B-B8E32530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513E-B7E4-4D9B-B861-C211BD3B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3B11-411E-4BE5-A96D-46F6D52F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DDB6-0C4F-48EA-98D6-B1CD5277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C675-5512-4539-8C48-7B0F6C70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8800-724B-467A-A64D-16D9A647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6EA5-1390-45AE-B540-48CC4535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D961-141C-4A46-A277-AD260A3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43B-8278-4A60-A65B-D0B0C878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D975-3039-4BB7-99D5-DC47F665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ACAB-6760-4118-9EC4-7825A1AF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528F-AE64-4CAF-B32E-2E8787F7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F3B6-0E39-4778-868E-E8E338EF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0483-9800-4BB9-B98C-661ED387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41E-F90B-4071-A42E-CFC8AE9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D75-DC8C-4AE2-8E48-BF31241F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589-8ADF-42BB-8796-5451AE6C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1D6-FA70-4CCE-8867-3378DD20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5C1-CCCE-4E1E-AC00-AA270FC9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CFA-F7B2-4431-A2EF-365C8A86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4B4-19D2-461D-8011-578A377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F186-DA32-4C7D-8217-6536EBBED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DB8-AE9D-4D3E-A043-14447EFD21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0" y="2000160"/>
            <a:ext cx="5857920" cy="1177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a50021"/>
                </a:solidFill>
                <a:latin typeface="Comic Sans MS"/>
              </a:rPr>
              <a:t>Відсотк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6000" y="3357720"/>
            <a:ext cx="64008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Comic Sans MS"/>
              </a:rPr>
              <a:t>Жукова Ірина Борисівн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Comic Sans MS"/>
              </a:rPr>
              <a:t>вчитель математики Шандрівського НВ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Відсоток - ц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00"/>
                </a:solidFill>
                <a:latin typeface="Comic Sans MS"/>
              </a:rPr>
              <a:t>Одна сота частина будь-якої величини або чис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omic Sans MS"/>
              </a:rPr>
              <a:t>1 відсоток (1%) – це 1 / 100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n%</a:t>
            </a:r>
            <a:r>
              <a:rPr b="1" lang="uk-UA" sz="3600" spc="-1" strike="noStrike">
                <a:solidFill>
                  <a:srgbClr val="0000ff"/>
                </a:solidFill>
                <a:latin typeface="Comic Sans MS"/>
              </a:rPr>
              <a:t> будь- якого числа х дорівнює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uk-UA" sz="3600" spc="-1" strike="noStrike">
                <a:solidFill>
                  <a:srgbClr val="0000ff"/>
                </a:solidFill>
                <a:latin typeface="Comic Sans MS"/>
              </a:rPr>
              <a:t>/100*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Знаходження відсотків від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solidFill>
            <a:srgbClr val="f6c59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2% від 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50% від 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10% від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40% від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Comic Sans MS"/>
              </a:rPr>
              <a:t>10% від 35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Comic Sans MS"/>
              </a:rPr>
              <a:t>20% від 8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Comic Sans MS"/>
              </a:rPr>
              <a:t>25% від 8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Comic Sans MS"/>
              </a:rPr>
              <a:t>15% від 28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Треба пам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ята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36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b200"/>
                </a:solidFill>
                <a:latin typeface="Comic Sans MS"/>
              </a:rPr>
              <a:t>10% = 1/1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Comic Sans MS"/>
              </a:rPr>
              <a:t>20% = 1/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66"/>
                </a:solidFill>
                <a:latin typeface="Comic Sans MS"/>
              </a:rPr>
              <a:t>25% = 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99"/>
                </a:solidFill>
                <a:latin typeface="Comic Sans MS"/>
              </a:rPr>
              <a:t>50% = ½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99"/>
                </a:solidFill>
                <a:latin typeface="Comic Sans MS"/>
              </a:rPr>
              <a:t>Знаходження числа за його відсотка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Comic Sans MS"/>
              </a:rPr>
              <a:t>1.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Знайти скільки припадає на 1%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009900"/>
                </a:solidFill>
                <a:latin typeface="Comic Sans MS"/>
              </a:rPr>
              <a:t>Помножити одержаний результат на 10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9900"/>
                </a:solidFill>
                <a:latin typeface="Comic Sans MS"/>
              </a:rPr>
              <a:t>Знайти число, якщ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3772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omic Sans MS"/>
              </a:rPr>
              <a:t>1% становить 5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6600"/>
                </a:solidFill>
                <a:latin typeface="Comic Sans MS"/>
              </a:rPr>
              <a:t>4% становить 8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Comic Sans MS"/>
              </a:rPr>
              <a:t>10% становить 17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ff9900"/>
                </a:solidFill>
                <a:latin typeface="Comic Sans MS"/>
              </a:rPr>
              <a:t>23% становить 69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3% становить 10гр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omic Sans MS"/>
              </a:rPr>
              <a:t>20% становить 15кг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mic Sans MS"/>
              </a:rPr>
              <a:t>25% становить 36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2:14:41Z</dcterms:created>
  <dc:creator>user</dc:creator>
  <dc:description/>
  <dc:language>en-US</dc:language>
  <cp:lastModifiedBy>User</cp:lastModifiedBy>
  <dcterms:modified xsi:type="dcterms:W3CDTF">2017-10-11T15:53:07Z</dcterms:modified>
  <cp:revision>5</cp:revision>
  <dc:subject/>
  <dc:title>Відсотки</dc:title>
</cp:coreProperties>
</file>